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1CC8-D2A0-4C77-8E2F-A557114FC6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324-6D76-4581-81C4-418BD73A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0E1-BB8C-4473-96A9-0288C657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508-403C-49E6-B97D-23B4C190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371-4CD4-4B9A-847D-83031643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DD9E-0EF3-4354-8EF7-2076BD3D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0E49-BD2D-4F1D-961F-C37DC7AD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F897-5654-40F4-A5F5-D778B3EA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AABB-4206-469A-B3A8-AF3C71A7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C94C-F954-43EA-97A5-D3931DBB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90E2-063B-481C-8802-632B85F8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46F5-3618-49C9-BCFB-F1F48ABC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29A-5859-41A1-8A4B-A2A3683C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4522-75D6-411B-AB11-81929DC5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A703-BE9B-4C2E-983E-2F165420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0E20-D453-4FB9-BB94-6D4A614F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F51E-F5C9-41DE-9D6F-DC9CE4C8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AB41-B25E-4D4E-B5A7-FB8EC1A8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ED2-6D2F-4BBF-92B1-FFC1A799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C1E-32E1-44CC-877B-940D3D6C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414-7966-44F7-9304-F6210B40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9C7-410D-4417-A37D-4CCA2508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516-3236-44F7-9F91-0B41B6CB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626-59F7-4B7A-87DF-851FE076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40FE-2BD6-4E71-8887-8367A45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6578-2EC5-4998-B745-91F39971405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9351-EA8F-4615-AB0C-E9754102D8A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Духовные и психолого-педагогические аспекты работы с "трудными" детьми</a:t>
            </a:r>
            <a:br>
              <a:rPr sz="6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одавлением инициативы и самостоятельности учащихся в школе, дома, во внеклассной и общественной работ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рушением педагогической этики и педагогического такта в общении с учениками (предвзятость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етерпимость, недоверие, лицемерие, несправедливость, грубость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монополией учителя и родителей на оценивание деятельности учащихся, негативизмом педагогических воздействий (исправление недостатков, а не поощрение достоинств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нтигуманной верой в принуждение и наказание как панацею от всех нарушений и отклонений в поведении подростк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b9efee"/>
                </a:solidFill>
                <a:uFillTx/>
                <a:latin typeface="Garamond"/>
              </a:rPr>
              <a:t>Либеральный 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(стиль чрезмерной опеки - 14%) характеризуется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уществованием определенного "барьера" между семьей, школой и реальной жизнедеятельностью детей, изоляцией, отстранением подростков от жизни взрослых, от общественного производства, фактическим освобождением подростков от систематического общественно-полезного и производительного труда, ограничением деятельности подростков лишь функциями потребления, строгой регламентацией этого потребления, -сведением к минимуму поля проявления и самоутверждения личности, ограничением рамками учеб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одменой взрослыми функций подростков в их общественных организациях, боязнью предоставить воспитанникам самостоятель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Гуманно-личностный стиль включает: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нимание к подростку как к личности, индивидуальности, личностное равенство педагога с подростком, уважение прав подрост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исключение авторитарного воздействия, акцентирования недостатков подрост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онимание причин социальных отклонений, тактичность помощ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беспечение успеха в деятельности, положительное стимулирование, оптимистическая гипотез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Этапы работы с неблагополучными детьми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 Анализ первичной информации, определение основных проблем подростка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 Создание индивидуальной коррекционно-воспитательной програм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рганизация совместной работы педагогического коллектива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 Социальная помощь подростку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 Выстраивание жизненной перспективы и помощь в решении личных проблем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. Проблем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9144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тсутствие интереса к учеб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личие вредных привычек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овлечение в асоциальнные связи и аморальный образ жизн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фантильность в отношении к своей жизненной позици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занятость в кружках и секция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2. Реализация программы.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бучение родителей педагогической реакции на поведение подрост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бучение родителей навыкам конструктивного взаимодействия с подростк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аспределение семейных обязанностей с участием подрост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знакомление родителей с возможным сценарием судьбы подрост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одключение родителей к решению проблем в обучении, в профессиональном самоопределении, преодолении вредных привыче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становление еженедельного контакта между родителями и классным руководителе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рганизация совместного семейного досуга, обсуждения семейных проблем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3. Задачи: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формирование педагогического коллектива относительно социально-психологических особенностей подрост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беспечение индивидуального подхода в обуче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становление контроля за посещаемостью со стороны классного руководите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значение шефа-наставника из числа педагогов, выполняющего роль посредника между подростком и коллективом школ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ключение подростка в общеклассные и общешкольные мероприят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4. Задачи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. Оказание материальной помощи от органов социальной защи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. Предоставление бесплатного питания в школ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. Помощь в адаптации к изменяющимся условиям обуч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ключение в тренинговую группу по развитию способности эффективно взаимодействовать с социальной средой и производить значимые изменения в своей жизни. Обучение техникам снятия неблагоприятных состояний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5. Задачи: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риентация в выборе професс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омощь в выборе дальнейшего образовательного маршру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ормирование навыков, облегчающих социальную адаптаци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Трудоустройство в летний трудовой лагерь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доставление информации по учебным заведениям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рганизация индивидуальных консультаций с психологом по коррекции ценностных ориент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рганизация консультации по профориент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татистика по МОУ СОШ № 10 «Пересвет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 конец 2008-2009 учебного года в школе насчитывалось 449 учащихся. Из них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ШУ – 9 учащихс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ДН – 8 учащихс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О – неблагополучные семьи – 3 семьи – 4 дет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еблагополучные семьи в школе – 7 семей – детей – 8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одопечных – 10 детей, этих детей также можно причислить к «группе риска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«Группа риска» насчитывала – 16 человек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сего – 55 учащихся, это более 12% от кол-ва учащихся в школ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о данным МВД в России: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более 2 миллионов детей школьного возраста (10%соответствующей популяции) нигде не обучаются (и на них приходится 40% детско-подростковой преступности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т 2 до 4 миллионов детей и подростков бродяжничают; число детей-сирот достигло 600тыс.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0% детей подвергаются насилию в семьях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 школах 16%. учащихся испытывают со стороны педагогов физическое насилие и 22% - психологическое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за последние 10 лет смертность от самоубийств среди детей и подростков выросла на 100%, отмечаются самоубийства среди детей 5-9 лет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о данным МВД в России: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 стране 700 тыс. семей, где есть несовершеннолетние и один из родителей безработный, а в 60тыс. семей с детьми оба родителя не имеют постоянного источника заработ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Из года в год происходит обострение проблем социального положения несовершеннолетни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ротивоправное поведение несовершеннолетних растет в 2 раза быстрее, чем среди взрослых, особенно по тяжким преступлениям против личнос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о данным МВД в России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Детская преступность выросла за 5 лет 1,5 раза, число правонарушений, совершаемых девушками - на 57,1%; число несовершеннолетних, задержанных за правонарушения, увеличилось почти вдвое и превысило 1 млн. в год; 27% из них - дети моложе 14 ле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 территории России действуют около 30 тыс. преступных группировок несовершеннолетних. При этом от 60 до 80% "несовершеннолетней" преступности приходится на подростков, имеющих психические аномал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Дети, лишенные родительской заботы, попечения, наиболее склонны к бродяжничеству, совершению правонарушений. По данным статистики 60% несовершеннолетних, совершивших правонарушения, проживали в детских домах и школах-интернатах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Неподдельный интерес к этим детям проявляют криминальные элементы. Такой ребенок легко находит себе "приют" в различного рода группах сверстников асоциальной направленности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Статистика показывает, что в современных условиях все большее количество детей становится жертвами насилия. Это дети, находящиеся в эмоционально невыносимой и неразрешимой для ребенка конфликтной ситуации притеснения и пренебрежения его потребностями и интересами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По данным МВД РФ, ежегодно убегают из дома по причине плохого обращения с ними родителей более 90 тысяч детей. Около тысячи в месяц исчезают бесследно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езультаты социологического обследования показали, что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) большинство родителей {93%} использует метод убеждения, 82% применяют ласку, но 42% прибегают к приказам, строгим наказаниям и 27% используют запрещенный законом прием - физическое наказани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) деятельность родителей по воспитанию детей занимает 3-4 место после просмотра TV, занятий домашним хозяйством (у женщин) и чтением (у мужчин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) отношение родителей к учебе ребенка заключается в основном в поверхностном контроле, а помогают детям лишь 22%; 14% вообще устраняются от контактов, считают, что учеба - дело ребен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r>
              <a:rPr b="1" lang="ru-RU" sz="3800" spc="-1" strike="noStrike">
                <a:solidFill>
                  <a:srgbClr val="b9efee"/>
                </a:solidFill>
                <a:latin typeface="Garamond"/>
              </a:rPr>
              <a:t>Конвенция ООН о правах ребенка определяет следующие ориентиры для развития системы социально-правовой защиты несовершеннолетних:</a:t>
            </a:r>
            <a:br>
              <a:rPr sz="3800"/>
            </a:b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есовершеннолетние ввиду умственной и физической незрелости имеют право на специальную охрану, заботу, защиту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есовершеннолетние обладают комплексом особых прав и возможностью их самостоятельного осуществле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 решении вопросов взаимодействия ребенка с любыми учреждениями приоритет отдается интересам ребен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собое внимание уделяется несовершеннолетним, находящимся в трудных (неблагополучных) условия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Таким образом существует две полярные позиции - стилей взаимоотношений педагогов и родителей с подростками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b9efee"/>
                </a:solidFill>
                <a:uFillTx/>
                <a:latin typeface="Garamond"/>
              </a:rPr>
              <a:t>Авторитарный</a:t>
            </a:r>
            <a:r>
              <a:rPr b="1" i="1" lang="en-US" sz="3600" spc="-1" strike="noStrike">
                <a:solidFill>
                  <a:srgbClr val="b9efee"/>
                </a:solidFill>
                <a:latin typeface="Garamond"/>
              </a:rPr>
              <a:t>,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 командно-административный стиль отношений, наблюдавшийся у 51% обследованных, характеризуется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едагогическим авторитаризмом: воспитатель единоличный субъект процесса, воспитуемый объект, "бездуховный винтик"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омандно-приказной дисциплиной: учитель, родитель командир, единоначалие в классе, подростки подчиненны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епониманием учителем причин поведения подростка, его психического состояния, его сил и слабостей, радостей и тревог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16:04Z</dcterms:created>
  <dc:creator>Пользователь</dc:creator>
  <dc:description/>
  <dc:language>en-US</dc:language>
  <cp:lastModifiedBy>Пользователь</cp:lastModifiedBy>
  <dcterms:modified xsi:type="dcterms:W3CDTF">2009-08-07T12:01:10Z</dcterms:modified>
  <cp:revision>5</cp:revision>
  <dc:subject/>
  <dc:title>Духовные и психолого-педагогические аспекты работы с "трудными" детьми </dc:title>
</cp:coreProperties>
</file>