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E1B6-71D7-4F7B-BA5F-E1B9C233F3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33B-FE06-4A2B-8202-031C08D8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ACC-B24C-405E-A71F-04E9C912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D98-106F-437A-804E-115976AD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308-5534-4198-B00A-9041F6F7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BC18-B6C9-42BD-A9F5-E532AB06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F9A6-C313-4709-8402-BF9D639C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FB28-B620-4C85-AE85-AB8CF36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D26A-8E61-48CE-B5D9-31862A52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8A0F-8D8C-4614-A032-0BC1962B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B822-2A78-412D-8769-02BB34AF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9D79-30AF-4475-AAE2-9EB720AF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FAC-5E6F-4099-A000-C29C86C5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78D6-C979-4B98-A0A0-F9072D7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57F-212E-492F-8DB8-E0927EEF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DD76-8DC2-46C6-B720-55C5EC53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E06C-7D02-46FF-971F-7E778AAE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0DC-76BE-4C55-94F2-39C66EEA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D7B-660B-482D-A805-FBA86128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E31-0941-4C55-8317-71D71AEE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05B-3B37-4D00-9D73-AEC298CC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A88-48FC-4E27-9C80-A1D2D0C2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64B-D0BD-4ED8-923C-8DBD8033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68F-536B-436F-AC5C-72DB47E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056-ACCE-43A5-AB26-6543426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A793-80A0-4EB6-B56F-9EFBE06C95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E5B-65CC-4DF9-A3BC-AA6990B291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Духовные и психолого-педагогические аспекты работы с "трудными" детьми</a:t>
            </a:r>
            <a:br>
              <a:rPr sz="6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авлением инициативы и самостоятельности учащихся в школе, дома, во внеклассной и общественной работ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рушением педагогической этики и педагогического такта в общении с учениками (предвзятость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терпимость, недоверие, лицемерие, несправедливость, грубость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монополией учителя и родителей на оценивание деятельности учащихся, негативизмом педагогических воздействий (исправление недостатков, а не поощрение достоинств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нтигуманной верой в принуждение и наказание как панацею от всех нарушений и отклонений в поведении подрост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9efee"/>
                </a:solidFill>
                <a:uFillTx/>
                <a:latin typeface="Garamond"/>
              </a:rPr>
              <a:t>Либеральный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(стиль чрезмерной опеки - 14%) характеризуется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уществованием определенного "барьера" между семьей, школой и реальной жизнедеятельностью детей, изоляцией, отстранением подростков от жизни взрослых, от общественного производства, фактическим освобождением подростков от систематического общественно-полезного и производительного труда, ограничением деятельности подростков лишь функциями потребления, строгой регламентацией этого потребления, -сведением к минимуму поля проявления и самоутверждения личности, ограничением рамками учеб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меной взрослыми функций подростков в их общественных организациях, боязнью предоставить воспитанникам самостоятель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Гуманно-личностный стиль включает: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нимание к подростку как к личности, индивидуальности, личностное равенство педагога с подростком, уважение прав подрост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сключение авторитарного воздействия, акцентирования недостатков подрост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нимание причин социальных отклонений, тактичность помощ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еспечение успеха в деятельности, положительное стимулирование, оптимистическая гипотез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тапы работы с неблагополучными детьм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Анализ первичной информации, определение основных проблем подростка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 Создание индивидуальной коррекционно-воспитательной програм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рганизация совместной работы педагогического коллектива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Социальная помощь подростку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Выстраивание жизненной перспективы и помощь в решении личных проблем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. Проблем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914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тсутствие интереса к учеб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личие вредных привычек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овлечение в асоциальнные связи и аморальный образ жизн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фантильность в отношении к своей жизненной позиц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занятость в кружках и секц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. Реализация программы.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учение родителей педагогической реакции на поведение подрос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учение родителей навыкам конструктивного взаимодействия с подростк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аспределение семейных обязанностей с участием подрос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знакомление родителей с возможным сценарием судьбы подрос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ключение родителей к решению проблем в обучении, в профессиональном самоопределении, преодолении вредных привыче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становление еженедельного контакта между родителями и классным руководител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рганизация совместного семейного досуга, обсуждения семейных пробле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3. Задачи: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формирование педагогического коллектива относительно социально-психологических особенностей подрос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беспечение индивидуального подхода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становление контроля за посещаемостью со стороны классного руководите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значение шефа-наставника из числа педагогов, выполняющего роль посредника между подростком и коллективом школ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ключение подростка в общеклассные и общешкольные мероприят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. Задач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. Оказание материальной помощи от органов социальной защи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. Предоставление бесплатного питания в школ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. Помощь в адаптации к изменяющимся условиям обуч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ключение в тренинговую группу по развитию способности эффективно взаимодействовать с социальной средой и производить значимые изменения в своей жизни. Обучение техникам снятия неблагоприятных состояни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. Задачи: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риентация в выборе профе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мощь в выборе дальнейшего образовательного маршру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ормирование навыков, облегчающих социальную адаптац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рудоустройство в летний трудовой лагерь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информации по учебным заведениям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рганизация индивидуальных консультаций с психологом по коррекции ценностных ориен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рганизация консультации по профориен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татистика по МОУ СОШ № 10 «Пересвет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 конец 2008-2009 учебного года в школе насчитывалось 449 учащихся. Из них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ШУ – 9 учащих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ДН – 8 учащих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О – неблагополучные семьи – 3 семьи – 4 дет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благополучные семьи в школе – 7 семей – детей – 8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опечных – 10 детей, этих детей также можно причислить к «группе риска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«Группа риска» насчитывала – 16 человек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сего – 55 учащихся, это более 12% от кол-ва учащихся в шко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 данным МВД в России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более 2 миллионов детей школьного возраста (10%соответствующей популяции) нигде не обучаются (и на них приходится 40% детско-подростковой преступности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т 2 до 4 миллионов детей и подростков бродяжничают; число детей-сирот достигло 600тыс.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0% детей подвергаются насилию в семьях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школах 16%. учащихся испытывают со стороны педагогов физическое насилие и 22% - психологическое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 последние 10 лет смертность от самоубийств среди детей и подростков выросла на 100%, отмечаются самоубийства среди детей 5-9 лет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 данным МВД в России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стране 700 тыс. семей, где есть несовершеннолетние и один из родителей безработный, а в 60тыс. семей с детьми оба родителя не имеют постоянного источника заработ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 года в год происходит обострение проблем социального положения несовершеннолетни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отивоправное поведение несовершеннолетних растет в 2 раза быстрее, чем среди взрослых, особенно по тяжким преступлениям против лич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 данным МВД в Росси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етская преступность выросла за 5 лет 1,5 раза, число правонарушений, совершаемых девушками - на 57,1%; число несовершеннолетних, задержанных за правонарушения, увеличилось почти вдвое и превысило 1 млн. в год; 27% из них - дети моложе 14 л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 территории России действуют около 30 тыс. преступных группировок несовершеннолетних. При этом от 60 до 80% "несовершеннолетней" преступности приходится на подростков, имеющих психические аномал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Дети, лишенные родительской заботы, попечения, наиболее склонны к бродяжничеству, совершению правонарушений. По данным статистики 60% несовершеннолетних, совершивших правонарушения, проживали в детских домах и школах-интернатах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Неподдельный интерес к этим детям проявляют криминальные элементы. Такой ребенок легко находит себе "приют" в различного рода группах сверстников асоциальной направленности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Статистика показывает, что в современных условиях все большее количество детей становится жертвами насилия. Это дети, находящиеся в эмоционально невыносимой и неразрешимой для ребенка конфликтной ситуации притеснения и пренебрежения его потребностями и интересами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По данным МВД РФ, ежегодно убегают из дома по причине плохого обращения с ними родителей более 90 тысяч детей. Около тысячи в месяц исчезают бесследно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езультаты социологического обследования показали, что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) большинство родителей {93%} использует метод убеждения, 82% применяют ласку, но 42% прибегают к приказам, строгим наказаниям и 27% используют запрещенный законом прием - физическое наказани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) деятельность родителей по воспитанию детей занимает 3-4 место после просмотра TV, занятий домашним хозяйством (у женщин) и чтением (у мужчин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) отношение родителей к учебе ребенка заключается в основном в поверхностном контроле, а помогают детям лишь 22%; 14% вообще устраняются от контактов, считают, что учеба - дело ребе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r>
              <a:rPr b="1" lang="ru-RU" sz="3800" spc="-1" strike="noStrike">
                <a:solidFill>
                  <a:srgbClr val="b9efee"/>
                </a:solidFill>
                <a:latin typeface="Garamond"/>
              </a:rPr>
              <a:t>Конвенция ООН о правах ребенка определяет следующие ориентиры для развития системы социально-правовой защиты несовершеннолетних:</a:t>
            </a:r>
            <a:br>
              <a:rPr sz="3800"/>
            </a:b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совершеннолетние ввиду умственной и физической незрелости имеют право на специальную охрану, заботу, защит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совершеннолетние обладают комплексом особых прав и возможностью их самостоятельного осуществле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решении вопросов взаимодействия ребенка с любыми учреждениями приоритет отдается интересам ребен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собое внимание уделяется несовершеннолетним, находящимся в трудных (неблагополучных) услов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аким образом существует две полярные позиции - стилей взаимоотношений педагогов и родителей с подростками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9efee"/>
                </a:solidFill>
                <a:uFillTx/>
                <a:latin typeface="Garamond"/>
              </a:rPr>
              <a:t>Авторитарный</a:t>
            </a:r>
            <a:r>
              <a:rPr b="1" i="1" lang="en-US" sz="3600" spc="-1" strike="noStrike">
                <a:solidFill>
                  <a:srgbClr val="b9efee"/>
                </a:solidFill>
                <a:latin typeface="Garamond"/>
              </a:rPr>
              <a:t>,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командно-административный стиль отношений, наблюдавшийся у 51% обследованных, характеризуется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едагогическим авторитаризмом: воспитатель единоличный субъект процесса, воспитуемый объект, "бездуховный винтик"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омандно-приказной дисциплиной: учитель, родитель командир, единоначалие в классе, подростки подчиненны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пониманием учителем причин поведения подростка, его психического состояния, его сил и слабостей, радостей и тревог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16:04Z</dcterms:created>
  <dc:creator>Пользователь</dc:creator>
  <dc:description/>
  <dc:language>en-US</dc:language>
  <cp:lastModifiedBy>Пользователь</cp:lastModifiedBy>
  <dcterms:modified xsi:type="dcterms:W3CDTF">2009-08-07T12:01:10Z</dcterms:modified>
  <cp:revision>5</cp:revision>
  <dc:subject/>
  <dc:title>Духовные и психолого-педагогические аспекты работы с "трудными" детьми </dc:title>
</cp:coreProperties>
</file>