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3.jpeg" ContentType="image/jpeg"/>
  <Override PartName="/ppt/media/image18.jpeg" ContentType="image/jpeg"/>
  <Override PartName="/ppt/media/image21.wmf" ContentType="image/x-wmf"/>
  <Override PartName="/ppt/media/image1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40A9-F1A3-430B-965C-D8DC8DE558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1550-5105-4669-B389-1737C1ACE4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6C1-FD68-4493-8C46-1E2C29F9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6CF-AEB4-49A2-8597-ECD28E47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DA9-3C6C-490E-9C01-66822420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FAE-95DF-4C3E-B62B-11F9F4B7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6A31-8AC6-495B-A83E-91A20BDB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3770-29E9-40F4-90CE-97507C37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A976-C906-4BFD-A504-046636F6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3D6A-9232-4132-AF04-1F418488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AED6-316D-46E6-8DF7-A4A3871D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BC16-61E6-424A-8338-DBDFCF8E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427F-EF28-41EE-84C3-02CAC4E2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5EA-5B8D-45B1-9C39-A85F9CDC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788C-94FC-4CEE-9BB7-2E03ACF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2BE9-0309-4270-A247-AF67078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51C4-D1B5-41FB-8E85-BAEE04AE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A0B9-E2BF-45BA-B0AD-1CB0B2F4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85FD-7710-4D49-92AF-404EC3C4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DA8D-A987-4B60-B665-87E73FAB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1581-4F1F-430B-9A86-159F89E2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2187-A686-4EE5-A8A9-FC14053F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9C9E0-428A-4A29-81FC-F9F8EECD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5D1A-7E16-4950-A2DC-FA3A38FD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31C-FDBE-404D-A653-F5A7AE70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022D-427A-4D55-9E8B-347099EC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FBA9-919E-4C75-8611-D984F1C7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6DAC-B9D3-4F9B-B87B-085B7EEF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1426-CE2B-4A23-BFD0-D3BBA62E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460B-6608-4911-9244-968D99F1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1B2E-5A7D-400B-848A-FCCF0CF1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1F75-0432-4997-B3A5-4DE607EB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BD901-70C5-4C69-A623-C4635710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9FAA-2C55-43E8-B0F3-287E7A73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CF052-1FE8-4DCE-BCA5-8E83DF93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962-F5D9-4E89-B7E6-D7ACB610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32940-3630-49B3-BD40-5DB47320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8175-B5AD-4504-8A58-A4A9AA85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6FBAB-C10D-4F2E-A69C-0CBC6C3B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C8D5E-9125-4579-8D7E-AA0909C7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D0AA-F963-435B-9531-A4D71F2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7FF5-2298-4566-B0AE-5D56957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999A-5388-4ACA-AA40-3511F21B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17C4-6536-4133-B787-D4E24EBE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8197-6B93-4252-B227-8DD2BD20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8D91-21B4-4049-AB0B-224A288A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6AA-B895-4B89-9D60-966E0BBA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63749-4807-468E-A9D4-13CBA0A3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E030-0AB0-4E77-86B4-082633B3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753D8-3921-473F-BF80-6A3401E2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DF450-2891-4904-AEE8-D595DCAA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7FA6C-0EF7-4B0E-B3CC-D774346E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F030-E9C2-48C7-8BD0-D9317C7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E686D-9257-40B4-88AC-2FE4FDAB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C655-B870-4DCE-AA59-299E0000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E988D-5FA4-4942-B69B-032B449A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44389-EE4B-4AAA-B179-093983AE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E08-242C-42E0-B85C-9EAC0547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A1567-8156-4A9C-AAD0-DDAEE9CA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F5B12-87AC-444C-B403-DAB57A6D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A8F12-9A12-4163-BAC3-0BB4BAD7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69A5E-D09C-46F7-B3A9-55A4E682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C637A-7FB6-4906-9235-0667519F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3B395-88D1-4E36-8BA0-0B08A0A0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1942-F388-4FC2-8A2D-8C5F2837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8A5FA-70AD-407C-89E3-51840CC5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E0695-4127-46D3-8435-ABA97C9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FFB06-E335-446D-8D47-47C9738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611-FC7A-4A56-92A9-579ADD00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AA419-906E-4635-8D06-91FA9090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AC899-9CEA-4E5C-ADA4-80E6646D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AC3FC-9092-4E14-B069-9FFFC618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06DD0-D29C-4402-9499-F26C121A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9652D-3AB9-47FD-8210-2C5026EA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B36D0-C5DF-49E4-825C-320D1550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2702E-F307-46AA-954F-F5A1CABF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034A7-1E3B-4CC0-868F-27A0854F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9B5AF-5ACE-4C42-8DA7-25E60D11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B1476-8B10-410E-BC5E-24746BB5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D92-E6D1-4256-B875-C8E5EED5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D3A5A-78DA-437F-827C-59EB6015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ABFA5-E801-442E-9ED9-ABA1EFA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EA4BA-181B-4283-ACBE-321B444F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031F3-91D8-4C39-A052-167DEA4C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01A18-4C4F-40ED-B105-6FC6F788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6E5-297F-4545-A7BF-6AB2025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7AC9-BFF7-4877-BA9A-159D420E194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2E20-71B3-4D1D-8935-3C071ABCBC5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82B8-86F1-4562-92CA-8640D099385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73DB-54EF-4FB6-955C-659AA4240D5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2598-3407-4255-BFE4-11DCD8F957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1A29-DCFF-44A0-8676-2D123197EC8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E53E-4529-464F-9AEC-F2690845B12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hyperlink" Target="file:///../Local%20Settings/Local%20Settings/Temp/Rar$DI01.000/&#1044;&#1080;&#1076;&#1072;&#1082;&#1090;&#1080;&#1095;&#1077;&#1089;&#1082;&#1080;&#1081;%20&#1084;&#1072;&#1090;&#1077;&#1088;&#1080;&#1072;&#1083;.xls" TargetMode="External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3/kaka-dyy2009.1/0_2ec5_2239cd7d_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1066680" y="1219320"/>
            <a:ext cx="647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көн, һул күрш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көн, уң күрш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көн, дуҫтары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көн , ҡунаҡта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булһын дәресебеҙ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булһын һәр эшебе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2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676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Рисунок 1" descr=""/>
          <p:cNvPicPr/>
          <p:nvPr/>
        </p:nvPicPr>
        <p:blipFill>
          <a:blip r:embed="rId1"/>
          <a:stretch/>
        </p:blipFill>
        <p:spPr>
          <a:xfrm>
            <a:off x="0" y="304920"/>
            <a:ext cx="8991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5176800" y="685800"/>
            <a:ext cx="4267080" cy="65530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2" descr=""/>
          <p:cNvPicPr/>
          <p:nvPr/>
        </p:nvPicPr>
        <p:blipFill>
          <a:blip r:embed="rId2"/>
          <a:stretch/>
        </p:blipFill>
        <p:spPr>
          <a:xfrm>
            <a:off x="-228600" y="406440"/>
            <a:ext cx="5384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4952880" y="1828800"/>
            <a:ext cx="358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Орден Башҡортостанда1998 йылда барлыҡҡа килгә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Ул Рәсәй һәм сит ил вәкилдәренә бирел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90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3"/>
          <p:cNvSpPr txBox="1"/>
          <p:nvPr/>
        </p:nvSpPr>
        <p:spPr>
          <a:xfrm>
            <a:off x="285840" y="2143080"/>
            <a:ext cx="85662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ҫлыҡ тураһында ниндәй мәҡәлдәр беләһегеҙ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1285920" y="4286160"/>
            <a:ext cx="4786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ff"/>
                </a:solidFill>
                <a:uFillTx/>
                <a:latin typeface="Franklin Gothic Book"/>
                <a:hlinkClick r:id="rId3"/>
              </a:rPr>
              <a:t>Объясни послов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Рисунок 4" descr="F:\CLIPART8\J0343363.WMF"/>
          <p:cNvPicPr/>
          <p:nvPr/>
        </p:nvPicPr>
        <p:blipFill>
          <a:blip r:embed="rId4"/>
          <a:stretch/>
        </p:blipFill>
        <p:spPr>
          <a:xfrm>
            <a:off x="928800" y="428760"/>
            <a:ext cx="2071440" cy="17240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F:\CLIPART8\J0343361.WMF"/>
          <p:cNvPicPr/>
          <p:nvPr/>
        </p:nvPicPr>
        <p:blipFill>
          <a:blip r:embed="rId5"/>
          <a:stretch/>
        </p:blipFill>
        <p:spPr>
          <a:xfrm>
            <a:off x="6000840" y="421488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6" descr="F:\CLIPART8\J0343329.WMF"/>
          <p:cNvPicPr/>
          <p:nvPr/>
        </p:nvPicPr>
        <p:blipFill>
          <a:blip r:embed="rId6"/>
          <a:stretch/>
        </p:blipFill>
        <p:spPr>
          <a:xfrm>
            <a:off x="642960" y="4143240"/>
            <a:ext cx="2571840" cy="21434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7" descr="F:\CLIPART8\J0343397.WMF"/>
          <p:cNvPicPr/>
          <p:nvPr/>
        </p:nvPicPr>
        <p:blipFill>
          <a:blip r:embed="rId7"/>
          <a:stretch/>
        </p:blipFill>
        <p:spPr>
          <a:xfrm>
            <a:off x="6286680" y="285840"/>
            <a:ext cx="20714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C:\Documents and Settings\Ира\Рабочий стол\для ролика\логотип.JPG"/>
          <p:cNvPicPr/>
          <p:nvPr/>
        </p:nvPicPr>
        <p:blipFill>
          <a:blip r:embed="rId1"/>
          <a:stretch/>
        </p:blipFill>
        <p:spPr>
          <a:xfrm>
            <a:off x="228600" y="0"/>
            <a:ext cx="1600200" cy="1414440"/>
          </a:xfrm>
          <a:prstGeom prst="rect">
            <a:avLst/>
          </a:prstGeom>
          <a:ln w="0">
            <a:noFill/>
          </a:ln>
        </p:spPr>
      </p:pic>
      <p:sp>
        <p:nvSpPr>
          <p:cNvPr id="405" name="WordArt 4"/>
          <p:cNvSpPr txBox="1"/>
          <p:nvPr/>
        </p:nvSpPr>
        <p:spPr>
          <a:xfrm>
            <a:off x="4495680" y="1295280"/>
            <a:ext cx="4419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һаҡлай ҙа бел.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228600" y="1295280"/>
            <a:ext cx="426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Дуҫты тапһаң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ff"/>
              </a:solidFill>
              <a:latin typeface="Arial"/>
              <a:ea typeface="Arial"/>
            </a:endParaRPr>
          </a:p>
        </p:txBody>
      </p:sp>
      <p:sp>
        <p:nvSpPr>
          <p:cNvPr id="407" name="WordArt 6"/>
          <p:cNvSpPr txBox="1"/>
          <p:nvPr/>
        </p:nvSpPr>
        <p:spPr>
          <a:xfrm>
            <a:off x="0" y="3962520"/>
            <a:ext cx="5029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Ҡош ҡанаты менән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ff"/>
              </a:solidFill>
              <a:latin typeface="Arial"/>
              <a:ea typeface="Arial"/>
            </a:endParaRPr>
          </a:p>
        </p:txBody>
      </p:sp>
      <p:sp>
        <p:nvSpPr>
          <p:cNvPr id="408" name="WordArt 7"/>
          <p:cNvSpPr txBox="1"/>
          <p:nvPr/>
        </p:nvSpPr>
        <p:spPr>
          <a:xfrm>
            <a:off x="4800600" y="22096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йөҙ дуҫың булһын.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409" name="WordArt 8"/>
          <p:cNvSpPr txBox="1"/>
          <p:nvPr/>
        </p:nvSpPr>
        <p:spPr>
          <a:xfrm>
            <a:off x="228600" y="220968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Йөҙ һум аҡсаң булғансы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ff"/>
              </a:solidFill>
              <a:latin typeface="Arial"/>
              <a:ea typeface="Arial"/>
            </a:endParaRPr>
          </a:p>
        </p:txBody>
      </p:sp>
      <p:sp>
        <p:nvSpPr>
          <p:cNvPr id="410" name="WordArt 9"/>
          <p:cNvSpPr txBox="1"/>
          <p:nvPr/>
        </p:nvSpPr>
        <p:spPr>
          <a:xfrm>
            <a:off x="5029200" y="3886200"/>
            <a:ext cx="4114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кеше дуҫлыҡ менән көслө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411" name="WordArt 10"/>
          <p:cNvSpPr txBox="1"/>
          <p:nvPr/>
        </p:nvSpPr>
        <p:spPr>
          <a:xfrm>
            <a:off x="0" y="5257800"/>
            <a:ext cx="5181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Кейемдең яңыһы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ff"/>
              </a:solidFill>
              <a:latin typeface="Arial"/>
              <a:ea typeface="Arial"/>
            </a:endParaRPr>
          </a:p>
        </p:txBody>
      </p:sp>
      <p:sp>
        <p:nvSpPr>
          <p:cNvPr id="412" name="WordArt 11"/>
          <p:cNvSpPr txBox="1"/>
          <p:nvPr/>
        </p:nvSpPr>
        <p:spPr>
          <a:xfrm>
            <a:off x="5257800" y="525780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дуҫтың иҫкеһе яҡшы.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04920" y="304920"/>
            <a:ext cx="868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209-сы күнеге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Минең дуҫым, иптәш, мәңге бергә, бергә йәшәйбеҙ, күрше, дәрес, хата, ике иптәш, икебеҙ, ҡәҙерле, аңларға, ярҙам итергә, бергә-бергә, икәүләп, күсереп яҙырғ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569080" cy="64306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457200" y="19051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Дуҫ ниндәй ? һорауына ике сиф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Дуҫ ни эшләй ? һорауына өс ҡыл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Уның турында бер һөйләм йәки мәҡә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Дуҫ һүҙен икенсе һүҙ менән алмашты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"/>
          <p:cNvSpPr/>
          <p:nvPr/>
        </p:nvSpPr>
        <p:spPr>
          <a:xfrm>
            <a:off x="1830240" y="64296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304920" y="1066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Өй эше:  210 –сы күнегеү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ятларға,тәржемә итергә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380880" y="457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лалар, әйҙәгеҙ  дуҫ  йәшәйе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457200" y="4572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Һа-һа-һа- Һинең башың ауырт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Һәң-һәң-һәң–мәтрүшкәле сәй эсһәң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Һә-һә-һә – ауыртҡаны тиҙ бөтһә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Һе-һе-һе – шатланырҙар бөтәһ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Һө-һө-һө – дуҫтарыңдың төрлөһө</a:t>
            </a:r>
            <a:r>
              <a:rPr b="0" lang="ba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Картинка 14 из 195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0"/>
            <a:ext cx="531504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3"/>
          <p:cNvSpPr/>
          <p:nvPr/>
        </p:nvSpPr>
        <p:spPr>
          <a:xfrm>
            <a:off x="0" y="-152280"/>
            <a:ext cx="9144000" cy="3047760"/>
          </a:xfrm>
          <a:custGeom>
            <a:avLst/>
            <a:gdLst>
              <a:gd name="textAreaLeft" fmla="*/ 1199880 w 9144000"/>
              <a:gd name="textAreaRight" fmla="*/ 7944120 w 9144000"/>
              <a:gd name="textAreaTop" fmla="*/ 200160 h 3047760"/>
              <a:gd name="textAreaBottom" fmla="*/ 228600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522879"/>
                <a:lnTo>
                  <a:pt x="2835" y="1420"/>
                </a:lnTo>
                <a:arcTo wR="21600" hR="20153" stAng="-6782077" swAng="2764155"/>
                <a:lnTo>
                  <a:pt x="18765" y="4120"/>
                </a:lnTo>
                <a:arcTo wR="21600" hR="20153" stAng="-4017923" swAng="522879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000385"/>
                <a:lnTo>
                  <a:pt x="16065" y="16808"/>
                </a:lnTo>
                <a:arcTo wR="21600" hR="20153" stAng="-4495428" swAng="-1809143"/>
                <a:lnTo>
                  <a:pt x="5535" y="19508"/>
                </a:lnTo>
                <a:arcTo wR="21600" hR="20153" stAng="-6304572" swAng="-1000385"/>
                <a:lnTo>
                  <a:pt x="2700" y="12271"/>
                </a:lnTo>
                <a:close/>
              </a:path>
              <a:path fill="none" w="21600" h="21600">
                <a:moveTo>
                  <a:pt x="5535" y="16808"/>
                </a:moveTo>
                <a:arcTo wR="21600" hR="20153" stAng="-6304572" swAng="-477506"/>
                <a:lnTo>
                  <a:pt x="5535" y="19508"/>
                </a:lnTo>
              </a:path>
              <a:path fill="none" w="21600" h="21600">
                <a:moveTo>
                  <a:pt x="16065" y="16808"/>
                </a:moveTo>
                <a:arcTo wR="21600" hR="20153" stAng="-4495428" swAng="477506"/>
                <a:lnTo>
                  <a:pt x="16065" y="19508"/>
                </a:lnTo>
              </a:path>
              <a:path fill="none" w="21600" h="21600">
                <a:moveTo>
                  <a:pt x="2835" y="4120"/>
                </a:moveTo>
                <a:lnTo>
                  <a:pt x="2835" y="17620"/>
                </a:lnTo>
              </a:path>
              <a:path fill="none" w="21600" h="21600">
                <a:moveTo>
                  <a:pt x="18765" y="4120"/>
                </a:moveTo>
                <a:lnTo>
                  <a:pt x="18765" y="17620"/>
                </a:lnTo>
              </a:path>
            </a:pathLst>
          </a:cu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WordArt 4"/>
          <p:cNvSpPr txBox="1"/>
          <p:nvPr/>
        </p:nvSpPr>
        <p:spPr>
          <a:xfrm>
            <a:off x="1219320" y="228600"/>
            <a:ext cx="6705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«Дуҫлыҡ  ҡәҙерен бел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«Ҡылым»темаһын ҡабат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08-се күнеге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ffffff"/>
                </a:solidFill>
                <a:latin typeface="Candara"/>
              </a:rPr>
              <a:t>Нимә ул дуҫлыҡ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TextBox 6"/>
          <p:cNvSpPr/>
          <p:nvPr/>
        </p:nvSpPr>
        <p:spPr>
          <a:xfrm>
            <a:off x="1143000" y="3962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Дуҫлыҡ – ике кешенең яҡын,йылы мөнәсәбәте</a:t>
            </a:r>
            <a:r>
              <a:rPr b="0" lang="ba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7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b050"/>
                </a:solidFill>
                <a:latin typeface="Candara"/>
              </a:rPr>
              <a:t>     </a:t>
            </a:r>
            <a:r>
              <a:rPr b="0" lang="ba-RU" sz="4400" spc="-1" strike="noStrike">
                <a:solidFill>
                  <a:srgbClr val="31b6fd"/>
                </a:solidFill>
                <a:latin typeface="Candara"/>
              </a:rPr>
              <a:t>Кемде дуҫ тип атап бу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3" descr=""/>
          <p:cNvPicPr/>
          <p:nvPr/>
        </p:nvPicPr>
        <p:blipFill>
          <a:blip r:embed="rId1"/>
          <a:stretch/>
        </p:blipFill>
        <p:spPr>
          <a:xfrm>
            <a:off x="-9360" y="1095480"/>
            <a:ext cx="3736800" cy="286704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4" descr=""/>
          <p:cNvPicPr/>
          <p:nvPr/>
        </p:nvPicPr>
        <p:blipFill>
          <a:blip r:embed="rId2"/>
          <a:stretch/>
        </p:blipFill>
        <p:spPr>
          <a:xfrm>
            <a:off x="0" y="4114800"/>
            <a:ext cx="2895480" cy="27097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"/>
          <p:cNvPicPr/>
          <p:nvPr/>
        </p:nvPicPr>
        <p:blipFill>
          <a:blip r:embed="rId3"/>
          <a:stretch/>
        </p:blipFill>
        <p:spPr>
          <a:xfrm>
            <a:off x="3600360" y="1095480"/>
            <a:ext cx="3333960" cy="28670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" descr=""/>
          <p:cNvPicPr/>
          <p:nvPr/>
        </p:nvPicPr>
        <p:blipFill>
          <a:blip r:embed="rId4"/>
          <a:stretch/>
        </p:blipFill>
        <p:spPr>
          <a:xfrm>
            <a:off x="2895480" y="4114800"/>
            <a:ext cx="3314880" cy="28623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"/>
          <p:cNvPicPr/>
          <p:nvPr/>
        </p:nvPicPr>
        <p:blipFill>
          <a:blip r:embed="rId5"/>
          <a:stretch/>
        </p:blipFill>
        <p:spPr>
          <a:xfrm>
            <a:off x="6095880" y="3962520"/>
            <a:ext cx="3000600" cy="2862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8" descr=""/>
          <p:cNvPicPr/>
          <p:nvPr/>
        </p:nvPicPr>
        <p:blipFill>
          <a:blip r:embed="rId6"/>
          <a:stretch/>
        </p:blipFill>
        <p:spPr>
          <a:xfrm>
            <a:off x="6242040" y="1095480"/>
            <a:ext cx="2901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1"/>
          <p:cNvSpPr/>
          <p:nvPr/>
        </p:nvSpPr>
        <p:spPr>
          <a:xfrm>
            <a:off x="609480" y="121932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7200" spc="-1" strike="noStrike">
                <a:solidFill>
                  <a:srgbClr val="000000"/>
                </a:solidFill>
                <a:latin typeface="Arial"/>
              </a:rPr>
              <a:t>Дуҫлы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7200" spc="-1" strike="noStrike">
                <a:solidFill>
                  <a:srgbClr val="000000"/>
                </a:solidFill>
                <a:latin typeface="Arial"/>
              </a:rPr>
              <a:t>ду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609480" y="4940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7200" spc="-1" strike="noStrike">
                <a:solidFill>
                  <a:srgbClr val="000000"/>
                </a:solidFill>
                <a:latin typeface="Arial"/>
              </a:rPr>
              <a:t>дуҫлаш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Арка 4"/>
          <p:cNvSpPr/>
          <p:nvPr/>
        </p:nvSpPr>
        <p:spPr>
          <a:xfrm>
            <a:off x="762120" y="1219320"/>
            <a:ext cx="1523880" cy="380880"/>
          </a:xfrm>
          <a:custGeom>
            <a:avLst/>
            <a:gdLst/>
            <a:ahLst/>
            <a:rect l="l" t="t" r="r" b="b"/>
            <a:pathLst>
              <a:path w="1524000" h="381000">
                <a:moveTo>
                  <a:pt x="0" y="190500"/>
                </a:moveTo>
                <a:cubicBezTo>
                  <a:pt x="0" y="85290"/>
                  <a:pt x="341159" y="0"/>
                  <a:pt x="762000" y="0"/>
                </a:cubicBezTo>
                <a:cubicBezTo>
                  <a:pt x="1182841" y="0"/>
                  <a:pt x="1524000" y="85290"/>
                  <a:pt x="1524000" y="190500"/>
                </a:cubicBezTo>
                <a:lnTo>
                  <a:pt x="1428750" y="190500"/>
                </a:lnTo>
                <a:cubicBezTo>
                  <a:pt x="1428750" y="137895"/>
                  <a:pt x="1130236" y="95250"/>
                  <a:pt x="762000" y="95250"/>
                </a:cubicBezTo>
                <a:cubicBezTo>
                  <a:pt x="393764" y="95250"/>
                  <a:pt x="95250" y="137895"/>
                  <a:pt x="95250" y="190500"/>
                </a:cubicBezTo>
                <a:lnTo>
                  <a:pt x="0" y="1905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Арка 5"/>
          <p:cNvSpPr/>
          <p:nvPr/>
        </p:nvSpPr>
        <p:spPr>
          <a:xfrm>
            <a:off x="762120" y="2506680"/>
            <a:ext cx="1369800" cy="304920"/>
          </a:xfrm>
          <a:custGeom>
            <a:avLst/>
            <a:gdLst/>
            <a:ahLst/>
            <a:rect l="l" t="t" r="r" b="b"/>
            <a:pathLst>
              <a:path w="1370013" h="304800">
                <a:moveTo>
                  <a:pt x="0" y="152400"/>
                </a:moveTo>
                <a:cubicBezTo>
                  <a:pt x="0" y="68232"/>
                  <a:pt x="306688" y="0"/>
                  <a:pt x="685007" y="0"/>
                </a:cubicBezTo>
                <a:cubicBezTo>
                  <a:pt x="1063326" y="0"/>
                  <a:pt x="1370014" y="68232"/>
                  <a:pt x="1370014" y="152400"/>
                </a:cubicBezTo>
                <a:lnTo>
                  <a:pt x="1293813" y="152400"/>
                </a:lnTo>
                <a:cubicBezTo>
                  <a:pt x="1293813" y="110316"/>
                  <a:pt x="1021241" y="76200"/>
                  <a:pt x="685006" y="76200"/>
                </a:cubicBezTo>
                <a:cubicBezTo>
                  <a:pt x="348771" y="76200"/>
                  <a:pt x="76199" y="110316"/>
                  <a:pt x="76199" y="152400"/>
                </a:cubicBezTo>
                <a:lnTo>
                  <a:pt x="0" y="1524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Арка 6"/>
          <p:cNvSpPr/>
          <p:nvPr/>
        </p:nvSpPr>
        <p:spPr>
          <a:xfrm>
            <a:off x="609480" y="4952880"/>
            <a:ext cx="1522440" cy="381240"/>
          </a:xfrm>
          <a:custGeom>
            <a:avLst/>
            <a:gdLst/>
            <a:ahLst/>
            <a:rect l="l" t="t" r="r" b="b"/>
            <a:pathLst>
              <a:path w="1522413" h="381000">
                <a:moveTo>
                  <a:pt x="0" y="190500"/>
                </a:moveTo>
                <a:cubicBezTo>
                  <a:pt x="0" y="85290"/>
                  <a:pt x="340804" y="0"/>
                  <a:pt x="761207" y="0"/>
                </a:cubicBezTo>
                <a:cubicBezTo>
                  <a:pt x="1181610" y="0"/>
                  <a:pt x="1522414" y="85290"/>
                  <a:pt x="1522414" y="190500"/>
                </a:cubicBezTo>
                <a:lnTo>
                  <a:pt x="1427163" y="190500"/>
                </a:lnTo>
                <a:cubicBezTo>
                  <a:pt x="1427163" y="137895"/>
                  <a:pt x="1129004" y="95250"/>
                  <a:pt x="761206" y="95250"/>
                </a:cubicBezTo>
                <a:cubicBezTo>
                  <a:pt x="393408" y="95250"/>
                  <a:pt x="95249" y="137895"/>
                  <a:pt x="95249" y="190500"/>
                </a:cubicBezTo>
                <a:lnTo>
                  <a:pt x="0" y="1905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Line 23"/>
          <p:cNvSpPr/>
          <p:nvPr/>
        </p:nvSpPr>
        <p:spPr>
          <a:xfrm flipH="1" flipV="1">
            <a:off x="2590920" y="2819520"/>
            <a:ext cx="259056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4"/>
          <p:cNvSpPr/>
          <p:nvPr/>
        </p:nvSpPr>
        <p:spPr>
          <a:xfrm flipH="1" flipV="1">
            <a:off x="2514240" y="297180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C:\Documents and Settings\Ира\Рабочий стол\Классный час\4505bb4f2063.jpg"/>
          <p:cNvPicPr/>
          <p:nvPr/>
        </p:nvPicPr>
        <p:blipFill>
          <a:blip r:embed="rId1"/>
          <a:stretch/>
        </p:blipFill>
        <p:spPr>
          <a:xfrm>
            <a:off x="0" y="304920"/>
            <a:ext cx="3457440" cy="3757320"/>
          </a:xfrm>
          <a:prstGeom prst="rect">
            <a:avLst/>
          </a:prstGeom>
          <a:ln w="0">
            <a:noFill/>
          </a:ln>
        </p:spPr>
      </p:pic>
      <p:sp>
        <p:nvSpPr>
          <p:cNvPr id="366" name="WordArt 10"/>
          <p:cNvSpPr txBox="1"/>
          <p:nvPr/>
        </p:nvSpPr>
        <p:spPr>
          <a:xfrm>
            <a:off x="2438280" y="380880"/>
            <a:ext cx="6477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1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Ысын дуҫ-</a:t>
            </a:r>
            <a:endParaRPr b="1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367" name="WordArt 11"/>
          <p:cNvSpPr txBox="1"/>
          <p:nvPr/>
        </p:nvSpPr>
        <p:spPr>
          <a:xfrm>
            <a:off x="4114800" y="16002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тыңл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68" name="WordArt 12"/>
          <p:cNvSpPr txBox="1"/>
          <p:nvPr/>
        </p:nvSpPr>
        <p:spPr>
          <a:xfrm>
            <a:off x="2971800" y="335268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йыу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69" name="WordArt 13"/>
          <p:cNvSpPr txBox="1"/>
          <p:nvPr/>
        </p:nvSpPr>
        <p:spPr>
          <a:xfrm>
            <a:off x="5334120" y="4191120"/>
            <a:ext cx="343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кәңәш бир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0" name="WordArt 14"/>
          <p:cNvSpPr txBox="1"/>
          <p:nvPr/>
        </p:nvSpPr>
        <p:spPr>
          <a:xfrm>
            <a:off x="5181480" y="502920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ярҙамлаш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1" name="WordArt 15"/>
          <p:cNvSpPr txBox="1"/>
          <p:nvPr/>
        </p:nvSpPr>
        <p:spPr>
          <a:xfrm>
            <a:off x="5334120" y="2514600"/>
            <a:ext cx="343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көнләш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2" name="WordArt 16"/>
          <p:cNvSpPr txBox="1"/>
          <p:nvPr/>
        </p:nvSpPr>
        <p:spPr>
          <a:xfrm>
            <a:off x="304920" y="4267080"/>
            <a:ext cx="3433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мыҫҡыл ит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3" name="WordArt 17"/>
          <p:cNvSpPr txBox="1"/>
          <p:nvPr/>
        </p:nvSpPr>
        <p:spPr>
          <a:xfrm>
            <a:off x="685800" y="502920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маҡт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4" name="WordArt 18"/>
          <p:cNvSpPr txBox="1"/>
          <p:nvPr/>
        </p:nvSpPr>
        <p:spPr>
          <a:xfrm>
            <a:off x="2895480" y="25146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һуғы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5" name="WordArt 19"/>
          <p:cNvSpPr txBox="1"/>
          <p:nvPr/>
        </p:nvSpPr>
        <p:spPr>
          <a:xfrm>
            <a:off x="1828800" y="5943600"/>
            <a:ext cx="198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һоҡл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6" name="WordArt 20"/>
          <p:cNvSpPr txBox="1"/>
          <p:nvPr/>
        </p:nvSpPr>
        <p:spPr>
          <a:xfrm>
            <a:off x="5715000" y="5943600"/>
            <a:ext cx="22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ҡамасаул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274284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 flipH="1" flipV="1">
            <a:off x="2361960" y="30481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 flipV="1">
            <a:off x="1752480" y="3809880"/>
            <a:ext cx="3049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793800" y="1371600"/>
            <a:ext cx="2146320" cy="957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2"/>
          <a:stretch/>
        </p:blipFill>
        <p:spPr>
          <a:xfrm>
            <a:off x="760320" y="1995480"/>
            <a:ext cx="3111480" cy="9572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773280" y="2743200"/>
            <a:ext cx="2328840" cy="957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4"/>
          <a:stretch/>
        </p:blipFill>
        <p:spPr>
          <a:xfrm>
            <a:off x="795240" y="3505320"/>
            <a:ext cx="2401920" cy="957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"/>
          <p:cNvPicPr/>
          <p:nvPr/>
        </p:nvPicPr>
        <p:blipFill>
          <a:blip r:embed="rId5"/>
          <a:stretch/>
        </p:blipFill>
        <p:spPr>
          <a:xfrm>
            <a:off x="795240" y="4267080"/>
            <a:ext cx="3097440" cy="9572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2"/>
          <p:cNvSpPr/>
          <p:nvPr/>
        </p:nvSpPr>
        <p:spPr>
          <a:xfrm>
            <a:off x="7086600" y="35053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304920" y="304920"/>
            <a:ext cx="86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Юҡлыҡ  формаһында  я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"/>
          <p:cNvSpPr/>
          <p:nvPr/>
        </p:nvSpPr>
        <p:spPr>
          <a:xfrm>
            <a:off x="4616280" y="1557360"/>
            <a:ext cx="21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526814"/>
                </a:solidFill>
                <a:latin typeface="Arial"/>
              </a:rPr>
              <a:t>Һуғыш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4114800" y="230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ba-RU" sz="3200" spc="-1" strike="noStrike">
                <a:solidFill>
                  <a:srgbClr val="526814"/>
                </a:solidFill>
                <a:latin typeface="Arial"/>
              </a:rPr>
              <a:t>мыҫҡыл итмә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4114800" y="37908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ba-RU" sz="3200" spc="-1" strike="noStrike">
                <a:solidFill>
                  <a:srgbClr val="526814"/>
                </a:solidFill>
                <a:latin typeface="Arial"/>
              </a:rPr>
              <a:t>көнләшмә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8"/>
          <p:cNvSpPr/>
          <p:nvPr/>
        </p:nvSpPr>
        <p:spPr>
          <a:xfrm>
            <a:off x="4260960" y="309564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ba-RU" sz="3200" spc="-1" strike="noStrike">
                <a:solidFill>
                  <a:srgbClr val="526814"/>
                </a:solidFill>
                <a:latin typeface="Arial"/>
              </a:rPr>
              <a:t>маҡтан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4475160" y="4462560"/>
            <a:ext cx="33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526814"/>
                </a:solidFill>
                <a:latin typeface="Arial"/>
              </a:rPr>
              <a:t>ҡамасаула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304920" y="53352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Диалог төҙө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- Һинең дуҫың бармы? Әйт ә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- Эйе,минең дуҫым ба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- Уның исеме нис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- Уның исеме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- Ул нисәнсе класта уҡ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...  ... класта уҡ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-Һеҙ дуҫың менән ни эшләргә яратаһығы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-(киноға,концертҡа барырға,хоккей уйнарғ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әскәләр үҫтерергә, музыка тыңларға,  бәйләргә һ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емфира</dc:creator>
  <dc:description/>
  <dc:language>en-US</dc:language>
  <cp:lastModifiedBy>Земфира</cp:lastModifiedBy>
  <dcterms:modified xsi:type="dcterms:W3CDTF">2015-01-28T06:02:00Z</dcterms:modified>
  <cp:revision>99</cp:revision>
  <dc:subject/>
  <dc:title>НАСТОЯЩИЙ ДРУГ</dc:title>
</cp:coreProperties>
</file>