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362-79C5-44C3-BD3A-4CDB82AB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145-92BC-459C-B7DD-7A94151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C6D-9AC2-42BB-A028-4FA72462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6F3-7CE4-4C68-842C-E29928E1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B5F-2520-4E4B-B569-4737364A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8E3-EC2D-4D43-AC70-FE8771E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0E3-AE8F-4C79-9361-45DDA44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D84-7D2E-4F50-8417-DA17F83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CEC-89CC-40BE-A0ED-546C140D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634-931B-4EC4-8A8D-05710B9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490-DD71-4FC4-BB0F-F8D05E9A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429-5806-4D28-8A07-2618F3E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E1C-A9E3-4E6A-B60A-F473AF115F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heme of the lesson: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“ Family relations 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HappyFamily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swer the following question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 you have a large or a small fami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are the members  of your fami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eir hobbi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your responsibiliti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What must you do at home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relations do you have in your fami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251817495_50let_5"/>
          <p:cNvPicPr/>
          <p:nvPr/>
        </p:nvPicPr>
        <p:blipFill>
          <a:blip r:embed="rId1"/>
          <a:stretch/>
        </p:blipFill>
        <p:spPr>
          <a:xfrm>
            <a:off x="179280" y="3645000"/>
            <a:ext cx="255600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3420_2"/>
          <p:cNvPicPr/>
          <p:nvPr/>
        </p:nvPicPr>
        <p:blipFill>
          <a:blip r:embed="rId2"/>
          <a:stretch/>
        </p:blipFill>
        <p:spPr>
          <a:xfrm>
            <a:off x="5724360" y="0"/>
            <a:ext cx="302436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5188_1"/>
          <p:cNvPicPr/>
          <p:nvPr/>
        </p:nvPicPr>
        <p:blipFill>
          <a:blip r:embed="rId3"/>
          <a:stretch/>
        </p:blipFill>
        <p:spPr>
          <a:xfrm>
            <a:off x="395280" y="0"/>
            <a:ext cx="2881440" cy="354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irst"/>
          <p:cNvPicPr/>
          <p:nvPr/>
        </p:nvPicPr>
        <p:blipFill>
          <a:blip r:embed="rId4"/>
          <a:stretch/>
        </p:blipFill>
        <p:spPr>
          <a:xfrm>
            <a:off x="6516720" y="3573360"/>
            <a:ext cx="2484360" cy="328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532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ents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othe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fathe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68360" y="3860640"/>
            <a:ext cx="410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randpar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grandmo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grandfa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r003-016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28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_28ff_16c75d71_orig"/>
          <p:cNvPicPr/>
          <p:nvPr/>
        </p:nvPicPr>
        <p:blipFill>
          <a:blip r:embed="rId2"/>
          <a:stretch/>
        </p:blipFill>
        <p:spPr>
          <a:xfrm>
            <a:off x="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ochetanije_znakov_zodiaka"/>
          <p:cNvPicPr/>
          <p:nvPr/>
        </p:nvPicPr>
        <p:blipFill>
          <a:blip r:embed="rId3"/>
          <a:stretch/>
        </p:blipFill>
        <p:spPr>
          <a:xfrm>
            <a:off x="1835280" y="3357720"/>
            <a:ext cx="540072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338292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ildren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iste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broth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usi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-396720" y="5084640"/>
            <a:ext cx="2590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u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553080" y="5084640"/>
            <a:ext cx="2590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nc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616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ast Si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 (form 2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 +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ing last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l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dog last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di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t home on each day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 the last we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85128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51280" y="2637000"/>
            <a:ext cx="4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1186364766_d175big"/>
          <p:cNvPicPr/>
          <p:nvPr/>
        </p:nvPicPr>
        <p:blipFill>
          <a:blip r:embed="rId1"/>
          <a:stretch/>
        </p:blipFill>
        <p:spPr>
          <a:xfrm>
            <a:off x="5508720" y="189000"/>
            <a:ext cx="324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11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esent Perf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ave (has)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+ V (form 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 +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ready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writte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mother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nice thing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on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cent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Cartoon-Clipart-Free-04"/>
          <p:cNvPicPr/>
          <p:nvPr/>
        </p:nvPicPr>
        <p:blipFill>
          <a:blip r:embed="rId1"/>
          <a:stretch/>
        </p:blipFill>
        <p:spPr>
          <a:xfrm>
            <a:off x="5580000" y="404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hat must children and parents d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0388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hildr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c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0" y="1196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ar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c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t an examp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ive freed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067280" y="1125360"/>
            <a:ext cx="0" cy="573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7"/>
          <p:cNvSpPr/>
          <p:nvPr/>
        </p:nvSpPr>
        <p:spPr>
          <a:xfrm>
            <a:off x="0" y="227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>
            <a:off x="-324000" y="1125360"/>
            <a:ext cx="977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0" y="1844640"/>
            <a:ext cx="93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greement          Disagreement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3924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gree, that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ike the idea, tha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 / certainly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0000" y="836640"/>
            <a:ext cx="5219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’t agree, that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’t like the idea, that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contrary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067280" y="692280"/>
            <a:ext cx="73080" cy="590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0" descr="16"/>
          <p:cNvPicPr/>
          <p:nvPr/>
        </p:nvPicPr>
        <p:blipFill>
          <a:blip r:embed="rId1"/>
          <a:stretch/>
        </p:blipFill>
        <p:spPr>
          <a:xfrm>
            <a:off x="4932360" y="2637000"/>
            <a:ext cx="3384720" cy="40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3461488_40fdb621"/>
          <p:cNvPicPr/>
          <p:nvPr/>
        </p:nvPicPr>
        <p:blipFill>
          <a:blip r:embed="rId2"/>
          <a:stretch/>
        </p:blipFill>
        <p:spPr>
          <a:xfrm>
            <a:off x="250920" y="2637000"/>
            <a:ext cx="33843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-706320"/>
            <a:ext cx="381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651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family may b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riendl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lov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o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ar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ospitab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raditiona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nserv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13-21-4"/>
          <p:cNvPicPr/>
          <p:nvPr/>
        </p:nvPicPr>
        <p:blipFill>
          <a:blip r:embed="rId1"/>
          <a:stretch/>
        </p:blipFill>
        <p:spPr>
          <a:xfrm>
            <a:off x="4140360" y="404640"/>
            <a:ext cx="467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metask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e up a story about your fami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the members of your family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ir hobbies, your responsibilities,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od relations  in your family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0:49:42Z</dcterms:created>
  <dc:creator>Dezmond</dc:creator>
  <dc:description/>
  <dc:language>en-US</dc:language>
  <cp:lastModifiedBy>Home</cp:lastModifiedBy>
  <dcterms:modified xsi:type="dcterms:W3CDTF">2013-12-22T10:49:36Z</dcterms:modified>
  <cp:revision>51</cp:revision>
  <dc:subject/>
  <dc:title>Past Simple</dc:title>
</cp:coreProperties>
</file>