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7AD-BE5E-4F32-AE97-0CD2EE84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656-02BC-4DC8-94AC-82F6BBCD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A96-70A7-40E9-9241-475593F5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E78-0039-4571-9A2B-5A07F5ED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C34-977B-4507-9464-D1F8E65C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E9E-B0E8-47DC-BC62-D4FF9646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E1A-A423-40FE-8626-D84DCF97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966-22D4-4512-952F-5FE3E746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E11-B99A-4096-AF0F-B0AD1D73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29A-6810-4E87-A585-E63A67DD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AE1-F982-440B-AEFB-4D03A78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A26-FCD6-4618-9A49-8ABA7E1C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1734-605A-49F8-897D-835B08A913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theme of the lesson: </a:t>
            </a: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“ Family relations 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HappyFamily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nswer the following questions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 you have a large or a small famil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o are the members  of your famil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their hobbi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your responsibiliti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What must you do at home?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relations do you have in your famil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251817495_50let_5"/>
          <p:cNvPicPr/>
          <p:nvPr/>
        </p:nvPicPr>
        <p:blipFill>
          <a:blip r:embed="rId1"/>
          <a:stretch/>
        </p:blipFill>
        <p:spPr>
          <a:xfrm>
            <a:off x="179280" y="3645000"/>
            <a:ext cx="255600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3420_2"/>
          <p:cNvPicPr/>
          <p:nvPr/>
        </p:nvPicPr>
        <p:blipFill>
          <a:blip r:embed="rId2"/>
          <a:stretch/>
        </p:blipFill>
        <p:spPr>
          <a:xfrm>
            <a:off x="5724360" y="0"/>
            <a:ext cx="302436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5188_1"/>
          <p:cNvPicPr/>
          <p:nvPr/>
        </p:nvPicPr>
        <p:blipFill>
          <a:blip r:embed="rId3"/>
          <a:stretch/>
        </p:blipFill>
        <p:spPr>
          <a:xfrm>
            <a:off x="395280" y="0"/>
            <a:ext cx="2881440" cy="354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first"/>
          <p:cNvPicPr/>
          <p:nvPr/>
        </p:nvPicPr>
        <p:blipFill>
          <a:blip r:embed="rId4"/>
          <a:stretch/>
        </p:blipFill>
        <p:spPr>
          <a:xfrm>
            <a:off x="6516720" y="3573360"/>
            <a:ext cx="2484360" cy="328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532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ents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other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fathe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68360" y="3860640"/>
            <a:ext cx="410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randpar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grandmot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grandfat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r003-016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328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_28ff_16c75d71_orig"/>
          <p:cNvPicPr/>
          <p:nvPr/>
        </p:nvPicPr>
        <p:blipFill>
          <a:blip r:embed="rId2"/>
          <a:stretch/>
        </p:blipFill>
        <p:spPr>
          <a:xfrm>
            <a:off x="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ochetanije_znakov_zodiaka"/>
          <p:cNvPicPr/>
          <p:nvPr/>
        </p:nvPicPr>
        <p:blipFill>
          <a:blip r:embed="rId3"/>
          <a:stretch/>
        </p:blipFill>
        <p:spPr>
          <a:xfrm>
            <a:off x="1835280" y="3357720"/>
            <a:ext cx="5400720" cy="3500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338292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ildren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ister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broth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usi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-396720" y="5084640"/>
            <a:ext cx="2590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u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553080" y="5084640"/>
            <a:ext cx="2590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nc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616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ast Si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 (form 2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 +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pping last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l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dog last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di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you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t home on each day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 the last we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85128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51280" y="2637000"/>
            <a:ext cx="4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2" descr="1186364766_d175big"/>
          <p:cNvPicPr/>
          <p:nvPr/>
        </p:nvPicPr>
        <p:blipFill>
          <a:blip r:embed="rId1"/>
          <a:stretch/>
        </p:blipFill>
        <p:spPr>
          <a:xfrm>
            <a:off x="5508720" y="189000"/>
            <a:ext cx="324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11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esent Perfec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ave (has)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+ V (form 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 +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ha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ready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writte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as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mother recen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nice things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hav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you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on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centl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Cartoon-Clipart-Free-04"/>
          <p:cNvPicPr/>
          <p:nvPr/>
        </p:nvPicPr>
        <p:blipFill>
          <a:blip r:embed="rId1"/>
          <a:stretch/>
        </p:blipFill>
        <p:spPr>
          <a:xfrm>
            <a:off x="5580000" y="4046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hat must children and parents d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0388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hildr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c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0" y="11966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ar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c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derst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t an examp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ive freedo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6"/>
          <p:cNvSpPr/>
          <p:nvPr/>
        </p:nvSpPr>
        <p:spPr>
          <a:xfrm>
            <a:off x="4067280" y="1125360"/>
            <a:ext cx="0" cy="573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7"/>
          <p:cNvSpPr/>
          <p:nvPr/>
        </p:nvSpPr>
        <p:spPr>
          <a:xfrm>
            <a:off x="0" y="227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9"/>
          <p:cNvSpPr/>
          <p:nvPr/>
        </p:nvSpPr>
        <p:spPr>
          <a:xfrm>
            <a:off x="-324000" y="1125360"/>
            <a:ext cx="977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0" y="1844640"/>
            <a:ext cx="93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greement          Disagreement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3924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gree, that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like the idea, tha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 / certainly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0000" y="836640"/>
            <a:ext cx="5219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n’t agree, that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n’t like the idea, that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contrary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067280" y="692280"/>
            <a:ext cx="73080" cy="590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0" descr="16"/>
          <p:cNvPicPr/>
          <p:nvPr/>
        </p:nvPicPr>
        <p:blipFill>
          <a:blip r:embed="rId1"/>
          <a:stretch/>
        </p:blipFill>
        <p:spPr>
          <a:xfrm>
            <a:off x="4932360" y="2637000"/>
            <a:ext cx="3384720" cy="40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3461488_40fdb621"/>
          <p:cNvPicPr/>
          <p:nvPr/>
        </p:nvPicPr>
        <p:blipFill>
          <a:blip r:embed="rId2"/>
          <a:stretch/>
        </p:blipFill>
        <p:spPr>
          <a:xfrm>
            <a:off x="250920" y="2637000"/>
            <a:ext cx="33843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-706320"/>
            <a:ext cx="3816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651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family may b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riendl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lovin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o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ar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hospitab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raditiona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nserv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13-21-4"/>
          <p:cNvPicPr/>
          <p:nvPr/>
        </p:nvPicPr>
        <p:blipFill>
          <a:blip r:embed="rId1"/>
          <a:stretch/>
        </p:blipFill>
        <p:spPr>
          <a:xfrm>
            <a:off x="4140360" y="404640"/>
            <a:ext cx="467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ometask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e up a story about your fami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 the members of your family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ir hobbies, your responsibilities,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od relations  in your family 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0:49:42Z</dcterms:created>
  <dc:creator>Dezmond</dc:creator>
  <dc:description/>
  <dc:language>en-US</dc:language>
  <cp:lastModifiedBy>Home</cp:lastModifiedBy>
  <dcterms:modified xsi:type="dcterms:W3CDTF">2013-12-22T10:49:36Z</dcterms:modified>
  <cp:revision>51</cp:revision>
  <dc:subject/>
  <dc:title>Past Simple</dc:title>
</cp:coreProperties>
</file>