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gif" ContentType="image/gif"/>
  <Override PartName="/ppt/media/image3.jpeg" ContentType="image/jpeg"/>
  <Override PartName="/ppt/media/image14.gif" ContentType="image/gif"/>
  <Override PartName="/ppt/media/image1.gif" ContentType="image/gif"/>
  <Override PartName="/ppt/media/image1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2.gif" ContentType="image/gif"/>
  <Override PartName="/ppt/media/image10.jpeg" ContentType="image/jpeg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E9D-213C-4823-BB7E-E5A74EF9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3CE-516A-4A57-AF4D-BE0A9CA3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5CB-8134-413E-8D2C-9D50E5C6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AFE-368A-4091-8EBB-687F954A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37EC-FCA1-4BE8-A6DB-BB48F39F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7A25-A291-442C-8778-AF088B76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741-79C1-4DD6-A21D-7DC4571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3D81-9CFC-4277-9034-DC15866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2DA4-741F-4402-A8CD-83570FF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7BE4-D852-40EF-93B0-70A5E1E3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D0E9-A67C-421C-B3AC-6950C845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ADD-2C31-43FB-BEB9-095A5D9F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1F97-DBDE-4503-A8BE-93033071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9A0-BF0F-4C63-917B-5CF32529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E927-6281-439D-AC44-4FDC0B03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369-C230-4CE7-88E9-63F42480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DB9-5665-4968-BDDB-365E12A0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572-6EAD-459D-B65A-39AF675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D39-7442-4FBD-9A09-416C204F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4B3-3672-449F-B29C-F734D137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2D1-0192-4A70-A556-2ED889BA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81A-8E9E-42E7-999D-5D04239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7B0-A3DA-41FA-B42F-CCC0B14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400-3FB5-476C-9E13-1C2C279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F97C-6077-49F7-B447-FA262D1D4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4D4-CF31-46CB-8FEE-9E88DCFB4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332280"/>
            <a:ext cx="739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6e7e6"/>
                </a:solidFill>
                <a:latin typeface="Arial"/>
              </a:rPr>
              <a:t>Географическая игр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3141720"/>
            <a:ext cx="74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Богатств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др Земли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96360" y="531036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FC5-267C-460B-ADF4-E2EE4E0F8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82400" y="244440"/>
            <a:ext cx="637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 – часть вулк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, подумав, одну ты букву уб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если сделано все ве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перь я – судно! Посмотр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BB5-7D66-4455-B488-C63D5B8510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51560" cy="430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54480" y="404640"/>
            <a:ext cx="618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верек проворный, быстроног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уяв страх, стремится в н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 если переставим слоги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тут же превратится в г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76244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DA5-276B-433D-B95D-720CF91FD5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3996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два минерала, имеющих один и тот же химический состав, но противоположно различающиеся своими свойств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ин – прозрачен, как капля в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ругой – темно-серы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ый образует прекрасные кристаллы и является самым твердым минералом, второй – расслаивается и является самым мягк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исталлы первого оцениваются очень дорого, второй же имеется у каждого в д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BAC-9E0E-45A6-B328-3C256449F0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435960"/>
            <a:ext cx="79945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географический термин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нглийском звучит «Маунт»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итайском – «шань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спанском – «монте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понском – «ям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он обознач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A96-62F8-4E15-A259-D9C76E5740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5720" y="479880"/>
            <a:ext cx="829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чем из нижеперечисле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ится наибольшее количество желез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ябло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магнитный железн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водопроводная во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034-A627-4945-9334-EF268BB4C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177264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ие минеральные богатства Земли, добытые Вашей командой, соответствуют названию Вашей коман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619920"/>
            <a:ext cx="41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Финальны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DF3-AFD3-42CB-8D42-CFF2D4FD2A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013360" cy="591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2951280" cy="194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987640" y="1628640"/>
            <a:ext cx="3591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ЗДРАВЛ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ДИТЕЛ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970-38F3-48DF-B817-9124CCE5CB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58920" y="-72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e7e6"/>
                </a:solidFill>
                <a:latin typeface="Arial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74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Каждая команда отвечает на вопросы и зарабатывает «богатства недр Земли», если ответ на вопрос дан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26684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2. Каждая команда может выбрать только один вопрос из области одного ц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2748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3. Если команда не отвечает на вопрос, право ответа передается к следующей по счету команд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074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5. В финале игры дается дополнительное задание, несущее команде дополнительное оч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912920"/>
            <a:ext cx="76215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6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Побеждает та команда, которая больше остальных «добудет минеральных богатств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66"/>
                </a:solidFill>
                <a:uFillTx/>
                <a:latin typeface="Arial"/>
              </a:rPr>
              <a:t>Команда-победитель награждается дипломом «Лучший геолог», остальные команды получают грамоты за участие в иг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19920" y="0"/>
            <a:ext cx="1324080" cy="102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2995560"/>
            <a:ext cx="94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Сектор сюрприз предполагает ответ на вопрос из «черного ящика». Если ответ дан сразу, команда зарабатывает 3 балла, если со 2 попытки – 2 бал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3F0-893C-465F-BCAC-270CD6BD1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7440" cy="6104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20680" y="475560"/>
            <a:ext cx="70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зовите самую глубоку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кеаническую впади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F3C-B72E-41CE-A10B-44A47A4A0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41760" y="403920"/>
            <a:ext cx="53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амая протяжен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рная цепь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B0A-411E-4195-A288-00C7422F2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4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5960" y="764280"/>
            <a:ext cx="81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ые высокие горы в Росс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DB9-71E0-4054-970A-725EE3F5C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62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188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ожет ли яма быть горой? Назовите местность, где это возможно? И самую высокую Яму в этой местност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F56-B12A-4479-9DF7-4B4F16679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33336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й вулкан и где 24 авгус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9 года н.э. похоронил три города – Помпею, Геркуланум и Стабию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70668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B79-818E-4823-B137-C189675061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33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3877560"/>
            <a:ext cx="8136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ой остров в Тихом океане назван Магелланом в честь религиозного праздни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 острове сохранились каменные фигуры древних люде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86A-B578-47C9-B9F8-E09D14ED1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48690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 торжественному кри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бавь согласный зв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протянулись 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севера на ю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BD5-29C9-48AF-AB27-B6F7B7CC3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4:07:13Z</dcterms:created>
  <dc:creator>user</dc:creator>
  <dc:description/>
  <dc:language>en-US</dc:language>
  <cp:lastModifiedBy>admin</cp:lastModifiedBy>
  <dcterms:modified xsi:type="dcterms:W3CDTF">2007-04-16T12:33:25Z</dcterms:modified>
  <cp:revision>12</cp:revision>
  <dc:subject/>
  <dc:title>Слайд 1</dc:title>
</cp:coreProperties>
</file>