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gif" ContentType="image/gif"/>
  <Override PartName="/ppt/media/image3.jpeg" ContentType="image/jpeg"/>
  <Override PartName="/ppt/media/image14.gif" ContentType="image/gif"/>
  <Override PartName="/ppt/media/image1.gif" ContentType="image/gif"/>
  <Override PartName="/ppt/media/image1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2.gif" ContentType="image/gif"/>
  <Override PartName="/ppt/media/image10.jpeg" ContentType="image/jpeg"/>
  <Override PartName="/ppt/media/image6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B9D-AAB1-4DC1-83B6-C7778403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8DE-B17E-4960-9DF0-F7BAF252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DB1-6BDE-45FD-8273-4CE5CB67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F06-2E83-4FAA-9BC3-06DC70C2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133B-8C86-4105-8458-96F204DE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989C-6323-4E10-95B9-6AFFCA0C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5459-F71B-44EC-848B-5DD1459E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1825-F86D-4180-869D-3905F575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9872-6128-4C77-B255-D106054E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C845-69AC-409B-9D19-4ED95BED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F277-2F54-4E5A-86FD-C3A405E2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9DD-76E5-4B17-A31D-175AEC5F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60A9-DB99-4950-BC0B-B36C4DF0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87CE-F6A0-4EBF-BE3C-E2DA3537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546B-5BEF-41D6-9F4C-AED336DA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C60E-F048-45AF-80B1-7E2142D0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8A62-00B5-4490-8AAD-84D8DF42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B36-4D22-4DAA-BB86-E6F6C4B0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4D0-57FC-4E2A-8248-BF30BB5E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9A0-23CA-4C01-81FB-A6C98ED6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3D2-0108-4FC5-93B8-F62BE700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F6A-2082-4C5C-8DB5-AC9B4D79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956-9314-4162-AAA1-DBAAD93D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6BB-B2C6-4666-9D16-6CA93048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1FF8-1D9D-468B-B4F7-B2213E1FAF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3176-F9EA-4BE4-8FDC-E85DC72E8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332280"/>
            <a:ext cx="739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6e7e6"/>
                </a:solidFill>
                <a:latin typeface="Arial"/>
              </a:rPr>
              <a:t>Географическая игра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3141720"/>
            <a:ext cx="741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Богатства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др Земли"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96360" y="531036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4B5-D0BE-4B77-BE33-B247028F95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82400" y="244440"/>
            <a:ext cx="637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 – часть вулк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, подумав, одну ты букву уб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 если сделано все ве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перь я – судно! Посмотр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FCD-E644-4457-AA08-7CC4FE8F61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451560" cy="4300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54480" y="404640"/>
            <a:ext cx="618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верек проворный, быстроноги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чуяв страх, стремится в но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 если переставим слоги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тут же превратится в го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762440" cy="4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615-5A4F-4ED1-94A1-48A87E2434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3996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овите два минерала, имеющих один и тот же химический состав, но противоположно различающиеся своими свойств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ин – прозрачен, как капля в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ругой – темно-серы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вый образует прекрасные кристаллы и является самым твердым минералом, второй – расслаивается и является самым мягки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исталлы первого оцениваются очень дорого, второй же имеется у каждого в до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CDD-BF4B-4A3C-AF54-A7FC7A116C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435960"/>
            <a:ext cx="79945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т географический термин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нглийском звучит «Маунт»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итайском – «шань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спанском – «монте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японском – «ям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он обознач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511-BBDD-4048-B36B-D5BED7FC04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5720" y="479880"/>
            <a:ext cx="829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чем из нижеперечислен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ится наибольшее количество желез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ябло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кр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магнитный железн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водопроводная вод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26F-5FCF-47C9-8F03-3B6DE4333E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1772640"/>
            <a:ext cx="83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кие минеральные богатства Земли, добытые Вашей командой, соответствуют названию Вашей коман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619920"/>
            <a:ext cx="41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Финальны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427-1181-4044-B785-B8EBC5533A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013360" cy="591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2951280" cy="194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987640" y="1628640"/>
            <a:ext cx="3591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ЗДРАВЛЯ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БЕДИТЕЛЕ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8D4-ED11-4C41-8DD7-AFFAED4AAC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58920" y="-720"/>
            <a:ext cx="30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e7e6"/>
                </a:solidFill>
                <a:latin typeface="Arial"/>
              </a:rPr>
              <a:t>Правила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744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Каждая команда отвечает на вопросы и зарабатывает «богатства недр Земли», если ответ на вопрос дан прави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266840"/>
            <a:ext cx="81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2. Каждая команда может выбрать только один вопрос из области одного ц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2748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3. Если команда не отвечает на вопрос, право ответа передается к следующей по счету команд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074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5. В финале игры дается дополнительное задание, несущее команде дополнительное оч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912920"/>
            <a:ext cx="76215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6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Побеждает та команда, которая больше остальных «добудет минеральных богатств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66"/>
                </a:solidFill>
                <a:uFillTx/>
                <a:latin typeface="Arial"/>
              </a:rPr>
              <a:t>Команда-победитель награждается дипломом «Лучший геолог», остальные команды получают грамоты за участие в иг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19920" y="0"/>
            <a:ext cx="1324080" cy="1028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2995560"/>
            <a:ext cx="94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Сектор сюрприз предполагает ответ на вопрос из «черного ящика». Если ответ дан сразу, команда зарабатывает 3 балла, если со 2 попытки – 2 бал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72E-A3B1-46DE-A368-76D687BE25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7440" cy="6104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20680" y="475560"/>
            <a:ext cx="70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зовите самую глубокую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кеаническую впадин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2AD-281B-431A-A5A9-1392576463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41760" y="403920"/>
            <a:ext cx="53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амая протяженна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рная цепь в 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071-4456-4E55-8782-58BA00CAF5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48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5960" y="764280"/>
            <a:ext cx="81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ые высокие горы в Росс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1BD-E871-4FDB-9722-9A394CD349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62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18828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ожет ли яма быть горой? Назовите местность, где это возможно? И самую высокую Яму в этой местност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7DF-60FC-40D6-9A65-20DF2B395D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4360" y="333360"/>
            <a:ext cx="81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й вулкан и где 24 авгус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79 года н.э. похоронил три города – Помпею, Геркуланум и Стабию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16360" y="306864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706680" cy="406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CA5-E732-4FF6-A391-FFF871493F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6337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3877560"/>
            <a:ext cx="8136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ой остров в Тихом океане назван Магелланом в честь религиозного праздник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 острове сохранились каменные фигуры древних люде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448-6271-45C3-A520-65DBD43472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48690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 торжественному кри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бавь согласный зв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б протянулись г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севера на ю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310-801E-4264-856E-34BEE02A7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4:07:13Z</dcterms:created>
  <dc:creator>user</dc:creator>
  <dc:description/>
  <dc:language>en-US</dc:language>
  <cp:lastModifiedBy>admin</cp:lastModifiedBy>
  <dcterms:modified xsi:type="dcterms:W3CDTF">2007-04-16T12:33:25Z</dcterms:modified>
  <cp:revision>12</cp:revision>
  <dc:subject/>
  <dc:title>Слайд 1</dc:title>
</cp:coreProperties>
</file>