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CEC-8E3D-47D8-A91B-F206F31C4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2CE-635E-4490-8932-07E78C88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E3B-7057-424C-930F-00DAC418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E23-C9C1-4B26-A982-37F84FD4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4B8-933A-4FDE-98CE-37939CB2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ED0-32BA-4433-9E01-45244730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EE3-FB7F-4DAD-A98E-BFD3A3A0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AD1-5235-4CA9-95FA-35AD9D60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BE7-E51B-46BD-BABA-7B1BE9A9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70B-87A7-468C-B067-9589033B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1D8-65EC-4D78-85B3-E616C2B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E4A-AAAB-415F-9C74-758F7547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CEC-F7D6-468A-8D72-3250F82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A777-4D6B-4BF1-B8AD-3E29F67B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f6f6a8"/>
                </a:solidFill>
                <a:latin typeface="Arial"/>
              </a:rPr>
              <a:t>Һиҙҙерт ,ҡурай,ҡайнар тойғоларҙы,</a:t>
            </a:r>
            <a:br>
              <a:rPr sz="4000"/>
            </a:br>
            <a:r>
              <a:rPr b="1" i="1" lang="ba-RU" sz="4000" spc="-1" strike="noStrike">
                <a:solidFill>
                  <a:srgbClr val="f6f6a8"/>
                </a:solidFill>
                <a:latin typeface="Arial"/>
              </a:rPr>
              <a:t>Һөйҙөрт ,һөйләп башҡорт моңдарын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33cc33"/>
                </a:solidFill>
                <a:latin typeface="Arial"/>
              </a:rPr>
              <a:t>Ишморат Илбә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697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ff9900"/>
                </a:solidFill>
                <a:latin typeface="Arial"/>
              </a:rPr>
              <a:t>Роберт Юлдаш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200400" cy="403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51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ffff00"/>
                </a:solidFill>
                <a:latin typeface="Arial"/>
              </a:rPr>
              <a:t>Баймаҡ районынан сыҡҡан ҡурайсыл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Кәрим Дия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Ғата Сөләймә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Ғәбит Арғын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Ришат Рәхи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Азат Биксу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a-RU" sz="3200" spc="-1" strike="noStrike">
                <a:solidFill>
                  <a:srgbClr val="3333ff"/>
                </a:solidFill>
                <a:latin typeface="Arial"/>
              </a:rPr>
              <a:t>Миңлеғәле Хәсә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567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cc3300"/>
                </a:solidFill>
                <a:latin typeface="Arial"/>
              </a:rPr>
              <a:t>Ҡурай -дәүләт символдарында</a:t>
            </a:r>
            <a:r>
              <a:rPr b="0" lang="ba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74720" y="1473120"/>
            <a:ext cx="75945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Башҡортостан республикаһының дәүләт символдары булып торған флаг һәм гербта ҡурай </a:t>
            </a:r>
            <a:r>
              <a:rPr b="1" i="1" lang="ba-RU" sz="3200" spc="-1" strike="noStrike" u="sng">
                <a:solidFill>
                  <a:srgbClr val="cc0099"/>
                </a:solidFill>
                <a:uFillTx/>
                <a:latin typeface="Arial"/>
              </a:rPr>
              <a:t>дуҫлыҡты </a:t>
            </a: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һәм элек-электән ошо ерҙә йәшәгән </a:t>
            </a:r>
            <a:r>
              <a:rPr b="1" i="1" lang="ba-RU" sz="3200" spc="-1" strike="noStrike" u="sng">
                <a:solidFill>
                  <a:srgbClr val="cc0099"/>
                </a:solidFill>
                <a:uFillTx/>
                <a:latin typeface="Arial"/>
              </a:rPr>
              <a:t>ете ырыуҙың берҙәмлеген</a:t>
            </a:r>
            <a:r>
              <a:rPr b="1" i="1" lang="ba-RU" sz="3200" spc="-1" strike="noStrike">
                <a:solidFill>
                  <a:srgbClr val="cc0099"/>
                </a:solidFill>
                <a:latin typeface="Arial"/>
              </a:rPr>
              <a:t> сағылды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ffff00"/>
                </a:solidFill>
                <a:latin typeface="Arial"/>
              </a:rPr>
              <a:t>Ҡурай менән бәйле ҡыҙыҡлы фактт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9999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9999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99ff"/>
                </a:solidFill>
                <a:latin typeface="Arial"/>
              </a:rPr>
              <a:t>1812</a:t>
            </a:r>
            <a:r>
              <a:rPr b="1" i="1" lang="ba-RU" sz="3200" spc="-1" strike="noStrike">
                <a:solidFill>
                  <a:srgbClr val="9999ff"/>
                </a:solidFill>
                <a:latin typeface="Arial"/>
              </a:rPr>
              <a:t> йылғы Ватан һуғышы геройы Ҡаһым түрә Парижға көмөш ҡурайҙа уйнап барып ингән.Был ҡурай уның өсөн махсус ҡойоп эшләнгә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ba-RU" sz="3200" spc="-1" strike="noStrike">
                <a:solidFill>
                  <a:srgbClr val="ffff00"/>
                </a:solidFill>
                <a:latin typeface="Arial"/>
              </a:rPr>
              <a:t>Сыңрау торна” көйө борон-борондан тик ҡурайҙа ғына башҡар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659120" cy="544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60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ffff00"/>
                </a:solidFill>
                <a:latin typeface="Arial"/>
              </a:rPr>
              <a:t>Ҡурайға һәйкә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2001</a:t>
            </a:r>
            <a:r>
              <a:rPr b="0" lang="ba-RU" sz="3200" spc="-1" strike="noStrike">
                <a:solidFill>
                  <a:srgbClr val="66ff66"/>
                </a:solidFill>
                <a:latin typeface="Arial"/>
              </a:rPr>
              <a:t> йылда Баймаҡ районының Туғажман тауында ҡурайға һәйкәл ҡуйыл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333399"/>
                </a:solidFill>
                <a:latin typeface="Arial"/>
              </a:rPr>
              <a:t>Ҡурай-башҡорт халҡының милли инстр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2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99ff66"/>
                </a:solidFill>
                <a:latin typeface="Arial"/>
              </a:rPr>
              <a:t>Ҡурай-мөғжиз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99ff66"/>
                </a:solidFill>
                <a:latin typeface="Arial"/>
              </a:rPr>
              <a:t>2009</a:t>
            </a:r>
            <a:r>
              <a:rPr b="0" i="1" lang="ba-RU" sz="3200" spc="-1" strike="noStrike">
                <a:solidFill>
                  <a:srgbClr val="99ff66"/>
                </a:solidFill>
                <a:latin typeface="Arial"/>
              </a:rPr>
              <a:t> йылда үткәрелгән “Башҡортостандың ете мөғжизәһе һөҙөмтәһендә ҡурай Башҡортостандың ете мөғжизәһенең береһе тип табыл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00ff00"/>
                </a:solidFill>
                <a:latin typeface="Arial"/>
              </a:rPr>
              <a:t>Ҡурайҙың заманса яңғыраш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a-RU" sz="3200" spc="-1" strike="noStrike">
                <a:solidFill>
                  <a:srgbClr val="00ff00"/>
                </a:solidFill>
                <a:latin typeface="Arial"/>
              </a:rPr>
              <a:t>Ҡурайҙы Рәсәй күләмендә билдәле булған Гарик Сукачев,ДДТ төркөмдәре альбомдарында ишетергә мөмкин.Уны популярлаштырыуға Роберт Юлдашев күп көс һ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cc0099"/>
                </a:solidFill>
                <a:latin typeface="Arial"/>
              </a:rPr>
              <a:t>Роберт Юлдашев һәм Стәрлетамаҡ бейеү теа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14776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ff0000"/>
                </a:solidFill>
                <a:latin typeface="Arial"/>
              </a:rPr>
              <a:t>Килде заман,инде шатлан,ҡу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3200" spc="-1" strike="noStrike">
                <a:solidFill>
                  <a:srgbClr val="ff0000"/>
                </a:solidFill>
                <a:latin typeface="Arial"/>
              </a:rPr>
              <a:t>Йәмле тауышың илгә яңраһы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f6f6a8"/>
                </a:solidFill>
                <a:latin typeface="Arial"/>
              </a:rPr>
              <a:t>Ҡурай-тынлы инстр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43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33cc33"/>
                </a:solidFill>
                <a:latin typeface="Arial"/>
              </a:rPr>
              <a:t>Ҡурай төрҙ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Классик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Еҙ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Көпшә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Ҡыйыҡ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р ҡу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һ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333399"/>
                </a:solidFill>
                <a:latin typeface="Arial"/>
              </a:rPr>
              <a:t>Классик ҡурай ҡырҙа үҫкән үҫемлектән эшлән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9999"/>
                </a:solidFill>
                <a:latin typeface="Arial"/>
              </a:rPr>
              <a:t>Ҡурай нисек эшләнә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000" spc="-1" strike="noStrike">
                <a:solidFill>
                  <a:srgbClr val="33cc33"/>
                </a:solidFill>
                <a:latin typeface="Arial"/>
              </a:rPr>
              <a:t>Башҡортостандың билдәле ҡурайсыл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Байыҡ-Айҙар сәсә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Кәрим Дия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Йомабай Иҫән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Ишмулла Дилмөхәмә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ата Сөләймә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әбит Арғын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Әҙеһәм Исҡуж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Юлай Ғәйнетд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660066"/>
                </a:solidFill>
                <a:latin typeface="Arial"/>
              </a:rPr>
              <a:t>Азат Айытҡ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5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4400" spc="-1" strike="noStrike">
                <a:solidFill>
                  <a:srgbClr val="a8aff6"/>
                </a:solidFill>
                <a:latin typeface="Arial"/>
              </a:rPr>
              <a:t>Юлай Ғәйнетд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4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4:28:50Z</dcterms:created>
  <dc:creator>Уметбаево</dc:creator>
  <dc:description/>
  <dc:language>en-US</dc:language>
  <cp:lastModifiedBy>Уметбаево</cp:lastModifiedBy>
  <dcterms:modified xsi:type="dcterms:W3CDTF">2013-02-28T18:36:34Z</dcterms:modified>
  <cp:revision>34</cp:revision>
  <dc:subject/>
  <dc:title>Слайд 1</dc:title>
</cp:coreProperties>
</file>