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27E-E8E7-4FE5-B52A-A73D1198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D98-8379-423C-AC25-2F2F3DC2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020-8FC1-4543-A97F-D5B8BC94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3D7-CE26-4FB4-B64C-2356B715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D0E-87C9-4705-B8F8-DAEE0DE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98D-6CE3-4629-897F-1A340235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D76-DE52-45BA-9A33-E77E16EC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9FA-7E15-4119-90A1-23AF5E85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094-D700-4067-B71E-41583ED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BB8-A3BD-4C6D-A039-6679A188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8E8-2DFE-41EC-958C-6E8556E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303-B378-4AA3-B42B-7B8A2BF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AFEC-2C60-4FE8-ABE7-B234DC5EBA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Рабочий стол\иллюзии\п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ллюзии……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nazareth_-_love_hurts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User\Рабочий стол\иллюзии\бю.jpeg"/>
          <p:cNvPicPr/>
          <p:nvPr/>
        </p:nvPicPr>
        <p:blipFill>
          <a:blip r:embed="rId1"/>
          <a:stretch/>
        </p:blipFill>
        <p:spPr>
          <a:xfrm>
            <a:off x="1692360" y="260280"/>
            <a:ext cx="6048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C:\Documents and Settings\User\Рабочий стол\иллюзии\в.jpeg"/>
          <p:cNvPicPr/>
          <p:nvPr/>
        </p:nvPicPr>
        <p:blipFill>
          <a:blip r:embed="rId1"/>
          <a:stretch/>
        </p:blipFill>
        <p:spPr>
          <a:xfrm>
            <a:off x="1692360" y="189000"/>
            <a:ext cx="626436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Documents and Settings\User\Рабочий стол\иллюзии\ва.jpeg"/>
          <p:cNvPicPr/>
          <p:nvPr/>
        </p:nvPicPr>
        <p:blipFill>
          <a:blip r:embed="rId1"/>
          <a:stretch/>
        </p:blipFill>
        <p:spPr>
          <a:xfrm>
            <a:off x="1606680" y="387360"/>
            <a:ext cx="593064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User\Рабочий стол\иллюзии\варп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C:\Documents and Settings\User\Рабочий стол\иллюзии\ввввввв.jpeg"/>
          <p:cNvPicPr/>
          <p:nvPr/>
        </p:nvPicPr>
        <p:blipFill>
          <a:blip r:embed="rId1"/>
          <a:stretch/>
        </p:blipFill>
        <p:spPr>
          <a:xfrm>
            <a:off x="1517760" y="380880"/>
            <a:ext cx="61084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C:\Documents and Settings\User\Рабочий стол\иллюзии\ггггг.jpeg"/>
          <p:cNvPicPr/>
          <p:nvPr/>
        </p:nvPicPr>
        <p:blipFill>
          <a:blip r:embed="rId1"/>
          <a:stretch/>
        </p:blipFill>
        <p:spPr>
          <a:xfrm>
            <a:off x="2031840" y="888840"/>
            <a:ext cx="508032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C:\Documents and Settings\User\Рабочий стол\иллюзии\глг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C:\Documents and Settings\User\Рабочий стол\иллюзии\глл.jpeg"/>
          <p:cNvPicPr/>
          <p:nvPr/>
        </p:nvPicPr>
        <p:blipFill>
          <a:blip r:embed="rId1"/>
          <a:stretch/>
        </p:blipFill>
        <p:spPr>
          <a:xfrm>
            <a:off x="1258920" y="260280"/>
            <a:ext cx="62658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User\Рабочий стол\иллюзии\глн.jpeg"/>
          <p:cNvPicPr/>
          <p:nvPr/>
        </p:nvPicPr>
        <p:blipFill>
          <a:blip r:embed="rId1"/>
          <a:stretch/>
        </p:blipFill>
        <p:spPr>
          <a:xfrm>
            <a:off x="1530360" y="380880"/>
            <a:ext cx="6083280" cy="6096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ужно двигать головой вперед-назад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Documents and Settings\User\Рабочий стол\иллюзии\грл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Рабочий стол\иллюзии\423.jpeg"/>
          <p:cNvPicPr/>
          <p:nvPr/>
        </p:nvPicPr>
        <p:blipFill>
          <a:blip r:embed="rId1"/>
          <a:stretch/>
        </p:blipFill>
        <p:spPr>
          <a:xfrm>
            <a:off x="1476360" y="59364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тс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User\Рабочий стол\иллюзии\мммммммм.jpeg"/>
          <p:cNvPicPr/>
          <p:nvPr/>
        </p:nvPicPr>
        <p:blipFill>
          <a:blip r:embed="rId1"/>
          <a:stretch/>
        </p:blipFill>
        <p:spPr>
          <a:xfrm>
            <a:off x="1542960" y="380880"/>
            <a:ext cx="605808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аблик должен плыть!</a:t>
            </a:r>
            <a:r>
              <a:rPr b="0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C:\Documents and Settings\User\Рабочий стол\иллюзии\пар.jpeg"/>
          <p:cNvPicPr/>
          <p:nvPr/>
        </p:nvPicPr>
        <p:blipFill>
          <a:blip r:embed="rId1"/>
          <a:stretch/>
        </p:blipFill>
        <p:spPr>
          <a:xfrm>
            <a:off x="1606680" y="463680"/>
            <a:ext cx="5930640" cy="59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Documents and Settings\User\Рабочий стол\иллюзии\шшшшшш.jpeg"/>
          <p:cNvPicPr/>
          <p:nvPr/>
        </p:nvPicPr>
        <p:blipFill>
          <a:blip r:embed="rId1"/>
          <a:stretch/>
        </p:blipFill>
        <p:spPr>
          <a:xfrm>
            <a:off x="736560" y="1295280"/>
            <a:ext cx="76708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C:\Documents and Settings\User\Рабочий стол\иллюзии\пнора.jpeg"/>
          <p:cNvPicPr/>
          <p:nvPr/>
        </p:nvPicPr>
        <p:blipFill>
          <a:blip r:embed="rId1"/>
          <a:stretch/>
        </p:blipFill>
        <p:spPr>
          <a:xfrm>
            <a:off x="1332000" y="260280"/>
            <a:ext cx="6408720" cy="63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2" descr="C:\Documents and Settings\User\Рабочий стол\иллюзии\яч.jpeg"/>
          <p:cNvPicPr/>
          <p:nvPr/>
        </p:nvPicPr>
        <p:blipFill>
          <a:blip r:embed="rId1"/>
          <a:stretch/>
        </p:blipFill>
        <p:spPr>
          <a:xfrm>
            <a:off x="1403280" y="333360"/>
            <a:ext cx="619308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2" descr="C:\Documents and Settings\User\Рабочий стол\иллюзии\ээээээээ.jpe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User\Рабочий стол\фото\x_11b113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 в Финляндии. Как там жить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User\Рабочий стол\фото\когалым2.jpeg"/>
          <p:cNvPicPr/>
          <p:nvPr/>
        </p:nvPicPr>
        <p:blipFill>
          <a:blip r:embed="rId1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Узнал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User\Рабочий стол\фото\когалым3.jpeg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накомо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Documents and Settings\User\Рабочий стол\иллюзии\п.jpe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Рабочий стол\иллюзии\getImage.jpeg"/>
          <p:cNvPicPr/>
          <p:nvPr/>
        </p:nvPicPr>
        <p:blipFill>
          <a:blip r:embed="rId1"/>
          <a:stretch/>
        </p:blipFill>
        <p:spPr>
          <a:xfrm>
            <a:off x="1403280" y="581040"/>
            <a:ext cx="6264360" cy="627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и веревки правильной формы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User\Рабочий стол\иллюзии\пол.jpeg"/>
          <p:cNvPicPr/>
          <p:nvPr/>
        </p:nvPicPr>
        <p:blipFill>
          <a:blip r:embed="rId1"/>
          <a:stretch/>
        </p:blipFill>
        <p:spPr>
          <a:xfrm>
            <a:off x="2050920" y="260280"/>
            <a:ext cx="4249800" cy="6364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User\Рабочий стол\иллюзии\потолок.jpeg"/>
          <p:cNvPicPr/>
          <p:nvPr/>
        </p:nvPicPr>
        <p:blipFill>
          <a:blip r:embed="rId1"/>
          <a:stretch/>
        </p:blipFill>
        <p:spPr>
          <a:xfrm>
            <a:off x="3533760" y="333360"/>
            <a:ext cx="4838760" cy="652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олок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урилк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User\Рабочий стол\таволга!.jpeg"/>
          <p:cNvPicPr/>
          <p:nvPr/>
        </p:nvPicPr>
        <p:blipFill>
          <a:blip r:embed="rId1"/>
          <a:stretch/>
        </p:blipFill>
        <p:spPr>
          <a:xfrm>
            <a:off x="468360" y="4046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Желаю вам счастья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4751280" cy="6337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мы тоже!</a:t>
            </a:r>
            <a:r>
              <a:rPr b="0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!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у как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C:\Documents and Settings\User\Рабочий стол\иллюзии\getImage1.jpeg"/>
          <p:cNvPicPr/>
          <p:nvPr/>
        </p:nvPicPr>
        <p:blipFill>
          <a:blip r:embed="rId1"/>
          <a:stretch/>
        </p:blipFill>
        <p:spPr>
          <a:xfrm>
            <a:off x="826920" y="944640"/>
            <a:ext cx="784872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User\Рабочий стол\иллюзии\ааа.jpeg"/>
          <p:cNvPicPr/>
          <p:nvPr/>
        </p:nvPicPr>
        <p:blipFill>
          <a:blip r:embed="rId1"/>
          <a:stretch/>
        </p:blipFill>
        <p:spPr>
          <a:xfrm>
            <a:off x="1258920" y="333360"/>
            <a:ext cx="6913440" cy="615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User\Рабочий стол\иллюзии\ап.jpeg"/>
          <p:cNvPicPr/>
          <p:nvPr/>
        </p:nvPicPr>
        <p:blipFill>
          <a:blip r:embed="rId1"/>
          <a:stretch/>
        </p:blipFill>
        <p:spPr>
          <a:xfrm>
            <a:off x="755640" y="1052640"/>
            <a:ext cx="74883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User\Рабочий стол\иллюзии\апр.jpeg"/>
          <p:cNvPicPr/>
          <p:nvPr/>
        </p:nvPicPr>
        <p:blipFill>
          <a:blip r:embed="rId1"/>
          <a:stretch/>
        </p:blipFill>
        <p:spPr>
          <a:xfrm>
            <a:off x="1692360" y="762120"/>
            <a:ext cx="6108480" cy="6095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тятся</a:t>
            </a:r>
            <a:r>
              <a:rPr b="0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C:\Documents and Settings\User\Рабочий стол\иллюзии\арьлоооо.jpeg"/>
          <p:cNvPicPr/>
          <p:nvPr/>
        </p:nvPicPr>
        <p:blipFill>
          <a:blip r:embed="rId1"/>
          <a:stretch/>
        </p:blipFill>
        <p:spPr>
          <a:xfrm>
            <a:off x="324000" y="692280"/>
            <a:ext cx="849600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C:\Documents and Settings\User\Рабочий стол\иллюзии\ббббббббб.jpeg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"СОШ № 9"</cp:lastModifiedBy>
  <dcterms:modified xsi:type="dcterms:W3CDTF">2011-12-20T10:51:58Z</dcterms:modified>
  <cp:revision>9</cp:revision>
  <dc:subject/>
  <dc:title>Слайд 1</dc:title>
</cp:coreProperties>
</file>