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BFF9-0703-4143-B5D9-9618025D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8FB-C369-4AD0-B82B-0358602F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5C8E-2A48-498B-9CBF-4AB7AF9E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734-41AE-4D82-A80B-C544160E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27CE-F222-4D75-BAB7-BFF607BD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8A42-0745-45D9-B0D6-88466F8C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AA1A-0319-499D-BB87-86840291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C0F-65CC-47EE-BC6A-F0CB10E2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FD1-1DD0-41B8-99B9-F118B9B3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F79-9099-4E5B-8E40-84E50820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769-6860-445F-89A6-7EBDB118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E39-E5D9-4AA1-84DF-F7A88DC0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3CC4-4C5C-4863-94C0-6B85FCB937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User\Рабочий стол\иллюзии\п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Иллюзии……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nazareth_-_love_hurts.mp3" descr=""/>
          <p:cNvPicPr/>
          <p:nvPr/>
        </p:nvPicPr>
        <p:blipFill>
          <a:blip r:embed="rId2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C:\Documents and Settings\User\Рабочий стол\иллюзии\бю.jpeg"/>
          <p:cNvPicPr/>
          <p:nvPr/>
        </p:nvPicPr>
        <p:blipFill>
          <a:blip r:embed="rId1"/>
          <a:stretch/>
        </p:blipFill>
        <p:spPr>
          <a:xfrm>
            <a:off x="1692360" y="260280"/>
            <a:ext cx="604836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2" descr="C:\Documents and Settings\User\Рабочий стол\иллюзии\в.jpeg"/>
          <p:cNvPicPr/>
          <p:nvPr/>
        </p:nvPicPr>
        <p:blipFill>
          <a:blip r:embed="rId1"/>
          <a:stretch/>
        </p:blipFill>
        <p:spPr>
          <a:xfrm>
            <a:off x="1692360" y="189000"/>
            <a:ext cx="6264360" cy="62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C:\Documents and Settings\User\Рабочий стол\иллюзии\ва.jpeg"/>
          <p:cNvPicPr/>
          <p:nvPr/>
        </p:nvPicPr>
        <p:blipFill>
          <a:blip r:embed="rId1"/>
          <a:stretch/>
        </p:blipFill>
        <p:spPr>
          <a:xfrm>
            <a:off x="1606680" y="387360"/>
            <a:ext cx="5930640" cy="60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2" descr="C:\Documents and Settings\User\Рабочий стол\иллюзии\варп.jpeg"/>
          <p:cNvPicPr/>
          <p:nvPr/>
        </p:nvPicPr>
        <p:blipFill>
          <a:blip r:embed="rId1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2" descr="C:\Documents and Settings\User\Рабочий стол\иллюзии\ввввввв.jpeg"/>
          <p:cNvPicPr/>
          <p:nvPr/>
        </p:nvPicPr>
        <p:blipFill>
          <a:blip r:embed="rId1"/>
          <a:stretch/>
        </p:blipFill>
        <p:spPr>
          <a:xfrm>
            <a:off x="1517760" y="380880"/>
            <a:ext cx="61084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2" descr="C:\Documents and Settings\User\Рабочий стол\иллюзии\ггггг.jpeg"/>
          <p:cNvPicPr/>
          <p:nvPr/>
        </p:nvPicPr>
        <p:blipFill>
          <a:blip r:embed="rId1"/>
          <a:stretch/>
        </p:blipFill>
        <p:spPr>
          <a:xfrm>
            <a:off x="2031840" y="888840"/>
            <a:ext cx="5080320" cy="50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C:\Documents and Settings\User\Рабочий стол\иллюзии\глг.jpeg"/>
          <p:cNvPicPr/>
          <p:nvPr/>
        </p:nvPicPr>
        <p:blipFill>
          <a:blip r:embed="rId1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2" descr="C:\Documents and Settings\User\Рабочий стол\иллюзии\глл.jpeg"/>
          <p:cNvPicPr/>
          <p:nvPr/>
        </p:nvPicPr>
        <p:blipFill>
          <a:blip r:embed="rId1"/>
          <a:stretch/>
        </p:blipFill>
        <p:spPr>
          <a:xfrm>
            <a:off x="1258920" y="260280"/>
            <a:ext cx="62658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Documents and Settings\User\Рабочий стол\иллюзии\глн.jpeg"/>
          <p:cNvPicPr/>
          <p:nvPr/>
        </p:nvPicPr>
        <p:blipFill>
          <a:blip r:embed="rId1"/>
          <a:stretch/>
        </p:blipFill>
        <p:spPr>
          <a:xfrm>
            <a:off x="1530360" y="380880"/>
            <a:ext cx="6083280" cy="60962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ужно двигать головой вперед-назад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Documents and Settings\User\Рабочий стол\иллюзии\грл.jpeg"/>
          <p:cNvPicPr/>
          <p:nvPr/>
        </p:nvPicPr>
        <p:blipFill>
          <a:blip r:embed="rId1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Рабочий стол\иллюзии\423.jpeg"/>
          <p:cNvPicPr/>
          <p:nvPr/>
        </p:nvPicPr>
        <p:blipFill>
          <a:blip r:embed="rId1"/>
          <a:stretch/>
        </p:blipFill>
        <p:spPr>
          <a:xfrm>
            <a:off x="1476360" y="593640"/>
            <a:ext cx="6264360" cy="6264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3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вижется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User\Рабочий стол\иллюзии\мммммммм.jpeg"/>
          <p:cNvPicPr/>
          <p:nvPr/>
        </p:nvPicPr>
        <p:blipFill>
          <a:blip r:embed="rId1"/>
          <a:stretch/>
        </p:blipFill>
        <p:spPr>
          <a:xfrm>
            <a:off x="1542960" y="380880"/>
            <a:ext cx="6058080" cy="6096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аблик должен плыть!</a:t>
            </a:r>
            <a:r>
              <a:rPr b="0" lang="ru-RU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2" descr="C:\Documents and Settings\User\Рабочий стол\иллюзии\пар.jpeg"/>
          <p:cNvPicPr/>
          <p:nvPr/>
        </p:nvPicPr>
        <p:blipFill>
          <a:blip r:embed="rId1"/>
          <a:stretch/>
        </p:blipFill>
        <p:spPr>
          <a:xfrm>
            <a:off x="1606680" y="463680"/>
            <a:ext cx="5930640" cy="59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C:\Documents and Settings\User\Рабочий стол\иллюзии\шшшшшш.jpeg"/>
          <p:cNvPicPr/>
          <p:nvPr/>
        </p:nvPicPr>
        <p:blipFill>
          <a:blip r:embed="rId1"/>
          <a:stretch/>
        </p:blipFill>
        <p:spPr>
          <a:xfrm>
            <a:off x="736560" y="1295280"/>
            <a:ext cx="767088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2" descr="C:\Documents and Settings\User\Рабочий стол\иллюзии\пнора.jpeg"/>
          <p:cNvPicPr/>
          <p:nvPr/>
        </p:nvPicPr>
        <p:blipFill>
          <a:blip r:embed="rId1"/>
          <a:stretch/>
        </p:blipFill>
        <p:spPr>
          <a:xfrm>
            <a:off x="1332000" y="260280"/>
            <a:ext cx="6408720" cy="637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Picture 2" descr="C:\Documents and Settings\User\Рабочий стол\иллюзии\яч.jpeg"/>
          <p:cNvPicPr/>
          <p:nvPr/>
        </p:nvPicPr>
        <p:blipFill>
          <a:blip r:embed="rId1"/>
          <a:stretch/>
        </p:blipFill>
        <p:spPr>
          <a:xfrm>
            <a:off x="1403280" y="333360"/>
            <a:ext cx="619308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Picture 2" descr="C:\Documents and Settings\User\Рабочий стол\иллюзии\ээээээээ.jpeg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1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Documents and Settings\User\Рабочий стол\фото\x_11b1137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 в Финляндии. Как там жить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User\Рабочий стол\фото\когалым2.jpeg"/>
          <p:cNvPicPr/>
          <p:nvPr/>
        </p:nvPicPr>
        <p:blipFill>
          <a:blip r:embed="rId1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знали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User\Рабочий стол\фото\когалым3.jpeg"/>
          <p:cNvPicPr/>
          <p:nvPr/>
        </p:nvPicPr>
        <p:blipFill>
          <a:blip r:embed="rId1"/>
          <a:stretch/>
        </p:blipFill>
        <p:spPr>
          <a:xfrm>
            <a:off x="-79200" y="0"/>
            <a:ext cx="92232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накомо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C:\Documents and Settings\User\Рабочий стол\иллюзии\п.jpe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Рабочий стол\иллюзии\getImage.jpeg"/>
          <p:cNvPicPr/>
          <p:nvPr/>
        </p:nvPicPr>
        <p:blipFill>
          <a:blip r:embed="rId1"/>
          <a:stretch/>
        </p:blipFill>
        <p:spPr>
          <a:xfrm>
            <a:off x="1403280" y="581040"/>
            <a:ext cx="6264360" cy="6276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и веревки правильной формы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User\Рабочий стол\иллюзии\пол.jpeg"/>
          <p:cNvPicPr/>
          <p:nvPr/>
        </p:nvPicPr>
        <p:blipFill>
          <a:blip r:embed="rId1"/>
          <a:stretch/>
        </p:blipFill>
        <p:spPr>
          <a:xfrm>
            <a:off x="2050920" y="260280"/>
            <a:ext cx="4249800" cy="6364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Documents and Settings\User\Рабочий стол\иллюзии\потолок.jpeg"/>
          <p:cNvPicPr/>
          <p:nvPr/>
        </p:nvPicPr>
        <p:blipFill>
          <a:blip r:embed="rId1"/>
          <a:stretch/>
        </p:blipFill>
        <p:spPr>
          <a:xfrm>
            <a:off x="3533760" y="333360"/>
            <a:ext cx="4838760" cy="6524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олок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курилк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Documents and Settings\User\Рабочий стол\таволга!.jpeg"/>
          <p:cNvPicPr/>
          <p:nvPr/>
        </p:nvPicPr>
        <p:blipFill>
          <a:blip r:embed="rId1"/>
          <a:stretch/>
        </p:blipFill>
        <p:spPr>
          <a:xfrm>
            <a:off x="468360" y="40464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alibri"/>
              </a:rPr>
              <a:t>Желаю вам счастья!!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4751280" cy="63374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мы тоже!</a:t>
            </a:r>
            <a:r>
              <a:rPr b="0" lang="ru-RU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!!!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у как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C:\Documents and Settings\User\Рабочий стол\иллюзии\getImage1.jpeg"/>
          <p:cNvPicPr/>
          <p:nvPr/>
        </p:nvPicPr>
        <p:blipFill>
          <a:blip r:embed="rId1"/>
          <a:stretch/>
        </p:blipFill>
        <p:spPr>
          <a:xfrm>
            <a:off x="826920" y="944640"/>
            <a:ext cx="7848720" cy="59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C:\Documents and Settings\User\Рабочий стол\иллюзии\ааа.jpeg"/>
          <p:cNvPicPr/>
          <p:nvPr/>
        </p:nvPicPr>
        <p:blipFill>
          <a:blip r:embed="rId1"/>
          <a:stretch/>
        </p:blipFill>
        <p:spPr>
          <a:xfrm>
            <a:off x="1258920" y="333360"/>
            <a:ext cx="6913440" cy="615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Documents and Settings\User\Рабочий стол\иллюзии\ап.jpeg"/>
          <p:cNvPicPr/>
          <p:nvPr/>
        </p:nvPicPr>
        <p:blipFill>
          <a:blip r:embed="rId1"/>
          <a:stretch/>
        </p:blipFill>
        <p:spPr>
          <a:xfrm>
            <a:off x="755640" y="1052640"/>
            <a:ext cx="748836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User\Рабочий стол\иллюзии\апр.jpeg"/>
          <p:cNvPicPr/>
          <p:nvPr/>
        </p:nvPicPr>
        <p:blipFill>
          <a:blip r:embed="rId1"/>
          <a:stretch/>
        </p:blipFill>
        <p:spPr>
          <a:xfrm>
            <a:off x="1692360" y="762120"/>
            <a:ext cx="6108480" cy="60958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утятся</a:t>
            </a:r>
            <a:r>
              <a:rPr b="0" lang="ru-RU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2" descr="C:\Documents and Settings\User\Рабочий стол\иллюзии\арьлоооо.jpeg"/>
          <p:cNvPicPr/>
          <p:nvPr/>
        </p:nvPicPr>
        <p:blipFill>
          <a:blip r:embed="rId1"/>
          <a:stretch/>
        </p:blipFill>
        <p:spPr>
          <a:xfrm>
            <a:off x="324000" y="692280"/>
            <a:ext cx="8496000" cy="42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C:\Documents and Settings\User\Рабочий стол\иллюзии\ббббббббб.jpeg"/>
          <p:cNvPicPr/>
          <p:nvPr/>
        </p:nvPicPr>
        <p:blipFill>
          <a:blip r:embed="rId1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ОУ "СОШ № 9"</cp:lastModifiedBy>
  <dcterms:modified xsi:type="dcterms:W3CDTF">2011-12-20T10:51:58Z</dcterms:modified>
  <cp:revision>9</cp:revision>
  <dc:subject/>
  <dc:title>Слайд 1</dc:title>
</cp:coreProperties>
</file>