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13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7.jpeg" ContentType="image/jpeg"/>
  <Override PartName="/ppt/media/image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0B1-B19A-41B0-9D9E-D5FBB4BF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ADD-D916-4E3F-A2C0-1642C2B5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001-C7AA-4C53-88B4-BC8172A9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350-8BBC-4B32-A6EA-56A7493C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882-33F0-45D9-B56C-1A1DDAFA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CB8-29A7-43B7-8A34-0B09FC1A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1FA-7B5D-4DB4-BCE9-B4DDF9D9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875-9708-4CD0-AE45-881A1338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396-6B0E-47BA-A0B1-78D733C0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EB9-EDDB-4F0C-8BB6-5741291A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F69-2953-48DB-B127-150E7D0B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7CC-81FE-45CB-A7B7-BF2718E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3C06-80DE-448D-801B-26A658767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мышь"/>
          <p:cNvPicPr/>
          <p:nvPr/>
        </p:nvPicPr>
        <p:blipFill>
          <a:blip r:embed="rId1"/>
          <a:stretch/>
        </p:blipFill>
        <p:spPr>
          <a:xfrm>
            <a:off x="7451640" y="476280"/>
            <a:ext cx="1270080" cy="109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50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чий стол. Управление компьютером с помощью мыши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воение м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1600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lide0005_image012"/>
          <p:cNvPicPr/>
          <p:nvPr/>
        </p:nvPicPr>
        <p:blipFill>
          <a:blip r:embed="rId2"/>
          <a:stretch/>
        </p:blipFill>
        <p:spPr>
          <a:xfrm>
            <a:off x="5003640" y="3429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148360" y="404280"/>
            <a:ext cx="354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чий стол компьют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— это экран, на котором расположены инструменты (программы) и документы (тексты, рисунки, мелод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чий стол компьютера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РТУ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4797360"/>
            <a:ext cx="799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Рабочего стола, набор компьютерных инструментов и документов на нем можно меня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85928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3059280" cy="255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2602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Чтобы управлять работой  компьютера, человек отдаёт ему  команды. В разных случаях это делается по- разно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0280" y="1216080"/>
            <a:ext cx="60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брать на клавиатуре  слово или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1720" y="177336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анда изображается пиктограм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421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пьютер выдаёт на экран  монитора список команд, которые он может выполнить, и человеку надо  выбрать одну из этих  ком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1989000"/>
            <a:ext cx="576000" cy="2232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3213000"/>
            <a:ext cx="4896000" cy="1728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040" y="4221000"/>
            <a:ext cx="4438800" cy="39888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писок команд называется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869000"/>
            <a:ext cx="5184720" cy="70380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озможности, которые перечислены в меню, называются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пунктами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omic Sans MS"/>
              </a:rPr>
              <a:t>Рабочий ст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а рабочем столе размещаю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значки объек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ярлыки объек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начки и ярлыки обеспечивают быстрый доступ к различным устройствам и программам компьютера, а также текстам, рисункам и др. документ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512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абочем столе размещены значки (небольшие картинки)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Мой компьют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Корзи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ок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Мой компьют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еспечивает доступ к различным устройствам компью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орзи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правляется «мусор» - все то, что уже не нужно хранить в памят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ловимся называть эти значки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Объектам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Мой компьютер"/>
          <p:cNvPicPr/>
          <p:nvPr/>
        </p:nvPicPr>
        <p:blipFill>
          <a:blip r:embed="rId1"/>
          <a:stretch/>
        </p:blipFill>
        <p:spPr>
          <a:xfrm>
            <a:off x="5219640" y="765000"/>
            <a:ext cx="3684600" cy="189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орзина"/>
          <p:cNvPicPr/>
          <p:nvPr/>
        </p:nvPicPr>
        <p:blipFill>
          <a:blip r:embed="rId2"/>
          <a:stretch/>
        </p:blipFill>
        <p:spPr>
          <a:xfrm>
            <a:off x="6084720" y="3860640"/>
            <a:ext cx="2087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omic Sans MS"/>
              </a:rPr>
              <a:t>Мои докумен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44193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Значок </a:t>
            </a: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Мои документы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поможет быстро найти созданные вами рисунки и други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Что еще может находиться на Рабочем столе компьютер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ок Мой 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ок Корзин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ки документов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ки програм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пки с документам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slide0006_image014"/>
          <p:cNvPicPr/>
          <p:nvPr/>
        </p:nvPicPr>
        <p:blipFill>
          <a:blip r:embed="rId1"/>
          <a:stretch/>
        </p:blipFill>
        <p:spPr>
          <a:xfrm>
            <a:off x="179280" y="5300640"/>
            <a:ext cx="5905440" cy="13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slide0006_image016"/>
          <p:cNvPicPr/>
          <p:nvPr/>
        </p:nvPicPr>
        <p:blipFill>
          <a:blip r:embed="rId2"/>
          <a:stretch/>
        </p:blipFill>
        <p:spPr>
          <a:xfrm>
            <a:off x="5219640" y="1916280"/>
            <a:ext cx="29527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Ярл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рлыки указывают на файл, находящийся в другом месте. Эти значки отличаются от обычных наличием маленькой черной стрелочки в левом нижнем уг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lide0007_image018"/>
          <p:cNvPicPr/>
          <p:nvPr/>
        </p:nvPicPr>
        <p:blipFill>
          <a:blip r:embed="rId1"/>
          <a:stretch/>
        </p:blipFill>
        <p:spPr>
          <a:xfrm>
            <a:off x="1258920" y="4365720"/>
            <a:ext cx="612144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mic Sans MS"/>
              </a:rPr>
              <a:t>Управление мыш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мышь"/>
          <p:cNvPicPr/>
          <p:nvPr/>
        </p:nvPicPr>
        <p:blipFill>
          <a:blip r:embed="rId1"/>
          <a:stretch/>
        </p:blipFill>
        <p:spPr>
          <a:xfrm>
            <a:off x="2771640" y="2924280"/>
            <a:ext cx="3203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0"/>
          <p:cNvSpPr/>
          <p:nvPr/>
        </p:nvSpPr>
        <p:spPr>
          <a:xfrm>
            <a:off x="208080" y="808200"/>
            <a:ext cx="8727840" cy="547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544680" y="3994200"/>
            <a:ext cx="805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ookman Old Style"/>
                <a:ea typeface="Arial"/>
              </a:rPr>
              <a:t>Мышь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устройство управления курсором, служит для ввода данных или одиночных команд, а также для ввода графическ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Заголовок 8" descr=""/>
          <p:cNvPicPr/>
          <p:nvPr/>
        </p:nvPicPr>
        <p:blipFill>
          <a:blip r:embed="rId1"/>
          <a:stretch/>
        </p:blipFill>
        <p:spPr>
          <a:xfrm>
            <a:off x="285840" y="115920"/>
            <a:ext cx="8076960" cy="1176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im0-tub-ru.yandex.net/i?id=309297797-53-72&amp;n=21"/>
          <p:cNvPicPr/>
          <p:nvPr/>
        </p:nvPicPr>
        <p:blipFill>
          <a:blip r:embed="rId2"/>
          <a:stretch/>
        </p:blipFill>
        <p:spPr>
          <a:xfrm>
            <a:off x="357120" y="157176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Компьютерные мыши"/>
          <p:cNvPicPr/>
          <p:nvPr/>
        </p:nvPicPr>
        <p:blipFill>
          <a:blip r:embed="rId3"/>
          <a:srcRect l="20013" t="0" r="21764" b="45838"/>
          <a:stretch/>
        </p:blipFill>
        <p:spPr>
          <a:xfrm>
            <a:off x="6143760" y="157176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ttp://im6-tub-ru.yandex.net/i?id=34690025-53-72&amp;n=21"/>
          <p:cNvPicPr/>
          <p:nvPr/>
        </p:nvPicPr>
        <p:blipFill>
          <a:blip r:embed="rId4"/>
          <a:stretch/>
        </p:blipFill>
        <p:spPr>
          <a:xfrm>
            <a:off x="3357720" y="1714680"/>
            <a:ext cx="235260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b_923555"/>
          <p:cNvPicPr/>
          <p:nvPr/>
        </p:nvPicPr>
        <p:blipFill>
          <a:blip r:embed="rId1"/>
          <a:stretch/>
        </p:blipFill>
        <p:spPr>
          <a:xfrm>
            <a:off x="6227640" y="2852640"/>
            <a:ext cx="2489400" cy="309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714240" cy="8575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2556000" y="1052640"/>
            <a:ext cx="446400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23508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 экране монитора находится специальный указатель-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кур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урсор – это указка для компьютера. Курсор может иметь разную фор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9120" y="23432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оложением курсора можно управлять с помощью компьютерной мы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213000"/>
            <a:ext cx="527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ля быстрого листания информации на экране у мышки есть ещё одно приспособление -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олесо прокрутки  (скролл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03640" y="3357360"/>
            <a:ext cx="2232360" cy="7189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9440" y="189000"/>
            <a:ext cx="4734360" cy="459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роверка домашнего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5480" y="10000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полнить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3480" y="164772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омпьютер – это____________ устройство, предназначенное для работы  с ___________________ любого 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8520" y="2440080"/>
            <a:ext cx="77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ерсональный компьютер состоит  из частей: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8520" y="3016080"/>
            <a:ext cx="83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Человек передаёт информацию компьютеру с помощью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3480" y="352116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 помощью ____________________________компьютер передаёт информацию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3480" y="4384800"/>
            <a:ext cx="84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Устройства, с помощью которых компьютер запоминает и обрабатывает информацию, установлены в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льзователя с программами и устройствами компьютера осуществл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помощью мы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м мыш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экране является указатель мыши, чаще всего имеющ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у стрел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Движение указателя по экрану соответствует движению мыши по ков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Рабочий стол"/>
          <p:cNvPicPr/>
          <p:nvPr/>
        </p:nvPicPr>
        <p:blipFill>
          <a:blip r:embed="rId1"/>
          <a:stretch/>
        </p:blipFill>
        <p:spPr>
          <a:xfrm>
            <a:off x="539640" y="2344680"/>
            <a:ext cx="8353440" cy="396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"/>
          <p:cNvPicPr/>
          <p:nvPr/>
        </p:nvPicPr>
        <p:blipFill>
          <a:blip r:embed="rId2"/>
          <a:stretch/>
        </p:blipFill>
        <p:spPr>
          <a:xfrm>
            <a:off x="250920" y="1268280"/>
            <a:ext cx="161928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285840" y="573120"/>
            <a:ext cx="8450280" cy="79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мещение указателя мы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щелчок левой кнопкой мы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щелчок правой кнопкой мы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ойной щелчок (два быстрых последовательных щелч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таскивание объекта с помощью мыши (при нажатой левой кнопке мыш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част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ктиче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воение мы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slide0010_image027"/>
          <p:cNvPicPr/>
          <p:nvPr/>
        </p:nvPicPr>
        <p:blipFill>
          <a:blip r:embed="rId1"/>
          <a:stretch/>
        </p:blipFill>
        <p:spPr>
          <a:xfrm>
            <a:off x="5940360" y="1197000"/>
            <a:ext cx="2790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3212640"/>
            <a:ext cx="7931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.6, 7 – 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рисовать в тетра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бочий стол компьюте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мышь"/>
          <p:cNvPicPr/>
          <p:nvPr/>
        </p:nvPicPr>
        <p:blipFill>
          <a:blip r:embed="rId1"/>
          <a:stretch/>
        </p:blipFill>
        <p:spPr>
          <a:xfrm>
            <a:off x="6516720" y="260280"/>
            <a:ext cx="20876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539640" y="476280"/>
            <a:ext cx="78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 для общеобразовательных учреждений: Информатика. 2 - 11 классы. / Сост. И.Г. Семакин и др. - 2-е изд., испр. и доп. - М.: БИНОМ. Лаборатория знаний, 2005. - 38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: Учебник для 5 класса. Изд. 3-е, испр. / Л.Л. Босова. - М.: БИНОМ. Лаборатория знаний, 2005. - 191 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: Рабочая тетрадь для 5 класса. / Л.Л. Босова. - 4-е изд.- М.: БИНОМ. Лаборатория знаний, 2006. - 87 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информатики в 5-6 классах: Методическое пособие / Л.Л. Босова, А.Ю. Босова. - 2-е изд., испр. и доп. - М.: БИНОМ. Лаборатория знаний, 2005. - 320 с.: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ввести на интуитивном уровне первые понятия графического интерфейса - рабочего стола, значка ярлы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показать, что пользователь взаимодействует с программами и устройствами компьютера с помощью мыш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освоить основные действия с мыш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е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рабочий ст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значок (Мой компьютер, Корзина, Мои документ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ярлы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 действия с мышью (перемещение, щелчок, щелчок правой кнопкой, двойной щелчок, перетаски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ic6"/>
          <p:cNvPicPr/>
          <p:nvPr/>
        </p:nvPicPr>
        <p:blipFill>
          <a:blip r:embed="rId1"/>
          <a:stretch/>
        </p:blipFill>
        <p:spPr>
          <a:xfrm>
            <a:off x="6588000" y="189000"/>
            <a:ext cx="1582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68360" y="47628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приме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глядит рабочее место школьника, инженера, секретаря, если у них нет компьют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ящиках стола обычно хранятся папки с документами и инструменты, необходимые для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pic11"/>
          <p:cNvPicPr/>
          <p:nvPr/>
        </p:nvPicPr>
        <p:blipFill>
          <a:blip r:embed="rId1"/>
          <a:stretch/>
        </p:blipFill>
        <p:spPr>
          <a:xfrm>
            <a:off x="5435640" y="3357720"/>
            <a:ext cx="3457440" cy="274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280547"/>
          <p:cNvPicPr/>
          <p:nvPr/>
        </p:nvPicPr>
        <p:blipFill>
          <a:blip r:embed="rId2"/>
          <a:stretch/>
        </p:blipFill>
        <p:spPr>
          <a:xfrm>
            <a:off x="142920" y="3157560"/>
            <a:ext cx="52578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05928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толь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амп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пка с документам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бник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нопка Пуск Календарь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окно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зин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нейка и ножницы Кле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Рабочий стол"/>
          <p:cNvPicPr/>
          <p:nvPr/>
        </p:nvPicPr>
        <p:blipFill>
          <a:blip r:embed="rId1"/>
          <a:stretch/>
        </p:blipFill>
        <p:spPr>
          <a:xfrm>
            <a:off x="3059280" y="652320"/>
            <a:ext cx="58338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сональный компьютер способен заменить обычный рабочий стол со всеми его принадлежн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1"/>
          <p:cNvPicPr/>
          <p:nvPr/>
        </p:nvPicPr>
        <p:blipFill>
          <a:blip r:embed="rId1"/>
          <a:stretch/>
        </p:blipFill>
        <p:spPr>
          <a:xfrm>
            <a:off x="2843280" y="3716280"/>
            <a:ext cx="3024000" cy="2768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66490"/>
          <p:cNvPicPr/>
          <p:nvPr/>
        </p:nvPicPr>
        <p:blipFill>
          <a:blip r:embed="rId2"/>
          <a:stretch/>
        </p:blipFill>
        <p:spPr>
          <a:xfrm>
            <a:off x="2771640" y="404640"/>
            <a:ext cx="324036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07552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ы не случайно сравнили компьютер с рабочим сто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 всем мире изображение на экране монитора называют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slide0005_image012"/>
          <p:cNvPicPr/>
          <p:nvPr/>
        </p:nvPicPr>
        <p:blipFill>
          <a:blip r:embed="rId1"/>
          <a:stretch/>
        </p:blipFill>
        <p:spPr>
          <a:xfrm>
            <a:off x="4067280" y="3032280"/>
            <a:ext cx="48258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slide0005_image012"/>
          <p:cNvPicPr/>
          <p:nvPr/>
        </p:nvPicPr>
        <p:blipFill>
          <a:blip r:embed="rId1"/>
          <a:stretch/>
        </p:blipFill>
        <p:spPr>
          <a:xfrm>
            <a:off x="5148360" y="3789360"/>
            <a:ext cx="36003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4248000" cy="4127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3480" y="639720"/>
            <a:ext cx="743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 рабочем столе расположены маленькие  картинки с надписями. Каждая маленькая картинка обозначает программу, документ (текст, рисунок, мелодию, фильм), другую информацию. Эти  картинки называются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иктограмм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16360" y="2997360"/>
            <a:ext cx="1871640" cy="720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3716280"/>
            <a:ext cx="1942920" cy="433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716280"/>
            <a:ext cx="1439640" cy="936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3789360"/>
            <a:ext cx="1511280" cy="2160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90880" y="364500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икт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3:50:13Z</dcterms:created>
  <dc:creator>PiratCOM</dc:creator>
  <dc:description/>
  <dc:language>en-US</dc:language>
  <cp:lastModifiedBy>Марина</cp:lastModifiedBy>
  <dcterms:modified xsi:type="dcterms:W3CDTF">2014-09-27T16:28:21Z</dcterms:modified>
  <cp:revision>13</cp:revision>
  <dc:subject/>
  <dc:title>Слайд 1</dc:title>
</cp:coreProperties>
</file>