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.png" ContentType="image/png"/>
  <Override PartName="/ppt/media/image2.jpeg" ContentType="image/jpeg"/>
  <Override PartName="/ppt/media/image5.jpeg" ContentType="image/jpeg"/>
  <Override PartName="/ppt/media/image14.wmf" ContentType="image/x-wmf"/>
  <Override PartName="/ppt/media/image3.gif" ContentType="image/gif"/>
  <Override PartName="/ppt/media/image7.png" ContentType="image/png"/>
  <Override PartName="/ppt/media/image4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E93-C125-4098-A01E-15AF6CE9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C83-F572-42E3-B1FF-B39D013A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501-CD99-4E73-9B37-76274070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0947-EF38-4ACA-A32E-21460280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D894-9B9D-4063-B8BD-771FA7F5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84AF-5857-408E-96A8-64649EEC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2467-00D6-469C-9200-75519A46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D6FF-FAC8-490D-B44C-52291593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13DD-139E-4042-BCA2-076569FA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5BDE-5B67-43F4-A57B-11593AB1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3E29-DC30-40D8-B4C3-592AEAA5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DC6-140D-423C-922F-9B366E59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0918-3B5B-46DA-A0D0-ADF9AC95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7E8A-FD1B-43FA-992D-BE0E129D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BACF-235E-43FB-9256-05EFD609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B30A-CCFE-4FF7-8DE4-00CF9CAB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58FA-DC97-4AE4-B15D-F923F327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DBE3F-531C-4A01-96D0-12DDF585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8F66C-CC6D-41A6-9B0F-DBBBCF95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51D8-0602-4DD8-A3BB-878B053B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37120-1EA4-4DBF-807B-9DF695BB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E04C6-18C7-4BC4-BA77-E2D90D72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96C-5F7E-49E3-BEFA-951C8853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9A9F3-11B8-4485-A019-D203C1DD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C7834-0758-40F9-BF25-711FA7AF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1A699-ECF0-4C4F-B3DE-74ABD356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E0B93-51EB-43EB-A710-D51850F0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A97BD-92E6-4254-840A-20E8F978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4229D-89E7-41CD-8C51-AA9DF01C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61C83-78F1-4362-A9B8-D2473DE2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1ADC9-6C19-4FD8-B3AD-23FE2F18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248C4-44C6-4232-B8F1-C3A6B189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4436E-F9F5-49FD-958A-99A3F326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0D5-B473-4B63-9522-96565895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2C3C2-2FB8-47B8-9AA9-A7726257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873EC-D769-4F7B-8874-F4E2F72B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AD0AB-9462-4549-91F3-BD2534A2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E7209-5B89-443B-AC06-25C72CC8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35269-DA4E-49F0-878C-5336A448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9D1A8-1296-4C63-9709-22E9F6F4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2A86-480B-4BE2-B0B1-1BBD4FC9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0E037-86CC-4734-B5F3-163212E4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8DFA7-8240-4910-8394-488F6DEA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7BFD5-2D0E-43BC-AAE8-971D3F54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C29-7913-46CB-9FA8-4B756F6F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AAB45-C2B7-44CC-84BE-7BA8A17E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3DFA9-919E-4ECB-BA5B-D4CA5DFD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7B90E-56CA-4AF3-9F31-877FD041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0CFA2-4621-4B29-B227-464DD8EB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83778-0CF5-470E-B2B5-4EA47B5B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E788F-DA66-49E3-A719-47709378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398C-C272-473B-93DB-AE2427B7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D23E2-C7BF-4B37-A3AC-7C8AC95C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E8398-E512-4176-B5F8-B51D2F84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4C26A-6714-4F81-ADF0-695EBFA3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9D1-7C18-4BE5-A21E-798B96AF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A67D2-59E7-4EFC-8970-B1539F87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83C44-AA56-4A27-847C-853AF32A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15003-5763-41F5-B3E3-2EB11220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2F8F7-DD7A-4A80-BDF5-B778ADB1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37CCF-258E-4017-948D-2BB5C972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3D3B4-856D-4E38-AAA9-E655AE61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F8E17-2E31-4861-B093-CDE45657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9D0F3-A08A-4863-8CBF-DB633581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7268B-10A7-4359-A5C2-8B5CFE51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912CA-E2AA-4EC1-ACCF-445D42D6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936-786F-42F7-A2FE-854C8C0C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C0986-C67C-4199-849B-07A23361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BCCC5-BDB8-4A4D-890D-39E131CC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8D773-D19B-4E8D-A4EB-24DC8D8A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74CF-1E6D-4A34-9723-1DAA7E55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9E7-9DE8-46B3-8138-8D68D764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6547-951C-4767-A89A-180AE169A1A4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C00F-7BFD-453E-8C54-A632AF10B57C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D430-390A-4CF1-8A45-4C2E8B43C331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2D0C-76D4-4F35-A91C-3B4210101E28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BCB3-D023-4CA2-BCA7-F556B7761C8C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7B68-7B26-4517-8810-C3821A2563F3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Химические реак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5" name="Picture 4" descr="U01_27"/>
          <p:cNvPicPr/>
          <p:nvPr/>
        </p:nvPicPr>
        <p:blipFill>
          <a:blip r:embed="rId1"/>
          <a:stretch/>
        </p:blipFill>
        <p:spPr>
          <a:xfrm>
            <a:off x="1500120" y="1357200"/>
            <a:ext cx="5715000" cy="41436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3"/>
          <p:cNvSpPr/>
          <p:nvPr/>
        </p:nvSpPr>
        <p:spPr>
          <a:xfrm>
            <a:off x="3071880" y="616752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химии МОУ «СОШ № 9» Матвеева И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159 Изменение цвета индикаторов в щелочной среде  Ахлебинин А"/>
          <p:cNvPicPr/>
          <p:nvPr/>
        </p:nvPicPr>
        <p:blipFill>
          <a:blip r:embed="rId1"/>
          <a:stretch/>
        </p:blipFill>
        <p:spPr>
          <a:xfrm>
            <a:off x="1714680" y="785880"/>
            <a:ext cx="5572080" cy="60721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wipe dir="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c380506v"/>
          <p:cNvPicPr/>
          <p:nvPr/>
        </p:nvPicPr>
        <p:blipFill>
          <a:blip r:embed="rId1"/>
          <a:stretch/>
        </p:blipFill>
        <p:spPr>
          <a:xfrm>
            <a:off x="1785960" y="1000080"/>
            <a:ext cx="5572080" cy="5857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wipe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8" descr="Al _ I"/>
          <p:cNvPicPr/>
          <p:nvPr/>
        </p:nvPicPr>
        <p:blipFill>
          <a:blip r:embed="rId1"/>
          <a:stretch/>
        </p:blipFill>
        <p:spPr>
          <a:xfrm>
            <a:off x="1785960" y="1000080"/>
            <a:ext cx="5715000" cy="5857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c3104v2"/>
          <p:cNvPicPr/>
          <p:nvPr/>
        </p:nvPicPr>
        <p:blipFill>
          <a:blip r:embed="rId1"/>
          <a:stretch/>
        </p:blipFill>
        <p:spPr>
          <a:xfrm>
            <a:off x="2214720" y="500040"/>
            <a:ext cx="5072040" cy="635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wipe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Picture 1029" descr="Копия сканирование"/>
          <p:cNvPicPr/>
          <p:nvPr/>
        </p:nvPicPr>
        <p:blipFill>
          <a:blip r:embed="rId1"/>
          <a:stretch/>
        </p:blipFill>
        <p:spPr>
          <a:xfrm>
            <a:off x="2214720" y="642960"/>
            <a:ext cx="4643280" cy="6215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cc"/>
                </a:solidFill>
                <a:latin typeface="Franklin Gothic Book"/>
              </a:rPr>
              <a:t>  </a:t>
            </a:r>
            <a:r>
              <a:rPr b="0" lang="ru-RU" sz="4000" spc="-1" strike="noStrike">
                <a:solidFill>
                  <a:srgbClr val="f2f2f2"/>
                </a:solidFill>
                <a:latin typeface="Franklin Gothic Book"/>
              </a:rPr>
              <a:t>внешние признаки химической реакци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5481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c0c"/>
                </a:solidFill>
                <a:latin typeface="Arial"/>
              </a:rPr>
              <a:t>Выделение газ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c0c"/>
                </a:solidFill>
                <a:latin typeface="Arial"/>
              </a:rPr>
              <a:t>Образование осад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c0c"/>
                </a:solidFill>
                <a:latin typeface="Arial"/>
              </a:rPr>
              <a:t>Изменение цв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c0c"/>
                </a:solidFill>
                <a:latin typeface="Arial"/>
              </a:rPr>
              <a:t>Выделение </a:t>
            </a:r>
            <a:r>
              <a:rPr b="0" lang="en-US" sz="3000" spc="-1" strike="noStrike">
                <a:solidFill>
                  <a:srgbClr val="fffc0c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c0c"/>
                </a:solidFill>
                <a:latin typeface="Arial"/>
              </a:rPr>
              <a:t>(поглощение) тепла и св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c0c"/>
                </a:solidFill>
                <a:latin typeface="Arial"/>
              </a:rPr>
              <a:t>Появление или изменение запаха или вкус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66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Franklin Gothic Book"/>
              </a:rPr>
              <a:t>    </a:t>
            </a:r>
            <a:r>
              <a:rPr b="0" lang="ru-RU" sz="4400" spc="-1" strike="noStrike">
                <a:solidFill>
                  <a:srgbClr val="ffff00"/>
                </a:solidFill>
                <a:latin typeface="Franklin Gothic Book"/>
              </a:rPr>
              <a:t>Когда происходит химическая реакция?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акие условия необходимы для её возникновени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мешивание веще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оприкосновение веще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гре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змель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аствор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рем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f2f2f2"/>
                </a:solidFill>
                <a:latin typeface="Franklin Gothic Book"/>
              </a:rPr>
              <a:t>Условия возникновения химической реакции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wipe dir="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о отношению к теплот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3929040"/>
            <a:ext cx="4040280" cy="23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91a7"/>
                </a:solidFill>
                <a:latin typeface="Arial"/>
              </a:rPr>
              <a:t>происходят с выделением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91a7"/>
                </a:solidFill>
                <a:latin typeface="Arial"/>
              </a:rPr>
              <a:t>теп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51740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Экзотермические реакции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644720" y="151740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Эндотермические реакции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44720" y="4214880"/>
            <a:ext cx="404172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91a7"/>
                </a:solidFill>
                <a:latin typeface="Arial"/>
              </a:rPr>
              <a:t>происходят с поглощением теп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d0e4a6"/>
                </a:solidFill>
                <a:latin typeface="Arial"/>
              </a:rPr>
              <a:t>Выбери  ответ 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з перечисленных признаков укажите те, которые не соответствуют химическим реакция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Изменение фор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.Выделение тепл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3.Изменение окра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4.Выделение п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5.Изменение объ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6.Появление запа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3"/>
          <p:cNvSpPr/>
          <p:nvPr/>
        </p:nvSpPr>
        <p:spPr>
          <a:xfrm flipV="1" rot="10800000">
            <a:off x="642960" y="187560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c0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c0c"/>
                </a:solidFill>
                <a:latin typeface="Arial"/>
              </a:rPr>
              <a:t>Все что нас окружает состоит из веществ. Кажется, что они живут своей жизнью, таинственной и непостижимой. Взаимодействуя, они изменяют свои свойства и состав.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ез этого взаимодействия невозможна жизнь и все многообразие веществ.</a:t>
            </a:r>
            <a:r>
              <a:rPr b="1" lang="ru-RU" sz="2800" spc="-1" strike="noStrike">
                <a:solidFill>
                  <a:srgbClr val="fffc0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c0c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fc0c"/>
                </a:solidFill>
                <a:latin typeface="Arial"/>
              </a:rPr>
              <a:t>Сегодня мы продолжим знакомство с этим удивительным и волшебным мир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Химические явления это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Испарение 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.Потемнение серебряных издел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3.Горение уг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4.Плавление параф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5.След карандаша на бумаг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6.Ржавление жел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Химическая реакция не произойдет если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Агрегатное состояние веществ раз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.Вещества не соедин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3.Вещества нагре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ccffcc"/>
                </a:solidFill>
                <a:latin typeface="Franklin Gothic Book"/>
              </a:rPr>
              <a:t>Проверим свои знания 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а листке с тестом запишите свою фамилию. Правильные ответы обведи кружк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Желаю удачи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6" descr="j0234131"/>
          <p:cNvPicPr/>
          <p:nvPr/>
        </p:nvPicPr>
        <p:blipFill>
          <a:blip r:embed="rId1"/>
          <a:stretch/>
        </p:blipFill>
        <p:spPr>
          <a:xfrm>
            <a:off x="5867280" y="429264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машнее зада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араграф  26 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. 1 - 4   стр. 95 - 96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Уходя с урока, не забудь оценить своё эмоциональное состояние, свои удачи на урок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Для этого  ответь на вопросы «да» или «нет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СПАСИБО  ЗА  УРОК 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785880" y="492120"/>
            <a:ext cx="778680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  <a:ea typeface="Calibri"/>
              </a:rPr>
              <a:t>Рефлекс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Calibri"/>
              </a:rPr>
              <a:t>-Оцените ваше отношение к уроку, ответив на вопросы «да» или «нет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Calibri"/>
              </a:rPr>
              <a:t>1.Доволен  ли ты тем, как прошел ур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Calibri"/>
              </a:rPr>
              <a:t>2.Было ли тебе интересно на уро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Calibri"/>
              </a:rPr>
              <a:t>3.Сумел ли ты приобрести новые знания и ум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Calibri"/>
              </a:rPr>
              <a:t>4.Ты был активен на уро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Calibri"/>
              </a:rPr>
              <a:t>5.Домашнее  задание будешь выполнять с удовольствие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ВЕЩЕСТВО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щество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ожет существовать в трех агрегатных состояниях : газообразном, жидком и твердом. Часто приходится встречаться с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месями.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меси бывают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днородными и неоднородными. Чистые вещества,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 которые можно разделить смеси бывают  двух типов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жные и простые вещества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Для разделения смесей применяют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таивание, фильтрование, действие магнитом, выпаривание, дистилляцию, хроматографию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ждое вещество  обладает присущей только ему совокупностью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йств.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 веществами могут происходить различны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зические  явления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14349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cffcc"/>
                </a:solidFill>
                <a:latin typeface="Franklin Gothic Book"/>
              </a:rPr>
              <a:t>   </a:t>
            </a:r>
            <a:r>
              <a:rPr b="0" lang="ru-RU" sz="3500" spc="-1" strike="noStrike">
                <a:solidFill>
                  <a:srgbClr val="ccffcc"/>
                </a:solidFill>
                <a:latin typeface="Franklin Gothic Book"/>
              </a:rPr>
              <a:t>Отгадай загадку и узнай о чем пойдет     речь на сегодняшнем уроке</a:t>
            </a:r>
            <a:endParaRPr b="0" lang="en-US" sz="35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4" descr="7eabd7fe132aa0fe9af0d4c7081af181"/>
          <p:cNvPicPr/>
          <p:nvPr/>
        </p:nvPicPr>
        <p:blipFill>
          <a:blip r:embed="rId1"/>
          <a:stretch/>
        </p:blipFill>
        <p:spPr>
          <a:xfrm>
            <a:off x="757080" y="1846440"/>
            <a:ext cx="3808440" cy="42876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5"/>
          <p:cNvSpPr/>
          <p:nvPr/>
        </p:nvSpPr>
        <p:spPr>
          <a:xfrm>
            <a:off x="4857840" y="2000160"/>
            <a:ext cx="374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О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иде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о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прошла!        Ник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не скаж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что пришл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780000" y="5734080"/>
            <a:ext cx="53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c0c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Она</a:t>
            </a:r>
            <a:r>
              <a:rPr b="0" lang="en-US" sz="3200" spc="-1" strike="noStrike">
                <a:solidFill>
                  <a:srgbClr val="fffc0c"/>
                </a:solidFill>
                <a:latin typeface="Arial"/>
              </a:rPr>
              <a:t> -  </a:t>
            </a:r>
            <a:r>
              <a:rPr b="1" lang="en-US" sz="3200" spc="-1" strike="noStrike">
                <a:solidFill>
                  <a:srgbClr val="fffc0c"/>
                </a:solidFill>
                <a:latin typeface="Arial"/>
              </a:rPr>
              <a:t>********** ******* !</a:t>
            </a: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ccffcc"/>
                </a:solidFill>
                <a:latin typeface="Franklin Gothic Book"/>
              </a:rPr>
              <a:t>Тема урока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99680" y="1714320"/>
            <a:ext cx="471492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c0c"/>
                </a:solidFill>
                <a:latin typeface="Comic Sans MS"/>
              </a:rPr>
              <a:t>Химические  реакц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OWL"/>
          <p:cNvPicPr/>
          <p:nvPr/>
        </p:nvPicPr>
        <p:blipFill>
          <a:blip r:embed="rId1"/>
          <a:stretch/>
        </p:blipFill>
        <p:spPr>
          <a:xfrm>
            <a:off x="4067280" y="1832040"/>
            <a:ext cx="4672080" cy="502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цели урока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Повторить отличие химических явлений и физически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Изучить внешние признаки химических реакц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Узнать условия возникновения реакц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cc"/>
                </a:solidFill>
                <a:latin typeface="Franklin Gothic Book"/>
              </a:rPr>
              <a:t>  </a:t>
            </a:r>
            <a:r>
              <a:rPr b="0" lang="ru-RU" sz="4400" spc="-1" strike="noStrike">
                <a:solidFill>
                  <a:srgbClr val="ffff00"/>
                </a:solidFill>
                <a:latin typeface="Franklin Gothic Book"/>
              </a:rPr>
              <a:t>химические  реакции или химические явления 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c0c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fffc0c"/>
                </a:solidFill>
                <a:latin typeface="Arial"/>
              </a:rPr>
              <a:t>это процессы, в результате которых из одних веществ образуются другие с новыми свойства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Без-имени-5"/>
          <p:cNvPicPr/>
          <p:nvPr/>
        </p:nvPicPr>
        <p:blipFill>
          <a:blip r:embed="rId1"/>
          <a:stretch/>
        </p:blipFill>
        <p:spPr>
          <a:xfrm>
            <a:off x="5148360" y="3860640"/>
            <a:ext cx="3341520" cy="266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3" name="Picture 5" descr="Без-имени-7"/>
          <p:cNvPicPr/>
          <p:nvPr/>
        </p:nvPicPr>
        <p:blipFill>
          <a:blip r:embed="rId2"/>
          <a:stretch/>
        </p:blipFill>
        <p:spPr>
          <a:xfrm>
            <a:off x="971640" y="3860640"/>
            <a:ext cx="3456000" cy="266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ipe dir="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56920" y="428400"/>
            <a:ext cx="7471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89760" y="2998440"/>
            <a:ext cx="30542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3" descr="156 Выпадение осадка Ахлебинин А"/>
          <p:cNvPicPr/>
          <p:nvPr/>
        </p:nvPicPr>
        <p:blipFill>
          <a:blip r:embed="rId1"/>
          <a:srcRect l="11987" t="0" r="11987" b="0"/>
          <a:stretch/>
        </p:blipFill>
        <p:spPr>
          <a:xfrm>
            <a:off x="2500200" y="642960"/>
            <a:ext cx="4572000" cy="5500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Picture 3" descr="165a Гидроксид натрия с хлоридом железа (III) Ахлебинин А"/>
          <p:cNvPicPr/>
          <p:nvPr/>
        </p:nvPicPr>
        <p:blipFill>
          <a:blip r:embed="rId1"/>
          <a:stretch/>
        </p:blipFill>
        <p:spPr>
          <a:xfrm>
            <a:off x="2428920" y="1357200"/>
            <a:ext cx="4286160" cy="5500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1:48:10Z</dcterms:created>
  <dc:creator>Александр</dc:creator>
  <dc:description/>
  <dc:language>en-US</dc:language>
  <cp:lastModifiedBy>Пользователь</cp:lastModifiedBy>
  <dcterms:modified xsi:type="dcterms:W3CDTF">2012-04-13T19:33:29Z</dcterms:modified>
  <cp:revision>87</cp:revision>
  <dc:subject/>
  <dc:title>Слайд 1</dc:title>
</cp:coreProperties>
</file>