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.png" ContentType="image/png"/>
  <Override PartName="/ppt/media/image2.jpeg" ContentType="image/jpeg"/>
  <Override PartName="/ppt/media/image5.jpeg" ContentType="image/jpeg"/>
  <Override PartName="/ppt/media/image14.wmf" ContentType="image/x-wmf"/>
  <Override PartName="/ppt/media/image3.gif" ContentType="image/gif"/>
  <Override PartName="/ppt/media/image7.png" ContentType="image/png"/>
  <Override PartName="/ppt/media/image4.wmf" ContentType="image/x-wmf"/>
  <Override PartName="/ppt/media/image6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593-3BF1-4C2F-BB21-BFC426DD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F5D7-4036-4C6A-9FFD-218BB500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1E8-555F-4717-910E-012DF97F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FB0-BA0C-4D77-9CD7-86ADCCC3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026E-F463-4D84-87BD-0959A610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0F05-260D-43A9-8069-248DC4C0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90E9-7772-439C-B947-8405062A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7B71-8C81-4DF7-9A66-D728F10E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6D8E-1087-4661-B92D-FF428CB4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13B1-2AF0-4679-8A37-2B317596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0697-C030-49E1-A135-FA8340CA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60F-FA14-4787-A65B-DEF26DF4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A335-4F29-4F99-96A2-DC5F9C0C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A7F3-6B71-42A0-A728-D20F61BD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EC45-4FB5-463B-B825-108DE92F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99F2-C6C9-4A69-BED8-51870487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2901-8259-42B7-A92A-41901598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CC747-9F25-4244-B355-BF574560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FAF75-9378-4A63-95C1-D8EC6F04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0522D-97B7-4F52-975A-1296B22C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5B022-0AFC-447F-BD3B-DEF8962C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841D3-02F2-48DF-8007-12AC5EBA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D3F-3534-4604-AE91-D0E06449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AB3A5-8045-4218-B8C8-9DD69E3B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CAE19-6697-431F-8EE1-CE9903D9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080D2-19F9-4F02-902A-E622D6DF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FF7D8-16DB-4523-B432-F265C8DE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A5A49-5D31-4064-8482-6D3DD148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D1296-03F8-4025-AE59-FFDC1777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580C5-1610-478F-823E-9CBEF250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9E93B-B446-4338-BC3A-ED9E76A6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139BC-AE0B-41BC-A493-CA8A7410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417A5-5331-47E9-8206-24BE2A68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603-A44C-48CE-B934-F7F2ABA1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7B143-86A2-4AC3-8481-E6DDE05A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C8F17-0F1D-4F75-9D4C-B46A2FF1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415E8-64E6-41F8-A842-61C45704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F4764-6E87-4589-A4EE-D845FDE6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142E5-782C-4E94-B32A-74ACCC0E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FC877-9086-473B-A845-BCA3A356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41230-DEC9-4F2D-8068-F623FB94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47527-1337-4B6D-9B6D-D73BA006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54643-4D0C-4FE6-8330-1E65B5CE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AB69A-B70D-4675-8C78-B197B889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B3E-E06F-4FB6-9474-B4A7D5C5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02360-B7EA-4A6C-87BA-A7A069A3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3EDB7-7B33-4BCE-9CE4-0A78D8B6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68B63-D8C2-4630-B4FA-4F9969AE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B4A9A-5F39-403C-8D5D-F672FA1F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6E37F-7CCA-406C-9F34-7B6D68FD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243AB-3CE2-4438-A279-5C8CB43C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B7B4D-3472-40DC-A205-C30B70DA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4F06C-542F-4B57-8460-54C015EE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F4C1D-06BC-481C-9108-C80E1A7F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C7BC7-60B9-45E7-BA22-037666BE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4D08-3ECC-408E-AA8E-98B1188C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FFC30-4006-4417-A867-2F5DF330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DB182-21B1-4E17-91C4-0AEEF6AB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A67B9-FD32-4704-9CB6-97D5688D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278C4-ECF0-43E2-ACC3-E8BD3988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F05FB-C898-4A0B-8E70-CE4ADE87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4AA85-1FB8-4DCC-A0BD-9FB7F6D3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A5C10-63A8-4F13-BDFF-839ED7A0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072F5-6142-4D8F-95DE-4A59D084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B13F8-9888-481B-BBC2-501647B1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32AB3-FBA8-44BD-BB63-4274A195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9CE-4276-4A6E-94F2-8865D046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A5743-8D51-4EE8-8A5D-87853DDC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BB557-9848-43A1-834F-7E10436A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FAF45-C45D-4816-94CA-0608F363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70F-AF66-4A97-B158-25D7A397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1A2-1C24-4E8D-97CB-2B42DEC7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358B-FAD6-43AD-9FE0-A7FFE1B00FCB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1106"/>
            </a:gs>
            <a:gs pos="100000">
              <a:srgbClr val="8d726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4F09-85EE-4041-AA6F-22F2C0E2E820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1106"/>
            </a:gs>
            <a:gs pos="100000">
              <a:srgbClr val="8d726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C148-3CFA-48D9-99CA-F2FE5C538D59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64CC-3EEB-429A-ACA5-A70EA2F3A8CA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7B58-D481-428D-8E48-C3D6D2E7D126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2F94-4039-4719-AE03-A4D101C76E37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Химические реакц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5" name="Picture 4" descr="U01_27"/>
          <p:cNvPicPr/>
          <p:nvPr/>
        </p:nvPicPr>
        <p:blipFill>
          <a:blip r:embed="rId1"/>
          <a:stretch/>
        </p:blipFill>
        <p:spPr>
          <a:xfrm>
            <a:off x="1500120" y="1357200"/>
            <a:ext cx="5715000" cy="414360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3"/>
          <p:cNvSpPr/>
          <p:nvPr/>
        </p:nvSpPr>
        <p:spPr>
          <a:xfrm>
            <a:off x="3071880" y="616752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химии МОУ «СОШ № 9» Матвеева И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159 Изменение цвета индикаторов в щелочной среде  Ахлебинин А"/>
          <p:cNvPicPr/>
          <p:nvPr/>
        </p:nvPicPr>
        <p:blipFill>
          <a:blip r:embed="rId1"/>
          <a:stretch/>
        </p:blipFill>
        <p:spPr>
          <a:xfrm>
            <a:off x="1714680" y="785880"/>
            <a:ext cx="5572080" cy="607212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wipe dir="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c380506v"/>
          <p:cNvPicPr/>
          <p:nvPr/>
        </p:nvPicPr>
        <p:blipFill>
          <a:blip r:embed="rId1"/>
          <a:stretch/>
        </p:blipFill>
        <p:spPr>
          <a:xfrm>
            <a:off x="1785960" y="1000080"/>
            <a:ext cx="5572080" cy="5857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wipe dir="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8" descr="Al _ I"/>
          <p:cNvPicPr/>
          <p:nvPr/>
        </p:nvPicPr>
        <p:blipFill>
          <a:blip r:embed="rId1"/>
          <a:stretch/>
        </p:blipFill>
        <p:spPr>
          <a:xfrm>
            <a:off x="1785960" y="1000080"/>
            <a:ext cx="5715000" cy="5857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6" descr="c3104v2"/>
          <p:cNvPicPr/>
          <p:nvPr/>
        </p:nvPicPr>
        <p:blipFill>
          <a:blip r:embed="rId1"/>
          <a:stretch/>
        </p:blipFill>
        <p:spPr>
          <a:xfrm>
            <a:off x="2214720" y="500040"/>
            <a:ext cx="5072040" cy="635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wipe dir="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7" name="Picture 1029" descr="Копия сканирование"/>
          <p:cNvPicPr/>
          <p:nvPr/>
        </p:nvPicPr>
        <p:blipFill>
          <a:blip r:embed="rId1"/>
          <a:stretch/>
        </p:blipFill>
        <p:spPr>
          <a:xfrm>
            <a:off x="2214720" y="642960"/>
            <a:ext cx="4643280" cy="6215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cc"/>
                </a:solidFill>
                <a:latin typeface="Franklin Gothic Book"/>
              </a:rPr>
              <a:t>  </a:t>
            </a:r>
            <a:r>
              <a:rPr b="0" lang="ru-RU" sz="4000" spc="-1" strike="noStrike">
                <a:solidFill>
                  <a:srgbClr val="f2f2f2"/>
                </a:solidFill>
                <a:latin typeface="Franklin Gothic Book"/>
              </a:rPr>
              <a:t>внешние признаки химической реакци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600200"/>
            <a:ext cx="5481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c0c"/>
                </a:solidFill>
                <a:latin typeface="Arial"/>
              </a:rPr>
              <a:t>Выделение газ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c0c"/>
                </a:solidFill>
                <a:latin typeface="Arial"/>
              </a:rPr>
              <a:t>Образование осад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c0c"/>
                </a:solidFill>
                <a:latin typeface="Arial"/>
              </a:rPr>
              <a:t>Изменение цве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c0c"/>
                </a:solidFill>
                <a:latin typeface="Arial"/>
              </a:rPr>
              <a:t>Выделение </a:t>
            </a:r>
            <a:r>
              <a:rPr b="0" lang="en-US" sz="3000" spc="-1" strike="noStrike">
                <a:solidFill>
                  <a:srgbClr val="fffc0c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c0c"/>
                </a:solidFill>
                <a:latin typeface="Arial"/>
              </a:rPr>
              <a:t>(поглощение) тепла и све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c0c"/>
                </a:solidFill>
                <a:latin typeface="Arial"/>
              </a:rPr>
              <a:t>Появление или изменение запаха или вкус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66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Franklin Gothic Book"/>
              </a:rPr>
              <a:t>    </a:t>
            </a:r>
            <a:r>
              <a:rPr b="0" lang="ru-RU" sz="4400" spc="-1" strike="noStrike">
                <a:solidFill>
                  <a:srgbClr val="ffff00"/>
                </a:solidFill>
                <a:latin typeface="Franklin Gothic Book"/>
              </a:rPr>
              <a:t>Когда происходит химическая реакция?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акие условия необходимы для её возникновения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0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мешивание вещест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оприкосновение вещест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агре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змель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аствор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рем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ru-RU" sz="4400" spc="-1" strike="noStrike">
                <a:solidFill>
                  <a:srgbClr val="f2f2f2"/>
                </a:solidFill>
                <a:latin typeface="Franklin Gothic Book"/>
              </a:rPr>
              <a:t>Условия возникновения химической реакции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wipe dir="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о отношению к теплот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3929040"/>
            <a:ext cx="4040280" cy="23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891a7"/>
                </a:solidFill>
                <a:latin typeface="Arial"/>
              </a:rPr>
              <a:t>происходят с выделением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891a7"/>
                </a:solidFill>
                <a:latin typeface="Arial"/>
              </a:rPr>
              <a:t>теп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51740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Экзотермические реакции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644720" y="151740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Эндотермические реакции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44720" y="4214880"/>
            <a:ext cx="404172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891a7"/>
                </a:solidFill>
                <a:latin typeface="Arial"/>
              </a:rPr>
              <a:t>происходят с поглощением теп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d0e4a6"/>
                </a:solidFill>
                <a:latin typeface="Arial"/>
              </a:rPr>
              <a:t>Выбери  ответ 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з перечисленных признаков укажите те, которые не соответствуют химическим реакциям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Изменение фор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.Выделение тепл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3.Изменение окра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4.Выделение п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5.Изменение объ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6.Появление запах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0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6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3"/>
          <p:cNvSpPr/>
          <p:nvPr/>
        </p:nvSpPr>
        <p:spPr>
          <a:xfrm flipV="1" rot="10800000">
            <a:off x="642960" y="187560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c0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c0c"/>
                </a:solidFill>
                <a:latin typeface="Arial"/>
              </a:rPr>
              <a:t>Все что нас окружает состоит из веществ. Кажется, что они живут своей жизнью, таинственной и непостижимой. Взаимодействуя, они изменяют свои свойства и состав.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Без этого взаимодействия невозможна жизнь и все многообразие веществ.</a:t>
            </a:r>
            <a:r>
              <a:rPr b="1" lang="ru-RU" sz="2800" spc="-1" strike="noStrike">
                <a:solidFill>
                  <a:srgbClr val="fffc0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c0c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fffc0c"/>
                </a:solidFill>
                <a:latin typeface="Arial"/>
              </a:rPr>
              <a:t>Сегодня мы продолжим знакомство с этим удивительным и волшебным мир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Химические явления это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Испарение в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.Потемнение серебряных издел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3.Горение уг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4.Плавление параф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5.След карандаша на бумаг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6.Ржавление желе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0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Химическая реакция не произойдет если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Агрегатное состояние веществ раз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.Вещества не соедин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3.Вещества нагре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ccffcc"/>
                </a:solidFill>
                <a:latin typeface="Franklin Gothic Book"/>
              </a:rPr>
              <a:t>Проверим свои знания !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а листке с тестом запишите свою фамилию. Правильные ответы обведи кружко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Желаю удачи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6" descr="j0234131"/>
          <p:cNvPicPr/>
          <p:nvPr/>
        </p:nvPicPr>
        <p:blipFill>
          <a:blip r:embed="rId1"/>
          <a:stretch/>
        </p:blipFill>
        <p:spPr>
          <a:xfrm>
            <a:off x="5867280" y="429264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машнее зада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араграф  26 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. 1 - 4   стр. 95 - 96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Уходя с урока, не забудь оценить своё эмоциональное состояние, свои удачи на урок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Для этого  ответь на вопросы «да» или «нет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СПАСИБО  ЗА  УРОК 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0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785880" y="492120"/>
            <a:ext cx="778680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Calibri"/>
                <a:ea typeface="Calibri"/>
              </a:rPr>
              <a:t>Рефлекс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Calibri"/>
              </a:rPr>
              <a:t>-Оцените ваше отношение к уроку, ответив на вопросы «да» или «нет»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Calibri"/>
              </a:rPr>
              <a:t>1.Доволен  ли ты тем, как прошел уро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Calibri"/>
              </a:rPr>
              <a:t>2.Было ли тебе интересно на уро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Calibri"/>
              </a:rPr>
              <a:t>3.Сумел ли ты приобрести новые знания и ум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Calibri"/>
              </a:rPr>
              <a:t>4.Ты был активен на уро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Calibri"/>
              </a:rPr>
              <a:t>5.Домашнее  задание будешь выполнять с удовольствие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ВЕЩЕСТВО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щество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ожет существовать в трех агрегатных состояниях : газообразном, жидком и твердом. Часто приходится встречаться с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месями.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меси бывают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днородными и неоднородными. Чистые вещества,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 которые можно разделить смеси бывают  двух типов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жные и простые вещества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Для разделения смесей применяют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таивание, фильтрование, действие магнитом, выпаривание, дистилляцию, хроматографию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ждое вещество  обладает присущей только ему совокупностью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ойств.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 веществами могут происходить различны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зические  явления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14349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ccffcc"/>
                </a:solidFill>
                <a:latin typeface="Franklin Gothic Book"/>
              </a:rPr>
              <a:t>   </a:t>
            </a:r>
            <a:r>
              <a:rPr b="0" lang="ru-RU" sz="3500" spc="-1" strike="noStrike">
                <a:solidFill>
                  <a:srgbClr val="ccffcc"/>
                </a:solidFill>
                <a:latin typeface="Franklin Gothic Book"/>
              </a:rPr>
              <a:t>Отгадай загадку и узнай о чем пойдет     речь на сегодняшнем уроке</a:t>
            </a:r>
            <a:endParaRPr b="0" lang="en-US" sz="35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4" descr="7eabd7fe132aa0fe9af0d4c7081af181"/>
          <p:cNvPicPr/>
          <p:nvPr/>
        </p:nvPicPr>
        <p:blipFill>
          <a:blip r:embed="rId1"/>
          <a:stretch/>
        </p:blipFill>
        <p:spPr>
          <a:xfrm>
            <a:off x="757080" y="1846440"/>
            <a:ext cx="3808440" cy="42876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5"/>
          <p:cNvSpPr/>
          <p:nvPr/>
        </p:nvSpPr>
        <p:spPr>
          <a:xfrm>
            <a:off x="4857840" y="2000160"/>
            <a:ext cx="374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О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иде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о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прошла!        Никт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не скаже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что пришл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780000" y="5734080"/>
            <a:ext cx="53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c0c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Она</a:t>
            </a:r>
            <a:r>
              <a:rPr b="0" lang="en-US" sz="3200" spc="-1" strike="noStrike">
                <a:solidFill>
                  <a:srgbClr val="fffc0c"/>
                </a:solidFill>
                <a:latin typeface="Arial"/>
              </a:rPr>
              <a:t> -  </a:t>
            </a:r>
            <a:r>
              <a:rPr b="1" lang="en-US" sz="3200" spc="-1" strike="noStrike">
                <a:solidFill>
                  <a:srgbClr val="fffc0c"/>
                </a:solidFill>
                <a:latin typeface="Arial"/>
              </a:rPr>
              <a:t>********** ******* !</a:t>
            </a:r>
            <a:r>
              <a:rPr b="1" lang="ru-RU" sz="3200" spc="-1" strike="noStrike">
                <a:solidFill>
                  <a:srgbClr val="fffc0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ccffcc"/>
                </a:solidFill>
                <a:latin typeface="Franklin Gothic Book"/>
              </a:rPr>
              <a:t>Тема урока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99680" y="1714320"/>
            <a:ext cx="471492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c0c"/>
                </a:solidFill>
                <a:latin typeface="Comic Sans MS"/>
              </a:rPr>
              <a:t>Химические  реакц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OWL"/>
          <p:cNvPicPr/>
          <p:nvPr/>
        </p:nvPicPr>
        <p:blipFill>
          <a:blip r:embed="rId1"/>
          <a:stretch/>
        </p:blipFill>
        <p:spPr>
          <a:xfrm>
            <a:off x="4067280" y="1832040"/>
            <a:ext cx="4672080" cy="502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цели урока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Повторить отличие химических явлений и физически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Изучить внешние признаки химических реакци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Узнать условия возникновения реакци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cc"/>
                </a:solidFill>
                <a:latin typeface="Franklin Gothic Book"/>
              </a:rPr>
              <a:t>  </a:t>
            </a:r>
            <a:r>
              <a:rPr b="0" lang="ru-RU" sz="4400" spc="-1" strike="noStrike">
                <a:solidFill>
                  <a:srgbClr val="ffff00"/>
                </a:solidFill>
                <a:latin typeface="Franklin Gothic Book"/>
              </a:rPr>
              <a:t>химические  реакции или химические явления 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c0c"/>
                </a:solidFill>
                <a:latin typeface="Arial"/>
              </a:rPr>
              <a:t>– </a:t>
            </a:r>
            <a:r>
              <a:rPr b="0" lang="ru-RU" sz="3600" spc="-1" strike="noStrike">
                <a:solidFill>
                  <a:srgbClr val="fffc0c"/>
                </a:solidFill>
                <a:latin typeface="Arial"/>
              </a:rPr>
              <a:t>это процессы, в результате которых из одних веществ образуются другие с новыми свойства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Без-имени-5"/>
          <p:cNvPicPr/>
          <p:nvPr/>
        </p:nvPicPr>
        <p:blipFill>
          <a:blip r:embed="rId1"/>
          <a:stretch/>
        </p:blipFill>
        <p:spPr>
          <a:xfrm>
            <a:off x="5148360" y="3860640"/>
            <a:ext cx="3341520" cy="266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3" name="Picture 5" descr="Без-имени-7"/>
          <p:cNvPicPr/>
          <p:nvPr/>
        </p:nvPicPr>
        <p:blipFill>
          <a:blip r:embed="rId2"/>
          <a:stretch/>
        </p:blipFill>
        <p:spPr>
          <a:xfrm>
            <a:off x="971640" y="3860640"/>
            <a:ext cx="3456000" cy="266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wipe dir="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56920" y="428400"/>
            <a:ext cx="7471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89760" y="2998440"/>
            <a:ext cx="30542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3" descr="156 Выпадение осадка Ахлебинин А"/>
          <p:cNvPicPr/>
          <p:nvPr/>
        </p:nvPicPr>
        <p:blipFill>
          <a:blip r:embed="rId1"/>
          <a:srcRect l="11987" t="0" r="11987" b="0"/>
          <a:stretch/>
        </p:blipFill>
        <p:spPr>
          <a:xfrm>
            <a:off x="2500200" y="642960"/>
            <a:ext cx="4572000" cy="55008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8" name="Picture 3" descr="165a Гидроксид натрия с хлоридом железа (III) Ахлебинин А"/>
          <p:cNvPicPr/>
          <p:nvPr/>
        </p:nvPicPr>
        <p:blipFill>
          <a:blip r:embed="rId1"/>
          <a:stretch/>
        </p:blipFill>
        <p:spPr>
          <a:xfrm>
            <a:off x="2428920" y="1357200"/>
            <a:ext cx="4286160" cy="55008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01:48:10Z</dcterms:created>
  <dc:creator>Александр</dc:creator>
  <dc:description/>
  <dc:language>en-US</dc:language>
  <cp:lastModifiedBy>Пользователь</cp:lastModifiedBy>
  <dcterms:modified xsi:type="dcterms:W3CDTF">2012-04-13T19:33:29Z</dcterms:modified>
  <cp:revision>87</cp:revision>
  <dc:subject/>
  <dc:title>Слайд 1</dc:title>
</cp:coreProperties>
</file>