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A97-F7E6-44BF-8F5B-97BB8316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F31-27BC-4032-8DA6-A935B959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5D0-B8D0-4012-9450-9B114B40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3BA-D860-459C-9CB8-75914EDA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4C7-61FF-4E88-84CD-1051436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A07-A494-4B6B-BA4F-E94DD968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F4D-F6E6-44A2-ABF4-ACC417C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1D9-88B7-4F29-A811-3431581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DB1-4C66-412E-BD6B-1AAD50D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08B-A111-415A-8E7A-1AEFEE3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CA3-A9C1-4871-982E-D7856A3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8D7-2106-4147-B2F0-4F08C70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E8C-8BE3-4ABC-A8D2-FAD404C75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ервых кадетских корпусов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5736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ыл великим  преобразователем  России. Круг интресов царя был необъятен – кораблестроение и артиллерия, форитифиация и дипломатия, военная наука и механика, медицина и астрономия. Любовь к наукам предопределила появление в России первого светского учебного заведения – “Школы математических и навигацких наук”, где впервые в России стали готовить учителей, которые рассылались по губерниям для преподавания математики в адмиралтейских и “цифирных школах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5" descr="13.jpg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41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5214600"/>
            <a:ext cx="3143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68-1918)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(1894-191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85720" y="785520"/>
            <a:ext cx="5643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ование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учреждены 9 кадетских корпус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6 г. 5 июля – Ярославский  кадетский корпус на баз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й военной школы, сформированной  в 186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9 г. 20 июня – Варшавский (Суворовский)  кадетски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в Варша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899 г. 26 августа – Одесский 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0 г. 18 января – Сум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0 г. 1 сентября – Хабаровский 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2 г. 26 сентября – Владикавказ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4 г. 20 июня – Ташкентский Е.И.В. Наследни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саревича Алексея Николаевича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08 г. 7 октября – Вольский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913 г. 28 июня – Иркут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3214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0" descr="21.jpg"/>
          <p:cNvPicPr/>
          <p:nvPr/>
        </p:nvPicPr>
        <p:blipFill>
          <a:blip r:embed="rId1"/>
          <a:stretch/>
        </p:blipFill>
        <p:spPr>
          <a:xfrm>
            <a:off x="357120" y="928800"/>
            <a:ext cx="321480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5214600"/>
            <a:ext cx="3143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н Константинович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86-19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71880" y="785520"/>
            <a:ext cx="5857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 Константин Константинович родился 10 августа 1858 г. Получил домашнее образование. С 1870 г. начал ежегодно плавать на судах учебной эскадры Морского кадетского корпуса. В 1876 г. в возрасте 16 лет произведен в гардемарины. В 1882 г. зачислен в лейб-гвардии Измайловский полк, где в течение семи лет командовал ротой Его Величества. Имея хорошее музыкальное образование и будучи неплохим пианистом, возглавлял Российское музыкальное общество. Под псевдонимом «К.Р.» (Константин Романов) писал стихи и издал несколько сбор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. назначен на должность Главного начальника военно-учебных заведений. За время пребывания в должности неоднократно посещал все кадетские корпуса Российской империи. При нем были открыты педагогические курсы для подготовки воспитателей. Энергично руководил делом развития и усовершенствования кадетских корпусов. Кадеты искренне любили великого князя. При жизни получил прозвище «отец всех кадет». Скончался в июне 1915 г. Похоронен в Петропавловской креп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307188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6" descr="22.jpg"/>
          <p:cNvPicPr/>
          <p:nvPr/>
        </p:nvPicPr>
        <p:blipFill>
          <a:blip r:embed="rId1"/>
          <a:stretch/>
        </p:blipFill>
        <p:spPr>
          <a:xfrm>
            <a:off x="428760" y="85716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етские корпуса после октября 191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17859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1917 г. в Российской империи действовал 31 кадетский (включая Морской) корпус. В феврале 1917 г. в соответствии с решением Временного правительства кадетские корпуса были переименованы в гимназии Военного  ведомства; выпущено распоряжение, отменявшее воинские звания, отдание чести и погоны. Все без исключения кадетские корпуса не приняли отречение царя от престола. Кадеты отказывались снимать погоны, демонстративно игнорировали шествия по случаю новых революционных торжеств. Из корпусов стали увольняться старые заслуженные офицеры и преподаватели. Покидали корпуса и директора корпу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 переворот и первые декреты новой власти встретили в кадетских корпусах непримиримую оппозицию. В начале 1918 г. практически все кадетские корпуса были ликвидированы. В силу сложившихся обстоятельств  кадетские корпуса восстанавливались и продолжали действовать на территории, находившейся под контролем Белой арм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071720"/>
            <a:ext cx="79293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 переворот и первые декреты новой власти встретили в кадетских корпусах непримиримую оппозицию. В начале 1918 г. практически все кадетские корпуса были ликвидированы. В силу сложившихся обстоятельств  кадетские корпуса восстанавливались и продолжали действовать на территории, находившейся под контролем Белой арм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1917 – начале 1918 г. кадеты старших классов всех кадетских корпусов стали примыкать к белому движению и активно участвовать в борьбе против советской власти. Большинство воспитанников 6-х и 7-х классов, принявших участие в первых схватках с новой властью, погибли. Начался исход кадетских корпусов из Рос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2 г. за границей оказалось примерно 2000 тысячи кадет, сведенных в корпуса: Донской в Египте (Исмаилия), Русский в Сараеве (Корлевство Сербов, хорватов и Словенцев), Крымский в Белой Церкви (Королевство С.Х.С.), 2-й Донской в Билече (Королевство С.Х.С.), Морской в Бизерте (Тунис), Сибирский и Хабаровский в Шанхае (Китай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101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928440"/>
            <a:ext cx="82864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озникла идея организации съездов кадет. Первый съезд кадет Версальского, Донского, Крымского и Первого Русского кадетских корпусов состоялся 19 августа 1967 г. в г. Монреале в Канаде. Последующие съезды проходили в Нью-Йорке, Монреале, Каракасе, Лос-Анджелесе, Париже, Сан-Франциско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езд проходил в России, в Санкт-Петербурге и Москве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50 по 1974 г. в Париже А.А.Герингом издавался журнал “Военная быль”, с 1971 г. в Нью-Йорке издается журнал “Кадетская переклика”. В этих изданиях освещалась и освещается жизнь кадетских корпусов Российской империи и русского зарубеж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XX-нача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действуют следующие кадетские объедин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динение российских кадетских корпусов в Аргенти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суэль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-Францис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окалифорний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кагское объединение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реаль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адетское объединение в Австрал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ью-Йорк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нгтонское объеди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 кад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х кадетских корпусов за рубеж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560" y="1714680"/>
            <a:ext cx="8715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жизни выпускников кадетских корпусов после их исхода из России играли объединения ка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ейшим кадетским объединением по праву принято считать Союз Российских кадетских корпусов в Париже, возникший в 1923 г. В то время во Франции в эмиграции находились сотни кадет практически всех императорских кадетских корпусов. Жизнь данного Союза активно продолжалась до начала Второй мировой войны, когда Союз прекратил суще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йны одним из первых в 1950 г. появилось Общекадетское объединение в Париже, председателем которого стал А.А.Геринг. В конце 1990-х гг. Объединение возглавил выпускник Корпуса-лицея Императора Никол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Дмитриевич Шмема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Второй мировой войны кадеты разъехались по всему свету. Их объединения были созданы в Аргентине, Австралии, Бельгии, Бразилии, США, Франции, Чили, Югославии. Во всех местах проживания кадет высказывалось пожелание об организации встречи представителей всех объединений для выработки единой политики в кадетском движ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кадетских корпусов в современной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857240"/>
            <a:ext cx="81439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Гражданской войны в России кадетские корпуса были закрыты. Но и новая Советская армия нуждалась в хорошей подготовке красных командиров. И с конца 30-х гг. начали создаваться спецшколы для подготовки подростков к поступлению в военные училища. За четыре года обучения школы давали законченное среднее образование, знакомили с техникой и основами ее боевого применения. Эти спецшколы напоминали прежние кадетские корпуса, и путь многих военачальников начинался именно здес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настоящему же кадетские корпуса стали возрождаться во время Великой Отечественной войны 1941-45 гг. Основанные в 1943 году суворовские военные училища создавались по типу старых кадетских корпусов и в этом традиционном для России виде они просуществовали до 1956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в училищах обучались преимущественно дети-сироты, но позднее порядок приема был пересмотрен – стали приниматься дети военнослужащих и те ребята, кто решил посвятить свою жизнь военному делу. Но с 60-х гг. начали сокращаться вооруженные силы, уменьшилась численность офицерского корпуса, и училища стали расформировывать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557172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рской кадетский корпус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Кронштад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00680" y="1285920"/>
            <a:ext cx="4714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пада Советского Союза в России остались действующими шесть суворовских военных училищ, одно нахимовское военно-морское военное училище и одно военно-музыкальное. В последующие годы к ним добавились суворовское военное училище в городе Ульяновске и новые кадетские корпуса в Санкт-Петербурге: Ракетно-артиллерийский кадетский корпус, Военно-космический кадетский корпус, Кадетский корпус федеральной пограничной стражи в Царском Селе, Кадетский корпус железнодорожных войск в Петродворце, Морской кадетский корпус в Кронштадте. Осенью 2002 года открылся кадетский корпус МВ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350064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5" descr="23.jpg"/>
          <p:cNvPicPr/>
          <p:nvPr/>
        </p:nvPicPr>
        <p:blipFill>
          <a:blip r:embed="rId1"/>
          <a:stretch/>
        </p:blipFill>
        <p:spPr>
          <a:xfrm>
            <a:off x="357120" y="1000080"/>
            <a:ext cx="385776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24.jpg"/>
          <p:cNvPicPr/>
          <p:nvPr/>
        </p:nvPicPr>
        <p:blipFill>
          <a:blip r:embed="rId2"/>
          <a:stretch/>
        </p:blipFill>
        <p:spPr>
          <a:xfrm>
            <a:off x="357120" y="3357720"/>
            <a:ext cx="385776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5218200"/>
            <a:ext cx="321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14800" y="272520"/>
            <a:ext cx="547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адетский Корпус был основан в царствование Императрицы Анны Иоанновны по мысли одного из видных тогда дипломатов, графа Ягужинского, ознакомившегося лично с существовавшими в те годы кадетскими корпусами в Берлине и Копенгаге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-го июля 1731 г. Императрица подписала указ об учреждении в Санкт-Петербурге «Корпуса Кадетов». Первым Генерал-директором был назначен Фельдмаршал Миних. Особым указом было предложено дворянам присылать своих сыновей в корпус для получения здесь военного образования. Корпусу были отведены все постройки дворца Светлейшего Князя Меншикова на Васильевском острове с площадью земли ограниченной двумя с половиной верстами по периметру. Все имение было пожаловано корпусу в вечное влад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5214600"/>
            <a:ext cx="3043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Иоановна (1693-1740), императрица (1730-174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14.jpg"/>
          <p:cNvPicPr/>
          <p:nvPr/>
        </p:nvPicPr>
        <p:blipFill>
          <a:blip r:embed="rId1"/>
          <a:stretch/>
        </p:blipFill>
        <p:spPr>
          <a:xfrm>
            <a:off x="428760" y="785880"/>
            <a:ext cx="314316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3786120"/>
            <a:ext cx="335772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14840" y="1000080"/>
            <a:ext cx="5000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кадетских образовательных учреждений в современной России началось в 1992 году. У истоков этого процесса стояли энтузиасты, офицеры запаса, бывшие суворовцы, которым удалось наладить связь с кадетами зарубежных российских корпу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кадетские корпуса как учебные военные заведения нового типа стали робко появляться сначала в Новочеркасске и Новосибирске, затем в Воронеже и Москве, Санкт-Петербурге и Ростове-на-Дону. К 2000 году кадетские корпуса уже были воссозданы в Краснодаре, Кронштадте, Оренбурге, Омске, Калининграде, Кемерово, Нижнем Новгороде, Ростове Великом, Мурманске, Твери, Орле, Волгограде , Екатеринбург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кадетскому движению огромен, востребованность в кадетских корпусах высок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928800"/>
            <a:ext cx="3357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7" descr="27.jpeg"/>
          <p:cNvPicPr/>
          <p:nvPr/>
        </p:nvPicPr>
        <p:blipFill>
          <a:blip r:embed="rId1"/>
          <a:stretch/>
        </p:blipFill>
        <p:spPr>
          <a:xfrm>
            <a:off x="571680" y="928800"/>
            <a:ext cx="3286080" cy="2571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24.jpeg"/>
          <p:cNvPicPr/>
          <p:nvPr/>
        </p:nvPicPr>
        <p:blipFill>
          <a:blip r:embed="rId2"/>
          <a:stretch/>
        </p:blipFill>
        <p:spPr>
          <a:xfrm>
            <a:off x="571680" y="371484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3786120"/>
            <a:ext cx="34290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14840" y="1000080"/>
            <a:ext cx="5000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третьего тысячелетия в России создается новый тип учебных учреждений, направленных на решение потребностей общества в 21 веке, то есть идет процесс выработки новой системы национального образования. И от правильного решения этой задачи будет в значительной мере зависеть будущее России. Совершенно новым в этом процессе является то, что кадетские учебные учреждения создаются также при Министерстве Обороны РФ  и при других силовых структурах, а в своем большинстве образуются, прежде всего, в системе Министерства Образования Российской Федерации, хотя ранее подобные учебные учреждения создавались только при военных ведомствах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ие кадеты – это завтрашние защитники нашего Отечества, ученые, строители, юристы, экономисты, врачи, учителя и  предприним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3357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7" descr="25.jpeg"/>
          <p:cNvPicPr/>
          <p:nvPr/>
        </p:nvPicPr>
        <p:blipFill>
          <a:blip r:embed="rId1"/>
          <a:stretch/>
        </p:blipFill>
        <p:spPr>
          <a:xfrm>
            <a:off x="500040" y="9288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26.jpeg"/>
          <p:cNvPicPr/>
          <p:nvPr/>
        </p:nvPicPr>
        <p:blipFill>
          <a:blip r:embed="rId2"/>
          <a:stretch/>
        </p:blipFill>
        <p:spPr>
          <a:xfrm>
            <a:off x="500040" y="3786120"/>
            <a:ext cx="3429000" cy="250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14920"/>
            <a:ext cx="38577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(1729-1796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евна, императрица (1762-176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14800" y="642960"/>
            <a:ext cx="54720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правления Екатер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упрочила свое положение на международной арене. В различных источниках можно встретить понятие «золотой век Екатерины», которая много сделала для развития просвещения в России. Императорский Сухопутный шляхетский кадетский корпус, учрежденный Анной Иоанновной, находился под пристальным вниманием Екатерины. В декабре 1752 г. Академия Морской гвардии переименовывается в Морской шляхетский корпус. В октябре 1762 г. учреждается Артиллерийский и Инженерный шляхетский кадетский корпус, ставший со временем 2-м Санкт-Петербургским кадетским корпусом. При Екатерин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етские корпуса играли огромную роль в развитии классического образования 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00080"/>
            <a:ext cx="2971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15.jpg"/>
          <p:cNvPicPr/>
          <p:nvPr/>
        </p:nvPicPr>
        <p:blipFill>
          <a:blip r:embed="rId1"/>
          <a:stretch/>
        </p:blipFill>
        <p:spPr>
          <a:xfrm>
            <a:off x="500040" y="857160"/>
            <a:ext cx="30002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и развитие кадетских корпусов в России 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143320"/>
            <a:ext cx="27576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рович (1754-1801), император (1796-180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214200"/>
            <a:ext cx="4041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7680" y="1285560"/>
            <a:ext cx="5829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I внес свой вклад в систему подготовки молодых людей к службе в Русской армии. В декабре 1798 г. он учредил Военно-Сиротский Дом и его отделения при гарнизонных полках. Военно-Сиротский Дом состоял из двух отделений: первое предназначалось для 200 сыновей и 50 дочерей неимущих дворян и офицеров, а второе – для солдатских сыновей. В 1829 г. Императорский Сиротский Дом был превращен в Павловский кадетский корпус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1800 г. Императорский  Сухопутный кадетский корпус был переименован в 1-й кадетский корпус, а Артиллерийский и Инженерный Шляхетский кадетский корпус — во 2-й кадетский корпус. Сторонник прусской военной системы Пав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л в кадетских корпусах  жесткую военную дисципл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10" descr="16.jpg"/>
          <p:cNvPicPr/>
          <p:nvPr/>
        </p:nvPicPr>
        <p:blipFill>
          <a:blip r:embed="rId1"/>
          <a:stretch/>
        </p:blipFill>
        <p:spPr>
          <a:xfrm>
            <a:off x="457200" y="1357200"/>
            <a:ext cx="275760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ич (1777-1825), император (1801-182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714760" y="785880"/>
            <a:ext cx="6215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мператоре Александр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открыто шесть кадетских корпусов (Пажеский, Московский, Финляндский, Калишский, Горный), создан Дворянский полк.  К концу царствования императора в России существовали следующие кадетские корпуса и военно-учебные заведения, по своим программам обучения и воспитания близкие к кадетским корпус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же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-й кадетский корпус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-й кадетский корпус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ператорский военно-сиротский д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сковский кадет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орянский полк с кавалерийским эскадроно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ульское Александровское военное училищ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мбовское военное училище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нляндский кадетский корп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ола гвардейских подпрапорщ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енбургское Неплюевское военное училищ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мское казачье учил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17.jpg"/>
          <p:cNvPicPr/>
          <p:nvPr/>
        </p:nvPicPr>
        <p:blipFill>
          <a:blip r:embed="rId1"/>
          <a:stretch/>
        </p:blipFill>
        <p:spPr>
          <a:xfrm>
            <a:off x="428760" y="785880"/>
            <a:ext cx="264312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ич (1796 -1855), император (1825-185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7320" y="785880"/>
            <a:ext cx="6072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I в первые же дни своего правления повелел учредить Комитет под председательством Министра Народного Просвещения Л. Шишкова, дабы «сличить и уравнять все уставы учебных учреждений Империи, а также рассмотреть и подробно определить на будущее время все курсы учения, означив и сочинения, по коим они впредь должны быть преподаваемы». Такого же упорядочения требовали и военно-учебные заведения. Император Николай I с самого начала своего царствования изъявил непременную и твердую волю дать военно-учебным заведениям новое устройство, связать их вместе в одну общую отрасль государственного управления, поставив перед ними единую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правления военно-учебными заведениями был учрежден Совет под непосредственным начальством брата императора — цесаревича Константина Павловича. После смерти цесаревича (1831 г.) военно-учебные заведения находились под управлением другого брата Государя — великого князя Михаила Павловича, до его смерти в 1849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1855 г. было  открыто 17 кадетских корпус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5" descr="18.jpg"/>
          <p:cNvPicPr/>
          <p:nvPr/>
        </p:nvPicPr>
        <p:blipFill>
          <a:blip r:embed="rId1"/>
          <a:stretch/>
        </p:blipFill>
        <p:spPr>
          <a:xfrm>
            <a:off x="428760" y="1000080"/>
            <a:ext cx="271908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57520"/>
            <a:ext cx="36432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ич (1818 -1881), император (1855-188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71880" y="57132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ступлением на престол принял на себя звание Шефа 1-го кадетского корпуса и распорядился именовать Штаб Главного начальника военно-учебных заведений – Главным Штабом Его Императорского Величества по военно-учебным заведени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апреля 1855 г. Дворянский полк в память его первого шефа цесаревича Константина Павловича, был переименован в  Константиновский кадетский корпу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7 г. во всех губернских кадетских корпусов, в которых были только общие классы, учреждаются первые и вторые специальные классы, по окончании которых кадеты выпускались прямо на службу прапорщиками в артиллерию, саперы, армию, линейные баталь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63 г. по предложению Военного министра Д.А.Милютина в России начинается реформа военно-учебных заведений. Кадетские корпуса, уже хорошо зарекомендовавшие себя выпусками в армию большого числа достойных офицеров, по инициативе Военногоминистра были упразднены и обращены в полувоенные гимна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19.jpg"/>
          <p:cNvPicPr/>
          <p:nvPr/>
        </p:nvPicPr>
        <p:blipFill>
          <a:blip r:embed="rId1"/>
          <a:stretch/>
        </p:blipFill>
        <p:spPr>
          <a:xfrm>
            <a:off x="285840" y="928800"/>
            <a:ext cx="314316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535752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министр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-фельдмарша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 Алексеевич Милюти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16-19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99880" y="1071360"/>
            <a:ext cx="5929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-фельдмаршал Дмитрий Алексеевич Милютин, видный русский военный и государственный деятель 60-70 гг.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в. В 1856-1859 гг. был одним из руководителей боевых действий на Кавказе. В 1861-1881 гг. – военный министр. С 1863 г. по предложению Д.А.Милютина в России стали осуществляться военные реформы, частью которых была реформа военно-учебных заведений. Кадетские корпуса были упразднены и обращены в полувоенные гимназии, которые по внутреннему распорядку и учебному плану стояли гораздо ближе к гражданским средним учебным заведениям. Военные атрибуты были ликвидированы. С кадет сняты погоны – их гордость. Строевые занятия упразднены, отменено отдание че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26146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6" descr="19.jpg"/>
          <p:cNvPicPr/>
          <p:nvPr/>
        </p:nvPicPr>
        <p:blipFill>
          <a:blip r:embed="rId1"/>
          <a:stretch/>
        </p:blipFill>
        <p:spPr>
          <a:xfrm>
            <a:off x="428760" y="888840"/>
            <a:ext cx="2928960" cy="461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480" y="5214600"/>
            <a:ext cx="2857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ич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45-1894)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(1881-189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14760" y="499680"/>
            <a:ext cx="6215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2 г., с приходом к власти императора Александра III, было решено приступить к новому преобразованию военно-учебных заведений, так как направление воспитания в них, а особенно в военных гимназиях, признавалось слишком либеральным, не соответствующим требованиям военной службы. В докладе генерала П.С. Ванновского от 30 мая 1882 г. указывалось, что военные гимназии, «удовлетворяя требованиям среднего реального образования и педагогическим целям воспитания, не вполне отвечают задачам профессионального военного заведения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июля 1882 г. военные гимназии были переименованы в кадетские корпуса. В 1883 г. были организованы роты из двух старших классов; в 1885 г. в строевых ротах кадетских корпусов были учреждены должности вице- фельдфебеля и вице-унтер-офицеров. 14 февраля 1886 г. было Высочайше утверждено «Положение о кадетских корпусах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овом начальнике военно-учебных заведений генерале Н.А. Махотине были изданы «Инструкции по воспитательной части кадетских корпусов», «Инструкция должностным кадетам», «Наставление для ведения внеклассных занятий», «Общая программа и инструкция по учебной части для кадетских корпусов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26431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20.jpg"/>
          <p:cNvPicPr/>
          <p:nvPr/>
        </p:nvPicPr>
        <p:blipFill>
          <a:blip r:embed="rId1"/>
          <a:stretch/>
        </p:blipFill>
        <p:spPr>
          <a:xfrm>
            <a:off x="357120" y="642960"/>
            <a:ext cx="2714760" cy="44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9:28:35Z</dcterms:created>
  <dc:creator>Мама</dc:creator>
  <dc:description/>
  <dc:language>en-US</dc:language>
  <cp:lastModifiedBy>Алексей</cp:lastModifiedBy>
  <dcterms:modified xsi:type="dcterms:W3CDTF">2015-01-28T12:36:49Z</dcterms:modified>
  <cp:revision>80</cp:revision>
  <dc:subject/>
  <dc:title>Афганистан – ты боль моей души…</dc:title>
</cp:coreProperties>
</file>