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BDC10-DE08-461A-B9E0-D576DFF8A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4814-C8CE-409C-A962-3DCB69CA08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41DCC-4639-44FC-B05D-216521C85D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DEFA6-281E-4928-AFFD-A2F0B197E3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9E7E3-7510-42B6-A82E-830D234980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06241-FE8E-45DD-AFBF-E0E0F21D21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F61C-1D11-4F8D-81BE-A1C7E1423E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D5DAB-84D4-476A-9D62-AC1DF936AA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61077-EA8C-4E07-A143-01AACA373B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4D0A-7DF4-4913-842A-E6F37DBF3B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AC033-444E-4EB6-B9F9-72239AA7EC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6EC86-AFCA-4B71-A87F-A3056E059D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220-6E54-4096-827C-F0D04BB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189-5DD2-4937-8DAE-CFC0315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212-B6EF-4C66-9BC1-D9E7FC0D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45D-BE4B-497D-BD04-C80AD460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E30-9D9F-4514-80DF-AA0D44B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F15-7258-4701-9E68-943BD73D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681-3FFF-4D10-A652-358AB288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E01-7474-4E44-AB8D-A0B8B95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129-F0A6-499B-9076-E680B758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E8D-02F2-4C69-B0CA-59378AAC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EFD-F7B9-4622-8818-0D5B2FA3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F2E-9802-4094-833E-9A811C6B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87DAF5-A4FF-484C-9D47-EA675C9421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4. Заключ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Monotype Corsiva"/>
              </a:rPr>
              <a:t>Убрать рабочее мест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 наступающим Новым годо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частья, здоровья, удачи, исполнения желаний, волшебства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асибо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за святочная – оберег хорошего настроения и символ 2015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Коза всегда весела, всегда беспечна. Она помогает очень серьёзным людям посмотреть на мир немного веселее, забыть на мгновение о своих пробл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Символизирует богатство, обильный урожай, здоровье, жизне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Приносит исполнение желаний и успех во всех  начинаниях, а также поможет избавиться от хандры и деп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Такой оберег лучше всего разместить на самом видном месте, чтобы его владелец как можно чаще его видел, таким образом заряжаясь позитивной энергией и оптим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готовление  оберега-символа года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Для работы потреб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Льняной шпагат (нить) – 3 отрезка по 40 см, 6 отрезков по </a:t>
            </a:r>
            <a:r>
              <a:rPr b="0" lang="en-US" sz="3200" spc="-1" strike="noStrike">
                <a:solidFill>
                  <a:srgbClr val="22228b"/>
                </a:solidFill>
                <a:latin typeface="Monotype Corsiva"/>
              </a:rPr>
              <a:t>4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0 см, 6 отрезков по 2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Кусок пёстр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Красная нить 1 отрезок 3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Ножницы, игла, швейные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Тесьма, ленты, бусины для декора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90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ила техники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3000"/>
          </a:bodyPr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2946a"/>
                </a:solidFill>
                <a:latin typeface="Monotype Corsiva"/>
              </a:rPr>
              <a:t>- при работе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1. Хранить ножницы в футля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2. Во время работы не оставлять лезвия ножниц открыт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3. Передавать ножницы сомкнутыми лезвиями кольцами вперё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32946a"/>
                </a:solidFill>
                <a:latin typeface="Monotype Corsiva"/>
              </a:rPr>
              <a:t>при работе с иглами, булавками, спицами и крюч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1. Хранить иголки и булавки в определённом месте (специальной коробке, подушечке и т. д.), не оставлять их на рабочем месте, ни в коем случае не брать иголки, булавки в рот и не вкалывать их в одеж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2. Не пользуйтесь для шитья ржавой игол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3.  Выкройки к ткани прикреплять острыми концами булавок в направлении о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4. Куски сломанных иголок или булавок собирать и отдавать уч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Monotype Corsiv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Подготов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тмерить и нарезать нужное количество шпагата и других матери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Приготовить другие материалы – красную нить, ткань, элементы де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457560" indent="-4575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рога и уши козы: сплести косу из 3 отрезков шпагата 40см (работаем в парах); закрепить кон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передние ноги: сплести косу из 6 отрезков шпагата </a:t>
            </a:r>
            <a:r>
              <a:rPr b="0" lang="en-US" sz="3200" spc="-1" strike="noStrike">
                <a:solidFill>
                  <a:srgbClr val="22228b"/>
                </a:solidFill>
                <a:latin typeface="Monotype Corsiva"/>
              </a:rPr>
              <a:t>2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0 см по два отрезка в пряди (работаем в парах); закрепить кон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мордочку козы: 6 оставшихся отрезков шпагата 30 см собрать в пучок, согнуть пополам и в месте сгиба перевязать частью отрезка красной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93560" indent="-4935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голову: разделяем пучок на 2 равных части по 6 нитей и вставляем между ними длинную косу (действуем по образцу); снова собираем шпагат в пучок, перетягиваем шпаг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туловище: разделяем пучок на 2 равных части по 6 нитей и вставляем между ними короткую косу; снова собираем шпагат в пучок, перетягиваем шпаг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98960" indent="-4989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3. Декорати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глаза: пришиваем бис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платье: кусок ткани забахрамить, сложить пополам, сделать небольшой надрез вдоль. Одеть платье на заготовку козы, перевя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фартук, бантики на рогах (по желанию): отмеряем и отрезаем необходимое количество тесьмы и ленты, пришиваем; завязываем ба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98960" indent="-4989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4. Заключ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22228b"/>
                </a:solidFill>
                <a:uFillTx/>
                <a:latin typeface="Monotype Corsiva"/>
              </a:rPr>
              <a:t>Ответить на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Как зовут козу?  ;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У кого она будет жить? </a:t>
            </a:r>
            <a:r>
              <a:rPr b="0" lang="ru-RU" sz="2000" spc="-1" strike="noStrike">
                <a:solidFill>
                  <a:srgbClr val="22228b"/>
                </a:solidFill>
                <a:latin typeface="Wingdings"/>
                <a:ea typeface="Wingdings"/>
              </a:rPr>
              <a:t></a:t>
            </a: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22228b"/>
                </a:solidFill>
                <a:uFillTx/>
                <a:latin typeface="Monotype Corsiva"/>
              </a:rPr>
              <a:t>Продолжить высказы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«Мне понравилос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Мне не понравилос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- «Теперь я знаю, чт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Теперь я умею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Я испытал чувств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Меня удивило, чт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1:20:59Z</dcterms:created>
  <dc:creator/>
  <dc:description/>
  <dc:language>en-US</dc:language>
  <cp:lastModifiedBy>пользователь</cp:lastModifiedBy>
  <dcterms:modified xsi:type="dcterms:W3CDTF">2014-12-22T18:14:58Z</dcterms:modified>
  <cp:revision>29</cp:revision>
  <dc:subject/>
  <dc:title>Слайд 1</dc:title>
</cp:coreProperties>
</file>