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020E7-054D-4EB2-B6E8-8773A4B961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9E6A0-7BB6-4BF1-B274-CDB410D377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778E7-524E-4CC6-BE25-D01938D185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2EF18-9890-434D-A189-3858C84D09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7EB54-C800-4742-9071-2F03D0B7DA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BE7DA-4234-48E2-824E-9E172C060F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A5639-4161-45B8-9929-A16333109F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A079E-4DE0-4D80-900B-FD7320044D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D872B-D598-46AA-AC5F-5526BC24B7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8BF3B-516C-4031-AB2B-0C851138C7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ABD77-2667-48D2-B241-AD6F147653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D06B1-8BEF-4DE8-A553-D2E68FDB33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9B8-E3B3-4F97-9698-19C1978F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A10-DDBD-4D9C-B0D3-18D57019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99C-EC27-492A-877A-93BA1795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A0F-483C-4732-8E3B-0F30A3F0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4DE-5254-478F-9177-5AA07415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76D-6FB8-4DBC-874B-ED072A41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C73-928B-404F-B88E-B448DE97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E30-14C4-4314-8C61-46CB29AE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62C-BFDA-44A3-A9DB-4EBA5DE3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418-F41A-4874-A4D6-4B306E1A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530-AE4C-4008-81A2-5A9DDF64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873-8A3A-4BD0-B20D-6B21366A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7EBF6D-E9B5-4742-8599-1FE3070D46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4. Заключитель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22228b"/>
                </a:solidFill>
                <a:latin typeface="Monotype Corsiva"/>
              </a:rPr>
              <a:t>Убрать рабочее мест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 наступающим Новым годо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частья, здоровья, удачи, исполнения желаний, волшебства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пасибо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за святочная – оберег хорошего настроения и символ 2015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-31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Monotype Corsiva"/>
              </a:rPr>
              <a:t>Коза всегда весела, всегда беспечна. Она помогает очень серьёзным людям посмотреть на мир немного веселее, забыть на мгновение о своих пробле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Monotype Corsiva"/>
              </a:rPr>
              <a:t>Символизирует богатство, обильный урожай, здоровье, жизнеспосо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Monotype Corsiva"/>
              </a:rPr>
              <a:t>Приносит исполнение желаний и успех во всех  начинаниях, а также поможет избавиться от хандры и деп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Monotype Corsiva"/>
              </a:rPr>
              <a:t>Такой оберег лучше всего разместить на самом видном месте, чтобы его владелец как можно чаще его видел, таким образом заряжаясь позитивной энергией и оптимиз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зготовление  оберега-символа года из природ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Для работы потребу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Льняной шпагат (нить) – 3 отрезка по 40 см, 6 отрезков по </a:t>
            </a:r>
            <a:r>
              <a:rPr b="0" lang="en-US" sz="3200" spc="-1" strike="noStrike">
                <a:solidFill>
                  <a:srgbClr val="22228b"/>
                </a:solidFill>
                <a:latin typeface="Monotype Corsiva"/>
              </a:rPr>
              <a:t>4</a:t>
            </a: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0 см, 6 отрезков по 20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Кусок пёстрой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Красная нить 1 отрезок 30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Ножницы, игла, швейные н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Тесьма, ленты, бусины для декора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790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авила техники безопас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3000"/>
          </a:bodyPr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2946a"/>
                </a:solidFill>
                <a:latin typeface="Monotype Corsiva"/>
              </a:rPr>
              <a:t>- при работе с ножни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1. Хранить ножницы в футля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2. Во время работы не оставлять лезвия ножниц открыт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3. Передавать ножницы сомкнутыми лезвиями кольцами вперё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32946a"/>
                </a:solidFill>
                <a:latin typeface="Monotype Corsiva"/>
              </a:rPr>
              <a:t>при работе с иглами, булавками, спицами и крюч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1. Хранить иголки и булавки в определённом месте (специальной коробке, подушечке и т. д.), не оставлять их на рабочем месте, ни в коем случае не брать иголки, булавки в рот и не вкалывать их в одеж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2. Не пользуйтесь для шитья ржавой игол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3.  Выкройки к ткани прикреплять острыми концами булавок в направлении о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4. Куски сломанных иголок или булавок собирать и отдавать учите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Monotype Corsiv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Подготовитель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отмерить и нарезать нужное количество шпагата и других материа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Приготовить другие материалы – красную нить, ткань, элементы дек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457560" indent="-45756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2. Основ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Формируем рога и уши козы: сплести косу из 3 отрезков шпагата 40см (работаем в парах); закрепить кон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Формируем передние ноги: сплести косу из 6 отрезков шпагата </a:t>
            </a:r>
            <a:r>
              <a:rPr b="0" lang="en-US" sz="3200" spc="-1" strike="noStrike">
                <a:solidFill>
                  <a:srgbClr val="22228b"/>
                </a:solidFill>
                <a:latin typeface="Monotype Corsiva"/>
              </a:rPr>
              <a:t>2</a:t>
            </a: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0 см по два отрезка в пряди (работаем в парах); закрепить кон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Формируем мордочку козы: 6 оставшихся отрезков шпагата 30 см собрать в пучок, согнуть пополам и в месте сгиба перевязать частью отрезка красной н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93560" indent="-49356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2. Основ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Формируем голову: разделяем пучок на 2 равных части по 6 нитей и вставляем между ними длинную косу (действуем по образцу); снова собираем шпагат в пучок, перетягиваем шпага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Формируем туловище: разделяем пучок на 2 равных части по 6 нитей и вставляем между ними короткую косу; снова собираем шпагат в пучок, перетягиваем шпаг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98960" indent="-49896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3. Декорати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Оформить глаза: пришиваем бис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Оформить платье: кусок ткани забахрамить, сложить пополам, сделать небольшой надрез вдоль. Одеть платье на заготовку козы, перевя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Оформить фартук, бантики на рогах (по желанию): отмеряем и отрезаем необходимое количество тесьмы и ленты, пришиваем; завязываем ба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апы изготовления коз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98960" indent="-49896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Monotype Corsiva"/>
              </a:rPr>
              <a:t>4. Заключитель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 u="sng">
                <a:solidFill>
                  <a:srgbClr val="22228b"/>
                </a:solidFill>
                <a:uFillTx/>
                <a:latin typeface="Monotype Corsiva"/>
              </a:rPr>
              <a:t>Ответить на 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Как зовут козу?  ;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У кого она будет жить? </a:t>
            </a:r>
            <a:r>
              <a:rPr b="0" lang="ru-RU" sz="2000" spc="-1" strike="noStrike">
                <a:solidFill>
                  <a:srgbClr val="22228b"/>
                </a:solidFill>
                <a:latin typeface="Wingdings"/>
                <a:ea typeface="Wingdings"/>
              </a:rPr>
              <a:t></a:t>
            </a: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 u="sng">
                <a:solidFill>
                  <a:srgbClr val="22228b"/>
                </a:solidFill>
                <a:uFillTx/>
                <a:latin typeface="Monotype Corsiva"/>
              </a:rPr>
              <a:t>Продолжить высказы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«Мне понравилос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- «Мне не понравилос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-- «Теперь я знаю, что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- «Теперь я умею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- «Я испытал чувство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Monotype Corsiva"/>
              </a:rPr>
              <a:t>- «Меня удивило, что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21:20:59Z</dcterms:created>
  <dc:creator/>
  <dc:description/>
  <dc:language>en-US</dc:language>
  <cp:lastModifiedBy>пользователь</cp:lastModifiedBy>
  <dcterms:modified xsi:type="dcterms:W3CDTF">2014-12-22T18:14:58Z</dcterms:modified>
  <cp:revision>29</cp:revision>
  <dc:subject/>
  <dc:title>Слайд 1</dc:title>
</cp:coreProperties>
</file>