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97A-5F16-4F4C-973B-38BD8B7B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EA7-55BE-4F1A-8EA0-4557C248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3FF-44E7-47FA-A040-72F33E84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406-D445-4B58-939F-68C92DCD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A3DE-C555-4476-BF04-88006E72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640C-21D9-4F1C-8C09-E8525670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F3FE-6434-40E2-B86D-71D41792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2326-BF57-4CCE-8190-C47E6BE9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5FB-30A4-4AE4-ACAA-214493EE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188C-8C62-49AC-BF52-3570C270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049E-F7A3-4C06-90DB-83AC1B79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4AE-2E42-41BB-84A9-19279F0F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7DC6-457B-46A1-A6CE-A008E7F2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D46C-9474-483D-8D64-CBFC2A02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2A59-5AE4-4816-9298-8B08FB7C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5561-DAD4-4E5D-924C-B31D81E5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56C8-C01F-45FA-914F-AD58609F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99F-9A8D-4D44-999C-241A91B2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8AE-6D75-4552-A912-3DA05DBB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19D-A550-4BA7-AF8C-0CC246BD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978-D46A-412E-934E-5B2CD5AB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7CC-DC65-4090-B7AF-07D273EF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C24-8E07-4688-B32A-250E236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7D9-B51C-4238-82BC-50F00034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ABFE-D363-4B7E-B335-2E9249BF0BD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FAA6-18BC-49B0-8C97-977397E4F05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Металл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286160" y="3886200"/>
            <a:ext cx="348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ыполнила: ученица 11Б класса (гуманитарный профиль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МОУ «СОШ № 42» г.Пер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Полежаева Татья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Учитель: Глухих Н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0716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2.Кровавая расправа над наёмниками «Неметаллов»- галогенами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Cl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B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Образуются со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Fe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 +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 3C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Fe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3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C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1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3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хлорид железа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( lll )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3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ераметаллические уличные войны (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 )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  +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S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  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S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2</a:t>
            </a:r>
            <a:r>
              <a:rPr b="1" lang="en-US" sz="2000" spc="-1" strike="noStrike" baseline="30000">
                <a:solidFill>
                  <a:srgbClr val="00ffff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сульфид магния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4.Столкновение сильнейших ( Ме и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</a:t>
            </a:r>
            <a:r>
              <a:rPr b="1" i="1" lang="en-US" sz="24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6Li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  +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  N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Li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1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N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нитрид л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5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Водородное противостояние (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H</a:t>
            </a:r>
            <a:r>
              <a:rPr b="1" i="1" lang="en-US" sz="24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N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+  H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N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1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H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1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Comic Sans MS"/>
              </a:rPr>
              <a:t>  </a:t>
            </a:r>
            <a:r>
              <a:rPr b="1" lang="ru-RU" sz="1800" spc="-1" strike="noStrike" baseline="30000">
                <a:solidFill>
                  <a:srgbClr val="00ffff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гидрид нат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2843280" y="57340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2771640" y="321300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059280" y="170028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987640" y="4292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Broadway BT"/>
              </a:rPr>
              <a:t>Авторитеты преступного мира. </a:t>
            </a:r>
            <a:br>
              <a:rPr sz="3200"/>
            </a:br>
            <a:r>
              <a:rPr b="0" lang="ru-RU" sz="3200" spc="-1" strike="noStrike">
                <a:solidFill>
                  <a:srgbClr val="66ff33"/>
                </a:solidFill>
                <a:latin typeface="Broadway BT"/>
              </a:rPr>
              <a:t>Сообщники или конкуренты?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1.    Вода ( </a:t>
            </a:r>
            <a:r>
              <a:rPr b="0" i="1" lang="en-US" sz="2400" spc="-1" strike="noStrike">
                <a:solidFill>
                  <a:srgbClr val="99ff99"/>
                </a:solidFill>
                <a:latin typeface="Cataneo BT"/>
              </a:rPr>
              <a:t>H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Cataneo BT"/>
              </a:rPr>
              <a:t>2</a:t>
            </a:r>
            <a:r>
              <a:rPr b="0" i="1" lang="en-US" sz="2400" spc="-1" strike="noStrike">
                <a:solidFill>
                  <a:srgbClr val="99ff99"/>
                </a:solidFill>
                <a:latin typeface="Cataneo BT"/>
              </a:rPr>
              <a:t>O</a:t>
            </a: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 ) – генеральный директор «Химводоканал».       Многие годы работает бок о бок с «Металлам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Cataneo BT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B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      +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  2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O              B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(OH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</a:t>
            </a:r>
            <a:r>
              <a:rPr b="0" lang="en-US" sz="2400" spc="-1" strike="noStrike" baseline="-25000">
                <a:solidFill>
                  <a:srgbClr val="99ff99"/>
                </a:solidFill>
                <a:latin typeface="Cataneo BT"/>
              </a:rPr>
              <a:t>    </a:t>
            </a:r>
            <a:r>
              <a:rPr b="0" lang="ru-RU" sz="2400" spc="-1" strike="noStrike" baseline="-25000">
                <a:solidFill>
                  <a:srgbClr val="99ff99"/>
                </a:solidFill>
                <a:latin typeface="Cataneo BT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taneo BT"/>
              </a:rPr>
              <a:t>гидроксид ба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2.    Растворы кислот – конкурирующая группировка  в химической промышленности. Нередки случаи кровавых разбо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taneo BT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Mg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      +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2 C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COO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1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          Mg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(C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COO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Cataneo BT"/>
              </a:rPr>
              <a:t>3.    </a:t>
            </a: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Соли менее активных металлов в растворе. Общие интересы в банковском  секто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Fe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       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taneo BT"/>
              </a:rPr>
              <a:t>  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Cu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S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4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Fe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S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4  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Cu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ataneo BT"/>
              </a:rPr>
              <a:t>Восстановительная активность металл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Li,Rb,K,Cs,Ba,Sr,Ca,Na,Mg,Be,Al,Mn,Zn,Cr,Fe,Cd,Co,Ni,Sn,Pb (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Comic Sans MS"/>
              </a:rPr>
              <a:t>активность уменьш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Cu,Hg,Ag,Pt,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2843280" y="1989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7" name="Line 5"/>
          <p:cNvSpPr/>
          <p:nvPr/>
        </p:nvSpPr>
        <p:spPr>
          <a:xfrm flipV="1">
            <a:off x="6156360" y="1844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3780000" y="3573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9" name="Line 7"/>
          <p:cNvSpPr/>
          <p:nvPr/>
        </p:nvSpPr>
        <p:spPr>
          <a:xfrm flipV="1">
            <a:off x="7596360" y="3429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3132000" y="47973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324000" y="5805360"/>
            <a:ext cx="835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324000" y="652464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7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Book Antiqua"/>
              </a:rPr>
              <a:t>Главные сферы влияния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cc"/>
                </a:solidFill>
                <a:latin typeface="Georgia"/>
              </a:rPr>
              <a:t>     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Сферы влияния группировки «Металлы» довольно разнообраз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     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Издавна в их руках сосредотачивалась власть в таких отраслях промышленности, как </a:t>
            </a: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металлургия, машиностроение, строительство, химия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. На данный момент всё больше возрастает их роль в сфере </a:t>
            </a: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ядерных и космических технологий, медиц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      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Практически полностью </a:t>
            </a: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минеральная и органическая «жизнь» Земли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 регулируется метал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       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Стоит отметить, что чаще всего  определенная сфера деятельности  находится под контролем определённой группы металлов ( </a:t>
            </a:r>
            <a:r>
              <a:rPr b="0" i="1" lang="ru-RU" sz="2400" spc="-1" strike="noStrike" u="sng">
                <a:solidFill>
                  <a:srgbClr val="ffffcc"/>
                </a:solidFill>
                <a:uFillTx/>
                <a:latin typeface="Georgia"/>
              </a:rPr>
              <a:t>сплавов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), членов группы, работающих по отдельности довольно м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15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1155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115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115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ff"/>
                </a:solidFill>
                <a:latin typeface="Broadway BT"/>
              </a:rPr>
              <a:t>Уважаемые граждане!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Book Antiqua"/>
              </a:rPr>
              <a:t>      </a:t>
            </a:r>
            <a:r>
              <a:rPr b="1" i="1" lang="en-US" sz="2000" spc="-1" strike="noStrike">
                <a:solidFill>
                  <a:srgbClr val="ccccff"/>
                </a:solidFill>
                <a:latin typeface="Book Antiqua"/>
              </a:rPr>
              <a:t>                    </a:t>
            </a: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Если вы владеете информацией о местонахождении кого – либо из членов данной группировки, просьба немедленно сообщить в ближайшее отделение милиции или по телефону: </a:t>
            </a:r>
            <a:r>
              <a:rPr b="1" i="1" lang="ru-RU" sz="3200" spc="-1" strike="noStrike" u="sng">
                <a:solidFill>
                  <a:srgbClr val="ccccff"/>
                </a:solidFill>
                <a:uFillTx/>
                <a:latin typeface="Book Antiqua"/>
              </a:rPr>
              <a:t>259-93-17.</a:t>
            </a: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           </a:t>
            </a: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Ни в коем случае не предпринимайте попытки самостоятельно задержать преступников. Это может стоить вам жизни</a:t>
            </a:r>
            <a:r>
              <a:rPr b="1" i="1" lang="en-US" sz="2800" spc="-1" strike="noStrike">
                <a:solidFill>
                  <a:srgbClr val="ccccff"/>
                </a:solidFill>
                <a:latin typeface="Book Antiqua"/>
              </a:rPr>
              <a:t>!!!</a:t>
            </a: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 И помните, что пособничество незаконопослушным элементам в любой форме   карается законо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281800" cy="48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i="1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Внимание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Monotype Corsiva"/>
              </a:rPr>
              <a:t>, </a:t>
            </a:r>
            <a:r>
              <a:rPr b="1" i="1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внимание!!!</a:t>
            </a: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00"/>
                </a:solidFill>
                <a:latin typeface="Monotype Corsiva"/>
              </a:rPr>
              <a:t>Объявлены в розыск</a:t>
            </a: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  члены группировки </a:t>
            </a:r>
            <a:r>
              <a:rPr b="1" i="1" lang="ru-RU" sz="7200" spc="-1" strike="noStrike">
                <a:solidFill>
                  <a:srgbClr val="ffff00"/>
                </a:solidFill>
                <a:latin typeface="Monotype Corsiva"/>
              </a:rPr>
              <a:t>«Металлы»</a:t>
            </a: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 за участие в противозаконных</a:t>
            </a:r>
            <a:br>
              <a:rPr sz="6600"/>
            </a:b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химических   реакциях!</a:t>
            </a:r>
            <a:br>
              <a:rPr sz="6600"/>
            </a:b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x-files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ourier New"/>
              </a:rPr>
              <a:t>По официальным данным ГУВД г.Перми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99ff"/>
                </a:solidFill>
                <a:latin typeface="Arial"/>
              </a:rPr>
              <a:t>В группировку «Металлы» входят  химические элементы, атомы которых отдают электроны внешнего ( а некоторые и предвнешнего) электронного слоя, превращаясь в положительные ионы. В преступных химических кругах более известны как восстановители</a:t>
            </a:r>
            <a:r>
              <a:rPr b="1" i="1" lang="ru-RU" sz="32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196"/>
                            </p:stCondLst>
                            <p:childTnLst>
                              <p:par>
                                <p:cTn id="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Book Antiqua"/>
              </a:rPr>
              <a:t>Историческая справ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История существования группировки насчитывает не одну сотню лет, «основателями» которой по праву можно считать медь и бронзу. Около 4000 тыс. лет до н.э., некогда ещё никому неизвестные мелкие аферисты,  эти элементы стали приобретать всё больший авторитет в преступном мире. Время их славы и успеха окрестили «бронзовым веком». Впоследствии их приемником стал преуспевающий и амбициозный элемент по кличке «железо». С «железным веком» связано немало громких операций.  С того времени в группировку вступило много новых «профессионалов» своего дела, среди которых есть и зарубежные представители (индий, франций, германий, скандий, галлий и другие). На сегодняшний день  «Металлы»   - это 92 химических элемента, каждый из которых ценится в преступном мире химии за свои исключительные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"/>
                            </p:stCondLst>
                            <p:childTnLst>
                              <p:par>
                                <p:cTn id="41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-63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В соответствии с этим в Периодической системе химических элементов Д.И.Менделеева металлы находятся ниже диагонали бор – астат ( 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s-, p-, d-, f- </a:t>
            </a: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элементы), а также выше неё в побочных подгруппах (переходные или 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d-</a:t>
            </a: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 элементы). Социальный статус и положение членов группировки, самой известной в преступном мире, весьма разнообразно: от влиятельных и состоятельных персон до простых исполн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pm_043"/>
          <p:cNvPicPr/>
          <p:nvPr/>
        </p:nvPicPr>
        <p:blipFill>
          <a:blip r:embed="rId1"/>
          <a:stretch/>
        </p:blipFill>
        <p:spPr>
          <a:xfrm>
            <a:off x="4643280" y="692280"/>
            <a:ext cx="4321440" cy="5473440"/>
          </a:xfrm>
          <a:prstGeom prst="rect">
            <a:avLst/>
          </a:prstGeom>
          <a:ln w="0">
            <a:noFill/>
          </a:ln>
        </p:spPr>
      </p:pic>
    </p:spTree>
  </p:cSld>
  <p:transition advTm="16000"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Organization Chart 6"/>
          <p:cNvGrpSpPr/>
          <p:nvPr/>
        </p:nvGrpSpPr>
        <p:grpSpPr>
          <a:xfrm>
            <a:off x="250200" y="259560"/>
            <a:ext cx="8673120" cy="5916600"/>
            <a:chOff x="250200" y="259560"/>
            <a:chExt cx="8673120" cy="5916600"/>
          </a:xfrm>
        </p:grpSpPr>
        <p:cxnSp>
          <p:nvCxnSpPr>
            <p:cNvPr id="110" name="_s1028"/>
            <p:cNvCxnSpPr>
              <a:stCxn id="111" idx="0"/>
              <a:endCxn id="112" idx="2"/>
            </p:cNvCxnSpPr>
            <p:nvPr/>
          </p:nvCxnSpPr>
          <p:spPr>
            <a:xfrm flipH="1" flipV="1" rot="5400000">
              <a:off x="1133280" y="4687560"/>
              <a:ext cx="188640" cy="3240"/>
            </a:xfrm>
            <a:prstGeom prst="bentConnector3">
              <a:avLst>
                <a:gd name="adj1" fmla="val 49904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3" name="_s1029"/>
            <p:cNvCxnSpPr>
              <a:stCxn id="114" idx="0"/>
              <a:endCxn id="115" idx="2"/>
            </p:cNvCxnSpPr>
            <p:nvPr/>
          </p:nvCxnSpPr>
          <p:spPr>
            <a:xfrm flipV="1">
              <a:off x="3386880" y="4594680"/>
              <a:ext cx="2880" cy="226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6" name="_s1030"/>
            <p:cNvCxnSpPr>
              <a:stCxn id="117" idx="0"/>
              <a:endCxn id="118" idx="2"/>
            </p:cNvCxnSpPr>
            <p:nvPr/>
          </p:nvCxnSpPr>
          <p:spPr>
            <a:xfrm flipV="1">
              <a:off x="5759280" y="4594680"/>
              <a:ext cx="3240" cy="226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9" name="_s1031"/>
            <p:cNvCxnSpPr>
              <a:endCxn id="120" idx="2"/>
            </p:cNvCxnSpPr>
            <p:nvPr/>
          </p:nvCxnSpPr>
          <p:spPr>
            <a:xfrm flipH="1" flipV="1" rot="5400000">
              <a:off x="7762320" y="4680720"/>
              <a:ext cx="317880" cy="2880"/>
            </a:xfrm>
            <a:prstGeom prst="bentConnector3">
              <a:avLst>
                <a:gd name="adj1" fmla="val 35941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1" name="_s1032"/>
            <p:cNvCxnSpPr>
              <a:stCxn id="120" idx="0"/>
              <a:endCxn id="122" idx="2"/>
            </p:cNvCxnSpPr>
            <p:nvPr/>
          </p:nvCxnSpPr>
          <p:spPr>
            <a:xfrm flipH="1" flipV="1" rot="5400000">
              <a:off x="7760880" y="3025440"/>
              <a:ext cx="334800" cy="12960"/>
            </a:xfrm>
            <a:prstGeom prst="bentConnector3">
              <a:avLst>
                <a:gd name="adj1" fmla="val 34230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3" name="_s1033"/>
            <p:cNvCxnSpPr>
              <a:stCxn id="118" idx="0"/>
              <a:endCxn id="124" idx="2"/>
            </p:cNvCxnSpPr>
            <p:nvPr/>
          </p:nvCxnSpPr>
          <p:spPr>
            <a:xfrm flipH="1" flipV="1" rot="5400000">
              <a:off x="5626080" y="3068280"/>
              <a:ext cx="277560" cy="10440"/>
            </a:xfrm>
            <a:prstGeom prst="bentConnector3">
              <a:avLst>
                <a:gd name="adj1" fmla="val 4103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5" name="_s1034"/>
            <p:cNvCxnSpPr>
              <a:stCxn id="115" idx="0"/>
              <a:endCxn id="126" idx="2"/>
            </p:cNvCxnSpPr>
            <p:nvPr/>
          </p:nvCxnSpPr>
          <p:spPr>
            <a:xfrm flipH="1" flipV="1" rot="5400000">
              <a:off x="3107160" y="2930040"/>
              <a:ext cx="561600" cy="2880"/>
            </a:xfrm>
            <a:prstGeom prst="bentConnector3">
              <a:avLst>
                <a:gd name="adj1" fmla="val 2033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7" name="_s1035"/>
            <p:cNvCxnSpPr>
              <a:stCxn id="112" idx="0"/>
              <a:endCxn id="128" idx="2"/>
            </p:cNvCxnSpPr>
            <p:nvPr/>
          </p:nvCxnSpPr>
          <p:spPr>
            <a:xfrm flipH="1" flipV="1" rot="5400000">
              <a:off x="956520" y="2918520"/>
              <a:ext cx="550440" cy="10440"/>
            </a:xfrm>
            <a:prstGeom prst="bentConnector3">
              <a:avLst>
                <a:gd name="adj1" fmla="val 20746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9" name="_s1036"/>
            <p:cNvCxnSpPr>
              <a:stCxn id="122" idx="0"/>
              <a:endCxn id="130" idx="2"/>
            </p:cNvCxnSpPr>
            <p:nvPr/>
          </p:nvCxnSpPr>
          <p:spPr>
            <a:xfrm flipV="1" rot="16200000">
              <a:off x="7656480" y="1551600"/>
              <a:ext cx="548640" cy="7920"/>
            </a:xfrm>
            <a:prstGeom prst="bentConnector3">
              <a:avLst>
                <a:gd name="adj1" fmla="val 20814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1" name="_s1037"/>
            <p:cNvCxnSpPr>
              <a:stCxn id="124" idx="0"/>
              <a:endCxn id="132" idx="2"/>
            </p:cNvCxnSpPr>
            <p:nvPr/>
          </p:nvCxnSpPr>
          <p:spPr>
            <a:xfrm flipV="1" rot="16200000">
              <a:off x="5640840" y="1717560"/>
              <a:ext cx="252360" cy="5760"/>
            </a:xfrm>
            <a:prstGeom prst="bentConnector3">
              <a:avLst>
                <a:gd name="adj1" fmla="val 4542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3" name="_s1038"/>
            <p:cNvCxnSpPr>
              <a:stCxn id="126" idx="0"/>
              <a:endCxn id="134" idx="2"/>
            </p:cNvCxnSpPr>
            <p:nvPr/>
          </p:nvCxnSpPr>
          <p:spPr>
            <a:xfrm flipV="1" rot="16200000">
              <a:off x="3261600" y="1719000"/>
              <a:ext cx="252360" cy="2880"/>
            </a:xfrm>
            <a:prstGeom prst="bentConnector3">
              <a:avLst>
                <a:gd name="adj1" fmla="val 4542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5" name="_s1039"/>
            <p:cNvCxnSpPr>
              <a:stCxn id="128" idx="0"/>
              <a:endCxn id="136" idx="2"/>
            </p:cNvCxnSpPr>
            <p:nvPr/>
          </p:nvCxnSpPr>
          <p:spPr>
            <a:xfrm flipH="1" flipV="1" rot="5400000">
              <a:off x="1035720" y="1626840"/>
              <a:ext cx="403920" cy="2880"/>
            </a:xfrm>
            <a:prstGeom prst="bentConnector3">
              <a:avLst>
                <a:gd name="adj1" fmla="val 2827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7" name="_s1040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6044400" y="-1046880"/>
              <a:ext cx="295560" cy="3469680"/>
            </a:xfrm>
            <a:prstGeom prst="bentConnector3">
              <a:avLst>
                <a:gd name="adj1" fmla="val 3865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9" name="_s1041"/>
            <p:cNvCxnSpPr>
              <a:stCxn id="132" idx="0"/>
              <a:endCxn id="138" idx="2"/>
            </p:cNvCxnSpPr>
            <p:nvPr/>
          </p:nvCxnSpPr>
          <p:spPr>
            <a:xfrm flipV="1" rot="16200000">
              <a:off x="4818240" y="179280"/>
              <a:ext cx="585000" cy="1307160"/>
            </a:xfrm>
            <a:prstGeom prst="bentConnector3">
              <a:avLst>
                <a:gd name="adj1" fmla="val 1951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40" name="_s1042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629880" y="297000"/>
              <a:ext cx="585000" cy="1071720"/>
            </a:xfrm>
            <a:prstGeom prst="bentConnector3">
              <a:avLst>
                <a:gd name="adj1" fmla="val 1951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41" name="_s1043"/>
            <p:cNvCxnSpPr>
              <a:stCxn id="136" idx="0"/>
              <a:endCxn id="138" idx="2"/>
            </p:cNvCxnSpPr>
            <p:nvPr/>
          </p:nvCxnSpPr>
          <p:spPr>
            <a:xfrm flipH="1" flipV="1" rot="5400000">
              <a:off x="2699280" y="-922680"/>
              <a:ext cx="295560" cy="3221640"/>
            </a:xfrm>
            <a:prstGeom prst="bentConnector3">
              <a:avLst>
                <a:gd name="adj1" fmla="val 38658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8" name="_s1044"/>
            <p:cNvSpPr/>
            <p:nvPr/>
          </p:nvSpPr>
          <p:spPr>
            <a:xfrm>
              <a:off x="3419280" y="259560"/>
              <a:ext cx="2077200" cy="267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300" spc="-1" strike="noStrike">
                  <a:solidFill>
                    <a:srgbClr val="ffffff"/>
                  </a:solidFill>
                  <a:latin typeface="Comic Sans MS"/>
                </a:rPr>
                <a:t>МЕТАЛЛЫ</a:t>
              </a:r>
              <a:endParaRPr b="1" lang="en-US" sz="13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36" name="_s1045"/>
            <p:cNvSpPr/>
            <p:nvPr/>
          </p:nvSpPr>
          <p:spPr>
            <a:xfrm>
              <a:off x="475560" y="836280"/>
              <a:ext cx="1524600" cy="576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Щелочные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2625480" y="1125720"/>
              <a:ext cx="1524600" cy="4543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Щелочно-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земельные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32" name="_s1047"/>
            <p:cNvSpPr/>
            <p:nvPr/>
          </p:nvSpPr>
          <p:spPr>
            <a:xfrm>
              <a:off x="5003280" y="1125720"/>
              <a:ext cx="1524600" cy="4543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Переходные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30" name="_s1048"/>
            <p:cNvSpPr/>
            <p:nvPr/>
          </p:nvSpPr>
          <p:spPr>
            <a:xfrm>
              <a:off x="7163640" y="836280"/>
              <a:ext cx="1524600" cy="432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Благородные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8" name="_s1049"/>
            <p:cNvSpPr/>
            <p:nvPr/>
          </p:nvSpPr>
          <p:spPr>
            <a:xfrm>
              <a:off x="250200" y="1843920"/>
              <a:ext cx="1972440" cy="7905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Li, Na, K, Rb, Cs, Fr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6" name="_s1050"/>
            <p:cNvSpPr/>
            <p:nvPr/>
          </p:nvSpPr>
          <p:spPr>
            <a:xfrm>
              <a:off x="2410560" y="1845000"/>
              <a:ext cx="1954800" cy="7920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e, Mg, Ca, Sr, Ba, Ra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4" name="_s1051"/>
            <p:cNvSpPr/>
            <p:nvPr/>
          </p:nvSpPr>
          <p:spPr>
            <a:xfrm>
              <a:off x="4788360" y="1845000"/>
              <a:ext cx="1957680" cy="1075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Амфотерные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соединения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такие, как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l, Zn, Fe, Mn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u 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и др.( 67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элементов)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2" name="_s1052"/>
            <p:cNvSpPr/>
            <p:nvPr/>
          </p:nvSpPr>
          <p:spPr>
            <a:xfrm>
              <a:off x="6948720" y="1843920"/>
              <a:ext cx="1974600" cy="1007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u, Ag, Pt, 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металлы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платиновой группы: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u, Rh, Pd, Ir, Os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2" name="_s1053"/>
            <p:cNvSpPr/>
            <p:nvPr/>
          </p:nvSpPr>
          <p:spPr>
            <a:xfrm>
              <a:off x="322920" y="3212640"/>
              <a:ext cx="1804680" cy="13690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группа главная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одгруппа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(типичные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наиболее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резко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выраженные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металлы)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5" name="_s1054"/>
            <p:cNvSpPr/>
            <p:nvPr/>
          </p:nvSpPr>
          <p:spPr>
            <a:xfrm>
              <a:off x="2483280" y="3212640"/>
              <a:ext cx="1807200" cy="13690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2 группа главная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одгруппа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( не менее известны,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чем щелочные, но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уступают им по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химической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активности) 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8" name="_s1055"/>
            <p:cNvSpPr/>
            <p:nvPr/>
          </p:nvSpPr>
          <p:spPr>
            <a:xfrm>
              <a:off x="4858560" y="3212640"/>
              <a:ext cx="1802160" cy="13690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Элементы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разных групп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обочных подгрупп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таблицы Менделеева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8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0" name="_s1056"/>
            <p:cNvSpPr/>
            <p:nvPr/>
          </p:nvSpPr>
          <p:spPr>
            <a:xfrm>
              <a:off x="7018560" y="3212640"/>
              <a:ext cx="1810080" cy="12952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Серебро, золото-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1 группа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обочная подгруппа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латина и другие –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8 группа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Главная подгруппа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42" name="_s1057"/>
            <p:cNvSpPr/>
            <p:nvPr/>
          </p:nvSpPr>
          <p:spPr>
            <a:xfrm>
              <a:off x="7163640" y="4869000"/>
              <a:ext cx="1584000" cy="13071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Бизнес- элита,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Богатые и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реуспевающие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члены группировки,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казывают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понсорскую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омощь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7" name="_s1058"/>
            <p:cNvSpPr/>
            <p:nvPr/>
          </p:nvSpPr>
          <p:spPr>
            <a:xfrm>
              <a:off x="4858560" y="4821120"/>
              <a:ext cx="1802160" cy="1308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лементы особого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азначения: проявляют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ебя  и как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осстановители,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 как окислители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4" name="_s1059"/>
            <p:cNvSpPr/>
            <p:nvPr/>
          </p:nvSpPr>
          <p:spPr>
            <a:xfrm>
              <a:off x="2483280" y="4821120"/>
              <a:ext cx="1807200" cy="1308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спомогательный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езерв, участники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многих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рупномасштабных 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1" name="_s1060"/>
            <p:cNvSpPr/>
            <p:nvPr/>
          </p:nvSpPr>
          <p:spPr>
            <a:xfrm>
              <a:off x="322920" y="4796640"/>
              <a:ext cx="1804680" cy="13089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сновные силы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группировки, где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браны участники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аиболее активные,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одготовленные и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пытные элементы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</p:grpSp>
    </p:spTree>
  </p:cSld>
  <p:transition advTm="18000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Garamond"/>
              </a:rPr>
              <a:t>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Palatino Linotype"/>
              </a:rPr>
              <a:t>Запомните их в лицо!!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50403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Внешний облик – слабое место  этих элементов :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металлический блеск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 сразу выделяет их из толпы. Однако присущие им исключительные способности и качества позволяют ввести в заблуждение любого, даже самого опытного, оперативника.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Твёрдость, электропроводность, теплопроводность, ковкость, пластичность, рост сопротивления при повышении температуры, «магнитизм»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дают металлам возможность приспосабливаться ко многим экстремальным ситуациям, что затрудняет их поис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2" descr="s_009i"/>
          <p:cNvPicPr/>
          <p:nvPr/>
        </p:nvPicPr>
        <p:blipFill>
          <a:blip r:embed="rId1"/>
          <a:stretch/>
        </p:blipFill>
        <p:spPr>
          <a:xfrm>
            <a:off x="5580000" y="765000"/>
            <a:ext cx="3384720" cy="3961080"/>
          </a:xfrm>
          <a:prstGeom prst="rect">
            <a:avLst/>
          </a:prstGeom>
          <a:ln w="0">
            <a:noFill/>
          </a:ln>
        </p:spPr>
      </p:pic>
      <p:pic>
        <p:nvPicPr>
          <p:cNvPr id="146" name="WordArt 13" descr=""/>
          <p:cNvPicPr/>
          <p:nvPr/>
        </p:nvPicPr>
        <p:blipFill>
          <a:blip r:embed="rId2"/>
          <a:stretch/>
        </p:blipFill>
        <p:spPr>
          <a:xfrm>
            <a:off x="5353200" y="4932360"/>
            <a:ext cx="382104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3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ParkAvenue BT"/>
              </a:rPr>
              <a:t>Будьте осторожны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10" descr="5545_001"/>
          <p:cNvPicPr/>
          <p:nvPr/>
        </p:nvPicPr>
        <p:blipFill>
          <a:blip r:embed="rId1"/>
          <a:srcRect l="0" t="0" r="50895" b="0"/>
          <a:stretch/>
        </p:blipFill>
        <p:spPr>
          <a:xfrm>
            <a:off x="179280" y="907920"/>
            <a:ext cx="2089080" cy="21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5545_002"/>
          <p:cNvPicPr/>
          <p:nvPr/>
        </p:nvPicPr>
        <p:blipFill>
          <a:blip r:embed="rId2"/>
          <a:stretch/>
        </p:blipFill>
        <p:spPr>
          <a:xfrm>
            <a:off x="250920" y="4292640"/>
            <a:ext cx="4038480" cy="2023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40000" y="907560"/>
            <a:ext cx="500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a1a1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Способности металлов обуславливаются их внутренним строением от рождения. Атомы металлов имеют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от 1 до 3 электронов на внешнем слое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 и сравнительно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большие радиусы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, поэтому они хорошие восстановители.Внутреннее устройство этих элементов представляет собой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металлическую кристал-лическую решётку</a:t>
            </a:r>
            <a:r>
              <a:rPr b="0" lang="ru-RU" sz="18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 атом - ионы  которой связаны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металлической(бездушной) связью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, что обеспечивает её прочность и стабильность. Поэтому они безжалостно и равнодушно убирают ненужных свидетелей, а взывать к  их чувствам бесполезно. Некоторые металлы могут принимать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различные  кристаллические формы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. Криминалисты называют эту способность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аллотропией</a:t>
            </a:r>
            <a:r>
              <a:rPr b="0" lang="ru-RU" sz="1800" spc="-1" strike="noStrike">
                <a:solidFill>
                  <a:srgbClr val="ff0000"/>
                </a:solidFill>
                <a:latin typeface="Georgia"/>
              </a:rPr>
              <a:t>, 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которая обеспечивает первоклассную маскировку и невозможность обнаружения без специальных прибо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WordArt 11" descr=""/>
          <p:cNvPicPr/>
          <p:nvPr/>
        </p:nvPicPr>
        <p:blipFill>
          <a:blip r:embed="rId3"/>
          <a:stretch/>
        </p:blipFill>
        <p:spPr>
          <a:xfrm>
            <a:off x="2262240" y="1695600"/>
            <a:ext cx="2200320" cy="955440"/>
          </a:xfrm>
          <a:prstGeom prst="rect">
            <a:avLst/>
          </a:prstGeom>
          <a:ln w="0">
            <a:noFill/>
          </a:ln>
        </p:spPr>
      </p:pic>
      <p:pic>
        <p:nvPicPr>
          <p:cNvPr id="152" name="WordArt 17" descr=""/>
          <p:cNvPicPr/>
          <p:nvPr/>
        </p:nvPicPr>
        <p:blipFill>
          <a:blip r:embed="rId4"/>
          <a:stretch/>
        </p:blipFill>
        <p:spPr>
          <a:xfrm>
            <a:off x="171360" y="3565440"/>
            <a:ext cx="4145040" cy="4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ff"/>
                </a:solidFill>
                <a:latin typeface="Georgia"/>
              </a:rPr>
              <a:t>Самые известные криминальные разборки с участием «Металлов»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1.конфликт с кислородом( О</a:t>
            </a:r>
            <a:r>
              <a:rPr b="1" i="1" lang="ru-RU" sz="24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 )за сферы вли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 результате образуются как оксиды(основные и амфотерные), так и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ероксиды(щелочные Ме, кром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i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N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+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N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1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1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(пероксид натр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C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+ 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C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оксид кальция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,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                                    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основный окси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A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+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0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A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3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2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Оксид алюми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амфотерный окси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484360" y="3357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340000" y="414972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411280" y="5373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7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7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7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7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7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70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70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vuch2</cp:lastModifiedBy>
  <dcterms:modified xsi:type="dcterms:W3CDTF">2012-12-13T07:31:39Z</dcterms:modified>
  <cp:revision>15</cp:revision>
  <dc:subject/>
  <dc:title>PowerPoint Presentation</dc:title>
</cp:coreProperties>
</file>