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gif" ContentType="image/gif"/>
  <Override PartName="/ppt/media/image14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AFF2-236F-4551-AA1A-7CEFE8C28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1C8B-A97A-4741-B200-67AB3C121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D85D-B3EE-4E08-9F27-21F59852D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9414-337E-4C65-9996-0E2C2990F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77F21-B1D3-4128-AA4F-EB73A0671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20505-BC29-438E-A3CE-F26C0008A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D6374-7A8B-4F88-A7A6-763E0A895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D3A09-27CA-4B5F-A112-8DD8F9F18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CD4CE-8A0B-4C16-8783-C9D42C6B3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A7259-5C3E-4959-9544-7C523C8FD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4A936-D346-440B-B493-21C38822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1104-8736-49A1-9840-814167A14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A76EB-35D2-401F-87E6-423288D6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0918A-51C5-4FF0-B4E0-74B0676D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66B9B-7DD2-4E5A-82A1-07C38976C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6C842-DA94-44A6-AF48-546A04D56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C51E7-D1D0-435D-A141-7EA31B4D3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99DE-438F-4D6C-9DFC-9618BE3F1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A7B4-CB7C-428D-8FED-1932F1388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7BEA-5DC8-48B7-B7D8-980F8797E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005D-A4A0-400B-9392-AE354E3E8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4785-E54D-4B8E-B4AF-9993406A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609C-B134-45C1-85E2-FAAB5759B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790A-E97F-4552-A4CB-F1E41188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c1d1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A1FB51A-1A54-4620-87E0-AC1DC6A8DCF9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c1d1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9D807A5-6D02-4CD6-B3E4-F46D0DB72D24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040" cy="4652640"/>
          </a:xfrm>
          <a:prstGeom prst="rect">
            <a:avLst/>
          </a:prstGeom>
          <a:solidFill>
            <a:schemeClr val="accent5"/>
          </a:solidFill>
          <a:ln w="25560">
            <a:solidFill>
              <a:srgbClr val="377f92"/>
            </a:solidFill>
            <a:round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lt1"/>
                </a:solidFill>
                <a:latin typeface="Calibri"/>
              </a:rPr>
              <a:t>3 класс</a:t>
            </a:r>
            <a:br>
              <a:rPr sz="4400"/>
            </a:br>
            <a:r>
              <a:rPr b="0" lang="en-US" sz="4400" spc="-1" strike="noStrike">
                <a:solidFill>
                  <a:schemeClr val="lt1"/>
                </a:solidFill>
                <a:latin typeface="Calibri"/>
              </a:rPr>
              <a:t>MUCH  -  MANY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WEETS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Z:\Internet\Рабочий стол\Конфеты Белочка.jpg"/>
          <p:cNvPicPr/>
          <p:nvPr/>
        </p:nvPicPr>
        <p:blipFill>
          <a:blip r:embed="rId1"/>
          <a:stretch/>
        </p:blipFill>
        <p:spPr>
          <a:xfrm>
            <a:off x="1071360" y="1285920"/>
            <a:ext cx="6846480" cy="52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TATO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7" descr=""/>
          <p:cNvPicPr/>
          <p:nvPr/>
        </p:nvPicPr>
        <p:blipFill>
          <a:blip r:embed="rId1"/>
          <a:stretch/>
        </p:blipFill>
        <p:spPr>
          <a:xfrm>
            <a:off x="2214720" y="1357200"/>
            <a:ext cx="4714560" cy="53492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FFEE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Z:\Internet\Рабочий стол\кофе.jpg"/>
          <p:cNvPicPr/>
          <p:nvPr/>
        </p:nvPicPr>
        <p:blipFill>
          <a:blip r:embed="rId1"/>
          <a:stretch/>
        </p:blipFill>
        <p:spPr>
          <a:xfrm>
            <a:off x="785880" y="1357200"/>
            <a:ext cx="7499520" cy="50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A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Z:\Internet\Рабочий стол\чай.jpg"/>
          <p:cNvPicPr/>
          <p:nvPr/>
        </p:nvPicPr>
        <p:blipFill>
          <a:blip r:embed="rId1"/>
          <a:stretch/>
        </p:blipFill>
        <p:spPr>
          <a:xfrm>
            <a:off x="1357200" y="1143000"/>
            <a:ext cx="6643440" cy="55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KE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Z:\Internet\Рабочий стол\торт.jpg"/>
          <p:cNvPicPr/>
          <p:nvPr/>
        </p:nvPicPr>
        <p:blipFill>
          <a:blip r:embed="rId1"/>
          <a:stretch/>
        </p:blipFill>
        <p:spPr>
          <a:xfrm>
            <a:off x="1618560" y="1600200"/>
            <a:ext cx="5906160" cy="45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LK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C:\Downloads\moloko.jpg"/>
          <p:cNvPicPr/>
          <p:nvPr/>
        </p:nvPicPr>
        <p:blipFill>
          <a:blip r:embed="rId1"/>
          <a:stretch/>
        </p:blipFill>
        <p:spPr>
          <a:xfrm>
            <a:off x="1821240" y="1500120"/>
            <a:ext cx="5896440" cy="44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UTTER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C:\Downloads\МАСЛО.gif"/>
          <p:cNvPicPr/>
          <p:nvPr/>
        </p:nvPicPr>
        <p:blipFill>
          <a:blip r:embed="rId1"/>
          <a:stretch/>
        </p:blipFill>
        <p:spPr>
          <a:xfrm>
            <a:off x="1643040" y="1572120"/>
            <a:ext cx="585756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2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ПИШИ СЛОВА В ДВЕ КОЛОНКИ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NY             MUCH        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TATO                    TEA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AT                        CUCUMBER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FFEE                     SWEETS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KE                         CHEESE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EAD                       APPLE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LK                          CARRO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MATO                   BUTTER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BBAGE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OU ARE VERY CLEVER CHILDREN!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C:\Downloads\учет школьников.gif"/>
          <p:cNvPicPr/>
          <p:nvPr/>
        </p:nvPicPr>
        <p:blipFill>
          <a:blip r:embed="rId1"/>
          <a:stretch/>
        </p:blipFill>
        <p:spPr>
          <a:xfrm>
            <a:off x="895320" y="1190880"/>
            <a:ext cx="6390720" cy="496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MATO      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Z:\Internet\Рабочий стол\помидоры.jpg"/>
          <p:cNvPicPr/>
          <p:nvPr/>
        </p:nvPicPr>
        <p:blipFill>
          <a:blip r:embed="rId1"/>
          <a:stretch/>
        </p:blipFill>
        <p:spPr>
          <a:xfrm>
            <a:off x="1554840" y="1600200"/>
            <a:ext cx="6034320" cy="45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CUMBER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Z:\Internet\Рабочий стол\огурцы.jpg"/>
          <p:cNvPicPr/>
          <p:nvPr/>
        </p:nvPicPr>
        <p:blipFill>
          <a:blip r:embed="rId1"/>
          <a:stretch/>
        </p:blipFill>
        <p:spPr>
          <a:xfrm>
            <a:off x="2080440" y="1428840"/>
            <a:ext cx="4627800" cy="45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E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Z:\Internet\Рабочий стол\яблоки.gif"/>
          <p:cNvPicPr/>
          <p:nvPr/>
        </p:nvPicPr>
        <p:blipFill>
          <a:blip r:embed="rId1"/>
          <a:stretch/>
        </p:blipFill>
        <p:spPr>
          <a:xfrm>
            <a:off x="2786040" y="1203120"/>
            <a:ext cx="485748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READ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Z:\Internet\Рабочий стол\хлеб.jpg"/>
          <p:cNvPicPr/>
          <p:nvPr/>
        </p:nvPicPr>
        <p:blipFill>
          <a:blip r:embed="rId1"/>
          <a:stretch/>
        </p:blipFill>
        <p:spPr>
          <a:xfrm>
            <a:off x="1428840" y="1500120"/>
            <a:ext cx="6293520" cy="47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AT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Z:\Internet\Рабочий стол\мясо.jpg"/>
          <p:cNvPicPr/>
          <p:nvPr/>
        </p:nvPicPr>
        <p:blipFill>
          <a:blip r:embed="rId1"/>
          <a:stretch/>
        </p:blipFill>
        <p:spPr>
          <a:xfrm>
            <a:off x="1071360" y="1428840"/>
            <a:ext cx="6285960" cy="45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EESE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Z:\Internet\Рабочий стол\сыр.jpg"/>
          <p:cNvPicPr/>
          <p:nvPr/>
        </p:nvPicPr>
        <p:blipFill>
          <a:blip r:embed="rId1"/>
          <a:stretch/>
        </p:blipFill>
        <p:spPr>
          <a:xfrm>
            <a:off x="1857240" y="1291320"/>
            <a:ext cx="5423400" cy="542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RROT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Z:\Internet\Рабочий стол\морковка.jpg"/>
          <p:cNvPicPr/>
          <p:nvPr/>
        </p:nvPicPr>
        <p:blipFill>
          <a:blip r:embed="rId1"/>
          <a:stretch/>
        </p:blipFill>
        <p:spPr>
          <a:xfrm>
            <a:off x="1143000" y="1428840"/>
            <a:ext cx="6821640" cy="489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BBAGE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Z:\Internet\Рабочий стол\капуста.jpg"/>
          <p:cNvPicPr/>
          <p:nvPr/>
        </p:nvPicPr>
        <p:blipFill>
          <a:blip r:embed="rId1"/>
          <a:stretch/>
        </p:blipFill>
        <p:spPr>
          <a:xfrm>
            <a:off x="1357200" y="1285920"/>
            <a:ext cx="5928840" cy="50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  <Words>43</Words>
  <Paragraphs>26</Paragraphs>
  <Company>Home Lab Inc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4T12:46:37Z</dcterms:created>
  <dc:creator>Internet</dc:creator>
  <dc:description/>
  <dc:language>en-US</dc:language>
  <cp:lastModifiedBy>user</cp:lastModifiedBy>
  <dcterms:modified xsi:type="dcterms:W3CDTF">2015-01-28T18:51:30Z</dcterms:modified>
  <cp:revision>7</cp:revision>
  <dc:subject/>
  <dc:title>3 класс MUCH  -  MAN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8</vt:r8>
  </property>
</Properties>
</file>