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0B7-CFFF-4A3B-B197-416BA9E9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B9B-D6DE-4598-989E-85E1DE3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6FB-3AB1-48E3-A1AB-CA51F4AE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011-063A-4C9C-8EF2-6408315C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C2E9-51BD-4EE9-A8AC-B1024CBE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7F0F-AEBE-4B10-9DFF-55501534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B262-9F8D-42D2-BD40-224C3789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7E96-625A-4BC4-B8B3-28ED03EB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C2E8-FC80-4200-A2D7-D4BF3DA3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D31A-90B9-4D91-B75D-F05851C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FE40-CB09-4246-A055-0BB601E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6BB-EF09-4789-B86C-329C346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E838-BA7A-4F1D-9850-4A8F85A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9BAB-00DB-4CCD-9E85-DB3AC9FC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170B-C582-44E0-9FAA-53EA29DE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66C4-6EE5-42A5-966C-117F6797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FD19-02DF-4C34-A826-CE550103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919-BD50-4FC9-8D10-4F55F7C7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AE4-13F6-48FC-BE9F-B86FD218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E98-D5A5-4EC5-AAB2-6D939FC6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966-AEA5-4BCF-9796-66B8571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642-2076-4CF1-8F02-A6C6659A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915-9DD2-49AA-8135-65CCC1B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0C8-0E35-44DB-A6C1-6A53ADF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E5EF11-0A5B-4C26-8A33-BDADA3DD4E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3BF0A1-CC26-420D-A877-BB262713E46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46526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377f92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3 класс</a:t>
            </a:r>
            <a:br>
              <a:rPr sz="4400"/>
            </a:b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MUCH  -  MAN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EET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Z:\Internet\Рабочий стол\Конфеты Белочка.jpg"/>
          <p:cNvPicPr/>
          <p:nvPr/>
        </p:nvPicPr>
        <p:blipFill>
          <a:blip r:embed="rId1"/>
          <a:stretch/>
        </p:blipFill>
        <p:spPr>
          <a:xfrm>
            <a:off x="1071360" y="1285920"/>
            <a:ext cx="6846480" cy="52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2214720" y="1357200"/>
            <a:ext cx="4714560" cy="534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FFE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Z:\Internet\Рабочий стол\кофе.jpg"/>
          <p:cNvPicPr/>
          <p:nvPr/>
        </p:nvPicPr>
        <p:blipFill>
          <a:blip r:embed="rId1"/>
          <a:stretch/>
        </p:blipFill>
        <p:spPr>
          <a:xfrm>
            <a:off x="785880" y="1357200"/>
            <a:ext cx="7499520" cy="50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Z:\Internet\Рабочий стол\чай.jpg"/>
          <p:cNvPicPr/>
          <p:nvPr/>
        </p:nvPicPr>
        <p:blipFill>
          <a:blip r:embed="rId1"/>
          <a:stretch/>
        </p:blipFill>
        <p:spPr>
          <a:xfrm>
            <a:off x="1357200" y="1143000"/>
            <a:ext cx="6643440" cy="55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K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Z:\Internet\Рабочий стол\торт.jpg"/>
          <p:cNvPicPr/>
          <p:nvPr/>
        </p:nvPicPr>
        <p:blipFill>
          <a:blip r:embed="rId1"/>
          <a:stretch/>
        </p:blipFill>
        <p:spPr>
          <a:xfrm>
            <a:off x="1618560" y="1600200"/>
            <a:ext cx="590616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Downloads\moloko.jpg"/>
          <p:cNvPicPr/>
          <p:nvPr/>
        </p:nvPicPr>
        <p:blipFill>
          <a:blip r:embed="rId1"/>
          <a:stretch/>
        </p:blipFill>
        <p:spPr>
          <a:xfrm>
            <a:off x="1821240" y="1500120"/>
            <a:ext cx="589644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T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wnloads\МАСЛО.gif"/>
          <p:cNvPicPr/>
          <p:nvPr/>
        </p:nvPicPr>
        <p:blipFill>
          <a:blip r:embed="rId1"/>
          <a:stretch/>
        </p:blipFill>
        <p:spPr>
          <a:xfrm>
            <a:off x="1643040" y="1572120"/>
            <a:ext cx="58575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ИШИ СЛОВА В ДВЕ КОЛОНК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            MUCH       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                   TEA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T                        CUCUMB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FFEE                     SWEET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KE                         CHEES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D                       APPL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K                          CARRO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ATO                   BUTT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BAG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VERY CLEVER CHILDREN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wnloads\учет школьников.gif"/>
          <p:cNvPicPr/>
          <p:nvPr/>
        </p:nvPicPr>
        <p:blipFill>
          <a:blip r:embed="rId1"/>
          <a:stretch/>
        </p:blipFill>
        <p:spPr>
          <a:xfrm>
            <a:off x="895320" y="1190880"/>
            <a:ext cx="6390720" cy="49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MATO      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Z:\Internet\Рабочий стол\помидоры.jpg"/>
          <p:cNvPicPr/>
          <p:nvPr/>
        </p:nvPicPr>
        <p:blipFill>
          <a:blip r:embed="rId1"/>
          <a:stretch/>
        </p:blipFill>
        <p:spPr>
          <a:xfrm>
            <a:off x="1554840" y="1600200"/>
            <a:ext cx="603432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CUMB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Z:\Internet\Рабочий стол\огурцы.jpg"/>
          <p:cNvPicPr/>
          <p:nvPr/>
        </p:nvPicPr>
        <p:blipFill>
          <a:blip r:embed="rId1"/>
          <a:stretch/>
        </p:blipFill>
        <p:spPr>
          <a:xfrm>
            <a:off x="2080440" y="1428840"/>
            <a:ext cx="462780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Z:\Internet\Рабочий стол\яблоки.gif"/>
          <p:cNvPicPr/>
          <p:nvPr/>
        </p:nvPicPr>
        <p:blipFill>
          <a:blip r:embed="rId1"/>
          <a:stretch/>
        </p:blipFill>
        <p:spPr>
          <a:xfrm>
            <a:off x="2786040" y="1203120"/>
            <a:ext cx="48574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Z:\Internet\Рабочий стол\хлеб.jpg"/>
          <p:cNvPicPr/>
          <p:nvPr/>
        </p:nvPicPr>
        <p:blipFill>
          <a:blip r:embed="rId1"/>
          <a:stretch/>
        </p:blipFill>
        <p:spPr>
          <a:xfrm>
            <a:off x="1428840" y="1500120"/>
            <a:ext cx="629352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Z:\Internet\Рабочий стол\мясо.jpg"/>
          <p:cNvPicPr/>
          <p:nvPr/>
        </p:nvPicPr>
        <p:blipFill>
          <a:blip r:embed="rId1"/>
          <a:stretch/>
        </p:blipFill>
        <p:spPr>
          <a:xfrm>
            <a:off x="1071360" y="1428840"/>
            <a:ext cx="628596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ES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Z:\Internet\Рабочий стол\сыр.jpg"/>
          <p:cNvPicPr/>
          <p:nvPr/>
        </p:nvPicPr>
        <p:blipFill>
          <a:blip r:embed="rId1"/>
          <a:stretch/>
        </p:blipFill>
        <p:spPr>
          <a:xfrm>
            <a:off x="1857240" y="1291320"/>
            <a:ext cx="5423400" cy="542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O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Z:\Internet\Рабочий стол\морковка.jpg"/>
          <p:cNvPicPr/>
          <p:nvPr/>
        </p:nvPicPr>
        <p:blipFill>
          <a:blip r:embed="rId1"/>
          <a:stretch/>
        </p:blipFill>
        <p:spPr>
          <a:xfrm>
            <a:off x="1143000" y="1428840"/>
            <a:ext cx="682164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BAG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Z:\Internet\Рабочий стол\капуста.jpg"/>
          <p:cNvPicPr/>
          <p:nvPr/>
        </p:nvPicPr>
        <p:blipFill>
          <a:blip r:embed="rId1"/>
          <a:stretch/>
        </p:blipFill>
        <p:spPr>
          <a:xfrm>
            <a:off x="1357200" y="1285920"/>
            <a:ext cx="592884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  <Words>43</Words>
  <Paragraphs>26</Paragraphs>
  <Company>Home Lab In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2:46:37Z</dcterms:created>
  <dc:creator>Internet</dc:creator>
  <dc:description/>
  <dc:language>en-US</dc:language>
  <cp:lastModifiedBy>user</cp:lastModifiedBy>
  <dcterms:modified xsi:type="dcterms:W3CDTF">2015-01-28T18:51:30Z</dcterms:modified>
  <cp:revision>7</cp:revision>
  <dc:subject/>
  <dc:title>3 класс MUCH  -  MA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