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654C-A519-41B9-88FB-2562C47F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B714-76C2-4AED-A88E-AA38A1B4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E6BE-9D5A-4CCB-984F-8B4671BC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427A-A31C-4DD1-9147-11228EC0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0737-4A8A-4583-B040-58975381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9DAA-56D6-48BC-9E1C-F750C6EF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CF3B-A538-4E6E-8514-90EA7E7E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422E-82C4-40F0-BD92-FE7F4F56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9D60-CB3C-4DB1-AA6C-51FCAC00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7AB2-0191-47A1-A831-70E5F37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2C5C-210C-475A-9161-3CF6F91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3961-4AB8-4E56-A0EB-A40F8FD1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9D76-A953-40C1-A02C-75745C79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F6C-6944-418D-AC0E-4DB49C70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59D3-9AC6-4221-A0A9-45D43A79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FE71-BB05-483A-9A73-9DFE4AB8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CBF7-2DF7-43C5-B179-4313B19C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A1A8-991D-4683-8BE8-AC31BF7B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3D32-8C93-45A3-BB71-EE576961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01CF-443D-4C0C-958D-9D5D1898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14D0-A3B0-420F-9663-E914AFC1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450A-6F5E-42A3-8E76-AD88231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07FD-02EE-4829-BE65-CF7064B6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C7BC-ECE9-4238-B325-C7A61E2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9582-3943-48F3-93FD-1A8A04F0F9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9C5C-A7D5-4380-9D3A-BD8A24FEE0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116000" y="1557360"/>
            <a:ext cx="658800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ВОРИМ О ВРЕДЕ КУР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085040" y="260280"/>
            <a:ext cx="50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одительское собрание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1"/>
          <p:cNvPicPr/>
          <p:nvPr/>
        </p:nvPicPr>
        <p:blipFill>
          <a:blip r:embed="rId1"/>
          <a:stretch/>
        </p:blipFill>
        <p:spPr>
          <a:xfrm>
            <a:off x="-324000" y="4078440"/>
            <a:ext cx="2954520" cy="27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Влияние курения на плод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822f6eee8304f6775ae749c0a3980746"/>
          <p:cNvPicPr/>
          <p:nvPr/>
        </p:nvPicPr>
        <p:blipFill>
          <a:blip r:embed="rId1"/>
          <a:stretch/>
        </p:blipFill>
        <p:spPr>
          <a:xfrm>
            <a:off x="0" y="1125360"/>
            <a:ext cx="3781440" cy="5732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780000" y="1052640"/>
            <a:ext cx="536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и, родившиеся у матерей, имели пониженный коэффициент интеллектуального разви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слородное голодание пл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ансы преждевременных родов увеличиваются в 2 раз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явление раковых опухолей у пл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зические и умственные отклон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рящая женщина может стать аллергиком и передать эту склонность будущему ребен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нижение  роста  и  веса  пл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ожденные дефекты головного мозга, сердц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нижение   иммунит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ск синдрома внезапной смертности новорожденного (СВДС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1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1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Преимущества жизни без никот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Без имени-1"/>
          <p:cNvPicPr/>
          <p:nvPr/>
        </p:nvPicPr>
        <p:blipFill>
          <a:blip r:embed="rId1"/>
          <a:stretch/>
        </p:blipFill>
        <p:spPr>
          <a:xfrm>
            <a:off x="4788000" y="765000"/>
            <a:ext cx="4327560" cy="6093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24000" y="11253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шь через 20 минут, прошедших с момента выкуривания последней сигареты, организм начинает процесс восстановления. Улучшается циркуляция крови, температура конечностей (кистей рук и ступней ног) возвращается к норм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но через 8 часов после отказа от курения уровень оксида углерода в крови падает, а уровень кислорода существенно увеличивается. Курение препятствует нормальному функционированию мозга и мускулов за счет снижения уровня кислорода до минимального уровня. Так называемое "дыхание курильщика" (неприятный запах из ротовой полости, хрипы, кашель) становится менее выражен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7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J0189242"/>
          <p:cNvPicPr/>
          <p:nvPr/>
        </p:nvPicPr>
        <p:blipFill>
          <a:blip r:embed="rId1"/>
          <a:stretch/>
        </p:blipFill>
        <p:spPr>
          <a:xfrm>
            <a:off x="0" y="1916280"/>
            <a:ext cx="3457440" cy="38178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0" y="47628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Хочешь жить –бросай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ури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140360" y="0"/>
            <a:ext cx="561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умб, который Христофор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не ведал, что творил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ало утекло с тех по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в дым сизый наших сил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 слаще аромата роз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табачный перегар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в дыме том: инфаркт, склероз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рак легких и кат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лично бросил, не кур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я бодр и полон сил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ной Минздрав благодар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что он предупреди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ящий, извини мен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за грустный каламбур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ью с нынешнего дн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         объявим переку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нтернет - источни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http://nsportal.ru/shkola/rabota-s-roditelyami/library/2014/01/30/tematicheskoe-sobranie-po-profilaktike-vrednyk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http://festival.1september.ru/articles/313501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http://kzbydocs.com/docs/324/index-28445-1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ttp://www.myshared.ru/slide/377950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який курящий должен знать и помнить, что он отравляет не только себя, но и других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А.Семаш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Курильщик впускает в свои уста врага, который похищает моз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нглийская народная поговорка)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От курения тупеешь, оно несовместимо с творческой работой»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.Ге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Табак … неизбежно ослабляет энергию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оре де Бальза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 Один курит – весь дом болеет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одная мудр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______36"/>
          <p:cNvPicPr/>
          <p:nvPr/>
        </p:nvPicPr>
        <p:blipFill>
          <a:blip r:embed="rId1"/>
          <a:stretch/>
        </p:blipFill>
        <p:spPr>
          <a:xfrm>
            <a:off x="0" y="3500280"/>
            <a:ext cx="277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1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10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3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42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13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39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92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26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460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910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532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урить иль не курит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проса в этом 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люди не хотя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умный знать ответ…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тов Л. Ф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oigetia31"/>
          <p:cNvPicPr/>
          <p:nvPr/>
        </p:nvPicPr>
        <p:blipFill>
          <a:blip r:embed="rId1"/>
          <a:stretch/>
        </p:blipFill>
        <p:spPr>
          <a:xfrm>
            <a:off x="250920" y="2060640"/>
            <a:ext cx="4754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4" descr="Raznoe7620138vphon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979640" y="0"/>
            <a:ext cx="583236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рить иль не курить — вопроса в этом не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люди не хотят разумный знать ответ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ла от курящих на Земле так стало много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растревожило курение и Бога.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Землю Бог с небес задумчиво гляди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ам с собою тихо говорит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очарован ныне я моим создание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мнил: мой Homo мне поможет в Созидань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Homo ничего вокруг себя не люби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амого себя он зельем гадким губи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Землю превратил в подобье Ад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вот мне от него, за Жизнь ему, наград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Homo ведь Земля Эдемом называлас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множество зверья здесь жизнью наслаждалось.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чем не кончил я Творить, создав Мартышку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орна, весела, хоть и слаба умишком.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нец творенья!? — Нет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ля мне ныне неприятна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й Богу, вижу я: есть и на Боге пятна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сделал я свою с изъяно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лает снова стать мой Homo обезъяной.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4222800" cy="6381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356000" y="476280"/>
            <a:ext cx="478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данным ВОЗ, каждые 6,5 сек  кто-нибудь умирает от табакокур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, которые начинают курить в подростковом возрасте умирают на 20-25 лет раньше, чем те которые не кури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Какой гадости только не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5" descr="skeleton 7"/>
          <p:cNvPicPr/>
          <p:nvPr/>
        </p:nvPicPr>
        <p:blipFill>
          <a:blip r:embed="rId1"/>
          <a:stretch/>
        </p:blipFill>
        <p:spPr>
          <a:xfrm>
            <a:off x="755640" y="1628640"/>
            <a:ext cx="2082960" cy="4530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3995640" y="13413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ыме табака содержится более 30 ядовитых вещест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икот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углекислый газ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кись углерод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инильная кисло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аммиа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молистые вещест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органические кислоты и друг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и них важно отметить две группы веществ, опасных для человека, - никотин и изопренои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Последствия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 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кур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4" descr="3f1533945333"/>
          <p:cNvPicPr/>
          <p:nvPr/>
        </p:nvPicPr>
        <p:blipFill>
          <a:blip r:embed="rId1"/>
          <a:stretch/>
        </p:blipFill>
        <p:spPr>
          <a:xfrm>
            <a:off x="0" y="981000"/>
            <a:ext cx="4140360" cy="5877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4284720" y="836640"/>
            <a:ext cx="4572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теря воло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ара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рщ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теря сл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ниение зуб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еопор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зни серд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зва желу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:легких,носа,язы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отки,горла,желудка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к,мочевог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зыря, толстой кишки ,груди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9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9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9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9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9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9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29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49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69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9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9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Последствия</a:t>
            </a: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кур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Без имени-t1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8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Цифры и факт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Ежедневно в  мире табак убива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8 тысяч люд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ссии курят 58 % мужчин и 12 % женщин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ут курильщики в среднем на 10-12 лет меньше своих сверст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жедневно 700 россиян умирает от болезней, вызванных курением, причем половина курильщиков умирает в трудоспособном возрас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ходы на «курево» занимают 15-20 % семейного бюдж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й возраст начинающих курильщиков в России – 11 л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ире проживает 1,1 миллиарда курильщ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1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1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1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1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11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1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1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71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01:19Z</dcterms:created>
  <dc:creator>ВЛАДИМИР</dc:creator>
  <dc:description/>
  <dc:language>en-US</dc:language>
  <cp:lastModifiedBy>ADMIN</cp:lastModifiedBy>
  <dcterms:modified xsi:type="dcterms:W3CDTF">2015-01-28T03:55:27Z</dcterms:modified>
  <cp:revision>21</cp:revision>
  <dc:subject/>
  <dc:title>Слайд 1</dc:title>
</cp:coreProperties>
</file>