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C586-1750-4BF7-925C-061F45CC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E716-474D-4F25-A029-8EE9B245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3622-8E24-481A-82DF-61D0090C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4635-A005-4366-99C2-D0B86DA3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414D-300F-4C4C-A7E5-58C9101A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FCCD-AC32-4C56-9494-D5930903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4D1E-5F0E-4206-8E91-FE89F9C6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C3E3-80DC-4F80-84B8-7FB5E09A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B11E-B46E-4947-A9E0-9AAD9782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2555-D0B2-4E77-80E2-3190C9B1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0514-4682-46BE-B0AA-6A381FCF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3577-F166-4289-958B-28DBD1D9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58CB-AFFB-4708-86C6-0898EDF4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6A45-B5A8-44E6-8F19-55B49BBB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12CA-E802-4551-8C93-2CFA77D0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9C30-54DA-4BCD-BF80-9276D83B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9EC1-CFA0-4B6F-AAC8-05FCC9F5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5DD9-E612-4031-A26B-1F3F45FC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327E-DBB0-4303-8865-8B7C422D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827A-AC27-49A2-95A7-025C8079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ACDF-9988-4DB7-863F-CDB9AE98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EEBD-FE32-47C9-84A7-2DE73A02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EDA7-1D20-4635-9BF6-7AF1470C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AC15-5EC9-414D-9762-3C90D536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ECE3-58C2-4F69-BBD4-78CBB9BE55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C0F4-C428-45F2-9320-17F556CDF08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116000" y="1557360"/>
            <a:ext cx="658800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ВОРИМ О ВРЕДЕ КУР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085040" y="260280"/>
            <a:ext cx="50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одительское собрание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1"/>
          <p:cNvPicPr/>
          <p:nvPr/>
        </p:nvPicPr>
        <p:blipFill>
          <a:blip r:embed="rId1"/>
          <a:stretch/>
        </p:blipFill>
        <p:spPr>
          <a:xfrm>
            <a:off x="-324000" y="4078440"/>
            <a:ext cx="2954520" cy="277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Влияние курения на плод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822f6eee8304f6775ae749c0a3980746"/>
          <p:cNvPicPr/>
          <p:nvPr/>
        </p:nvPicPr>
        <p:blipFill>
          <a:blip r:embed="rId1"/>
          <a:stretch/>
        </p:blipFill>
        <p:spPr>
          <a:xfrm>
            <a:off x="0" y="1125360"/>
            <a:ext cx="3781440" cy="5732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3780000" y="1052640"/>
            <a:ext cx="536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и, родившиеся у матерей, имели пониженный коэффициент интеллектуального разви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слородное голодание пл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ансы преждевременных родов увеличиваются в 2 раз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явление раковых опухолей у пл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зические и умственные отклон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рящая женщина может стать аллергиком и передать эту склонность будущему ребен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нижение  роста  и  веса  пл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рожденные дефекты головного мозга, сердц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нижение   иммунит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ск синдрома внезапной смертности новорожденного (СВДС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1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1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Преимущества жизни без никот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Без имени-1"/>
          <p:cNvPicPr/>
          <p:nvPr/>
        </p:nvPicPr>
        <p:blipFill>
          <a:blip r:embed="rId1"/>
          <a:stretch/>
        </p:blipFill>
        <p:spPr>
          <a:xfrm>
            <a:off x="4788000" y="765000"/>
            <a:ext cx="4327560" cy="6093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24000" y="112536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шь через 20 минут, прошедших с момента выкуривания последней сигареты, организм начинает процесс восстановления. Улучшается циркуляция крови, температура конечностей (кистей рук и ступней ног) возвращается к норм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рно через 8 часов после отказа от курения уровень оксида углерода в крови падает, а уровень кислорода существенно увеличивается. Курение препятствует нормальному функционированию мозга и мускулов за счет снижения уровня кислорода до минимального уровня. Так называемое "дыхание курильщика" (неприятный запах из ротовой полости, хрипы, кашель) становится менее выражен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7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J0189242"/>
          <p:cNvPicPr/>
          <p:nvPr/>
        </p:nvPicPr>
        <p:blipFill>
          <a:blip r:embed="rId1"/>
          <a:stretch/>
        </p:blipFill>
        <p:spPr>
          <a:xfrm>
            <a:off x="0" y="1916280"/>
            <a:ext cx="3457440" cy="38178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0" y="47628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Хочешь жить –бросай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ури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140360" y="0"/>
            <a:ext cx="561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умб, который Христофор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не ведал, что творил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ало утекло с тех по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в дым сизый наших сил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 слаще аромата роз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табачный перегар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в дыме том: инфаркт, склероз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рак легких и кат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лично бросил, не кур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я бодр и полон сил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ной Минздрав благодар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что он предупреди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ящий, извини мен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за грустный каламбур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ью с нынешнего дн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объявим переку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нтернет - источн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http://nsportal.ru/shkola/rabota-s-roditelyami/library/2014/01/30/tematicheskoe-sobranie-po-profilaktike-vrednyk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http://festival.1september.ru/articles/313501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http://kzbydocs.com/docs/324/index-28445-1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ttp://www.myshared.ru/slide/377950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який курящий должен знать и помнить, что он отравляет не только себя, но и других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.А.Семаш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Курильщик впускает в свои уста врага, который похищает моз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нглийская народная поговорка)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От курения тупеешь, оно несовместимо с творческой работой»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.Ге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Табак … неизбежно ослабляет энергию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оре де Бальза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 Один курит – весь дом болеет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одная мудр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______36"/>
          <p:cNvPicPr/>
          <p:nvPr/>
        </p:nvPicPr>
        <p:blipFill>
          <a:blip r:embed="rId1"/>
          <a:stretch/>
        </p:blipFill>
        <p:spPr>
          <a:xfrm>
            <a:off x="0" y="3500280"/>
            <a:ext cx="2771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1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10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93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42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13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39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92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26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460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910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532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урить иль не курит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проса в этом 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люди не хотя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умный знать ответ…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тов Л. Ф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oigetia31"/>
          <p:cNvPicPr/>
          <p:nvPr/>
        </p:nvPicPr>
        <p:blipFill>
          <a:blip r:embed="rId1"/>
          <a:stretch/>
        </p:blipFill>
        <p:spPr>
          <a:xfrm>
            <a:off x="250920" y="2060640"/>
            <a:ext cx="47545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4" descr="Raznoe7620138vphon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979640" y="0"/>
            <a:ext cx="583236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рить иль не курить — вопроса в этом не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люди не хотят разумный знать ответ…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ла от курящих на Земле так стало много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растревожило курение и Бога.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Землю Бог с небес задумчиво гляди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ам с собою тихо говорит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очарован ныне я моим созданием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мнил: мой Homo мне поможет в Созидань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Homo ничего вокруг себя не люби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амого себя он зельем гадким губи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 Землю превратил в подобье Ад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 вот мне от него, за Жизнь ему, награда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Homo ведь Земля Эдемом называлас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множество зверья здесь жизнью наслаждалось.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чем не кончил я Творить, создав Мартышку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орна, весела, хоть и слаба умишком.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нец творенья!? — Нет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ля мне ныне неприятна…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й Богу, вижу я: есть и на Боге пятна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сделал я свою с изъяном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лает снова стать мой Homo обезъяной."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4222800" cy="6381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356000" y="476280"/>
            <a:ext cx="478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данным ВОЗ, каждые 6,5 сек  кто-нибудь умирает от табакокур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, которые начинают курить в подростковом возрасте умирают на 20-25 лет раньше, чем те которые не кури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Какой гадости только не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5" descr="skeleton 7"/>
          <p:cNvPicPr/>
          <p:nvPr/>
        </p:nvPicPr>
        <p:blipFill>
          <a:blip r:embed="rId1"/>
          <a:stretch/>
        </p:blipFill>
        <p:spPr>
          <a:xfrm>
            <a:off x="755640" y="1628640"/>
            <a:ext cx="2082960" cy="4530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3995640" y="134136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ыме табака содержится более 30 ядовитых вещест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икот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углекислый газ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кись углерод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инильная кисло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аммиа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молистые веще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рганические кислоты и друг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и них важно отметить две группы веществ, опасных для человека, - никотин и изопренои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Последствия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 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кур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4" descr="3f1533945333"/>
          <p:cNvPicPr/>
          <p:nvPr/>
        </p:nvPicPr>
        <p:blipFill>
          <a:blip r:embed="rId1"/>
          <a:stretch/>
        </p:blipFill>
        <p:spPr>
          <a:xfrm>
            <a:off x="0" y="981000"/>
            <a:ext cx="4140360" cy="5877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4284720" y="836640"/>
            <a:ext cx="457200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теря воло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ара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рщ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теря слу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ниение зуб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еопор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зни серд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зва желу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:легких,носа,язы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отки,горла,желудка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к,мочевог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зыря, толстой кишки ,груди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9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9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9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9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9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9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29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49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69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9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9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Последствия</a:t>
            </a: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кур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Без имени-t1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8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Цифры и факт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Ежедневно в  мире табак убива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8 тысяч люд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ссии курят 58 % мужчин и 12 % женщин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ут курильщики в среднем на 10-12 лет меньше своих сверст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жедневно 700 россиян умирает от болезней, вызванных курением, причем половина курильщиков умирает в трудоспособном возрас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ходы на «курево» занимают 15-20 % семейного бюдж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й возраст начинающих курильщиков в России – 11 л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ире проживает 1,1 миллиарда курильщ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1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1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1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1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11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1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1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7100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6:01:19Z</dcterms:created>
  <dc:creator>ВЛАДИМИР</dc:creator>
  <dc:description/>
  <dc:language>en-US</dc:language>
  <cp:lastModifiedBy>ADMIN</cp:lastModifiedBy>
  <dcterms:modified xsi:type="dcterms:W3CDTF">2015-01-28T03:55:27Z</dcterms:modified>
  <cp:revision>21</cp:revision>
  <dc:subject/>
  <dc:title>Слайд 1</dc:title>
</cp:coreProperties>
</file>