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45F-4D54-4E37-8DD0-F7BE9F4A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F11-F976-4299-890C-E370DCC3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DC2-AE03-4525-BF1C-F9D24CD4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145-73C5-44E4-8C66-75CC84B0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DFC-571D-49F4-938B-2A134D5E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8A7-3920-4083-A9E2-DFA27318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D73-2200-4622-8EEA-734302D2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8E2-21FF-4960-B8D7-E3D21597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A13-7B35-442E-8874-45D6012A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F86-570E-4BC2-9F67-CD074028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664-1A43-4D50-A7F4-530E35CF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07D-794E-4365-A45A-9D075D80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9998-6088-453D-8BB9-2E4F76BCD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3213000"/>
            <a:ext cx="700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СТОЯЩЕЕ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ПРОСТОЕ)  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620640"/>
            <a:ext cx="6551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ESENT   INDEFINITE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SIMPLE)   TENS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3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549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ДЕЙСТВИЕ ПРОИСХО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 НАСТОЯЩЕМ ВРЕМ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МОМЕНТ НЕ ОПРЕДЕ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14172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-помощ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u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но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m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огда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t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гда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ry d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день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47628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Как образуется эта видовременная фор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70028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твердительная форма образу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 помощ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мыслового глагола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ля подлежащих всех лиц и чисел берется глагол в ег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чальной форм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о для подлежащих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л. ед.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 глаголу добавляется окончани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4581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(you, we, they)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ri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  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(she)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ri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a  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90440" y="281160"/>
            <a:ext cx="45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cc"/>
                </a:solidFill>
                <a:uFillTx/>
                <a:latin typeface="Arial"/>
              </a:rPr>
              <a:t>Вопросительн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1557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Для   образования   вопросительной   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о временах группы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оявляется вспомогательный глагол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to 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00536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Для   подлежащих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х лиц и чисел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используется вспомогательный глагол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Do”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а для подлежащих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л.ед.ч.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используется вспомогательный глагол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Do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812000" y="0"/>
            <a:ext cx="11527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692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 (you, we they)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re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a  bo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1360" y="1413000"/>
            <a:ext cx="70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,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No,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852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he (she)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a  bo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86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,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No,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1607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6920" y="7128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ОТРИЦАТЕЛЬН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773360"/>
            <a:ext cx="844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В     отрицательной    форме    частичка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присоединятся    к    вспомогательному    глаг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645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(you, we, they)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n’t  re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 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9417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(she)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esn’t  rea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 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3:49:12Z</dcterms:created>
  <dc:creator>Admin</dc:creator>
  <dc:description/>
  <dc:language>en-US</dc:language>
  <cp:lastModifiedBy>караваева</cp:lastModifiedBy>
  <dcterms:modified xsi:type="dcterms:W3CDTF">2003-07-22T20:22:22Z</dcterms:modified>
  <cp:revision>6</cp:revision>
  <dc:subject/>
  <dc:title>Слайд 1</dc:title>
</cp:coreProperties>
</file>