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02B-5B34-4ED4-9697-3FC48E91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15C-B46F-4CD2-8FC9-93938EE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FEF-F51C-43E8-9859-FAC78103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458-748E-4D2F-B87F-44AE0A51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FEC-019A-40A7-BB7F-6490FF6C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E50-2D75-4737-B20C-4394284F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380-36FA-4871-A6DF-E7B3085D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A49-DF69-4565-B368-EFD2ABC9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290-0BA7-4B52-9D96-B690C0D7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BC1-13E2-4126-887B-2CC19D4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3A7-1BA8-4333-B1E0-230F3A42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8DC-0578-42EE-81BC-E4261F4B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0185-F885-4C66-892A-7F54F386B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3213000"/>
            <a:ext cx="70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СТОЯЩЕЕ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ПРОСТОЕ)  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620640"/>
            <a:ext cx="6551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ESENT   INDEFINITE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SIMPLE)   TENS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549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ДЕЙСТВИЕ ПРОИСХ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 НАСТОЯЩЕМ ВРЕМ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МОМЕНТ НЕ ОПРЕДЕ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14172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-помощ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о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m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огда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гда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ry d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день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47628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Как образуется эта видовременная фор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700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твердительная форма образ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 помощ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мыслового глагола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ля подлежащих всех лиц и чисел берется глагол в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чальной форм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 для подлежащих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л. ед.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 глаголу добавляется окончани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458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(you, we, they)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ri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  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(she)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ri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a  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90440" y="281160"/>
            <a:ext cx="45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cc"/>
                </a:solidFill>
                <a:uFillTx/>
                <a:latin typeface="Arial"/>
              </a:rPr>
              <a:t>Вопросительн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1557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Для   образования   вопросительной  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о временах групп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является вспомогательный глаго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to 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00536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Для   подлежащих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х лиц и чисел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используется вспомогательный глаго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Do”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 для подлежащих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л.ед.ч.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используется вспомогательный глаго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Do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812000" y="0"/>
            <a:ext cx="1152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692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 (you, we they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re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a  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1360" y="1413000"/>
            <a:ext cx="70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No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852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he (she)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a  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86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,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No,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1607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7128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ОТРИЦАТЕЛЬН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773360"/>
            <a:ext cx="844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В     отрицательной    форме    частичка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соединятся    к    вспомогательному    глаг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645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(you, we, they)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n’t  re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9417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(she)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esn’t  re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3:49:12Z</dcterms:created>
  <dc:creator>Admin</dc:creator>
  <dc:description/>
  <dc:language>en-US</dc:language>
  <cp:lastModifiedBy>караваева</cp:lastModifiedBy>
  <dcterms:modified xsi:type="dcterms:W3CDTF">2003-07-22T20:22:22Z</dcterms:modified>
  <cp:revision>6</cp:revision>
  <dc:subject/>
  <dc:title>Слайд 1</dc:title>
</cp:coreProperties>
</file>