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399-6DB4-4300-8DAF-73785270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66BC-A49F-4C77-BFDE-5F7CEC7C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98E-7E66-4A61-9C50-462EFE31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5F3-1373-439A-A4BF-CEA8B268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4694-8DB2-4E06-87EB-527E98EC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9835-7FD4-4749-9422-A7A8E9F1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BA24-0CFB-4470-B797-432F8C96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AA78-B0E4-4FEF-959F-7F2B03A8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23A9-53BF-41CF-B451-1F1518F0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7252-5513-450C-9064-98DE8F31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09E5-4D4A-438D-8FDC-7FF7E028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296-6454-4AE5-B999-552D7CA0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3BBD-9C75-4E34-A570-E5BCF8D3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10F4-6A28-4E64-B581-F7BE1C84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E102-083F-45A5-8690-07CF46FE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C16E-628D-4B76-84B0-E1FF85B7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6F0F-AA60-4AED-9502-2B753023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614-1608-43BE-91F4-A3ABB59D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5CF-3442-43B9-836E-5006ADAA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92A-91F5-4D8E-9320-8A0DA397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0DB-0F9B-4526-9C73-FED77748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2C4-2A22-431F-84B5-D6D2F187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7AE-3776-4D63-8908-51017942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E70-95B5-4FE0-8E34-BECCA8EB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54553B-0153-46ED-B05A-CF8AF9D790E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F82E4E-6524-40C5-A3DA-0DCC463A73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2276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Найдите производные.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  Сравните выражения, записанные в левой и правой частях и придумайте подобные задания</a:t>
            </a:r>
            <a:r>
              <a:rPr b="1" i="1" lang="ru-RU" sz="2800" spc="-1" strike="noStrike">
                <a:solidFill>
                  <a:srgbClr val="003366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800600" y="2971800"/>
                <a:ext cx="187308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858000" y="3200400"/>
                <a:ext cx="14400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643280" y="4183200"/>
                <a:ext cx="237816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648320" y="1828800"/>
            <a:ext cx="1440" cy="50292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648320" y="1600200"/>
                <a:ext cx="158256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0" y="1574640"/>
                <a:ext cx="143208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0" y="3030480"/>
                <a:ext cx="176364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0" y="4317840"/>
                <a:ext cx="3336840" cy="254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8028000" y="4687920"/>
                <a:ext cx="1116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553080" y="1828800"/>
                <a:ext cx="14400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258920" y="1735200"/>
                <a:ext cx="13683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828800" y="3098880"/>
                <a:ext cx="15685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28600" y="4241880"/>
                <a:ext cx="3241800" cy="21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04000" y="4560840"/>
                <a:ext cx="13636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Найдите производные.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равните выражения и сделайте вывод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696000" y="2133720"/>
                <a:ext cx="2448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sup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716360" y="1844640"/>
                <a:ext cx="2016360" cy="18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859280" y="3933720"/>
                <a:ext cx="1936800" cy="18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4716360" y="1628640"/>
            <a:ext cx="1800" cy="47977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09480" y="3124080"/>
                <a:ext cx="14479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484360" y="2968560"/>
                <a:ext cx="194328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877080" y="4365720"/>
                <a:ext cx="148896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формулируйте правило нахождения производной сложной функции и примените его для нахождения производных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060640"/>
            <a:ext cx="1440" cy="4797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0" y="3141720"/>
                <a:ext cx="187164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763640" y="3357720"/>
                <a:ext cx="21240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0" y="4797360"/>
                <a:ext cx="19796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08000" y="4941720"/>
                <a:ext cx="3097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0" y="1600200"/>
                <a:ext cx="197964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732720" y="4941720"/>
                <a:ext cx="22618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48360" y="4797360"/>
                <a:ext cx="16556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133720" y="1905120"/>
                <a:ext cx="2160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76720" y="3141720"/>
                <a:ext cx="187164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948360" y="3357720"/>
                <a:ext cx="201636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952880" y="1905120"/>
                <a:ext cx="18306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732720" y="2057400"/>
                <a:ext cx="2411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Найдите производные и укажите допустимые значения переменной</a:t>
            </a: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2924280"/>
            <a:ext cx="244764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27640" y="3139920"/>
            <a:ext cx="244800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700280"/>
            <a:ext cx="1800" cy="4797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0" y="2060640"/>
                <a:ext cx="208908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804000" y="3451320"/>
                <a:ext cx="23400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6360" y="1989000"/>
                <a:ext cx="215928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716360" y="3789360"/>
                <a:ext cx="2160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0" y="3716280"/>
                <a:ext cx="29005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732720" y="1844640"/>
                <a:ext cx="12556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124000" y="1916280"/>
                <a:ext cx="1073160" cy="15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843280" y="3594240"/>
                <a:ext cx="1728720" cy="14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885080" y="1773360"/>
                <a:ext cx="10238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012000" y="4508640"/>
                <a:ext cx="175392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Найдите производные и укажите формулы, которые вы применял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1440" cy="47977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9120" y="3141720"/>
                <a:ext cx="137340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47640" y="3357720"/>
                <a:ext cx="21276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69920" y="4826160"/>
                <a:ext cx="163980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92360" y="5013360"/>
                <a:ext cx="2933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04840" y="1413000"/>
                <a:ext cx="14144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9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356520" y="5084640"/>
                <a:ext cx="27874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643280" y="4869000"/>
                <a:ext cx="187200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92360" y="1628640"/>
                <a:ext cx="21412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716360" y="3213000"/>
                <a:ext cx="1435320" cy="13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084720" y="3429000"/>
                <a:ext cx="1656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88000" y="1700280"/>
                <a:ext cx="12747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227640" y="1916280"/>
                <a:ext cx="13194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12000" y="2924280"/>
            <a:ext cx="244764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27640" y="3139920"/>
            <a:ext cx="244800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76720" y="1700280"/>
            <a:ext cx="1800" cy="4797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0" y="2060640"/>
                <a:ext cx="20890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04000" y="3716280"/>
                <a:ext cx="10810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076720" y="2060640"/>
                <a:ext cx="2159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76720" y="3500280"/>
                <a:ext cx="17272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0" y="3645000"/>
                <a:ext cx="2670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203960" y="1773360"/>
                <a:ext cx="19400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050920" y="1916280"/>
                <a:ext cx="12556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700360" y="3357720"/>
                <a:ext cx="2376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492360" y="1844640"/>
                <a:ext cx="102420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46840" y="5084640"/>
                <a:ext cx="17888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π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105760" y="4869000"/>
                <a:ext cx="1038240" cy="15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659640" y="4797360"/>
                <a:ext cx="14047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π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Найдите производные и укажите допустимые значения переменно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формулируйте общее правило нахождения производных для данных выражени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700280"/>
            <a:ext cx="1800" cy="4797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0" y="2116080"/>
                <a:ext cx="15476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648320" y="2209680"/>
                <a:ext cx="15951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0" y="3284640"/>
                <a:ext cx="1547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648320" y="3352680"/>
                <a:ext cx="15681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476360" y="3357720"/>
                <a:ext cx="316872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19280" y="2100240"/>
                <a:ext cx="158436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56360" y="2349360"/>
                <a:ext cx="29876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258920" y="4076640"/>
                <a:ext cx="30495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580000" y="4149720"/>
                <a:ext cx="2519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84720" y="3500280"/>
                <a:ext cx="30592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Назовите тригонометрические формулы, которые применялись при нахождении производно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24000" y="2203560"/>
                <a:ext cx="208728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995640" y="3322800"/>
                <a:ext cx="936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24000" y="4149720"/>
                <a:ext cx="23050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24000" y="3211560"/>
                <a:ext cx="26636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484360" y="4149720"/>
                <a:ext cx="20163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411280" y="2133720"/>
                <a:ext cx="12240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916360" y="3255840"/>
                <a:ext cx="11509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35280" y="2205000"/>
                <a:ext cx="10080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500720" y="4367160"/>
                <a:ext cx="2808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236000" y="4365720"/>
                <a:ext cx="1655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Самостоятельная работа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№ 1.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Задание: Найдите производные функций, сравните полученный ответ с правильным,исправьте ошибки, если они есть и проанализируете свою готовность к выполнению самостоятельной работ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859280" y="1844640"/>
            <a:ext cx="1800" cy="501336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652760" y="4957920"/>
            <a:ext cx="360" cy="458640"/>
            <a:chOff x="1652760" y="4957920"/>
            <a:chExt cx="360" cy="458640"/>
          </a:xfrm>
        </p:grpSpPr>
        <p:grpSp>
          <p:nvGrpSpPr>
            <p:cNvPr id="189" name=""/>
            <p:cNvGrpSpPr/>
            <p:nvPr/>
          </p:nvGrpSpPr>
          <p:grpSpPr>
            <a:xfrm>
              <a:off x="1652760" y="4957920"/>
              <a:ext cx="360" cy="458640"/>
              <a:chOff x="1652760" y="4957920"/>
              <a:chExt cx="360" cy="458640"/>
            </a:xfrm>
          </p:grpSpPr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1652760" y="4957920"/>
                    <a:ext cx="360" cy="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1" name=""/>
              <p:cNvSpPr/>
              <p:nvPr/>
            </p:nvSpPr>
            <p:spPr>
              <a:xfrm>
                <a:off x="1652760" y="4957920"/>
                <a:ext cx="3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652760" y="4957920"/>
              <a:ext cx="360" cy="458640"/>
              <a:chOff x="1652760" y="4957920"/>
              <a:chExt cx="360" cy="458640"/>
            </a:xfrm>
          </p:grpSpPr>
          <mc:AlternateContent>
            <mc:Choice xmlns:a14="http://schemas.microsoft.com/office/drawing/2010/main" Requires="a14">
              <p:sp>
                <p:nvSpPr>
                  <p:cNvPr id="193" name=""/>
                  <p:cNvSpPr txBox="1"/>
                  <p:nvPr/>
                </p:nvSpPr>
                <p:spPr>
                  <a:xfrm>
                    <a:off x="1652760" y="4957920"/>
                    <a:ext cx="360" cy="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4" name=""/>
              <p:cNvSpPr/>
              <p:nvPr/>
            </p:nvSpPr>
            <p:spPr>
              <a:xfrm>
                <a:off x="1652760" y="4957920"/>
                <a:ext cx="3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652760" y="4957920"/>
              <a:ext cx="360" cy="458640"/>
              <a:chOff x="1652760" y="4957920"/>
              <a:chExt cx="360" cy="458640"/>
            </a:xfrm>
          </p:grpSpPr>
          <mc:AlternateContent>
            <mc:Choice xmlns:a14="http://schemas.microsoft.com/office/drawing/2010/main" Requires="a14">
              <p:sp>
                <p:nvSpPr>
                  <p:cNvPr id="196" name=""/>
                  <p:cNvSpPr txBox="1"/>
                  <p:nvPr/>
                </p:nvSpPr>
                <p:spPr>
                  <a:xfrm>
                    <a:off x="1652760" y="4957920"/>
                    <a:ext cx="360" cy="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r>
                              <m:t xml:space="preserve">4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7" name=""/>
              <p:cNvSpPr/>
              <p:nvPr/>
            </p:nvSpPr>
            <p:spPr>
              <a:xfrm>
                <a:off x="1652760" y="4957920"/>
                <a:ext cx="3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652760" y="4957920"/>
              <a:ext cx="360" cy="458640"/>
              <a:chOff x="1652760" y="4957920"/>
              <a:chExt cx="360" cy="458640"/>
            </a:xfrm>
          </p:grpSpPr>
          <mc:AlternateContent>
            <mc:Choice xmlns:a14="http://schemas.microsoft.com/office/drawing/2010/main" Requires="a14">
              <p:sp>
                <p:nvSpPr>
                  <p:cNvPr id="199" name=""/>
                  <p:cNvSpPr txBox="1"/>
                  <p:nvPr/>
                </p:nvSpPr>
                <p:spPr>
                  <a:xfrm>
                    <a:off x="1652760" y="4957920"/>
                    <a:ext cx="360" cy="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0" name=""/>
              <p:cNvSpPr/>
              <p:nvPr/>
            </p:nvSpPr>
            <p:spPr>
              <a:xfrm>
                <a:off x="1652760" y="4957920"/>
                <a:ext cx="3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1652760" y="4957920"/>
                  <a:ext cx="360" cy="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sub>
                      </m:sSub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deg>
                              <m:r>
                                <m:t xml:space="preserve">3</m:t>
                              </m:r>
                            </m:deg>
                            <m:e>
                              <m:r>
                                <m:t xml:space="preserve">4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1652760" y="4957920"/>
                  <a:ext cx="360" cy="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</m:den>
                          </m:f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2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1652760" y="4957920"/>
                  <a:ext cx="360" cy="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5</m:t>
                              </m:r>
                            </m:e>
                          </m:rad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1652760" y="4957920"/>
                  <a:ext cx="360" cy="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  <m:sSup>
                        <m:e>
                          <m:r>
                            <m:t xml:space="preserve">0,2</m:t>
                          </m:r>
                        </m:e>
                        <m: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7</m:t>
                              </m:r>
                            </m:e>
                          </m:rad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914400" y="2565360"/>
                <a:ext cx="21607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914400" y="1905120"/>
                <a:ext cx="23749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914400" y="2997360"/>
                <a:ext cx="25210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14400" y="3933720"/>
                <a:ext cx="194472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914400" y="5516640"/>
                <a:ext cx="13683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914400" y="6145200"/>
                <a:ext cx="2016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651640" y="3213000"/>
                <a:ext cx="411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486400" y="1828800"/>
                <a:ext cx="863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651640" y="2492280"/>
                <a:ext cx="411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08720" y="5589720"/>
                <a:ext cx="11779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08720" y="4724280"/>
                <a:ext cx="9349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051600" y="3971880"/>
                <a:ext cx="496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580000" y="6067440"/>
                <a:ext cx="765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914400" y="4952880"/>
                <a:ext cx="16002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9:21:51Z</dcterms:created>
  <dc:creator>pupil</dc:creator>
  <dc:description/>
  <dc:language>en-US</dc:language>
  <cp:lastModifiedBy>User</cp:lastModifiedBy>
  <dcterms:modified xsi:type="dcterms:W3CDTF">2012-10-18T14:39:40Z</dcterms:modified>
  <cp:revision>57</cp:revision>
  <dc:subject/>
  <dc:title>Устные упражнения по теме «ЛОГАРИФМЫ» </dc:title>
</cp:coreProperties>
</file>