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2BD-10E9-4D0B-A6BB-5F8BE4B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5B3-6B5D-4691-B218-7FF6F63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889-1095-4E85-9288-E1D3F882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168-2FA6-471E-9F8E-9A4F53E1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DA44-CDF4-487D-B527-B7BDB571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F857-1A80-48F0-8AE2-7AA5885B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40B-BA6E-41C8-88B9-ED5ABC33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B96D-7415-4280-B040-3592E06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E6B0-2FAC-4CA9-B0A1-8D2991EA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5F9A-8A8B-462E-8711-CC05474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F53-10D4-4049-AEA7-5B1E4D3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722-DFAC-416A-B0BE-9D341C48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8FDB-2BD1-4386-BF0A-8B23588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17F-1EA8-4B4E-99AC-B589625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2639-C2A2-462E-8CDC-310A3894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F4A-5299-4E9E-87AC-EDEC9152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8348-B7A8-4218-AEB0-15A3CF5B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D43-6F4C-44BB-9683-9FFF5A44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388-17C9-4ECC-9530-C25F6A05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A00-CE8F-4A75-84F3-8ECA4C18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F71-F55A-4640-98CF-AF8A5429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E57-05C9-46B7-98B8-4AF1232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7A1-34A9-487A-B985-23BBF80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BBB-E9BB-44CF-A86E-49823536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B48E02-7C06-471B-ADCE-B7E81FFF202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05989E-0567-4019-AAF6-F6FCF186F0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227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.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Сравните выражения, записанные в левой и правой частях и придумайте подобные задания</a:t>
            </a:r>
            <a:r>
              <a:rPr b="1" i="1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00600" y="2971800"/>
                <a:ext cx="18730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0" y="3200400"/>
                <a:ext cx="1440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3280" y="4183200"/>
                <a:ext cx="237816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648320" y="1828800"/>
            <a:ext cx="1440" cy="50292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1600200"/>
                <a:ext cx="158256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0" y="1574640"/>
                <a:ext cx="1432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0" y="3030480"/>
                <a:ext cx="176364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0" y="4317840"/>
                <a:ext cx="333684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028000" y="4687920"/>
                <a:ext cx="1116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553080" y="1828800"/>
                <a:ext cx="1440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58920" y="1735200"/>
                <a:ext cx="1368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28800" y="3098880"/>
                <a:ext cx="15685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" y="4241880"/>
                <a:ext cx="324180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04000" y="4560840"/>
                <a:ext cx="13636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.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авните выражения и сделайте вывод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96000" y="2133720"/>
                <a:ext cx="2448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16360" y="1844640"/>
                <a:ext cx="2016360" cy="18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59280" y="3933720"/>
                <a:ext cx="193680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716360" y="1628640"/>
            <a:ext cx="1800" cy="4797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09480" y="3124080"/>
                <a:ext cx="1447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84360" y="2968560"/>
                <a:ext cx="19432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77080" y="4365720"/>
                <a:ext cx="14889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формулируйте правило нахождения производной сложной функции и примените его для нахождения производны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60640"/>
            <a:ext cx="144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0" y="3141720"/>
                <a:ext cx="18716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63640" y="3357720"/>
                <a:ext cx="2124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4797360"/>
                <a:ext cx="19796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08000" y="4941720"/>
                <a:ext cx="3097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1600200"/>
                <a:ext cx="197964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32720" y="4941720"/>
                <a:ext cx="22618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48360" y="4797360"/>
                <a:ext cx="1655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133720" y="1905120"/>
                <a:ext cx="216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76720" y="3141720"/>
                <a:ext cx="18716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948360" y="3357720"/>
                <a:ext cx="201636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952880" y="1905120"/>
                <a:ext cx="18306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732720" y="205740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 и укажите допустимые значения переменной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2924280"/>
            <a:ext cx="24476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3139920"/>
            <a:ext cx="2448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700280"/>
            <a:ext cx="180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2060640"/>
                <a:ext cx="20890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04000" y="3451320"/>
                <a:ext cx="2340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6360" y="1989000"/>
                <a:ext cx="21592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16360" y="3789360"/>
                <a:ext cx="2160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0" y="3716280"/>
                <a:ext cx="29005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732720" y="1844640"/>
                <a:ext cx="1255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1916280"/>
                <a:ext cx="107316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43280" y="3594240"/>
                <a:ext cx="1728720" cy="14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885080" y="1773360"/>
                <a:ext cx="10238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012000" y="4508640"/>
                <a:ext cx="175392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 и укажите формулы, которые вы применял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1440" cy="4797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9120" y="3141720"/>
                <a:ext cx="13734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47640" y="3357720"/>
                <a:ext cx="212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9920" y="4826160"/>
                <a:ext cx="16398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92360" y="5013360"/>
                <a:ext cx="2933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4840" y="1413000"/>
                <a:ext cx="14144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9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356520" y="5084640"/>
                <a:ext cx="2787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43280" y="4869000"/>
                <a:ext cx="18720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92360" y="1628640"/>
                <a:ext cx="2141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716360" y="3213000"/>
                <a:ext cx="143532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84720" y="3429000"/>
                <a:ext cx="165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88000" y="1700280"/>
                <a:ext cx="12747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227640" y="1916280"/>
                <a:ext cx="1319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12000" y="2924280"/>
            <a:ext cx="24476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3139920"/>
            <a:ext cx="2448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1700280"/>
            <a:ext cx="180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060640"/>
                <a:ext cx="2089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04000" y="3716280"/>
                <a:ext cx="1081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76720" y="2060640"/>
                <a:ext cx="2159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76720" y="3500280"/>
                <a:ext cx="1727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0" y="3645000"/>
                <a:ext cx="2670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203960" y="1773360"/>
                <a:ext cx="19400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0920" y="1916280"/>
                <a:ext cx="1255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700360" y="3357720"/>
                <a:ext cx="2376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492360" y="1844640"/>
                <a:ext cx="10242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46840" y="5084640"/>
                <a:ext cx="1788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π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105760" y="4869000"/>
                <a:ext cx="103824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659640" y="4797360"/>
                <a:ext cx="140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π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 и укажите допустимые значения переменно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формулируйте общее правило нахождения производных для данных выражени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700280"/>
            <a:ext cx="180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2116080"/>
                <a:ext cx="1547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48320" y="2209680"/>
                <a:ext cx="1595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3284640"/>
                <a:ext cx="1547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48320" y="3352680"/>
                <a:ext cx="1568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6360" y="3357720"/>
                <a:ext cx="31687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2100240"/>
                <a:ext cx="15843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56360" y="2349360"/>
                <a:ext cx="29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4076640"/>
                <a:ext cx="3049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580000" y="4149720"/>
                <a:ext cx="2519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84720" y="3500280"/>
                <a:ext cx="3059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зовите тригонометрические формулы, которые применялись при нахождении производно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4000" y="2203560"/>
                <a:ext cx="20872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95640" y="3322800"/>
                <a:ext cx="936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24000" y="4149720"/>
                <a:ext cx="2305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4000" y="3211560"/>
                <a:ext cx="266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84360" y="4149720"/>
                <a:ext cx="2016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411280" y="2133720"/>
                <a:ext cx="1224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255840"/>
                <a:ext cx="11509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35280" y="2205000"/>
                <a:ext cx="1008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00720" y="4367160"/>
                <a:ext cx="2808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236000" y="4365720"/>
                <a:ext cx="1655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амостоятельная работа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№ 1.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Задание: Найдите производные функций, сравните полученный ответ с правильным,исправьте ошибки, если они есть и проанализируете свою готовность к выполнению самостоятельной работ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9280" y="1844640"/>
            <a:ext cx="1800" cy="501336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52760" y="4957920"/>
            <a:ext cx="360" cy="458640"/>
            <a:chOff x="1652760" y="4957920"/>
            <a:chExt cx="360" cy="458640"/>
          </a:xfrm>
        </p:grpSpPr>
        <p:grpSp>
          <p:nvGrpSpPr>
            <p:cNvPr id="189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3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4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4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7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9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0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b>
                      </m:sSub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deg>
                              <m:r>
                                <m:t xml:space="preserve">3</m:t>
                              </m:r>
                            </m:deg>
                            <m:e>
                              <m:r>
                                <m:t xml:space="preserve">4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den>
                          </m:f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p>
                        <m:e>
                          <m:r>
                            <m:t xml:space="preserve">0,2</m:t>
                          </m:r>
                        </m:e>
                        <m: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7</m:t>
                              </m:r>
                            </m:e>
                          </m:rad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14400" y="2565360"/>
                <a:ext cx="216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14400" y="1905120"/>
                <a:ext cx="2374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14400" y="2997360"/>
                <a:ext cx="2521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3933720"/>
                <a:ext cx="19447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914400" y="5516640"/>
                <a:ext cx="13683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14400" y="6145200"/>
                <a:ext cx="2016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651640" y="321300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486400" y="1828800"/>
                <a:ext cx="863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51640" y="249228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08720" y="5589720"/>
                <a:ext cx="11779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724280"/>
                <a:ext cx="9349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51600" y="3971880"/>
                <a:ext cx="496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80000" y="6067440"/>
                <a:ext cx="76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4952880"/>
                <a:ext cx="16002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9:21:51Z</dcterms:created>
  <dc:creator>pupil</dc:creator>
  <dc:description/>
  <dc:language>en-US</dc:language>
  <cp:lastModifiedBy>User</cp:lastModifiedBy>
  <dcterms:modified xsi:type="dcterms:W3CDTF">2012-10-18T14:39:40Z</dcterms:modified>
  <cp:revision>57</cp:revision>
  <dc:subject/>
  <dc:title>Устные упражнения по теме «ЛОГАРИФМЫ» </dc:title>
</cp:coreProperties>
</file>