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AE3A-466D-4999-AC44-31C24F22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F411-106A-48B1-BDEB-BA928E13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2E2F-6A48-4BD4-9BDA-D221013A3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14C8-3A82-41A9-A2ED-2119A34F8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DD076-0F3E-4B18-9D4E-37B5D026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4868F-C612-4391-B5BB-3A8639E5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6905E-D49B-40C4-B8EE-4A640D3A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22C69-D863-408D-8C64-12416572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5F066-AD68-4F36-BC61-134A16BE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46FC9-549F-4C69-8A64-8DE73168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63969-F532-4CCF-BD9E-998B2B78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099B-37DB-45AF-BFE7-BE7D5F23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05048-A928-41AC-A506-5CB38E9E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DFB9D-017B-44A9-B300-F9958551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097E8-1BAA-4D15-BBC7-C584CC51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36159-AD89-46CD-A7AD-61E350F4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6F6A5-8885-468D-A45B-538EED218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63CC-4968-45B0-AEC3-25F924EC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2B51-2D6F-4B85-B621-2FB1AD77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1568-305E-4AC6-8894-28710E89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091C-66A4-432A-917E-D87515F6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9A28-8113-4826-A81E-27422BB4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2FA1-174C-40EC-92C6-2D9050DA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D01B-6EDA-4139-8578-F722DCFE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544C-4DEB-4841-9DC3-A7AE8CFA0B50}" type="slidenum">
              <a:rPr b="0" lang="en-US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B791-3EB5-49D1-94C6-C60F7623BFED}" type="slidenum">
              <a:rPr b="0" lang="en-US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09120" y="3589200"/>
            <a:ext cx="7999560" cy="12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Monotype Corsiva"/>
              </a:rPr>
              <a:t>Пособия и текст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Monotype Corsiva"/>
              </a:rPr>
              <a:t>автор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6" name="Заголовок 3" descr=""/>
          <p:cNvPicPr/>
          <p:nvPr/>
        </p:nvPicPr>
        <p:blipFill>
          <a:blip r:embed="rId2"/>
          <a:stretch/>
        </p:blipFill>
        <p:spPr>
          <a:xfrm>
            <a:off x="438120" y="1146240"/>
            <a:ext cx="8334360" cy="2273400"/>
          </a:xfrm>
          <a:prstGeom prst="rect">
            <a:avLst/>
          </a:prstGeom>
          <a:ln w="0">
            <a:noFill/>
          </a:ln>
        </p:spPr>
      </p:pic>
    </p:spTree>
  </p:cSld>
  <p:transition advTm="3000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88" name="Содержимое 4" descr="Фото-0009а.jpg"/>
          <p:cNvPicPr/>
          <p:nvPr/>
        </p:nvPicPr>
        <p:blipFill>
          <a:blip r:embed="rId2"/>
          <a:stretch/>
        </p:blipFill>
        <p:spPr>
          <a:xfrm>
            <a:off x="324000" y="981000"/>
            <a:ext cx="2601720" cy="2529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16360" y="764640"/>
            <a:ext cx="39592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onstantia"/>
              </a:rPr>
              <a:t>Три весёлых лягушон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onstantia"/>
              </a:rPr>
              <a:t>Прыгают и скачу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onstantia"/>
              </a:rPr>
              <a:t>То спокойненько сидят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onstantia"/>
              </a:rPr>
              <a:t>То тихонечко шуршат!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3645000"/>
            <a:ext cx="30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Два котёнка – день и ноч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Чёрненький и бел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Чёрный гладенький совс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Кучерявый беленьки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Содержимое 4" descr="Фото-0020_e1.jpg"/>
          <p:cNvPicPr/>
          <p:nvPr/>
        </p:nvPicPr>
        <p:blipFill>
          <a:blip r:embed="rId3"/>
          <a:stretch/>
        </p:blipFill>
        <p:spPr>
          <a:xfrm>
            <a:off x="5148360" y="3224160"/>
            <a:ext cx="3168720" cy="3164040"/>
          </a:xfrm>
          <a:prstGeom prst="rect">
            <a:avLst/>
          </a:prstGeom>
          <a:ln w="0">
            <a:noFill/>
          </a:ln>
        </p:spPr>
      </p:pic>
    </p:spTree>
  </p:cSld>
  <p:transition advTm="3000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93" name="Содержимое 4" descr="Фото-0001.jpg"/>
          <p:cNvPicPr/>
          <p:nvPr/>
        </p:nvPicPr>
        <p:blipFill>
          <a:blip r:embed="rId2"/>
          <a:stretch/>
        </p:blipFill>
        <p:spPr>
          <a:xfrm>
            <a:off x="324000" y="907920"/>
            <a:ext cx="3394080" cy="28828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3716280"/>
            <a:ext cx="331128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0000"/>
                </a:solidFill>
                <a:latin typeface="Constantia"/>
              </a:rPr>
              <a:t>Наш горошек не простой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0000"/>
                </a:solidFill>
                <a:latin typeface="Constantia"/>
              </a:rPr>
              <a:t>Разноцветный, озорно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0000"/>
                </a:solidFill>
                <a:latin typeface="Constantia"/>
              </a:rPr>
              <a:t>Собери их дружно в ряд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0000"/>
                </a:solidFill>
                <a:latin typeface="Constantia"/>
              </a:rPr>
              <a:t>Как картиночки велят!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5" name="Содержимое 4" descr="Фото-0010а.jpg"/>
          <p:cNvPicPr/>
          <p:nvPr/>
        </p:nvPicPr>
        <p:blipFill>
          <a:blip r:embed="rId3"/>
          <a:stretch/>
        </p:blipFill>
        <p:spPr>
          <a:xfrm>
            <a:off x="5219640" y="3213000"/>
            <a:ext cx="3164040" cy="3075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0" y="765000"/>
            <a:ext cx="324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Этот ёжик не колюч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Любит моло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Любит чтоб дети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Гладили ег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9T08:18:11Z</dcterms:created>
  <dc:creator>Наташа</dc:creator>
  <dc:description/>
  <dc:language>en-US</dc:language>
  <cp:lastModifiedBy>наташа</cp:lastModifiedBy>
  <dcterms:modified xsi:type="dcterms:W3CDTF">2015-01-28T18:46:31Z</dcterms:modified>
  <cp:revision>21</cp:revision>
  <dc:subject/>
  <dc:title>Слайд 1</dc:title>
</cp:coreProperties>
</file>