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CA2E-0DA3-4CD3-88F6-2934C56E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9763-55E3-48CD-A5F9-52389EC3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68A0-7EA9-4BC8-9DF5-53824120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E0FF-9BC0-4EA6-A7E6-339D92D9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0E581-EBD5-4F30-A33C-1BB784FDC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1ABA2-346D-425F-A826-12B3477D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03D5D-F78D-4F8C-A22C-1C3B3516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6CBD3-DD4B-4F3B-87D4-F54C2E50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51ED3-2B8A-4161-9964-4FDAB34C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204B3-2E2C-45D9-8D43-2DCD9C47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96F19-BB9E-4983-8BF1-2BC99724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AB81-B881-454B-A863-97BCFD3D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A8D16-C65B-48ED-B290-4BCB224E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D3569-EEBC-4BE4-8740-5FA49E25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B8B5A-47D9-4600-9C19-CD831BA8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695AD-9069-40BD-91A3-D7E58B95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08F66-0B61-4097-8F4B-483DC15C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4D0B-30F9-489F-9BCB-85CC3719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2731-FDC8-44C0-A045-B9522D2D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1F1C-180F-44EF-A667-835117A9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865B-9C0F-4175-902D-9C4CA617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05A4-8CCF-4B63-A795-A3B50047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0598-427C-49DC-96DA-0457D409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5922-BC4A-4621-A724-C978543E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3E30-61EF-41E5-8F3F-4F15AC674CFD}" type="slidenum">
              <a:rPr b="0" lang="en-US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D5E8-D3E3-4C48-872D-C1E86A2DDE21}" type="slidenum">
              <a:rPr b="0" lang="en-US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09120" y="3589200"/>
            <a:ext cx="799956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Monotype Corsiva"/>
              </a:rPr>
              <a:t>Пособия и текст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Monotype Corsiva"/>
              </a:rPr>
              <a:t>автор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6" name="Заголовок 3" descr=""/>
          <p:cNvPicPr/>
          <p:nvPr/>
        </p:nvPicPr>
        <p:blipFill>
          <a:blip r:embed="rId2"/>
          <a:stretch/>
        </p:blipFill>
        <p:spPr>
          <a:xfrm>
            <a:off x="438120" y="1146240"/>
            <a:ext cx="8334360" cy="227340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88" name="Содержимое 4" descr="Фото-0009а.jpg"/>
          <p:cNvPicPr/>
          <p:nvPr/>
        </p:nvPicPr>
        <p:blipFill>
          <a:blip r:embed="rId2"/>
          <a:stretch/>
        </p:blipFill>
        <p:spPr>
          <a:xfrm>
            <a:off x="324000" y="981000"/>
            <a:ext cx="2601720" cy="2529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16360" y="764640"/>
            <a:ext cx="39592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onstantia"/>
              </a:rPr>
              <a:t>Три весёлых лягушон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onstantia"/>
              </a:rPr>
              <a:t>Прыгают и скачу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onstantia"/>
              </a:rPr>
              <a:t>То спокойненько сидят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onstantia"/>
              </a:rPr>
              <a:t>То тихонечко шуршат!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3645000"/>
            <a:ext cx="30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Два котёнка – день и ноч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Чёрненький и бел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Чёрный гладенький совс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Кучерявый беленьки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Содержимое 4" descr="Фото-0020_e1.jpg"/>
          <p:cNvPicPr/>
          <p:nvPr/>
        </p:nvPicPr>
        <p:blipFill>
          <a:blip r:embed="rId3"/>
          <a:stretch/>
        </p:blipFill>
        <p:spPr>
          <a:xfrm>
            <a:off x="5148360" y="3224160"/>
            <a:ext cx="3168720" cy="316404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93" name="Содержимое 4" descr="Фото-0001.jpg"/>
          <p:cNvPicPr/>
          <p:nvPr/>
        </p:nvPicPr>
        <p:blipFill>
          <a:blip r:embed="rId2"/>
          <a:stretch/>
        </p:blipFill>
        <p:spPr>
          <a:xfrm>
            <a:off x="324000" y="907920"/>
            <a:ext cx="3394080" cy="2882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3716280"/>
            <a:ext cx="331128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0000"/>
                </a:solidFill>
                <a:latin typeface="Constantia"/>
              </a:rPr>
              <a:t>Наш горошек не простой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0000"/>
                </a:solidFill>
                <a:latin typeface="Constantia"/>
              </a:rPr>
              <a:t>Разноцветный, озорно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0000"/>
                </a:solidFill>
                <a:latin typeface="Constantia"/>
              </a:rPr>
              <a:t>Собери их дружно в ряд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0000"/>
                </a:solidFill>
                <a:latin typeface="Constantia"/>
              </a:rPr>
              <a:t>Как картиночки велят!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5" name="Содержимое 4" descr="Фото-0010а.jpg"/>
          <p:cNvPicPr/>
          <p:nvPr/>
        </p:nvPicPr>
        <p:blipFill>
          <a:blip r:embed="rId3"/>
          <a:stretch/>
        </p:blipFill>
        <p:spPr>
          <a:xfrm>
            <a:off x="5219640" y="3213000"/>
            <a:ext cx="3164040" cy="3075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0" y="765000"/>
            <a:ext cx="324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Этот ёжик не колюч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Любит моло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Любит чтоб дети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Гладили ег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9T08:18:11Z</dcterms:created>
  <dc:creator>Наташа</dc:creator>
  <dc:description/>
  <dc:language>en-US</dc:language>
  <cp:lastModifiedBy>наташа</cp:lastModifiedBy>
  <dcterms:modified xsi:type="dcterms:W3CDTF">2015-01-28T18:46:31Z</dcterms:modified>
  <cp:revision>21</cp:revision>
  <dc:subject/>
  <dc:title>Слайд 1</dc:title>
</cp:coreProperties>
</file>