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A6C-75A0-4F86-A912-D471FEE4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AA7-2F38-4127-8E8B-AD46969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269-8A7B-4FA6-8862-D62CE1E3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F3D-C611-41C6-9DFF-E44BDFB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4D2-2A4B-460F-854A-05E11059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479-92EB-4549-B4D1-BA6051F6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A8C-DC84-4708-BA1C-3421CAA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D01-CF33-49B2-9104-D56C80B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A4A-CCD2-4C16-A2A8-9632A2AF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17B-A887-4933-8802-C3BE489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F4F-D1EC-4831-9466-45B51C9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588-BD70-4D17-A4C5-E831BAA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D744-2736-4FF9-A51E-D676D3C52D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r3ed.qrz.ru/rozhdestwensky-r-rekwiem.htm" TargetMode="External"/><Relationship Id="rId2" Type="http://schemas.openxmlformats.org/officeDocument/2006/relationships/hyperlink" Target="http://vk.com/feed#/club99886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И  ПОБЕДИЛИ ЧЕЛОВЕК И ГОРОД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Новая папка\18.jpg"/>
          <p:cNvPicPr/>
          <p:nvPr/>
        </p:nvPicPr>
        <p:blipFill>
          <a:blip r:embed="rId1"/>
          <a:stretch/>
        </p:blipFill>
        <p:spPr>
          <a:xfrm>
            <a:off x="2268360" y="620640"/>
            <a:ext cx="4751640" cy="3308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4028040"/>
            <a:ext cx="9144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пролегла ледяными полями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«Дорогою Жизни» назвали её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И жизнь пробивалась сквозь холод и пламя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Бомбёжки, метели и взломанный лё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– как легенда, как песня, как знамя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У этой дороги не будет конца –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навсегда пролегла через память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веки прошла через наши сердца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7 января 1944 года блокада Ленинграда была полностью снят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F:\Новая папка\20.jpg"/>
          <p:cNvPicPr/>
          <p:nvPr/>
        </p:nvPicPr>
        <p:blipFill>
          <a:blip r:embed="rId1"/>
          <a:stretch/>
        </p:blipFill>
        <p:spPr>
          <a:xfrm>
            <a:off x="826920" y="2492280"/>
            <a:ext cx="76201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Новая папка\19.jpeg"/>
          <p:cNvPicPr/>
          <p:nvPr/>
        </p:nvPicPr>
        <p:blipFill>
          <a:blip r:embed="rId1"/>
          <a:stretch/>
        </p:blipFill>
        <p:spPr>
          <a:xfrm>
            <a:off x="900000" y="620640"/>
            <a:ext cx="4745160" cy="3262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6012000" y="62064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 залпом залп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ремит салю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кеты в воздухе горячем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ветами пёстрыми цве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ленинградцы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ихо плач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187280" y="3933720"/>
            <a:ext cx="63374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Рыдают люди, и поют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И лиц заплаканных не прячут.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егодня в городе –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алют!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егодня ленинградцы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Плачут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Новая папка\22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32000" y="686160"/>
            <a:ext cx="69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юди! Покуда сердца стучатся, - помните! Какою ценой завоёвано счастье, - пожалуйста, помнит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F:\Новая папка\3cbcebc257aff4ae2e8acd2982e68179.jpg"/>
          <p:cNvPicPr/>
          <p:nvPr/>
        </p:nvPicPr>
        <p:blipFill>
          <a:blip r:embed="rId1"/>
          <a:stretch/>
        </p:blipFill>
        <p:spPr>
          <a:xfrm>
            <a:off x="2050920" y="2349360"/>
            <a:ext cx="53294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0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er3ed.qrz.ru/rozhdestwensky-r-rekwiem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vk.com/feed#/club99886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«Город, которого больше н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55640" y="198900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зентация выполнена учителем истории и культуры Санкт-Петербурга, педагогом дополнительного образования, заведующим школьной музейной экспозици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йменко Еленой Валерьев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БОУ СОШ № 2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военный Ленингра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392360" cy="3240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5148360" y="2492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Я не покину город мой,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Венчанный трауром и славой.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каждый камень мостовой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Свидетель жизни величав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3348000" y="465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каждый памятник воспет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Стихом пророческим поэта.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Пушкина и Фальконета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Вдвойне бессмертен силуэ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ставай, страна огромная, вставай на сметный бой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F:\Новая папка\2.jpg"/>
          <p:cNvPicPr/>
          <p:nvPr/>
        </p:nvPicPr>
        <p:blipFill>
          <a:blip r:embed="rId1"/>
          <a:stretch/>
        </p:blipFill>
        <p:spPr>
          <a:xfrm>
            <a:off x="4973760" y="1844640"/>
            <a:ext cx="3409920" cy="432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Новая папка\3.jpg"/>
          <p:cNvPicPr/>
          <p:nvPr/>
        </p:nvPicPr>
        <p:blipFill>
          <a:blip r:embed="rId2"/>
          <a:stretch/>
        </p:blipFill>
        <p:spPr>
          <a:xfrm>
            <a:off x="1187280" y="1844640"/>
            <a:ext cx="3240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Фюрер решил стереть с лица земли город Ленинград…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F:\Новая папка\5.jpg"/>
          <p:cNvPicPr/>
          <p:nvPr/>
        </p:nvPicPr>
        <p:blipFill>
          <a:blip r:embed="rId1"/>
          <a:stretch/>
        </p:blipFill>
        <p:spPr>
          <a:xfrm>
            <a:off x="611280" y="2133720"/>
            <a:ext cx="280836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Новая папка\3 а.jpg"/>
          <p:cNvPicPr/>
          <p:nvPr/>
        </p:nvPicPr>
        <p:blipFill>
          <a:blip r:embed="rId2"/>
          <a:stretch/>
        </p:blipFill>
        <p:spPr>
          <a:xfrm>
            <a:off x="4200480" y="2781360"/>
            <a:ext cx="3613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раг не пройдё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F:\Новая папка\4.jpg"/>
          <p:cNvPicPr/>
          <p:nvPr/>
        </p:nvPicPr>
        <p:blipFill>
          <a:blip r:embed="rId1"/>
          <a:stretch/>
        </p:blipFill>
        <p:spPr>
          <a:xfrm>
            <a:off x="684360" y="1700280"/>
            <a:ext cx="4751280" cy="369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508720" y="164016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ы знаем: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лятвы говорить не просто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И если в Ленинград ворвётся враг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ы разорвём последнюю из простынь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Лишь на бинты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Но не на белый флаг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, этот город! Как его пытали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F:\Новая папка\12.jpg"/>
          <p:cNvPicPr/>
          <p:nvPr/>
        </p:nvPicPr>
        <p:blipFill>
          <a:blip r:embed="rId1"/>
          <a:stretch/>
        </p:blipFill>
        <p:spPr>
          <a:xfrm>
            <a:off x="2700360" y="1989000"/>
            <a:ext cx="41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Новая папка\10.jpg"/>
          <p:cNvPicPr/>
          <p:nvPr/>
        </p:nvPicPr>
        <p:blipFill>
          <a:blip r:embed="rId1"/>
          <a:stretch/>
        </p:blipFill>
        <p:spPr>
          <a:xfrm>
            <a:off x="2340000" y="2205000"/>
            <a:ext cx="4343400" cy="3259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о двадцать пять давали граммов хлеба, больным и детям на блокадный день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Ленинград – город живых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911760" cy="2935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763640" y="4437000"/>
            <a:ext cx="59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о в то, что умер город наш, – не верьте!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с не согнут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тчаянье и страх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Мы знаем от людей, сражённых смертью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Что означает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«Смертью смерть поправ»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расса 101 –Дорога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F:\Новая папка\17.jpg"/>
          <p:cNvPicPr/>
          <p:nvPr/>
        </p:nvPicPr>
        <p:blipFill>
          <a:blip r:embed="rId1"/>
          <a:stretch/>
        </p:blipFill>
        <p:spPr>
          <a:xfrm>
            <a:off x="1476360" y="1341360"/>
            <a:ext cx="636912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учитель</cp:lastModifiedBy>
  <dcterms:modified xsi:type="dcterms:W3CDTF">2015-01-28T09:13:38Z</dcterms:modified>
  <cp:revision>19</cp:revision>
  <dc:subject/>
  <dc:title>Слайд 1</dc:title>
</cp:coreProperties>
</file>