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3318-4F7F-4F68-89E2-DCD175EE8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B23E-ED76-4AC2-B3F7-39409003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B4BF-5054-4E6E-95F3-429FAA351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F02C-B1AA-4434-B004-A6A8B34BA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74D1-BDCB-4333-9157-A3345FA6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EA1C-12A3-4539-96E2-2E8DDFF2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7CF8-6744-4BB4-8899-C5C93DDB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B216-ADEB-4E58-B2E9-CD985B16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05C7-8A92-405A-849F-40D7C9B8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A802-2F96-4316-B545-E80A6BC1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1A48-F4CD-4B69-BF18-E0DF5D60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42EB-683F-4479-BA33-55152103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2266-74E3-49E9-BC27-F6F7DD088F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er3ed.qrz.ru/rozhdestwensky-r-rekwiem.htm" TargetMode="External"/><Relationship Id="rId2" Type="http://schemas.openxmlformats.org/officeDocument/2006/relationships/hyperlink" Target="http://vk.com/feed#/club998865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ff0000"/>
                </a:solidFill>
                <a:latin typeface="Times New Roman"/>
              </a:rPr>
              <a:t>И  ПОБЕДИЛИ ЧЕЛОВЕК И ГОРОД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F:\Новая папка\18.jpg"/>
          <p:cNvPicPr/>
          <p:nvPr/>
        </p:nvPicPr>
        <p:blipFill>
          <a:blip r:embed="rId1"/>
          <a:stretch/>
        </p:blipFill>
        <p:spPr>
          <a:xfrm>
            <a:off x="2268360" y="620640"/>
            <a:ext cx="4751640" cy="33084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0" y="4028040"/>
            <a:ext cx="9144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</a:rPr>
              <a:t>Она пролегла ледяными полями,</a:t>
            </a: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Times New Roman"/>
              </a:rPr>
              <a:t>«Дорогою Жизни» назвали её.</a:t>
            </a: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Times New Roman"/>
              </a:rPr>
              <a:t>И жизнь пробивалась сквозь холод и пламя,</a:t>
            </a: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Times New Roman"/>
              </a:rPr>
              <a:t>Бомбёжки, метели и взломанный лёд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2060"/>
                </a:solidFill>
                <a:latin typeface="Times New Roman"/>
              </a:rPr>
              <a:t>Она – как легенда, как песня, как знамя.</a:t>
            </a: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Times New Roman"/>
              </a:rPr>
              <a:t>У этой дороги не будет конца –</a:t>
            </a: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Times New Roman"/>
              </a:rPr>
              <a:t>Она навсегда пролегла через память,</a:t>
            </a: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Times New Roman"/>
              </a:rPr>
              <a:t>Навеки прошла через наши сердца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27 января 1944 года блокада Ленинграда была полностью снята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2" descr="F:\Новая папка\20.jpg"/>
          <p:cNvPicPr/>
          <p:nvPr/>
        </p:nvPicPr>
        <p:blipFill>
          <a:blip r:embed="rId1"/>
          <a:stretch/>
        </p:blipFill>
        <p:spPr>
          <a:xfrm>
            <a:off x="826920" y="2492280"/>
            <a:ext cx="762012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F:\Новая папка\19.jpeg"/>
          <p:cNvPicPr/>
          <p:nvPr/>
        </p:nvPicPr>
        <p:blipFill>
          <a:blip r:embed="rId1"/>
          <a:stretch/>
        </p:blipFill>
        <p:spPr>
          <a:xfrm>
            <a:off x="900000" y="620640"/>
            <a:ext cx="4745160" cy="326232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2"/>
          <p:cNvSpPr/>
          <p:nvPr/>
        </p:nvSpPr>
        <p:spPr>
          <a:xfrm>
            <a:off x="6012000" y="620640"/>
            <a:ext cx="259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За залпом залп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Гремит салют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Ракеты в воздухе горячем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Цветами пёстрыми цветут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 ленинградцы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Тихо плачу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1187280" y="3933720"/>
            <a:ext cx="633744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0000"/>
                </a:solidFill>
                <a:latin typeface="Times New Roman"/>
              </a:rPr>
              <a:t>Рыдают люди, и поют,</a:t>
            </a:r>
            <a:br>
              <a:rPr sz="2300"/>
            </a:br>
            <a:r>
              <a:rPr b="1" lang="ru-RU" sz="2300" spc="-1" strike="noStrike">
                <a:solidFill>
                  <a:srgbClr val="ff0000"/>
                </a:solidFill>
                <a:latin typeface="Times New Roman"/>
              </a:rPr>
              <a:t>И лиц заплаканных не прячут.</a:t>
            </a:r>
            <a:br>
              <a:rPr sz="2300"/>
            </a:br>
            <a:r>
              <a:rPr b="1" lang="ru-RU" sz="2300" spc="-1" strike="noStrike">
                <a:solidFill>
                  <a:srgbClr val="ff0000"/>
                </a:solidFill>
                <a:latin typeface="Times New Roman"/>
              </a:rPr>
              <a:t>Сегодня в городе –</a:t>
            </a:r>
            <a:br>
              <a:rPr sz="2300"/>
            </a:br>
            <a:r>
              <a:rPr b="1" lang="ru-RU" sz="2300" spc="-1" strike="noStrike">
                <a:solidFill>
                  <a:srgbClr val="ff0000"/>
                </a:solidFill>
                <a:latin typeface="Times New Roman"/>
              </a:rPr>
              <a:t>Салют!</a:t>
            </a:r>
            <a:br>
              <a:rPr sz="2300"/>
            </a:br>
            <a:r>
              <a:rPr b="1" lang="ru-RU" sz="2300" spc="-1" strike="noStrike">
                <a:solidFill>
                  <a:srgbClr val="ff0000"/>
                </a:solidFill>
                <a:latin typeface="Times New Roman"/>
              </a:rPr>
              <a:t>Сегодня ленинградцы</a:t>
            </a:r>
            <a:br>
              <a:rPr sz="2300"/>
            </a:br>
            <a:r>
              <a:rPr b="1" lang="ru-RU" sz="2300" spc="-1" strike="noStrike">
                <a:solidFill>
                  <a:srgbClr val="ff0000"/>
                </a:solidFill>
                <a:latin typeface="Times New Roman"/>
              </a:rPr>
              <a:t>Плачут..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F:\Новая папка\22.jpg"/>
          <p:cNvPicPr/>
          <p:nvPr/>
        </p:nvPicPr>
        <p:blipFill>
          <a:blip r:embed="rId1"/>
          <a:stretch/>
        </p:blipFill>
        <p:spPr>
          <a:xfrm>
            <a:off x="611280" y="476280"/>
            <a:ext cx="792144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1332000" y="686160"/>
            <a:ext cx="69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Люди! Покуда сердца стучатся, - помните! Какою ценой завоёвано счастье, - пожалуйста, помните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" descr="F:\Новая папка\3cbcebc257aff4ae2e8acd2982e68179.jpg"/>
          <p:cNvPicPr/>
          <p:nvPr/>
        </p:nvPicPr>
        <p:blipFill>
          <a:blip r:embed="rId1"/>
          <a:stretch/>
        </p:blipFill>
        <p:spPr>
          <a:xfrm>
            <a:off x="2050920" y="2349360"/>
            <a:ext cx="532944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528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0000"/>
                </a:solidFill>
                <a:latin typeface="Times New Roman"/>
              </a:rPr>
              <a:t>Интернет - ресур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040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http://er3ed.qrz.ru/rozhdestwensky-r-rekwiem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http://vk.com/feed#/club998865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«Город, которого больше нет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755640" y="1989000"/>
            <a:ext cx="77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езентация выполнена учителем истории и культуры Санкт-Петербурга, педагогом дополнительного образования, заведующим школьной музейной экспозици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ийменко Еленой Валерьевн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БОУ СОШ № 21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Довоенный Ленингра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4392360" cy="324036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7"/>
          <p:cNvSpPr/>
          <p:nvPr/>
        </p:nvSpPr>
        <p:spPr>
          <a:xfrm>
            <a:off x="5148360" y="2492280"/>
            <a:ext cx="35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9194d"/>
                </a:solidFill>
                <a:latin typeface="Times New Roman"/>
              </a:rPr>
              <a:t>Я не покину город мой,</a:t>
            </a:r>
            <a:br>
              <a:rPr sz="1800"/>
            </a:br>
            <a:r>
              <a:rPr b="1" i="1" lang="ru-RU" sz="1800" spc="-1" strike="noStrike">
                <a:solidFill>
                  <a:srgbClr val="19194d"/>
                </a:solidFill>
                <a:latin typeface="Times New Roman"/>
              </a:rPr>
              <a:t>Венчанный трауром и славой.</a:t>
            </a:r>
            <a:br>
              <a:rPr sz="1800"/>
            </a:br>
            <a:r>
              <a:rPr b="1" i="1" lang="ru-RU" sz="1800" spc="-1" strike="noStrike">
                <a:solidFill>
                  <a:srgbClr val="19194d"/>
                </a:solidFill>
                <a:latin typeface="Times New Roman"/>
              </a:rPr>
              <a:t>Здесь каждый камень мостовой</a:t>
            </a:r>
            <a:br>
              <a:rPr sz="1800"/>
            </a:br>
            <a:r>
              <a:rPr b="1" i="1" lang="ru-RU" sz="1800" spc="-1" strike="noStrike">
                <a:solidFill>
                  <a:srgbClr val="19194d"/>
                </a:solidFill>
                <a:latin typeface="Times New Roman"/>
              </a:rPr>
              <a:t>Свидетель жизни величаво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Прямоугольник 8"/>
          <p:cNvSpPr/>
          <p:nvPr/>
        </p:nvSpPr>
        <p:spPr>
          <a:xfrm>
            <a:off x="3348000" y="4653000"/>
            <a:ext cx="37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9194d"/>
                </a:solidFill>
                <a:latin typeface="Times New Roman"/>
              </a:rPr>
              <a:t>Здесь каждый памятник воспет</a:t>
            </a:r>
            <a:br>
              <a:rPr sz="1800"/>
            </a:br>
            <a:r>
              <a:rPr b="1" i="1" lang="ru-RU" sz="1800" spc="-1" strike="noStrike">
                <a:solidFill>
                  <a:srgbClr val="19194d"/>
                </a:solidFill>
                <a:latin typeface="Times New Roman"/>
              </a:rPr>
              <a:t>Стихом пророческим поэта.</a:t>
            </a:r>
            <a:br>
              <a:rPr sz="1800"/>
            </a:br>
            <a:r>
              <a:rPr b="1" i="1" lang="ru-RU" sz="1800" spc="-1" strike="noStrike">
                <a:solidFill>
                  <a:srgbClr val="19194d"/>
                </a:solidFill>
                <a:latin typeface="Times New Roman"/>
              </a:rPr>
              <a:t>Здесь Пушкина и Фальконета</a:t>
            </a:r>
            <a:br>
              <a:rPr sz="1800"/>
            </a:br>
            <a:r>
              <a:rPr b="1" i="1" lang="ru-RU" sz="1800" spc="-1" strike="noStrike">
                <a:solidFill>
                  <a:srgbClr val="19194d"/>
                </a:solidFill>
                <a:latin typeface="Times New Roman"/>
              </a:rPr>
              <a:t>Вдвойне бессмертен силуэ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5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Вставай, страна огромная, вставай на сметный бой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" descr="F:\Новая папка\2.jpg"/>
          <p:cNvPicPr/>
          <p:nvPr/>
        </p:nvPicPr>
        <p:blipFill>
          <a:blip r:embed="rId1"/>
          <a:stretch/>
        </p:blipFill>
        <p:spPr>
          <a:xfrm>
            <a:off x="4973760" y="1844640"/>
            <a:ext cx="3409920" cy="4327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F:\Новая папка\3.jpg"/>
          <p:cNvPicPr/>
          <p:nvPr/>
        </p:nvPicPr>
        <p:blipFill>
          <a:blip r:embed="rId2"/>
          <a:stretch/>
        </p:blipFill>
        <p:spPr>
          <a:xfrm>
            <a:off x="1187280" y="1844640"/>
            <a:ext cx="32403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«Фюрер решил стереть с лица земли город Ленинград…»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3" descr="F:\Новая папка\5.jpg"/>
          <p:cNvPicPr/>
          <p:nvPr/>
        </p:nvPicPr>
        <p:blipFill>
          <a:blip r:embed="rId1"/>
          <a:stretch/>
        </p:blipFill>
        <p:spPr>
          <a:xfrm>
            <a:off x="611280" y="2133720"/>
            <a:ext cx="2808360" cy="1631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F:\Новая папка\3 а.jpg"/>
          <p:cNvPicPr/>
          <p:nvPr/>
        </p:nvPicPr>
        <p:blipFill>
          <a:blip r:embed="rId2"/>
          <a:stretch/>
        </p:blipFill>
        <p:spPr>
          <a:xfrm>
            <a:off x="4200480" y="2781360"/>
            <a:ext cx="36133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Враг не пройдёт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2" descr="F:\Новая папка\4.jpg"/>
          <p:cNvPicPr/>
          <p:nvPr/>
        </p:nvPicPr>
        <p:blipFill>
          <a:blip r:embed="rId1"/>
          <a:stretch/>
        </p:blipFill>
        <p:spPr>
          <a:xfrm>
            <a:off x="684360" y="1700280"/>
            <a:ext cx="4751280" cy="36907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5508720" y="1640160"/>
            <a:ext cx="302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Мы знаем:</a:t>
            </a:r>
            <a:br>
              <a:rPr sz="1800"/>
            </a:b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Клятвы говорить не просто.</a:t>
            </a:r>
            <a:br>
              <a:rPr sz="1800"/>
            </a:b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И если в Ленинград ворвётся враг,</a:t>
            </a:r>
            <a:br>
              <a:rPr sz="1800"/>
            </a:b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Мы разорвём последнюю из простынь</a:t>
            </a:r>
            <a:br>
              <a:rPr sz="1800"/>
            </a:b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Лишь на бинты,</a:t>
            </a:r>
            <a:br>
              <a:rPr sz="1800"/>
            </a:b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Но не на белый флаг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052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О, этот город! Как его пытали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3" descr="F:\Новая папка\12.jpg"/>
          <p:cNvPicPr/>
          <p:nvPr/>
        </p:nvPicPr>
        <p:blipFill>
          <a:blip r:embed="rId1"/>
          <a:stretch/>
        </p:blipFill>
        <p:spPr>
          <a:xfrm>
            <a:off x="2700360" y="1989000"/>
            <a:ext cx="417672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F:\Новая папка\10.jpg"/>
          <p:cNvPicPr/>
          <p:nvPr/>
        </p:nvPicPr>
        <p:blipFill>
          <a:blip r:embed="rId1"/>
          <a:stretch/>
        </p:blipFill>
        <p:spPr>
          <a:xfrm>
            <a:off x="2340000" y="2205000"/>
            <a:ext cx="4343400" cy="3259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Сто двадцать пять давали граммов хлеба, больным и детям на блокадный день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Ленинград – город живых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2268360" y="1268280"/>
            <a:ext cx="3911760" cy="293544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4"/>
          <p:cNvSpPr/>
          <p:nvPr/>
        </p:nvSpPr>
        <p:spPr>
          <a:xfrm>
            <a:off x="1763640" y="4437000"/>
            <a:ext cx="5977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</a:rPr>
              <a:t>Но в то, что умер город наш, – не верьте!</a:t>
            </a: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Times New Roman"/>
              </a:rPr>
              <a:t>Нас не согнут</a:t>
            </a: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Times New Roman"/>
              </a:rPr>
              <a:t>Отчаянье и страх,</a:t>
            </a: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Times New Roman"/>
              </a:rPr>
              <a:t>Мы знаем от людей, сражённых смертью,</a:t>
            </a: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Times New Roman"/>
              </a:rPr>
              <a:t>Что означает:</a:t>
            </a:r>
            <a:br>
              <a:rPr sz="1600"/>
            </a:br>
            <a:r>
              <a:rPr b="1" i="1" lang="ru-RU" sz="1600" spc="-1" strike="noStrike">
                <a:solidFill>
                  <a:srgbClr val="002060"/>
                </a:solidFill>
                <a:latin typeface="Times New Roman"/>
              </a:rPr>
              <a:t>«Смертью смерть поправ»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Трасса 101 –Дорога Жизн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F:\Новая папка\17.jpg"/>
          <p:cNvPicPr/>
          <p:nvPr/>
        </p:nvPicPr>
        <p:blipFill>
          <a:blip r:embed="rId1"/>
          <a:stretch/>
        </p:blipFill>
        <p:spPr>
          <a:xfrm>
            <a:off x="1476360" y="1341360"/>
            <a:ext cx="6369120" cy="46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учитель</cp:lastModifiedBy>
  <dcterms:modified xsi:type="dcterms:W3CDTF">2015-01-28T09:13:38Z</dcterms:modified>
  <cp:revision>19</cp:revision>
  <dc:subject/>
  <dc:title>Слайд 1</dc:title>
</cp:coreProperties>
</file>