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5FAF-E422-4E9E-9E6C-CC9A0A48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023F-C398-4C8A-9CCA-027A4EE4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5916-B73D-4272-8BF3-31636FF5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FD1-6552-4117-A378-0A4367E9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3F03-BD33-4E6C-8B95-5491A3CB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B7FF-287A-4B06-B3D2-18641881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608D-8616-410E-9B97-0ADBD724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5A57-510C-4021-9D88-74BEB1AA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36E0-DCFD-4CFC-93BE-D71E9F2F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CCAB-4689-4CB4-A94B-E549693B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EAAE-EF0E-423E-9716-CA806B74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9558-7530-4FDF-A63A-A1CAC3F6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FB0E-9407-46EC-B828-A1EAE59C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55C9-737D-4B35-B0D0-CE08B947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16AF-D576-48BC-A642-AFBF5019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83FA-8BE0-4790-978E-B787CD06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969F-2478-463B-9D86-18083EEC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C383-8567-4CD7-8497-BB3D5636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41CD-70D9-4386-B190-55CB0536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9D32-02D9-467E-B814-71CC5409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105E-93AA-4CAC-A4FA-F5B94B28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4BCA-E6FA-474C-9497-8145BA28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5272-AC6D-4052-AE1B-9204AD2C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16FD-384D-487A-842E-EEA99E9D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AEFE-7033-40C6-8891-FE34801CD1C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B782-7288-438A-9119-202252B8F57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75;&#1088;&#1086;&#1079;&#1072;%20&#1082;&#1072;&#1088;&#1090;&#1080;&#1085;&#1082;&#1080;&amp;fp=0&amp;pos=5&amp;uinfo=ww-1263-wh-929-fw-1038-fh-598-pd-1&amp;rpt=simage&amp;img_url=http%3A%2F%2Fwww.ostashkov.ru%2Ffoto%2Fimg-13413.jpe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4;&#1072;&#1075;&#1085;&#1080;&#1090;&#1085;&#1099;&#1077;%20&#1103;&#1074;&#1083;&#1077;&#1085;&#1080;&#1103;%20&#1082;&#1072;&#1088;&#1090;&#1080;&#1085;&#1082;&#1080;&amp;fp=0&amp;img_url=http%3A%2F%2Fkukuzey.rad-school2.edusite.ru%2Fimages%2Fp37_magnityi.jpg&amp;pos=1&amp;uinfo=ww-1263-wh-929-fw-1038-fh-598-pd-1&amp;rpt=simag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yandex.ru/yandsearch?text=&#1084;&#1072;&#1075;&#1085;&#1080;&#1090;&#1085;&#1099;&#1077;%20&#1103;&#1074;&#1083;&#1077;&#1085;&#1080;&#1103;%20&#1082;&#1072;&#1088;&#1090;&#1080;&#1085;&#1082;&#1080;&amp;fp=0&amp;img_url=http%3A%2F%2Fwww.qrz.ru%2Fsolar%2Farticles%2Fmagnet-03.jpg&amp;pos=11&amp;uinfo=ww-1263-wh-929-fw-1038-fh-598-pd-1&amp;rpt=simage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yandex.ru/yandsearch?p=2&amp;text=&#1084;&#1072;&#1075;&#1085;&#1080;&#1090;&#1085;&#1099;&#1077;%20&#1103;&#1074;&#1083;&#1077;&#1085;&#1080;&#1103;%20&#1082;&#1072;&#1088;&#1090;&#1080;&#1085;&#1082;&#1080;&amp;fp=2&amp;img_url=http%3A%2F%2Fwww.khoahoc.com.vn%2Fphotos%2Fimage%2F112012%2F23%2Fmagnet1.jpg&amp;pos=77&amp;uinfo=ww-1263-wh-929-fw-1038-fh-598-pd-1&amp;rpt=simage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0;&#1091;&#1084;&#1072;&#1085;&amp;fp=0&amp;img_url=http%3A%2F%2Fth09.deviantart.net%2Ffs70%2F150%2Fi%2F2010%2F086%2F5%2F4%2FFlying_Dutchman______by_VTaabu.jpg&amp;pos=16&amp;uinfo=ww-1263-wh-929-fw-1038-fh-598-pd-1&amp;rpt=simage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yandex.ru/yandsearch?p=1&amp;text=&#1082;&#1080;&#1087;&#1077;&#1085;&#1080;&#1077;%20&#1074;&#1086;&#1076;&#1099;&amp;fp=1&amp;img_url=http%3A%2F%2Fwww.gregcons.com%2FKateBlog%2Fcontent%2Fbinary%2Fkettle.jpg&amp;pos=32&amp;uinfo=ww-1263-wh-929-fw-1038-fh-598-pd-1&amp;rpt=simage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yandex.ru/yandsearch?text=&#1082;&#1086;&#1089;&#1090;&#1077;&#1088;%20&#1092;&#1086;&#1090;&#1086;&amp;fp=0&amp;img_url=http%3A%2F%2Fwww.stihi.ru%2Fpics%2F2010%2F08%2F06%2F6492.jpg&amp;pos=0&amp;uinfo=ww-1263-wh-929-fw-1038-fh-598-pd-1&amp;rpt=simage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9;&#1087;&#1088;&#1091;&#1075;&#1080;&#1077;_&#1074;&#1086;&#1083;&#1085;&#1099;" TargetMode="External"/><Relationship Id="rId2" Type="http://schemas.openxmlformats.org/officeDocument/2006/relationships/hyperlink" Target="http://images.yandex.ru/yandsearch?text=&#1079;&#1074;&#1091;&#1082;&#1086;&#1074;&#1099;&#1077;%20&#1103;&#1074;&#1083;&#1077;&#1085;&#1080;&#1103;&amp;fp=0&amp;img_url=http%3A%2F%2Fimg.board.com.ua%2Fa%2F1043521388%2Fwm%2F1-kursyi-zvukorezhissuryi-i-zvukozapisi.jpg&amp;pos=9&amp;uinfo=ww-1263-wh-929-fw-1038-fh-598-pd-1&amp;rpt=simage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6;&#1087;&#1090;&#1080;&#1095;&#1077;&#1089;&#1080;&#1082;&#1077;%20&#1103;&#1074;&#1083;&#1077;&#1085;&#1080;&#1103;&amp;fp=0&amp;img_url=http%3A%2F%2Ffemto.com.ua%2Fphys_photo%2Fpp0010.jpg&amp;pos=0&amp;uinfo=ww-1263-wh-929-fw-0-fh-598-pd-1&amp;rpt=simage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text=&#1086;&#1087;&#1090;&#1080;&#1095;&#1077;&#1089;&#1080;&#1082;&#1077;%20&#1103;&#1074;&#1083;&#1077;&#1085;&#1080;&#1103;&amp;fp=0&amp;img_url=http%3A%2F%2Fupload.wikimedia.org%2Fwikipedia%2Fcommons%2F8%2F84%2FTakakkawFalls2_edit.jpg&amp;pos=28&amp;uinfo=ww-1263-wh-929-fw-0-fh-598-pd-1&amp;rpt=simage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yandex.ru/yandsearch?p=1&amp;text=&#1086;&#1087;&#1090;&#1080;&#1095;&#1077;&#1089;&#1082;&#1080;&#1077;%20&#1103;&#1074;&#1083;&#1077;&#1085;&#1080;&#1103;&amp;fp=1&amp;img_url=http%3A%2F%2F5klass.net%2Fdatas%2Ffizika%2FOpticheskie-javlenija%2F0005-005-Opticheskie-javlenija.jpg&amp;pos=47&amp;uinfo=ww-1263-wh-929-fw-1038-fh-598-pd-1&amp;rpt=simage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771640" y="5661000"/>
            <a:ext cx="396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нкт-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3 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16000" y="2781360"/>
            <a:ext cx="6696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ические явления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640" y="260280"/>
            <a:ext cx="712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езентация по физик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333360"/>
            <a:ext cx="842472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я, происходящие с телами и веществами в окружающем мире, называю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явлениям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Физике изучают физические явления. Они делятся н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Механ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Электр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Магни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Тепл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Звук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Опт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еханические явл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явления, которые происходят с физическими телами при их движении относительно друг др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364500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2808360" cy="2592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3240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Электрические явл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явления, которые возникают при появлении, существовании, движении и взаимодействии электрических заря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3141720"/>
            <a:ext cx="61912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агнитные явл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явления, связанные с возникновением у физических тел магнитных свой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573360"/>
            <a:ext cx="2592360" cy="2735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16360" y="4508640"/>
            <a:ext cx="2954160" cy="2233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3573360"/>
            <a:ext cx="2881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епловые явл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 явления, которые происходят при нагревании и охлаждении физических те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197000"/>
            <a:ext cx="3384720" cy="23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93372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3280" y="3716280"/>
            <a:ext cx="3313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Звуковые явл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распространение в виде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упругих волн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механических колебаний в твёрдой, жидкой или газообразной сре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7640" y="3716280"/>
            <a:ext cx="5616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Оптические явл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явления, которые происходят при распространении, преломлении и отражении св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3429000"/>
            <a:ext cx="2880000" cy="295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3213000"/>
            <a:ext cx="2881080" cy="2808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0360" y="2708280"/>
            <a:ext cx="28083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 каким явлениям относи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ижение маш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чение жидк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лектрический 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ражение света от зерк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яние ль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пловое расширение т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магнитов на желез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49:22Z</dcterms:created>
  <dc:creator>user</dc:creator>
  <dc:description/>
  <dc:language>en-US</dc:language>
  <cp:lastModifiedBy>user</cp:lastModifiedBy>
  <dcterms:modified xsi:type="dcterms:W3CDTF">2013-11-19T08:49:30Z</dcterms:modified>
  <cp:revision>4</cp:revision>
  <dc:subject/>
  <dc:title>Презентация по физике</dc:title>
</cp:coreProperties>
</file>