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DBF-8B02-4D52-A6EF-64D4EE6C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CA3-562A-4D39-B620-9C6102F6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84F-13E3-48EA-879C-91AD8810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2F0-7666-4A23-B4A7-72B6CE6A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9FE6-9B2E-4F7B-A6E2-23680E1B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833-8E42-4F9F-964E-CAB0C51B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9AE0-3AB7-477F-8F85-50DB970A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4F09-B450-454F-BBF6-CE77274C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ACE6-09BD-4010-8FE2-DD2B291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D802-A45F-4C54-A021-5B26C5E5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494F-0E57-46EC-85FA-0F919F77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FE5-2F6B-4759-B277-50339E9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507-2658-4D85-A287-D468CB8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2E9F-7E5A-4C39-B55A-1EDE581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8BEA-DE1C-4241-A926-475AAEC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5BAD-AA8A-477D-AE40-D6E7F33A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0158-91AC-4D54-B658-0174C2DB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105-13B9-43AC-B3A9-51FEFD13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49E-F028-4C9D-902F-8E3569C6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0DF-FA67-4CE2-AEFC-AF905F0F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AF1-983A-44FC-B2D8-012AD47C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496-8C4C-47EF-9D22-7B9EAD35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7D9-37C2-4279-AD51-12FFED5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C37-B9A6-4A48-B1DC-51BA7DB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48B5-AEC3-4B4B-81BB-6EB80BA767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03E0-89C1-445F-A3B2-16B9F1E1DD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5;&#1088;&#1086;&#1079;&#1072;%20&#1082;&#1072;&#1088;&#1090;&#1080;&#1085;&#1082;&#1080;&amp;fp=0&amp;pos=5&amp;uinfo=ww-1263-wh-929-fw-1038-fh-598-pd-1&amp;rpt=simage&amp;img_url=http%3A%2F%2Fwww.ostashkov.ru%2Ffoto%2Fimg-13413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72;&#1075;&#1085;&#1080;&#1090;&#1085;&#1099;&#1077;%20&#1103;&#1074;&#1083;&#1077;&#1085;&#1080;&#1103;%20&#1082;&#1072;&#1088;&#1090;&#1080;&#1085;&#1082;&#1080;&amp;fp=0&amp;img_url=http%3A%2F%2Fkukuzey.rad-school2.edusite.ru%2Fimages%2Fp37_magnityi.jpg&amp;pos=1&amp;uinfo=ww-1263-wh-929-fw-1038-fh-598-pd-1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84;&#1072;&#1075;&#1085;&#1080;&#1090;&#1085;&#1099;&#1077;%20&#1103;&#1074;&#1083;&#1077;&#1085;&#1080;&#1103;%20&#1082;&#1072;&#1088;&#1090;&#1080;&#1085;&#1082;&#1080;&amp;fp=0&amp;img_url=http%3A%2F%2Fwww.qrz.ru%2Fsolar%2Farticles%2Fmagnet-03.jpg&amp;pos=11&amp;uinfo=ww-1263-wh-929-fw-1038-fh-598-pd-1&amp;rpt=simage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yandsearch?p=2&amp;text=&#1084;&#1072;&#1075;&#1085;&#1080;&#1090;&#1085;&#1099;&#1077;%20&#1103;&#1074;&#1083;&#1077;&#1085;&#1080;&#1103;%20&#1082;&#1072;&#1088;&#1090;&#1080;&#1085;&#1082;&#1080;&amp;fp=2&amp;img_url=http%3A%2F%2Fwww.khoahoc.com.vn%2Fphotos%2Fimage%2F112012%2F23%2Fmagnet1.jpg&amp;pos=77&amp;uinfo=ww-1263-wh-929-fw-1038-fh-598-pd-1&amp;rpt=simage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0;&#1091;&#1084;&#1072;&#1085;&amp;fp=0&amp;img_url=http%3A%2F%2Fth09.deviantart.net%2Ffs70%2F150%2Fi%2F2010%2F086%2F5%2F4%2FFlying_Dutchman______by_VTaabu.jpg&amp;pos=16&amp;uinfo=ww-1263-wh-929-fw-1038-fh-598-pd-1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yandsearch?p=1&amp;text=&#1082;&#1080;&#1087;&#1077;&#1085;&#1080;&#1077;%20&#1074;&#1086;&#1076;&#1099;&amp;fp=1&amp;img_url=http%3A%2F%2Fwww.gregcons.com%2FKateBlog%2Fcontent%2Fbinary%2Fkettle.jpg&amp;pos=32&amp;uinfo=ww-1263-wh-929-fw-1038-fh-598-pd-1&amp;rpt=simage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yandex.ru/yandsearch?text=&#1082;&#1086;&#1089;&#1090;&#1077;&#1088;%20&#1092;&#1086;&#1090;&#1086;&amp;fp=0&amp;img_url=http%3A%2F%2Fwww.stihi.ru%2Fpics%2F2010%2F08%2F06%2F6492.jpg&amp;pos=0&amp;uinfo=ww-1263-wh-929-fw-1038-fh-598-pd-1&amp;rpt=simage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8;&#1091;&#1075;&#1080;&#1077;_&#1074;&#1086;&#1083;&#1085;&#1099;" TargetMode="External"/><Relationship Id="rId2" Type="http://schemas.openxmlformats.org/officeDocument/2006/relationships/hyperlink" Target="http://images.yandex.ru/yandsearch?text=&#1079;&#1074;&#1091;&#1082;&#1086;&#1074;&#1099;&#1077;%20&#1103;&#1074;&#1083;&#1077;&#1085;&#1080;&#1103;&amp;fp=0&amp;img_url=http%3A%2F%2Fimg.board.com.ua%2Fa%2F1043521388%2Fwm%2F1-kursyi-zvukorezhissuryi-i-zvukozapisi.jpg&amp;pos=9&amp;uinfo=ww-1263-wh-929-fw-1038-fh-598-pd-1&amp;rpt=simage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6;&#1087;&#1090;&#1080;&#1095;&#1077;&#1089;&#1080;&#1082;&#1077;%20&#1103;&#1074;&#1083;&#1077;&#1085;&#1080;&#1103;&amp;fp=0&amp;img_url=http%3A%2F%2Ffemto.com.ua%2Fphys_photo%2Fpp0010.jpg&amp;pos=0&amp;uinfo=ww-1263-wh-929-fw-0-fh-598-pd-1&amp;rpt=simage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86;&#1087;&#1090;&#1080;&#1095;&#1077;&#1089;&#1080;&#1082;&#1077;%20&#1103;&#1074;&#1083;&#1077;&#1085;&#1080;&#1103;&amp;fp=0&amp;img_url=http%3A%2F%2Fupload.wikimedia.org%2Fwikipedia%2Fcommons%2F8%2F84%2FTakakkawFalls2_edit.jpg&amp;pos=28&amp;uinfo=ww-1263-wh-929-fw-0-fh-598-pd-1&amp;rpt=simage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p=1&amp;text=&#1086;&#1087;&#1090;&#1080;&#1095;&#1077;&#1089;&#1082;&#1080;&#1077;%20&#1103;&#1074;&#1083;&#1077;&#1085;&#1080;&#1103;&amp;fp=1&amp;img_url=http%3A%2F%2F5klass.net%2Fdatas%2Ffizika%2FOpticheskie-javlenija%2F0005-005-Opticheskie-javlenija.jpg&amp;pos=47&amp;uinfo=ww-1263-wh-929-fw-1038-fh-598-pd-1&amp;rpt=simage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71640" y="5661000"/>
            <a:ext cx="39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 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2781360"/>
            <a:ext cx="66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ие явления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26028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зентация по физик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333360"/>
            <a:ext cx="842472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, происходящие с телами и веществами в окружающем мире, называю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вления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Физике изучают физические явления. Они делятся 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Меха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Электр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Магни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Тепл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Звук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Оп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еханически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которые происходят с физическими телами при их движении относительно друг д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3645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Электрически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которые возникают при появлении, существовании, движении и взаимодействии электрических заря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141720"/>
            <a:ext cx="619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гнитны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связанные с возникновением у физических тел магнитных свой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573360"/>
            <a:ext cx="25923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4508640"/>
            <a:ext cx="2954160" cy="223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573360"/>
            <a:ext cx="2881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епловы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явления, которые происходят при нагревании и охлаждении физических те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197000"/>
            <a:ext cx="338472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3716280"/>
            <a:ext cx="3313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Звуковы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распространение в виде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упругих волн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механических колебаний в твёрдой, жидкой или газообразной сре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716280"/>
            <a:ext cx="5616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птически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которые происходят при распространении, преломлении и отражении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3429000"/>
            <a:ext cx="28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21300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2708280"/>
            <a:ext cx="2808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каким явлениям относ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е ма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чение жидк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лектрический 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ражение света от зерк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яние ль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пловое расширение 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магнитов на желе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49:22Z</dcterms:created>
  <dc:creator>user</dc:creator>
  <dc:description/>
  <dc:language>en-US</dc:language>
  <cp:lastModifiedBy>user</cp:lastModifiedBy>
  <dcterms:modified xsi:type="dcterms:W3CDTF">2013-11-19T08:49:30Z</dcterms:modified>
  <cp:revision>4</cp:revision>
  <dc:subject/>
  <dc:title>Презентация по физике</dc:title>
</cp:coreProperties>
</file>