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2B1B-D8BA-46ED-AD87-E74CA5784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72C6-F0EF-44A2-8B62-A520B983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E48C-8914-4A65-8901-7194853AC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4694-63A7-48DA-AB06-1CE0F58D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F7E6-2063-4262-A68D-A09309C32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AD6E-2D04-4F4F-A8C2-C3362213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1631-1A71-4FB6-9DCD-D91F4A09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8732-F0B0-4DEC-9FE0-A3B2A3D0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C3B0-ED4C-422C-BDC1-7EC49CB4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A7D3-FEED-4A00-891F-E595B746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6CAF-AC47-4E41-BFFA-62610223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98AB-7ED8-4540-BDDD-9A384BE7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7FDC-D485-4509-933A-AB5F62B8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E65C-0320-4A57-A93C-25F6AF77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EEBB-7B4E-483F-9FA2-92DDCF1C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4D08-FA1F-4EC3-B477-DD79ED5E9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B09A-23A6-45EC-92E3-ED3EC11AC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F0E5-820E-4A6E-B579-15F344A3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7626-5DCF-48C1-98A3-AE90F9BC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B15D-0F34-4F3D-8A2B-A4912AF0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A879-B8F9-460E-8FE9-E227D3A7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BC38-6A94-48E5-A9F7-0DFC8FC2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8BBC-9104-4317-A007-B069D58A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1588-C30A-44F6-98E0-D9BE17A2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DAD7-2108-4E92-B475-5B87FA10BA5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36E9-9248-4A4A-84A2-CFC63C2D789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9efee"/>
                </a:solidFill>
                <a:latin typeface="Garamond"/>
              </a:rPr>
              <a:t>Использование инновационных и развивающих технологий в развитии речи дошкольников</a:t>
            </a:r>
            <a:br>
              <a:rPr sz="4800"/>
            </a:b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41128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дготовил: учитель-логопед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БДОУ детский сад комбинированного вида №4 г.о.г. Выкс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Фунтова С.Ш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Times New Roman"/>
              </a:rPr>
              <a:t>ТРИЗ.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      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сновная задача использования ТРИЗ - технологии в дошкольном возрасте – это привить ребенку радость творческих открыти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сновной критерий в работе с детьми – доходчивость и простота в подаче материала и в формулировке сложной, казалось бы, ситуаци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Times New Roman"/>
              </a:rPr>
              <a:t>Синквейн.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Реч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Чистая, правильная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Учим, повторяем, закрепляем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Мы многое узнали о развитии реч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Здорово!!!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Конструкторы ЛЕГО.</a:t>
            </a:r>
            <a:br>
              <a:rPr sz="4000"/>
            </a:br>
            <a:r>
              <a:rPr b="0" lang="en-US" sz="2400" spc="-1" strike="noStrike">
                <a:solidFill>
                  <a:srgbClr val="b9efee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b9efee"/>
                </a:solidFill>
                <a:latin typeface="Garamond"/>
              </a:rPr>
              <a:t>конструктивно-игровая деятельность)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Фотографии Lego Architecture Дом Фансворта (21009). Игрушка …"/>
          <p:cNvPicPr/>
          <p:nvPr/>
        </p:nvPicPr>
        <p:blipFill>
          <a:blip r:embed="rId2"/>
          <a:stretch/>
        </p:blipFill>
        <p:spPr>
          <a:xfrm>
            <a:off x="684360" y="1557360"/>
            <a:ext cx="3816360" cy="4464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Прочие детские товары, продажа, где купить - цены в интернет-магазинах"/>
          <p:cNvPicPr/>
          <p:nvPr/>
        </p:nvPicPr>
        <p:blipFill>
          <a:blip r:embed="rId3"/>
          <a:stretch/>
        </p:blipFill>
        <p:spPr>
          <a:xfrm>
            <a:off x="4788000" y="2852640"/>
            <a:ext cx="417168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В современной педагогике есть еще не мало технологий, которые можно использовать для развития речи.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о существуют определенные правила их использования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2730600"/>
            <a:ext cx="6120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) Предлагаемый детям наглядный материал должен быть доступен, прост и поняте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) Следует стремиться к тому, чтобы используемый материал (наглядный или демонстрационный) оказывал воздействие на максимально возможное количество органов чувст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) Обязательное подкрепление демонстрации речью. Речевое пояснение в сочетании с наглядностью углубляет постижение и осмысление предмета объясн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" descr="Спасибо за внимание - Картинка 8461/76"/>
          <p:cNvPicPr/>
          <p:nvPr/>
        </p:nvPicPr>
        <p:blipFill>
          <a:blip r:embed="rId2"/>
          <a:stretch/>
        </p:blipFill>
        <p:spPr>
          <a:xfrm>
            <a:off x="155520" y="46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764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Формирование речи у дошкольников является важной и трудно решаемой задачей. Успешное решение этой задачи необходимо как для подготовки детей к предстоящему школьному обучению, так и для комфортного общения с окружающими. Однако развитие речи у детей в настоящем времени представляет собой актуальную проблему, что обусловлено значимостью связной речи для дошкольников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Целевые ориентиры речевого развития детей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статочно хорошо владеет устной речью, может выражать свои мысли, чувства и желания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жет построить речевое высказывание в ситуации общения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жет выделять звуки в словах, у него складываются предпосылки грамотност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пособен договариваться, учитывая интересы других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являет любознательность, задаѐт вопросы, пытается самостоятельно придумывать объяснения явлениям природы, поступкам людей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наком с произведениями детской литературы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Технологии развития реч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радиционные (образец рассказа педагога, построчное заучивание стихотворения, поэтапное рассматривание и описание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нновационные -  формирующие творческие способности, развивающие нестандартное видения мира, новое мышлени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Инновационные технологии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альчиковые игры в воде, сухом бассейн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огоритмика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делирован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ИЗ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инквейн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гровы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личные виды терапий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структоры ЛЕГ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Пальчиковые игры в воде, сухом бассейне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занятия с детьми до 3 лет Записи с меткой занятия с детьми до 3 лет Дневник Разумники : LiveInternet - Российский Сервис Онлайн-"/>
          <p:cNvPicPr/>
          <p:nvPr/>
        </p:nvPicPr>
        <p:blipFill>
          <a:blip r:embed="rId2"/>
          <a:stretch/>
        </p:blipFill>
        <p:spPr>
          <a:xfrm>
            <a:off x="611280" y="1484280"/>
            <a:ext cx="3240000" cy="3889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Игры с крупами)"/>
          <p:cNvPicPr/>
          <p:nvPr/>
        </p:nvPicPr>
        <p:blipFill>
          <a:blip r:embed="rId3"/>
          <a:stretch/>
        </p:blipFill>
        <p:spPr>
          <a:xfrm>
            <a:off x="3995640" y="2133720"/>
            <a:ext cx="4826160" cy="44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Times New Roman"/>
              </a:rPr>
              <a:t>Логоритмик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Каталог статей - Портал ДОУ Вейделевского района"/>
          <p:cNvPicPr/>
          <p:nvPr/>
        </p:nvPicPr>
        <p:blipFill>
          <a:blip r:embed="rId2"/>
          <a:stretch/>
        </p:blipFill>
        <p:spPr>
          <a:xfrm>
            <a:off x="324000" y="3716280"/>
            <a:ext cx="3549600" cy="2951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Педагогика, образование proDiss.ru"/>
          <p:cNvPicPr/>
          <p:nvPr/>
        </p:nvPicPr>
        <p:blipFill>
          <a:blip r:embed="rId3"/>
          <a:stretch/>
        </p:blipFill>
        <p:spPr>
          <a:xfrm>
            <a:off x="468360" y="836640"/>
            <a:ext cx="2233440" cy="2735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Персональный сайт - 6"/>
          <p:cNvPicPr/>
          <p:nvPr/>
        </p:nvPicPr>
        <p:blipFill>
          <a:blip r:embed="rId4"/>
          <a:stretch/>
        </p:blipFill>
        <p:spPr>
          <a:xfrm>
            <a:off x="4067280" y="1413000"/>
            <a:ext cx="5076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Times New Roman"/>
              </a:rPr>
              <a:t>Моделирование.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глядное моделирование – это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орные картинки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хемы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немотаблицы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рточки-символы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альные приметы и т.п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СТИХОТВОРЕН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" descr="C:\Users\Дмитрий и Анастасия\Desktop\scrn_big_1.jpg"/>
          <p:cNvPicPr/>
          <p:nvPr/>
        </p:nvPicPr>
        <p:blipFill>
          <a:blip r:embed="rId2"/>
          <a:stretch/>
        </p:blipFill>
        <p:spPr>
          <a:xfrm>
            <a:off x="324000" y="1268280"/>
            <a:ext cx="5151240" cy="2479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C:\Users\Дмитрий и Анастасия\Desktop\02labc55g1313781512.jpg"/>
          <p:cNvPicPr/>
          <p:nvPr/>
        </p:nvPicPr>
        <p:blipFill>
          <a:blip r:embed="rId3"/>
          <a:stretch/>
        </p:blipFill>
        <p:spPr>
          <a:xfrm>
            <a:off x="4067280" y="3789360"/>
            <a:ext cx="48574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1T18:39:29Z</dcterms:created>
  <dc:creator>User</dc:creator>
  <dc:description/>
  <dc:language>en-US</dc:language>
  <cp:lastModifiedBy>User</cp:lastModifiedBy>
  <dcterms:modified xsi:type="dcterms:W3CDTF">2015-01-21T23:24:01Z</dcterms:modified>
  <cp:revision>2</cp:revision>
  <dc:subject/>
  <dc:title>Использование инновационных и развивающих технологий в развитии речи дошкольников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