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CA4-2043-4617-84C4-E2CF982C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06D-26DB-430C-A217-0155ADB1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306-7BFF-4531-99E5-E161D0B4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BEA-95D4-441A-9463-DF113322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CE09-58D7-4614-A3DB-0BBD99B2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D49F-9E85-4503-AD95-5B8F1A3A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669D-8E11-4B56-9ECA-90F89F78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8D1A-2CCD-431C-BA1A-9EEABDF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DB11-03F1-4013-996F-5F20EAE6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9C38-702C-4EAE-B7A0-09F1BD3C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1F98-5AF4-444A-B702-DED1D02A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163-0E8A-4112-84C8-5F7473F4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D55D-58E9-489B-8ADA-8A5CF3D3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AEA9-FC11-4EDB-9701-3385A165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EF6A-84E9-4546-B502-764A8FCC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8DCA-7E92-4BA0-B5B4-BE2C4D52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429D-DC28-416C-8A51-54A4B077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E23-3E94-44E1-9A7C-CA35F81E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E90-313D-4C58-8F21-0BB04A0A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878-3A42-4084-8F31-AA5702F1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DA1-EB99-42CB-BCAC-64F0AC65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2FC-5172-4C03-BCD4-6FB34E74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418-FECF-4579-9A0C-548AD5FE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2D5-CF73-4B9E-9F0D-0BC57D03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8600-41A7-4F0F-A572-A83C76892E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9D24-582B-4D1E-B881-D9B9FCED0D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Использование инновационных и развивающих технологий в развитии речи дошкольников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11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готовил: учитель-логопед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БДОУ детский сад комбинированного вида №4 г.о.г. Вык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унтова С.Ш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ТРИЗ.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     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ая задача использования ТРИЗ - технологии в дошкольном возрасте – это привить ребенку радость творческих открыт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ой критерий в работе с детьми – доходчивость и простота в подаче материала и в формулировке сложной, казалось бы, ситуа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Times New Roman"/>
              </a:rPr>
              <a:t>Синквейн.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Реч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Чистая, правильна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Учим, повторяем, закрепляе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Мы многое узнали о развитии реч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Здорово!!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онструкторы ЛЕГО.</a:t>
            </a:r>
            <a:br>
              <a:rPr sz="4000"/>
            </a:br>
            <a:r>
              <a:rPr b="0" lang="en-US" sz="2400" spc="-1" strike="noStrike">
                <a:solidFill>
                  <a:srgbClr val="b9efee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конструктивно-игровая деятельность)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Фотографии Lego Architecture Дом Фансворта (21009). Игрушка …"/>
          <p:cNvPicPr/>
          <p:nvPr/>
        </p:nvPicPr>
        <p:blipFill>
          <a:blip r:embed="rId2"/>
          <a:stretch/>
        </p:blipFill>
        <p:spPr>
          <a:xfrm>
            <a:off x="684360" y="1557360"/>
            <a:ext cx="3816360" cy="4464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Прочие детские товары, продажа, где купить - цены в интернет-магазинах"/>
          <p:cNvPicPr/>
          <p:nvPr/>
        </p:nvPicPr>
        <p:blipFill>
          <a:blip r:embed="rId3"/>
          <a:stretch/>
        </p:blipFill>
        <p:spPr>
          <a:xfrm>
            <a:off x="4788000" y="2852640"/>
            <a:ext cx="4171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В современной педагогике есть еще не мало технологий, которые можно использовать для развития речи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существуют определенные правила их использован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2730600"/>
            <a:ext cx="61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Предлагаемый детям наглядный материал должен быть доступен, прост и понят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Следует стремиться к тому, чтобы используемый материал (наглядный или демонстрационный) оказывал воздействие на максимально возможное количество органов чув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Обязательное подкрепление демонстрации речью. Речевое пояснение в сочетании с наглядностью углубляет постижение и осмысление предмета объяс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Спасибо за внимание - Картинка 8461/76"/>
          <p:cNvPicPr/>
          <p:nvPr/>
        </p:nvPicPr>
        <p:blipFill>
          <a:blip r:embed="rId2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ормирование речи у дошкольников является важной и трудно решаемой задачей. Успешное решение этой задачи необходимо как для подготовки детей к предстоящему школьному обучению, так и для комфортного общения с окружающими. Однако развитие речи у детей в настоящем времени представляет собой актуальную проблему, что обусловлено значимостью связной речи для дошкольник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Целевые ориентиры речевого развития детей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аточно хорошо владеет устной речью, может выражать свои мысли, чувства и жела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ет построить речевое высказывание в ситуации обще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ет выделять звуки в словах, у него складываются предпосылки грамо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ен договариваться, учитывая интересы других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являет любознательность, задаѐт вопросы, пытается самостоятельно придумывать объяснения явлениям природы, поступкам люде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ом с произведениями детской литератур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ехнологии развития реч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диционные (образец рассказа педагога, построчное заучивание стихотворения, поэтапное рассматривание и описание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новационные -  формирующие творческие способности, развивающие нестандартное видения мира, новое мышл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нновационные технологи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льчиковые игры в воде, сухом бассейн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огоритмика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делиров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квей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ровы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ные виды терап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структоры ЛЕ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альчиковые игры в воде, сухом бассейне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занятия с детьми до 3 лет Записи с меткой занятия с детьми до 3 лет Дневник Разумники : LiveInternet - Российский Сервис Онлайн-"/>
          <p:cNvPicPr/>
          <p:nvPr/>
        </p:nvPicPr>
        <p:blipFill>
          <a:blip r:embed="rId2"/>
          <a:stretch/>
        </p:blipFill>
        <p:spPr>
          <a:xfrm>
            <a:off x="611280" y="1484280"/>
            <a:ext cx="3240000" cy="388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Игры с крупами)"/>
          <p:cNvPicPr/>
          <p:nvPr/>
        </p:nvPicPr>
        <p:blipFill>
          <a:blip r:embed="rId3"/>
          <a:stretch/>
        </p:blipFill>
        <p:spPr>
          <a:xfrm>
            <a:off x="3995640" y="2133720"/>
            <a:ext cx="48261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Логоритми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Каталог статей - Портал ДОУ Вейделевского района"/>
          <p:cNvPicPr/>
          <p:nvPr/>
        </p:nvPicPr>
        <p:blipFill>
          <a:blip r:embed="rId2"/>
          <a:stretch/>
        </p:blipFill>
        <p:spPr>
          <a:xfrm>
            <a:off x="324000" y="3716280"/>
            <a:ext cx="3549600" cy="2951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Педагогика, образование proDiss.ru"/>
          <p:cNvPicPr/>
          <p:nvPr/>
        </p:nvPicPr>
        <p:blipFill>
          <a:blip r:embed="rId3"/>
          <a:stretch/>
        </p:blipFill>
        <p:spPr>
          <a:xfrm>
            <a:off x="468360" y="836640"/>
            <a:ext cx="2233440" cy="2735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Персональный сайт - 6"/>
          <p:cNvPicPr/>
          <p:nvPr/>
        </p:nvPicPr>
        <p:blipFill>
          <a:blip r:embed="rId4"/>
          <a:stretch/>
        </p:blipFill>
        <p:spPr>
          <a:xfrm>
            <a:off x="4067280" y="1413000"/>
            <a:ext cx="50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Моделирование.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глядное моделирование – эт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орные картинк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хем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емотаблиц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очки-символ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альные приметы и т.п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ТИХОТВОР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C:\Users\Дмитрий и Анастасия\Desktop\scrn_big_1.jpg"/>
          <p:cNvPicPr/>
          <p:nvPr/>
        </p:nvPicPr>
        <p:blipFill>
          <a:blip r:embed="rId2"/>
          <a:stretch/>
        </p:blipFill>
        <p:spPr>
          <a:xfrm>
            <a:off x="324000" y="1268280"/>
            <a:ext cx="5151240" cy="247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C:\Users\Дмитрий и Анастасия\Desktop\02labc55g1313781512.jpg"/>
          <p:cNvPicPr/>
          <p:nvPr/>
        </p:nvPicPr>
        <p:blipFill>
          <a:blip r:embed="rId3"/>
          <a:stretch/>
        </p:blipFill>
        <p:spPr>
          <a:xfrm>
            <a:off x="4067280" y="3789360"/>
            <a:ext cx="4857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8:39:29Z</dcterms:created>
  <dc:creator>User</dc:creator>
  <dc:description/>
  <dc:language>en-US</dc:language>
  <cp:lastModifiedBy>User</cp:lastModifiedBy>
  <dcterms:modified xsi:type="dcterms:W3CDTF">2015-01-21T23:24:01Z</dcterms:modified>
  <cp:revision>2</cp:revision>
  <dc:subject/>
  <dc:title>Использование инновационных и развивающих технологий в развитии речи дошкольнико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