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35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8C3-A64C-494C-AC43-B37706D7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DF1-5330-4EA2-B68F-476C51D6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3BF-ED7A-422A-B0AF-C153B40E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345-264A-4B2D-81E8-4A603550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A33-56DC-4040-B766-03078F3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2EB-245D-41BA-B914-D2C54FE0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B76-FBBD-4F4D-9503-3E819EC4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8EB-F0CB-4F8D-B1F9-9344FFF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DCB-5E45-4664-85EE-47AEABE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BDF-BE28-475A-B9B1-FEB67FA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368-5A92-48A3-8172-F37D044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D25-A19E-4D78-9189-F528DDE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B3D2-97EA-4E3D-99CD-9F50BA0A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Детские фоторамки онлайн. Бесплатные рамки для фото на Киндерята.ру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12000" y="2997360"/>
            <a:ext cx="252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  Р  И  Б  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03120" y="6669000"/>
            <a:ext cx="66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ружающий мир  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ёшина Ольга Александровна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9840" y="6516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 СОШ  с. Войсковая  Каз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09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09300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с демонстрацион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Знакомство с грибами мы начинаем с трубчатых шляпочных грибов Ведь именно они 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резентация на тему &quot;ГРИБЫ 6 класс&quot; - скачать бесплатно презентации по Биологии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459280" y="549000"/>
            <a:ext cx="4619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Грибники ВКонтак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200" y="4968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5840" y="5753160"/>
            <a:ext cx="5419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ди за грибами с ведром – не губи лесное добро. Клади их в плетеное лукошко – пускай подышат немнож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704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Съедобные грибы - 10602/5"/>
          <p:cNvPicPr/>
          <p:nvPr/>
        </p:nvPicPr>
        <p:blipFill>
          <a:blip r:embed="rId1"/>
          <a:stretch/>
        </p:blipFill>
        <p:spPr>
          <a:xfrm>
            <a:off x="0" y="1268280"/>
            <a:ext cx="4356000" cy="558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Отравления грибами профилактика. Профилактика отравлений грибами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Пришвин «Недосмотренные гриб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Не бойся маленький . Может не заметят ))) - Фотография - Растения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46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Грибы грибочк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 rot="631200">
            <a:off x="5079600" y="1555920"/>
            <a:ext cx="3814920" cy="370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х, и хорош же вчера попался на глаза мухомор. Сам тёмно- красный и спустил из-под шляпки вниз вдоль ножки белые панталоны, и даже со склад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485640"/>
            <a:ext cx="820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ибы могут быть съедобными, смертельными, удивительно красивыми, магическими и ничем не примечат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тя есть люди, которые хорошо разбираются в разных видах грибов, многие из них возможно никогда не встречались с этими представителями, которые отличаются своим чудаковатым ви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1"/>
          <a:stretch/>
        </p:blipFill>
        <p:spPr>
          <a:xfrm>
            <a:off x="179280" y="1657440"/>
            <a:ext cx="3672000" cy="2492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4219560"/>
            <a:ext cx="36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б «кровоточащий зуб», часто встречается в хвойных лесах в северо-западных частях Тихого океана и в центральной Европе. Его трудно не заметить: яркая красная жидкость, выделяющаяся из спор гриба. На самом деле этот гриб не ядовит, но отпугивает хищников и людей очень горьким вку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2"/>
          <a:stretch/>
        </p:blipFill>
        <p:spPr>
          <a:xfrm>
            <a:off x="4572000" y="1628640"/>
            <a:ext cx="4176720" cy="252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24560" y="4456080"/>
            <a:ext cx="4124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ожные сморчк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по виду очень напоминают мозг, только темно-пурпурного или коричневого цвета. Эти грибы еще называют «грибами-бифштексами», так как они являются деликатесом при правильном приготовл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1"/>
          <a:stretch/>
        </p:blipFill>
        <p:spPr>
          <a:xfrm>
            <a:off x="0" y="0"/>
            <a:ext cx="284328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2995560"/>
            <a:ext cx="2521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ралловый гри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выглядит так, будто должен расти где-нибудь на коралловом рифе. Ученые определили, что существует около 1200 видов грибов. Эти грибы растут во многих местах, в основном в тропических районах и считаются несъедобн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2"/>
          <a:stretch/>
        </p:blipFill>
        <p:spPr>
          <a:xfrm>
            <a:off x="6084720" y="0"/>
            <a:ext cx="2808360" cy="2924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16720" y="2997360"/>
            <a:ext cx="237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метес разноцвет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это вид грибов, который распространен во всем мире и растет преимущественно на стволах мертвых деревьев, и примечателен своими красочными полосами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3"/>
          <a:stretch/>
        </p:blipFill>
        <p:spPr>
          <a:xfrm>
            <a:off x="2987640" y="1197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5480" y="4221000"/>
            <a:ext cx="3116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иб «земляная звездочка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или звездовик тройной относится к грибам-дождевикам, которые можно найти в разных местах и возвышениях по всему миру. Этот необычный гриб меняет свой вид после того, как появляется из-под земли. Его «лучи» изгибаются вниз, круглое плодовое тело приподнимается и выпускает споры в возду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ШЕНКА ОБЫКНОВЕНН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растет на топо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гриб можно вырастить в тепличных услов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ля этого используют стружку, опилки, солому. Всего необходимо 35-40 дней и у вас появятся грибы-веше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Гриб Вешенка (Pleurotus) на тополе"/>
          <p:cNvPicPr/>
          <p:nvPr/>
        </p:nvPicPr>
        <p:blipFill>
          <a:blip r:embed="rId1"/>
          <a:stretch/>
        </p:blipFill>
        <p:spPr>
          <a:xfrm>
            <a:off x="5003640" y="2852640"/>
            <a:ext cx="38880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Субстрат для выращивания культивированных грибов вешенки"/>
          <p:cNvPicPr/>
          <p:nvPr/>
        </p:nvPicPr>
        <p:blipFill>
          <a:blip r:embed="rId2"/>
          <a:stretch/>
        </p:blipFill>
        <p:spPr>
          <a:xfrm>
            <a:off x="755640" y="2781360"/>
            <a:ext cx="4105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Разбавим яркой осенью снега седые с просинью МУЗА НАШЕГО ДВО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84720" y="260280"/>
            <a:ext cx="41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 пришёл!   Добрый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усть в наше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т  мно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ы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623736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овы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2564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 «Добавь словеч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1366x768 гриб, лист, мох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0" y="1413000"/>
            <a:ext cx="5076720" cy="5445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Державинск-1 пгт Степной - Давайте поболтаем:)"/>
          <p:cNvPicPr/>
          <p:nvPr/>
        </p:nvPicPr>
        <p:blipFill>
          <a:blip r:embed="rId2"/>
          <a:stretch/>
        </p:blipFill>
        <p:spPr>
          <a:xfrm rot="429000">
            <a:off x="4859280" y="1052280"/>
            <a:ext cx="3789360" cy="318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127480" y="4529160"/>
            <a:ext cx="390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Грибы 1 класс - презентация для начальной шко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43480" y="1557360"/>
            <a:ext cx="36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грибов богат и разнообразен. С ними человек встречается не только в лесу. На пользу человеку работ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-хлебопё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-сыров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-маслод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А есть грибы, которые человек взял к себе в союзники в самом важном: в борьбе за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ещё интересного о грибах ты узнаешь на следующем уроке окружающего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1366x768 снизу, вид, жёлтые, autumn lifs, листья, осень карт…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00000" y="2787480"/>
            <a:ext cx="720108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  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Уральский пациент - Осенний лес"/>
          <p:cNvPicPr/>
          <p:nvPr/>
        </p:nvPicPr>
        <p:blipFill>
          <a:blip r:embed="rId1"/>
          <a:stretch/>
        </p:blipFill>
        <p:spPr>
          <a:xfrm>
            <a:off x="0" y="260280"/>
            <a:ext cx="8777160" cy="5689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10774200">
            <a:off x="250560" y="6138360"/>
            <a:ext cx="88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гриб живет под елью, под ее огромной тенью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дрый бородач-старик, житель бора - ... (боров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Скачать обои грибы, ветки, красноголовцы, мох картинка 1024x600 на рабочий стол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625644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65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в красной шапочке расту среди корней осиновых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я увидишь за версту - зовусь я – ... (подосинов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БЛОГ ПОЛЕЗНЫХ СОВЕТОВ: Маринование опят на зиму"/>
          <p:cNvPicPr/>
          <p:nvPr/>
        </p:nvPicPr>
        <p:blipFill>
          <a:blip r:embed="rId1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5877000"/>
            <a:ext cx="74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еньке сидят братишки. Все - в веснушках шалунишки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 дружные ребята называются ... (опя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кие грибы повышают потенц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15800" y="582444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бщение темы и цели у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ение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1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стоящее время грибы относят в отдельное царство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515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Тихая охота. &quot; Приколы, девушки, эротика, фото, юмор, видео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575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61135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ка, которая занимается изучением грибов, называется МИ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латыни: «микос» - гриб,  «логос» -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248000" cy="288000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Грибники - собираем грибы круглый г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47000" y="0"/>
            <a:ext cx="2970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77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7:14:03Z</dcterms:created>
  <dc:creator>Admin</dc:creator>
  <dc:description/>
  <dc:language>en-US</dc:language>
  <cp:lastModifiedBy>Admin</cp:lastModifiedBy>
  <dcterms:modified xsi:type="dcterms:W3CDTF">2015-01-28T09:45:28Z</dcterms:modified>
  <cp:revision>14</cp:revision>
  <dc:subject/>
  <dc:title>Слайд 1</dc:title>
</cp:coreProperties>
</file>