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5E7-F23B-421D-BB9F-F1A9A66C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E18-9FF0-4130-A477-B2324338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05F-E99B-40E5-9586-DD2CF9E9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46C-1460-4418-B5F3-5FAC3F0D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927-2D4A-4734-8420-A5CF692C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D9D-6C16-46A8-9A97-02788031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F29-BC4A-4B1D-BDE7-CC331D43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7A3-1EBE-40AB-A0D9-AA32EE98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5DC-BC22-403F-8193-15122BC3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3D9-6BF7-40E0-83F2-E02F4219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DD7-56C3-4B49-B07C-A91DD5A3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8E0-E6C7-427D-9628-F9D48CF5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5504-3FAB-4BFB-93B0-2398D0610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Свиток1"/>
          <p:cNvPicPr/>
          <p:nvPr/>
        </p:nvPicPr>
        <p:blipFill>
          <a:blip r:embed="rId2"/>
          <a:stretch/>
        </p:blipFill>
        <p:spPr>
          <a:xfrm>
            <a:off x="824040" y="1568520"/>
            <a:ext cx="8043840" cy="36306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662120" y="1752480"/>
            <a:ext cx="5934240" cy="21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Monotype Corsiva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Monotype Corsiva"/>
              </a:rPr>
              <a:t>Уро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Monotype Corsiva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Monotype Corsiva"/>
              </a:rPr>
              <a:t>развития речи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429000" y="3898800"/>
            <a:ext cx="223524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4 класс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44" name="3D-звук (holophonic) - Утро в лесу  .mp3" descr=""/>
          <p:cNvPicPr/>
          <p:nvPr/>
        </p:nvPicPr>
        <p:blipFill>
          <a:blip r:embed="rId3"/>
          <a:stretch/>
        </p:blipFill>
        <p:spPr>
          <a:xfrm>
            <a:off x="7845480" y="58024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932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Пожа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После пожара растительность медленно восстанавливается"/>
          <p:cNvPicPr/>
          <p:nvPr/>
        </p:nvPicPr>
        <p:blipFill>
          <a:blip r:embed="rId2"/>
          <a:stretch/>
        </p:blipFill>
        <p:spPr>
          <a:xfrm>
            <a:off x="4462560" y="0"/>
            <a:ext cx="4681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257560" y="461880"/>
            <a:ext cx="466560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Ле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187200" y="360360"/>
            <a:ext cx="8804520" cy="155628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умага не сгнивает 2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нсервная банка и пластиковая бутылка сохраняются до 50-100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0" y="4483080"/>
            <a:ext cx="9144000" cy="2374920"/>
            <a:chOff x="0" y="4483080"/>
            <a:chExt cx="9144000" cy="2374920"/>
          </a:xfrm>
        </p:grpSpPr>
        <p:pic>
          <p:nvPicPr>
            <p:cNvPr id="70" name="Picture 8" descr="Мусор2"/>
            <p:cNvPicPr/>
            <p:nvPr/>
          </p:nvPicPr>
          <p:blipFill>
            <a:blip r:embed="rId2"/>
            <a:stretch/>
          </p:blipFill>
          <p:spPr>
            <a:xfrm>
              <a:off x="0" y="4483080"/>
              <a:ext cx="914400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9" descr="Мусор 1копирование"/>
            <p:cNvPicPr/>
            <p:nvPr/>
          </p:nvPicPr>
          <p:blipFill>
            <a:blip r:embed="rId3"/>
            <a:stretch/>
          </p:blipFill>
          <p:spPr>
            <a:xfrm>
              <a:off x="2903400" y="4788000"/>
              <a:ext cx="3584880" cy="20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758880" y="220680"/>
            <a:ext cx="75866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езаконная вырубка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Незаконная вырубка леса.mp4" descr=""/>
          <p:cNvPicPr/>
          <p:nvPr/>
        </p:nvPicPr>
        <p:blipFill>
          <a:blip r:embed="rId2"/>
          <a:stretch/>
        </p:blipFill>
        <p:spPr>
          <a:xfrm>
            <a:off x="609480" y="1255680"/>
            <a:ext cx="7925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Копия Отхо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822240" y="461880"/>
            <a:ext cx="74977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статки древесины на месте заброшенной лесопи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365040" y="461880"/>
            <a:ext cx="842508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ста вырубок нужно расчищать и засаживать молодыми дерев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Посадка саженцев"/>
          <p:cNvPicPr/>
          <p:nvPr/>
        </p:nvPicPr>
        <p:blipFill>
          <a:blip r:embed="rId2"/>
          <a:stretch/>
        </p:blipFill>
        <p:spPr>
          <a:xfrm>
            <a:off x="3497400" y="2311560"/>
            <a:ext cx="463068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лесни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232000" y="461880"/>
            <a:ext cx="56689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Чтение расск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«Живые памятн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ети сажают деревья"/>
          <p:cNvPicPr/>
          <p:nvPr/>
        </p:nvPicPr>
        <p:blipFill>
          <a:blip r:embed="rId2"/>
          <a:stretch/>
        </p:blipFill>
        <p:spPr>
          <a:xfrm>
            <a:off x="2278080" y="2236680"/>
            <a:ext cx="65754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Ёлочке НЕ холодно зимой (Я узнала маленький секрет).mp4" descr=""/>
          <p:cNvPicPr/>
          <p:nvPr/>
        </p:nvPicPr>
        <p:blipFill>
          <a:blip r:embed="rId1"/>
          <a:stretch/>
        </p:blipFill>
        <p:spPr>
          <a:xfrm>
            <a:off x="434880" y="290520"/>
            <a:ext cx="828828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3" descr=""/>
          <p:cNvPicPr/>
          <p:nvPr/>
        </p:nvPicPr>
        <p:blipFill>
          <a:blip r:embed="rId2"/>
          <a:stretch/>
        </p:blipFill>
        <p:spPr>
          <a:xfrm>
            <a:off x="1457280" y="1584360"/>
            <a:ext cx="7107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2028960" y="360360"/>
            <a:ext cx="49701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ема урока: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Толковый словарь1"/>
          <p:cNvPicPr/>
          <p:nvPr/>
        </p:nvPicPr>
        <p:blipFill>
          <a:blip r:embed="rId2"/>
          <a:stretch/>
        </p:blipFill>
        <p:spPr>
          <a:xfrm>
            <a:off x="849240" y="1123920"/>
            <a:ext cx="7850160" cy="439596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9"/>
          <p:cNvGrpSpPr/>
          <p:nvPr/>
        </p:nvGrpSpPr>
        <p:grpSpPr>
          <a:xfrm>
            <a:off x="652320" y="428760"/>
            <a:ext cx="5943600" cy="2628720"/>
            <a:chOff x="652320" y="428760"/>
            <a:chExt cx="5943600" cy="2628720"/>
          </a:xfrm>
        </p:grpSpPr>
        <p:sp>
          <p:nvSpPr>
            <p:cNvPr id="48" name="AutoShape 7"/>
            <p:cNvSpPr/>
            <p:nvPr/>
          </p:nvSpPr>
          <p:spPr>
            <a:xfrm>
              <a:off x="652320" y="428760"/>
              <a:ext cx="5943600" cy="2628720"/>
            </a:xfrm>
            <a:prstGeom prst="wedgeRoundRectCallout">
              <a:avLst>
                <a:gd name="adj1" fmla="val 63995"/>
                <a:gd name="adj2" fmla="val 8701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1106280" y="770040"/>
              <a:ext cx="5100840" cy="15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Лес – большая площадь земли, заросшая деревьям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Свиток1"/>
          <p:cNvPicPr/>
          <p:nvPr/>
        </p:nvPicPr>
        <p:blipFill>
          <a:blip r:embed="rId2"/>
          <a:stretch/>
        </p:blipFill>
        <p:spPr>
          <a:xfrm>
            <a:off x="824040" y="1568520"/>
            <a:ext cx="804384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WordArt 36"/>
          <p:cNvSpPr txBox="1"/>
          <p:nvPr/>
        </p:nvSpPr>
        <p:spPr>
          <a:xfrm>
            <a:off x="1741320" y="2070000"/>
            <a:ext cx="601668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Л Е С - наш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БОГАТ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Копия Золотая осень"/>
          <p:cNvPicPr/>
          <p:nvPr/>
        </p:nvPicPr>
        <p:blipFill>
          <a:blip r:embed="rId1"/>
          <a:stretch/>
        </p:blipFill>
        <p:spPr>
          <a:xfrm>
            <a:off x="712800" y="231840"/>
            <a:ext cx="779472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Копия Левитан"/>
          <p:cNvPicPr/>
          <p:nvPr/>
        </p:nvPicPr>
        <p:blipFill>
          <a:blip r:embed="rId1"/>
          <a:stretch/>
        </p:blipFill>
        <p:spPr>
          <a:xfrm>
            <a:off x="325440" y="230040"/>
            <a:ext cx="8483760" cy="635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Рама для картин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2612520" y="649116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.И. Левитан «Берёзовая рощ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Копия Иван Иванович Шишкин"/>
          <p:cNvPicPr/>
          <p:nvPr/>
        </p:nvPicPr>
        <p:blipFill>
          <a:blip r:embed="rId1"/>
          <a:stretch/>
        </p:blipFill>
        <p:spPr>
          <a:xfrm>
            <a:off x="2249640" y="193680"/>
            <a:ext cx="4682880" cy="641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Рама для картин1"/>
          <p:cNvPicPr/>
          <p:nvPr/>
        </p:nvPicPr>
        <p:blipFill>
          <a:blip r:embed="rId2"/>
          <a:stretch/>
        </p:blipFill>
        <p:spPr>
          <a:xfrm>
            <a:off x="2139840" y="0"/>
            <a:ext cx="4851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2983680" y="655308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И.И. Шишкин «Корабельная рощ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557280" y="673200"/>
            <a:ext cx="82836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5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ФИЗ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pic>
        <p:nvPicPr>
          <p:cNvPr id="60" name="Picture 7" descr="Поворот Лесовичок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509840" y="2968560"/>
            <a:ext cx="2779560" cy="320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Копия Лесовичок"/>
          <p:cNvPicPr/>
          <p:nvPr/>
        </p:nvPicPr>
        <p:blipFill>
          <a:blip r:embed="rId3"/>
          <a:stretch/>
        </p:blipFill>
        <p:spPr>
          <a:xfrm>
            <a:off x="4729320" y="2519280"/>
            <a:ext cx="34462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257560" y="461880"/>
            <a:ext cx="466560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Лесной пожар.wmv" descr=""/>
          <p:cNvPicPr/>
          <p:nvPr/>
        </p:nvPicPr>
        <p:blipFill>
          <a:blip r:embed="rId2"/>
          <a:stretch/>
        </p:blipFill>
        <p:spPr>
          <a:xfrm>
            <a:off x="318960" y="1320840"/>
            <a:ext cx="8506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11:44:09Z</dcterms:created>
  <dc:creator>fox</dc:creator>
  <dc:description/>
  <dc:language>en-US</dc:language>
  <cp:lastModifiedBy>user5</cp:lastModifiedBy>
  <dcterms:modified xsi:type="dcterms:W3CDTF">2013-12-18T06:30:41Z</dcterms:modified>
  <cp:revision>90</cp:revision>
  <dc:subject/>
  <dc:title>Презентация</dc:title>
</cp:coreProperties>
</file>