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9.wmf" ContentType="image/x-wmf"/>
  <Override PartName="/ppt/media/image14.jpeg" ContentType="image/jpeg"/>
  <Override PartName="/ppt/media/image2.png" ContentType="image/png"/>
  <Override PartName="/ppt/media/image16.jpeg" ContentType="image/jpe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8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700-C6EA-4271-AACD-C7AFD107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C440-2017-45D6-B5AF-91263369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72CA-EBED-4433-BE72-FC3E1A50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F377-4408-459A-B65F-DB1758B3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1A09-4401-42AB-A9FF-F2F31C4D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3C94-7F31-460E-97EC-3BEF3733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95E-11BC-49D9-BFAB-C781290E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DF85-A61B-478D-97F6-37594C14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BC46-3B45-4A32-8B75-FAA96A60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B5DA-DC64-467C-AAC8-8869D07F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BFEC-2661-4059-99EC-B774C224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1B81-27F2-4285-9BDF-68449CD2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46EE-8BC3-4C3A-99A6-34500548C5F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Рисунок 2"/>
          <p:cNvSpPr/>
          <p:nvPr/>
        </p:nvSpPr>
        <p:spPr>
          <a:xfrm>
            <a:off x="1752480" y="60948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33840" y="-4235760"/>
            <a:ext cx="12936960" cy="89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«Das schönste auf der Erde ist von der S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Und das Beste ist von Menschen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нкурс «Школа за экологию: думать, исследовать, действоват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990720" y="281952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e Natur ist unser  gemeinsames Hau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0"/>
          <p:cNvSpPr/>
          <p:nvPr/>
        </p:nvSpPr>
        <p:spPr>
          <a:xfrm flipV="1" rot="10800000">
            <a:off x="2285640" y="402876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 : Сулейманов Родион, 7 класс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12533 Саратовская область  Петр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ёлок Мирный   ул.Школьная,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БОУ ООШ п.Мирны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: Макарова Н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FList-Loreleya(mp3tune.net).mp3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r  Aktion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hützt   den Park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Wir halten  Höfe,  Straßen,   Grünanlagen  sauber. Die Schüler sammeln  Müllhaufen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n nennt die Parks grüne Lungen der Stad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Object 7"/>
          <p:cNvGraphicFramePr/>
          <p:nvPr/>
        </p:nvGraphicFramePr>
        <p:xfrm>
          <a:off x="533520" y="2286000"/>
          <a:ext cx="4038480" cy="37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0"/>
                    <a:ext cx="4038480" cy="37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8"/>
          <p:cNvGraphicFramePr/>
          <p:nvPr/>
        </p:nvGraphicFramePr>
        <p:xfrm>
          <a:off x="4724280" y="2209680"/>
          <a:ext cx="4267440" cy="3810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209680"/>
                    <a:ext cx="426744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r  machen unseren Planeten grü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402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ir  pflanzen junge Baume und Blum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3920" y="2209680"/>
            <a:ext cx="4041720" cy="426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ir pflanzen junge Bäume und Blumen. 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alten die Luft sauber und schützen uns  im Sommer  vor   Sonnenstralen. Der Wald ist ein Zuhause für viele Tiere., schmückt unseren Planet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C:\Users\User\Desktop\Commonly-Lost-Items-Garden-GettyImages.jpg"/>
          <p:cNvPicPr/>
          <p:nvPr/>
        </p:nvPicPr>
        <p:blipFill>
          <a:blip r:embed="rId1"/>
          <a:stretch/>
        </p:blipFill>
        <p:spPr>
          <a:xfrm>
            <a:off x="304920" y="1219320"/>
            <a:ext cx="5108400" cy="3862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e Natur  auf  unserem   Planeten   Erde  is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  Gefah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1" descr="http://im2-tub-ru.yandex.net/i?id=2dd87750791bf14c81c9e6171eced6c2-01-144&amp;n=21"/>
          <p:cNvPicPr/>
          <p:nvPr/>
        </p:nvPicPr>
        <p:blipFill>
          <a:blip r:embed="rId1"/>
          <a:stretch/>
        </p:blipFill>
        <p:spPr>
          <a:xfrm>
            <a:off x="304920" y="1752480"/>
            <a:ext cx="4114800" cy="4191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723920" y="129492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 gibt  viel  Müll  im Haushalt  und viele industrielle Abfälle in der Betrieben, darum ist es ein großes Problem, die  Abfälle zu verarbeiten, ohne  der Natur zu schad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23920" y="175212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e Radioaktivität übt einen schlechten Einfluss auf die Umwelt aus. Die Folgen des Reaktorungücks von Tschernobyl sind tragisch: viele Menschen sind schon gestorben. Die Wälder und Flüsse wurden durch  Radioaktivität verschmutz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1" descr="http://im0-tub-ru.yandex.net/i?id=74a6ec03cf68ff026766f34c871701d0-79-144&amp;n=21"/>
          <p:cNvPicPr/>
          <p:nvPr/>
        </p:nvPicPr>
        <p:blipFill>
          <a:blip r:embed="rId1"/>
          <a:srcRect l="5944" t="0" r="5944" b="0"/>
          <a:stretch/>
        </p:blipFill>
        <p:spPr>
          <a:xfrm>
            <a:off x="0" y="2209680"/>
            <a:ext cx="4724280" cy="4267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User\Desktop\Фотто проект.jpg"/>
          <p:cNvPicPr/>
          <p:nvPr/>
        </p:nvPicPr>
        <p:blipFill>
          <a:blip r:embed="rId2"/>
          <a:stretch/>
        </p:blipFill>
        <p:spPr>
          <a:xfrm>
            <a:off x="4724280" y="228600"/>
            <a:ext cx="4419720" cy="3962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e Vögel und die Tiere sind in Gefa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C:\Users\User\Desktop\White-Bengal-Tigers-2728.jpg"/>
          <p:cNvPicPr/>
          <p:nvPr/>
        </p:nvPicPr>
        <p:blipFill>
          <a:blip r:embed="rId1"/>
          <a:stretch/>
        </p:blipFill>
        <p:spPr>
          <a:xfrm>
            <a:off x="3575160" y="1282680"/>
            <a:ext cx="5111640" cy="3834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undertausende  bezählen  das jedes  Jahr  mit  ihrem  Leben – nur wenige  haben das Glück,  rechzeitig  in die  helfende Hand  von  Menschen  zu gelang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1" descr="http://im2-tub-ru.yandex.net/i?id=abc625dc116051fabe43bd82388dd7f3-49-144&amp;n=21"/>
          <p:cNvPicPr/>
          <p:nvPr/>
        </p:nvPicPr>
        <p:blipFill>
          <a:blip r:embed="rId2"/>
          <a:stretch/>
        </p:blipFill>
        <p:spPr>
          <a:xfrm>
            <a:off x="0" y="3809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r Regen ist heute ein Umweltgi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305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Er  ist  sauer,  weil die Luft das SO2 enthält.  Besonders  gefährlich ist  der saure Regen für Bäume, sie werden schnell  tot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7" descr="C:\Users\User\Desktop\21051fbeab32d6173cae0604187277ed.jpg"/>
          <p:cNvPicPr/>
          <p:nvPr/>
        </p:nvPicPr>
        <p:blipFill>
          <a:blip r:embed="rId1"/>
          <a:stretch/>
        </p:blipFill>
        <p:spPr>
          <a:xfrm>
            <a:off x="609480" y="2514600"/>
            <a:ext cx="7925040" cy="3289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049120" y="1534680"/>
            <a:ext cx="457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3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e Flüsse sind in Gefahr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C:\Users\User\Desktop\746425763.jpg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00816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schmutzte   Luft und Wasser  haben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eine Grenze,  darum ist  das  ein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nationales  Probl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e Lage  ist zu  er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15" descr="http://oblivobr.ru/images/bis15.jpg"/>
          <p:cNvPicPr/>
          <p:nvPr/>
        </p:nvPicPr>
        <p:blipFill>
          <a:blip r:embed="rId2"/>
          <a:stretch/>
        </p:blipFill>
        <p:spPr>
          <a:xfrm>
            <a:off x="3429000" y="3124080"/>
            <a:ext cx="3962520" cy="3740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r Naturschützt ist eine edle Sach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C:\Users\User\Desktop\forest_20_264__hulo_ru.jpg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4648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2480" y="533376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 Russland verwendet mann in  manchen  Betrieben  neue Fil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Рисунок 2"/>
          <p:cNvSpPr/>
          <p:nvPr/>
        </p:nvSpPr>
        <p:spPr>
          <a:xfrm>
            <a:off x="1676520" y="6858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1" descr="http://zhkhacker.ru/wp-content/uploads/2013/01/%D0%BE%D1%87%D0%B8%D1%81%D1%82%D0%BD%D1%8B%D0%B5-%D1%81%D0%BE%D0%BE%D1%80%D1%83%D0%B6%D0%B5%D0%BD%D0%B8%D1%8F.jpg"/>
          <p:cNvPicPr/>
          <p:nvPr/>
        </p:nvPicPr>
        <p:blipFill>
          <a:blip r:embed="rId2"/>
          <a:stretch/>
        </p:blipFill>
        <p:spPr>
          <a:xfrm>
            <a:off x="4876920" y="457200"/>
            <a:ext cx="4114800" cy="4876920"/>
          </a:xfrm>
          <a:prstGeom prst="rect">
            <a:avLst/>
          </a:prstGeom>
          <a:ln w="0">
            <a:noFill/>
          </a:ln>
        </p:spPr>
      </p:pic>
      <p:sp>
        <p:nvSpPr>
          <p:cNvPr id="75" name="Рисунок 2"/>
          <p:cNvSpPr/>
          <p:nvPr/>
        </p:nvSpPr>
        <p:spPr>
          <a:xfrm>
            <a:off x="0" y="7772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1" descr="http://www.ua.all.biz/img/ua/service_catalog/90317.jpeg"/>
          <p:cNvPicPr/>
          <p:nvPr/>
        </p:nvPicPr>
        <p:blipFill>
          <a:blip r:embed="rId3"/>
          <a:stretch/>
        </p:blipFill>
        <p:spPr>
          <a:xfrm>
            <a:off x="304920" y="457200"/>
            <a:ext cx="4419360" cy="487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4800600"/>
            <a:ext cx="65167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ele  Tiere und Vögel brauchen  unsere Hilf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C:\Users\User\Desktop\4179378013_2914eacdba_b-6ad55a0e7c87ce4101cb9a251284dfab8db082c3.jpg"/>
          <p:cNvPicPr/>
          <p:nvPr/>
        </p:nvPicPr>
        <p:blipFill>
          <a:blip r:embed="rId1"/>
          <a:srcRect l="5603" t="0" r="5603" b="0"/>
          <a:stretch/>
        </p:blipFill>
        <p:spPr>
          <a:xfrm>
            <a:off x="6095880" y="990720"/>
            <a:ext cx="2362320" cy="23619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440" y="586692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m  Schulhof  hängen wir  im Winter  Vögelbauer an die Bäume und füttern die Vög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Object 6"/>
          <p:cNvGraphicFramePr/>
          <p:nvPr/>
        </p:nvGraphicFramePr>
        <p:xfrm>
          <a:off x="533520" y="1066680"/>
          <a:ext cx="4524120" cy="3276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066680"/>
                    <a:ext cx="45241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8T20:09:30Z</dcterms:created>
  <dc:creator>User</dc:creator>
  <dc:description/>
  <dc:language>en-US</dc:language>
  <cp:lastModifiedBy>User</cp:lastModifiedBy>
  <dcterms:modified xsi:type="dcterms:W3CDTF">2015-01-28T16:35:52Z</dcterms:modified>
  <cp:revision>90</cp:revision>
  <dc:subject/>
  <dc:title>Слайд 1</dc:title>
</cp:coreProperties>
</file>