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42A-6ACF-45DF-872F-0F5DF6D3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8CE-C7D9-461B-9D23-9830FB85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16C-69A0-49D7-864E-B14EF551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5D0-5C5F-4204-BD20-A7021F6B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AF6C-2DA2-4E7F-8FB7-2646ED75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627-A879-4E1D-BEAD-03664FE6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D096-655F-4104-902B-97647A8C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0DB6-84FC-42A1-8701-C704CA8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71B9-BE73-46C9-A267-846D086C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A25D-662D-49F5-8B58-B3E9548F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5BC0-5267-455A-9412-74A5427E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1D3-8ACF-4C57-89B7-FD50234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03C0-DD7C-49D6-8911-CEEEB44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1085-C199-436F-84C9-2DC2CD3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42E2-A384-466C-B200-6F90DBA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98B-C8CA-4C50-8024-71E4E1A5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D6E3-57E6-4461-A192-5E73CA67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4A6-B640-49EA-BF0C-9DF52964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C91-873B-4958-A5B5-63BC57BF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BDA-829D-426E-857D-5185332D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E6A-27CE-4EBA-BAD9-6D1EC05B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9AB-D09A-47CD-96C4-E9AF8A14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8C3-BFB7-47DB-A6C5-2050439E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F4D-B0EC-4FDD-8E1B-6996230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874A-55C8-451D-B14F-098321B79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9611-D181-4A1A-9950-026748D6F304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2013-2014 учебный гогд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42960" y="2143080"/>
            <a:ext cx="77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Отчет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о проделанной работе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социального педагога Пелевиной Л.Н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2f2f2"/>
                </a:solidFill>
                <a:latin typeface="Cambria"/>
              </a:rPr>
              <a:t>Мероприятия по пропаганде здорового образа жизни:</a:t>
            </a:r>
            <a:br>
              <a:rPr sz="2900"/>
            </a:b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семирный день отказа от курени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сячник профилактики табакокурения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сячник по профилактики наркомани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сячник по профилактики ВИЧ/СПИД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циальные урок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кция «Минута детского телефона доверия 2014»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кция к  Международному  дню инвалида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Работа с родителями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 2013-2014 учебном году было проведено 3 общешкольных родительских собраний на темы: «Девиантное поведение. Трудные дети и их проблемы» » - октябрь 2013 года, «Причины агрессивности школьников. Как избежать вспышек агрессии» -декабрь 2013 года, «Чем заняться детям летом. Профилактика суицида» - май 2014 года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азработаны рекомендаци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о проведено 83  индивидуальные консультации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2f2f2"/>
                </a:solidFill>
                <a:uFillTx/>
                <a:latin typeface="Cambria"/>
              </a:rPr>
              <a:t>Цель деятельности </a:t>
            </a:r>
            <a:endParaRPr b="1" lang="en-US" sz="2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74800" y="500040"/>
            <a:ext cx="51116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дачи работы: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создание благоприятных условий для развития личности ребенка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казание комплексной помощи ребенку в саморазвитии и самореализации в процессе восприятия мира и адаптации в нем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защита ребенка в его жизненном пространстве, трудных жизненных ситуациях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профилактика негативных явлений в микросреде обучающихся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формирование у обучающихся гражданской ответственности, правового самосознания,  нравственного поведения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формирование у детей ценностного отношения к собственному здоровью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выявление интересов и потребностей учащихся, трудностей и проблем, отклонений в поведении, уровня социальной защищенности и адаптированности к социальной среде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диагностика проблем учащихся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циальная адаптация обучающихся,  их развитие, воспитание, образование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71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ambria"/>
              </a:rPr>
              <a:t>На начало учебного года по социальному паспорту школы-интерната:</a:t>
            </a:r>
            <a:br>
              <a:rPr sz="2800"/>
            </a:br>
            <a:endParaRPr b="1" lang="en-US" sz="28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многодетных семей – 20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опекунских семей – 4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неполных семей – 34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 семей воспитывающих детей-инвалидов – 24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неблагополучных семей -  11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приемных семей – 2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Занятость обучающихся в кружках  - 78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Совместная работа с ПДН ОВД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верка учащихся, состоящих на учёте в ПДН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ндивидуальные беседы инспектора ПДН и участковых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вместные рейды посещения семей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Рассматривались на заседении КДН и ЗП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00" name="Содержимое 11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Взаимодействие с органами опеки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а направлена информация в органы опеки Весьегонского района по семье Козлова Дмитрия находящегося в приемной семье,  с целью осуществления совместного контрол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о направлено ходатайство ТОСЗН Кимрского района  по устройству на летние каникулы обучающегося Иванова Андрея, в связи с длительным лечением матери Сорокиной Е.Н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 направлен запрос ТОСЗН Максатихинского района по семье обучающегося Смирнова Сергея ребенка инвалида для осуществления совместного контрол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 направлен запрос ТОСЗН Краснохолмского района по осуществлению контроля семей: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-Владимировой Кристины ребенка инвалида,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-Баруздиной Зои находящейся под опекой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Взаимодействие с отделами образования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о все отделы образования были направлены списки обучающихся школы-интерната и проживающих на их территори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ОО Кесовогорского района направлена информация по обучающемуся Родимову Виктору с целью совместного кантроля семь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ОО Кимрского района неоднократно направлялась информация по семье обучающегося Баканина Дмитрия. Школа-интернат ходатайствовала об оказании помощи в обучении Дмитрия по месту проживания, так как Баканина Л.А. не желает доставлять ребенка в школу-интернат г.Кашина.                      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2600" y="2906280"/>
            <a:ext cx="7929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офилактическая работа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 воспитанникам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mbria"/>
              </a:rPr>
              <a:t>Стоящие на учете в школе-интернате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08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5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6:31:23Z</dcterms:created>
  <dc:creator>Admin</dc:creator>
  <dc:description/>
  <dc:language>en-US</dc:language>
  <cp:lastModifiedBy>WINDOWS7</cp:lastModifiedBy>
  <dcterms:modified xsi:type="dcterms:W3CDTF">2014-08-28T10:17:44Z</dcterms:modified>
  <cp:revision>17</cp:revision>
  <dc:subject/>
  <dc:title>Классный 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061709991</vt:lpwstr>
  </property>
</Properties>
</file>