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A49-E88A-4AB8-82E8-4E876D01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153-6978-4123-A7B6-71C0FD94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ADF-F205-4831-95E0-1CF721A1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B81-D4AA-45CC-AC21-F42985AE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D0CD-0631-4DAF-AE64-9EAA5D4C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9F7B-CEC7-4A6B-8723-0B1FF190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D3C6-25E7-4392-AE51-E74DB6E5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B090-D12B-472E-AE8C-EB8839F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CAD3-B60B-4E4C-AA88-29EE417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B59-99A5-4B65-BD1E-56837B73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3242-2F4C-470F-806A-C9135C44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1B0-9B12-4EAF-89E9-AFC9562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37BD-C45A-4221-B71C-FEF917C6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0786-A7EF-4373-8902-E6AE6CE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C56E-85EF-41DA-B2E7-08DCF11F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F67-9A74-49E3-B9EE-2014852D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0989-5474-4D46-886F-B30A1BEB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7DC-BEBC-4419-9672-AF003A5B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036-2E5A-4770-BF41-65BF180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75B-8BA3-4A52-8058-BC83F01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BA5-33E0-4D04-AB67-A9AEB8F6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7C3-DEB8-485D-8C66-E7AC2D8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CE3-2289-420C-B9B9-692356A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FA0-FB1F-4CC8-919C-D295B58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FA1-F7AF-46F6-9C70-455CCF271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F58-2B3C-4391-9991-45A7E0664E3F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2013-2014 учебный гогд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42960" y="2143080"/>
            <a:ext cx="77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Отчет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о проделанной работе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социального педагога Пелевиной Л.Н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2f2f2"/>
                </a:solidFill>
                <a:latin typeface="Cambria"/>
              </a:rPr>
              <a:t>Мероприятия по пропаганде здорового образа жизни:</a:t>
            </a:r>
            <a:br>
              <a:rPr sz="2900"/>
            </a:b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семирный день отказа от курени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сячник профилактики табакокурения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сячник по профилактики наркомани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сячник по профилактики ВИЧ/СПИД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циальные урок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кция «Минута детского телефона доверия 2014»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кция к  Международному  дню инвалида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Работа с родителями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 2013-2014 учебном году было проведено 3 общешкольных родительских собраний на темы: «Девиантное поведение. Трудные дети и их проблемы» » - октябрь 2013 года, «Причины агрессивности школьников. Как избежать вспышек агрессии» -декабрь 2013 года, «Чем заняться детям летом. Профилактика суицида» - май 2014 года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азработаны рекомендаци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о проведено 83  индивидуальные консультации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2f2f2"/>
                </a:solidFill>
                <a:uFillTx/>
                <a:latin typeface="Cambria"/>
              </a:rPr>
              <a:t>Цель деятельности </a:t>
            </a:r>
            <a:endParaRPr b="1" lang="en-US" sz="2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74800" y="500040"/>
            <a:ext cx="51116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дачи работы: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создание благоприятных условий для развития личности ребенка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казание комплексной помощи ребенку в саморазвитии и самореализации в процессе восприятия мира и адаптации в нем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защита ребенка в его жизненном пространстве, трудных жизненных ситуациях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профилактика негативных явлений в микросреде обучающихся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формирование у обучающихся гражданской ответственности, правового самосознания,  нравственного поведения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формирование у детей ценностного отношения к собственному здоровью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выявление интересов и потребностей учащихся, трудностей и проблем, отклонений в поведении, уровня социальной защищенности и адаптированности к социальной среде;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диагностика проблем учащихся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циальная адаптация обучающихся,  их развитие, воспитание, образование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71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ambria"/>
              </a:rPr>
              <a:t>На начало учебного года по социальному паспорту школы-интерната:</a:t>
            </a:r>
            <a:br>
              <a:rPr sz="2800"/>
            </a:br>
            <a:endParaRPr b="1" lang="en-US" sz="28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многодетных семей – 20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опекунских семей – 4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неполных семей – 34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 семей воспитывающих детей-инвалидов – 24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неблагополучных семей -  11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личество приемных семей – 2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Занятость обучающихся в кружках  - 78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Совместная работа с ПДН ОВД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верка учащихся, состоящих на учёте в ПДН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ндивидуальные беседы инспектора ПДН и участковых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овместные рейды посещения семей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Рассматривались на заседении КДН и ЗП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00" name="Содержимое 11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Взаимодействие с органами опеки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а направлена информация в органы опеки Весьегонского района по семье Козлова Дмитрия находящегося в приемной семье,  с целью осуществления совместного контрол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о направлено ходатайство ТОСЗН Кимрского района  по устройству на летние каникулы обучающегося Иванова Андрея, в связи с длительным лечением матери Сорокиной Е.Н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 направлен запрос ТОСЗН Максатихинского района по семье обучающегося Смирнова Сергея ребенка инвалида для осуществления совместного контрол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ыл направлен запрос ТОСЗН Краснохолмского района по осуществлению контроля семей: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-Владимировой Кристины ребенка инвалида,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-Баруздиной Зои находящейся под опекой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mbria"/>
              </a:rPr>
              <a:t>Взаимодействие с отделами образования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о все отделы образования были направлены списки обучающихся школы-интерната и проживающих на их территори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ОО Кесовогорского района направлена информация по обучающемуся Родимову Виктору с целью совместного кантроля семь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ОО Кимрского района неоднократно направлялась информация по семье обучающегося Баканина Дмитрия. Школа-интернат ходатайствовала об оказании помощи в обучении Дмитрия по месту проживания, так как Баканина Л.А. не желает доставлять ребенка в школу-интернат г.Кашина.                      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2600" y="2906280"/>
            <a:ext cx="7929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офилактическая работа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 воспитанникам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mbria"/>
              </a:rPr>
              <a:t>Стоящие на учете в школе-интернате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08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5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6:31:23Z</dcterms:created>
  <dc:creator>Admin</dc:creator>
  <dc:description/>
  <dc:language>en-US</dc:language>
  <cp:lastModifiedBy>WINDOWS7</cp:lastModifiedBy>
  <dcterms:modified xsi:type="dcterms:W3CDTF">2014-08-28T10:17:44Z</dcterms:modified>
  <cp:revision>17</cp:revision>
  <dc:subject/>
  <dc:title>Классный 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061709991</vt:lpwstr>
  </property>
</Properties>
</file>