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3D5-9D02-459E-84C8-2722E616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F31-5CF2-4B08-91D1-E256FB7C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CFD-3DF4-40F3-AABC-D3500F46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09D-2623-4EA1-A30C-E0DE5B4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05E-9BFE-4793-86C6-8697621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F0A-A8E7-428F-8B00-B310644D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FE2-8B7E-4FF5-8955-6444C2C2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A23-A897-4E0B-B26A-41B87D8C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2FB-FF61-4E68-B42A-AE189DA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2E7-4B14-4C6E-8D74-1739DBAF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02A-6B56-43D9-A481-A592887A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A53-937D-43CE-BD53-76AAA38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9ADF-221D-4B5D-A0FA-B68C7902A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60480" y="-6480"/>
            <a:ext cx="9210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3500280"/>
            <a:ext cx="177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b0b"/>
                </a:solidFill>
                <a:latin typeface="Calibri"/>
              </a:rPr>
              <a:t>Р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95640" y="3786120"/>
            <a:ext cx="60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естественный водный поток, текущий в выработанном им русле и питающийся за счет поверхностного и подземного стока с их бассейнов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5"/>
          <p:cNvSpPr/>
          <p:nvPr/>
        </p:nvSpPr>
        <p:spPr>
          <a:xfrm flipV="1">
            <a:off x="3214800" y="4286160"/>
            <a:ext cx="4714920" cy="46080"/>
          </a:xfrm>
          <a:prstGeom prst="line">
            <a:avLst/>
          </a:prstGeom>
          <a:ln w="3816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916360" y="333360"/>
            <a:ext cx="6011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4A41-EC51-46EB-B7E7-3FF4E5557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9" descr=""/>
          <p:cNvPicPr/>
          <p:nvPr/>
        </p:nvPicPr>
        <p:blipFill>
          <a:blip r:embed="rId2"/>
          <a:stretch/>
        </p:blipFill>
        <p:spPr>
          <a:xfrm>
            <a:off x="1378080" y="158760"/>
            <a:ext cx="588168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6200"/>
                            </p:stCondLst>
                            <p:childTnLst>
                              <p:par>
                                <p:cTn id="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5:54:07Z</dcterms:created>
  <dc:creator>aser</dc:creator>
  <dc:description/>
  <dc:language>en-US</dc:language>
  <cp:lastModifiedBy>aser</cp:lastModifiedBy>
  <dcterms:modified xsi:type="dcterms:W3CDTF">2015-01-28T15:54:52Z</dcterms:modified>
  <cp:revision>1</cp:revision>
  <dc:subject/>
  <dc:title>Слайд 1</dc:title>
</cp:coreProperties>
</file>