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83A-5C7B-4896-A463-ADC99D7D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869-EE25-4A3D-B808-27160FB2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962-0A9A-4D3F-A9EC-EB9C9564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F83-19B5-426C-9D5E-389739A2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A70-2360-4A10-9A97-6573759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34A-A602-458C-8787-0706738B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5E7-E14C-4AF5-8D2C-6356963C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85D-5301-4581-81AA-BA20E70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689-8562-48E8-9274-DEC577E8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967-F1F2-4A88-83E5-A028321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E8C-A350-47CF-9981-24C88448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25E-9F4D-4452-875B-14060ADC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B905-BD41-4F25-BC4E-B7BE10FC0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60480" y="-6480"/>
            <a:ext cx="92109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3500280"/>
            <a:ext cx="177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b0b"/>
                </a:solidFill>
                <a:latin typeface="Calibri"/>
              </a:rPr>
              <a:t>Р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95640" y="3786120"/>
            <a:ext cx="60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естественный водный поток, текущий в выработанном им русле и питающийся за счет поверхностного и подземного стока с их бассейнов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5"/>
          <p:cNvSpPr/>
          <p:nvPr/>
        </p:nvSpPr>
        <p:spPr>
          <a:xfrm flipV="1">
            <a:off x="3214800" y="4286160"/>
            <a:ext cx="4714920" cy="46080"/>
          </a:xfrm>
          <a:prstGeom prst="line">
            <a:avLst/>
          </a:prstGeom>
          <a:ln w="3816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916360" y="333360"/>
            <a:ext cx="6011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D314-01B3-4644-9E34-50336B49B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9" descr=""/>
          <p:cNvPicPr/>
          <p:nvPr/>
        </p:nvPicPr>
        <p:blipFill>
          <a:blip r:embed="rId2"/>
          <a:stretch/>
        </p:blipFill>
        <p:spPr>
          <a:xfrm>
            <a:off x="1378080" y="158760"/>
            <a:ext cx="588168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6200"/>
                            </p:stCondLst>
                            <p:childTnLst>
                              <p:par>
                                <p:cTn id="1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5:54:07Z</dcterms:created>
  <dc:creator>aser</dc:creator>
  <dc:description/>
  <dc:language>en-US</dc:language>
  <cp:lastModifiedBy>aser</cp:lastModifiedBy>
  <dcterms:modified xsi:type="dcterms:W3CDTF">2015-01-28T15:54:52Z</dcterms:modified>
  <cp:revision>1</cp:revision>
  <dc:subject/>
  <dc:title>Слайд 1</dc:title>
</cp:coreProperties>
</file>