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gif" ContentType="image/gif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2651-3DB1-4719-98CE-C58D87D810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C562-6B6F-458D-8622-1F55054D9E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782-DCBA-4287-8018-F6DA055D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DE9-3129-4A1D-9526-8E1C894A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571-9EE0-404E-88FE-3A9E38A7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EF0-54C5-481C-BDC7-F7F0D305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996-D5F2-4EAF-8FD4-D39C4857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DCE-2CC4-4A8A-88F5-734C19D3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E517-F16F-4025-BD35-204D4057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183-DB49-4B63-8BEB-267BDAE8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1B87-7BBF-4706-84DC-03D811D4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03E-EA61-4A49-ACD2-B1304C1D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F49B-9745-4C38-9A82-B3F779D4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2CC-C627-4C92-AFAD-907CE7CE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01F0-F747-49C1-A6D8-14EC0DC405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1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gif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49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17"/>
          <p:cNvSpPr/>
          <p:nvPr/>
        </p:nvSpPr>
        <p:spPr>
          <a:xfrm>
            <a:off x="1981080" y="5029200"/>
            <a:ext cx="6705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втор презентации:</a:t>
            </a:r>
            <a:r>
              <a:rPr b="1" i="1" lang="ru-RU" sz="2400" spc="-1" strike="noStrike">
                <a:solidFill>
                  <a:srgbClr val="00808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Georgia"/>
              </a:rPr>
              <a:t>Тайменова М.М.- учитель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1981080" y="304920"/>
            <a:ext cx="670572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нания — это убежище и приют, удобные и необходимые нам в преклонные годы, и если мы не посадим дерева, пока мы молоды, то, когда мы состаримся, у нас не будет тени, чтобы укрыться от сол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естерфилд Ф</a:t>
            </a:r>
            <a:br>
              <a:rPr sz="24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заимопровер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230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231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2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7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2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Text Box 30"/>
          <p:cNvSpPr/>
          <p:nvPr/>
        </p:nvSpPr>
        <p:spPr>
          <a:xfrm>
            <a:off x="3429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1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9"/>
          <p:cNvSpPr/>
          <p:nvPr/>
        </p:nvSpPr>
        <p:spPr>
          <a:xfrm>
            <a:off x="1752480" y="1600200"/>
            <a:ext cx="4724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 =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=0       х=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=0        х=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= ±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 =±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"/>
              <p:cNvSpPr txBox="1"/>
              <p:nvPr/>
            </p:nvSpPr>
            <p:spPr>
              <a:xfrm>
                <a:off x="3352680" y="1371600"/>
                <a:ext cx="6858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248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249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0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5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0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Text Box 30"/>
          <p:cNvSpPr/>
          <p:nvPr/>
        </p:nvSpPr>
        <p:spPr>
          <a:xfrm>
            <a:off x="3429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9"/>
          <p:cNvSpPr/>
          <p:nvPr/>
        </p:nvSpPr>
        <p:spPr>
          <a:xfrm>
            <a:off x="2209680" y="391320"/>
            <a:ext cx="6477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«Человеку, изучающему алгебру, часто полезнее решить одну и ту же задачу тремя различными способами, чем решить три-четыре различные задачи. Решая одну задачу различными методами, можно путем сравнений выяснить, какой из них короче и эффективнее. Так вырабатывается опы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У. Сой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0"/>
          <p:cNvSpPr/>
          <p:nvPr/>
        </p:nvSpPr>
        <p:spPr>
          <a:xfrm>
            <a:off x="2514600" y="32446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e5"/>
                </a:solidFill>
                <a:latin typeface="Arial"/>
              </a:rPr>
              <a:t>1) Х</a:t>
            </a:r>
            <a:r>
              <a:rPr b="1" lang="ru-RU" sz="4400" spc="-1" strike="noStrike" baseline="30000">
                <a:solidFill>
                  <a:srgbClr val="0000e5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e5"/>
                </a:solidFill>
                <a:latin typeface="Arial"/>
              </a:rPr>
              <a:t>-4х+3=0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2438280" y="47268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Calibri"/>
                <a:ea typeface="Times New Roman"/>
              </a:rPr>
              <a:t>2) Х</a:t>
            </a:r>
            <a:r>
              <a:rPr b="1" lang="ru-RU" sz="4800" spc="-1" strike="noStrike" baseline="30000">
                <a:solidFill>
                  <a:srgbClr val="990033"/>
                </a:solidFill>
                <a:latin typeface="Calibri"/>
                <a:ea typeface="Times New Roman"/>
              </a:rPr>
              <a:t>2</a:t>
            </a:r>
            <a:r>
              <a:rPr b="1" lang="ru-RU" sz="4800" spc="-1" strike="noStrike">
                <a:solidFill>
                  <a:srgbClr val="990033"/>
                </a:solidFill>
                <a:latin typeface="Calibri"/>
                <a:ea typeface="Times New Roman"/>
              </a:rPr>
              <a:t>-6х+5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Конкурс “Путешествие вглубь веков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268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269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0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5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0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Text Box 30"/>
          <p:cNvSpPr/>
          <p:nvPr/>
        </p:nvSpPr>
        <p:spPr>
          <a:xfrm>
            <a:off x="3429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1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1600200" y="2133720"/>
            <a:ext cx="70102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1" i="1" lang="ru-RU" sz="2000" spc="-1" strike="noStrike">
                <a:solidFill>
                  <a:srgbClr val="0000e5"/>
                </a:solidFill>
                <a:latin typeface="Georgia"/>
              </a:rPr>
              <a:t>В египетской пирамиде на гробнице начертано число. Что это за числ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Варианты ответа: 2520, 1001, 66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Кто ввел знак радика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Варианты отве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Кристоф Рудольф, Архимед, Дек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3. У греков счетные доски назывались абаки. В России пользовались сче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Вопрос:</a:t>
            </a:r>
            <a:r>
              <a:rPr b="1" i="1" lang="ru-RU" sz="2000" spc="-1" strike="noStrike">
                <a:solidFill>
                  <a:srgbClr val="660066"/>
                </a:solidFill>
                <a:latin typeface="Georgia"/>
              </a:rPr>
              <a:t> В какой стране счеты называли сороб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Варианты ответа: в Китае, в Японии, в Инд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285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286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7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7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Text Box 30"/>
          <p:cNvSpPr/>
          <p:nvPr/>
        </p:nvSpPr>
        <p:spPr>
          <a:xfrm>
            <a:off x="3429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1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7"/>
          <p:cNvSpPr/>
          <p:nvPr/>
        </p:nvSpPr>
        <p:spPr>
          <a:xfrm>
            <a:off x="2362320" y="53352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e5"/>
                </a:solidFill>
                <a:latin typeface="Georgia"/>
              </a:rPr>
              <a:t>Битва тита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1600200" y="1444320"/>
            <a:ext cx="7315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  <a:ea typeface="Times New Roman"/>
              </a:rPr>
              <a:t>1) 17x</a:t>
            </a:r>
            <a:r>
              <a:rPr b="1" lang="ru-RU" sz="4000" spc="-1" strike="noStrike" baseline="30000">
                <a:solidFill>
                  <a:srgbClr val="333333"/>
                </a:solidFill>
                <a:latin typeface="Arial"/>
                <a:ea typeface="Times New Roman"/>
              </a:rPr>
              <a:t>2</a:t>
            </a:r>
            <a:r>
              <a:rPr b="1" lang="ru-RU" sz="5400" spc="-1" strike="noStrike">
                <a:solidFill>
                  <a:srgbClr val="333333"/>
                </a:solidFill>
                <a:latin typeface="Calibri"/>
                <a:ea typeface="Times New Roman"/>
              </a:rPr>
              <a:t>–</a:t>
            </a:r>
            <a:r>
              <a:rPr b="1" lang="ru-RU" sz="5400" spc="-1" strike="noStrike">
                <a:solidFill>
                  <a:srgbClr val="333333"/>
                </a:solidFill>
                <a:latin typeface="Arial"/>
                <a:ea typeface="Times New Roman"/>
              </a:rPr>
              <a:t> 5x = 14x</a:t>
            </a:r>
            <a:r>
              <a:rPr b="1" lang="ru-RU" sz="4000" spc="-1" strike="noStrike" baseline="30000">
                <a:solidFill>
                  <a:srgbClr val="333333"/>
                </a:solidFill>
                <a:latin typeface="Arial"/>
                <a:ea typeface="Times New Roman"/>
              </a:rPr>
              <a:t>2</a:t>
            </a:r>
            <a:r>
              <a:rPr b="1" lang="ru-RU" sz="5400" spc="-1" strike="noStrike">
                <a:solidFill>
                  <a:srgbClr val="333333"/>
                </a:solidFill>
                <a:latin typeface="Calibri"/>
                <a:ea typeface="Times New Roman"/>
              </a:rPr>
              <a:t> </a:t>
            </a:r>
            <a:r>
              <a:rPr b="1" lang="ru-RU" sz="5400" spc="-1" strike="noStrike">
                <a:solidFill>
                  <a:srgbClr val="333333"/>
                </a:solidFill>
                <a:latin typeface="Arial"/>
                <a:ea typeface="Times New Roman"/>
              </a:rPr>
              <a:t>+ 7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  <a:ea typeface="Times New Roman"/>
              </a:rPr>
              <a:t>2) x(x+4)=4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  <a:ea typeface="Times New Roman"/>
              </a:rPr>
              <a:t>3) (x+3)</a:t>
            </a:r>
            <a:r>
              <a:rPr b="1" lang="ru-RU" sz="4000" spc="-1" strike="noStrike" baseline="30000">
                <a:solidFill>
                  <a:srgbClr val="333333"/>
                </a:solidFill>
                <a:latin typeface="Arial"/>
                <a:ea typeface="Times New Roman"/>
              </a:rPr>
              <a:t>2</a:t>
            </a:r>
            <a:r>
              <a:rPr b="1" lang="ru-RU" sz="5400" spc="-1" strike="noStrike">
                <a:solidFill>
                  <a:srgbClr val="333333"/>
                </a:solidFill>
                <a:latin typeface="Calibri"/>
                <a:ea typeface="Times New Roman"/>
              </a:rPr>
              <a:t> –</a:t>
            </a:r>
            <a:r>
              <a:rPr b="1" lang="ru-RU" sz="5400" spc="-1" strike="noStrike">
                <a:solidFill>
                  <a:srgbClr val="333333"/>
                </a:solidFill>
                <a:latin typeface="Arial"/>
                <a:ea typeface="Times New Roman"/>
              </a:rPr>
              <a:t> 6x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0" y="380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Рефлек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304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305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6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1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16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Text Box 17"/>
          <p:cNvSpPr/>
          <p:nvPr/>
        </p:nvSpPr>
        <p:spPr>
          <a:xfrm>
            <a:off x="1600200" y="1447920"/>
            <a:ext cx="6858000" cy="4055400"/>
          </a:xfrm>
          <a:prstGeom prst="rect">
            <a:avLst/>
          </a:prstGeom>
          <a:solidFill>
            <a:srgbClr val="eff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Благодарю…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лагаю каждому ученику выбрать только одного из ребят, кому хочется сказать спасибо за сотрудничество и пояснить, в чем именно это сотрудничество проявилось или ученику, который вас сегодня чем-то удив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319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320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1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6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31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2" name="Picture 26" descr="spasibo-42"/>
          <p:cNvPicPr/>
          <p:nvPr/>
        </p:nvPicPr>
        <p:blipFill>
          <a:blip r:embed="rId8"/>
          <a:stretch/>
        </p:blipFill>
        <p:spPr>
          <a:xfrm>
            <a:off x="1600200" y="152280"/>
            <a:ext cx="7543800" cy="5643720"/>
          </a:xfrm>
          <a:prstGeom prst="rect">
            <a:avLst/>
          </a:prstGeom>
          <a:ln w="0">
            <a:noFill/>
          </a:ln>
        </p:spPr>
      </p:pic>
      <p:sp>
        <p:nvSpPr>
          <p:cNvPr id="333" name="WordArt 28"/>
          <p:cNvSpPr txBox="1"/>
          <p:nvPr/>
        </p:nvSpPr>
        <p:spPr>
          <a:xfrm>
            <a:off x="4572000" y="5334120"/>
            <a:ext cx="434340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7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а урок!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40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65" name="Group 39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66" name="Rectangle 18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AutoShape 21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22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AutoShape 24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23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" name="Picture 26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3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Picture 36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3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Picture 38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7" name="Picture 28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3" descr="http://4.bp.blogspot.com/-eTTbo5j72-I/UK0alepQFDI/AAAAAAAADPQ/9PzGKvdr7rA/s1600/37535118_privet_1.gif"/>
          <p:cNvPicPr/>
          <p:nvPr/>
        </p:nvPicPr>
        <p:blipFill>
          <a:blip r:embed="rId8"/>
          <a:stretch/>
        </p:blipFill>
        <p:spPr>
          <a:xfrm>
            <a:off x="1523880" y="0"/>
            <a:ext cx="7391520" cy="3029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5" descr="http://miranimashek.com/_ph/114/2/789513299.gif"/>
          <p:cNvPicPr/>
          <p:nvPr/>
        </p:nvPicPr>
        <p:blipFill>
          <a:blip r:embed="rId9"/>
          <a:stretch/>
        </p:blipFill>
        <p:spPr>
          <a:xfrm>
            <a:off x="2057400" y="2743200"/>
            <a:ext cx="5410080" cy="263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7" descr="http://referat.znate.ru/pars_docs/tw_refs/32/31560/31560_html_12e0e8f2.gif"/>
          <p:cNvPicPr/>
          <p:nvPr/>
        </p:nvPicPr>
        <p:blipFill>
          <a:blip r:embed="rId10"/>
          <a:stretch/>
        </p:blipFill>
        <p:spPr>
          <a:xfrm rot="20205600">
            <a:off x="5222520" y="4817880"/>
            <a:ext cx="3809880" cy="1342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1" descr="http://www.infoniac.ru/upload/medialibrary/7bf/7bf3a6e0f219f760449070023fa3a8d0.jpg"/>
          <p:cNvPicPr/>
          <p:nvPr/>
        </p:nvPicPr>
        <p:blipFill>
          <a:blip r:embed="rId11"/>
          <a:stretch/>
        </p:blipFill>
        <p:spPr>
          <a:xfrm>
            <a:off x="182880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grpSp>
        <p:nvGrpSpPr>
          <p:cNvPr id="84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85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86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7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Text Box 30"/>
          <p:cNvSpPr/>
          <p:nvPr/>
        </p:nvSpPr>
        <p:spPr>
          <a:xfrm>
            <a:off x="3429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0" descr="http://www.psychologos.ru/images/yaponcy_vospitany_1375684995.jpg"/>
          <p:cNvPicPr/>
          <p:nvPr/>
        </p:nvPicPr>
        <p:blipFill>
          <a:blip r:embed="rId8"/>
          <a:stretch/>
        </p:blipFill>
        <p:spPr>
          <a:xfrm>
            <a:off x="1523880" y="2438280"/>
            <a:ext cx="2914920" cy="235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2" descr="http://www.avdet.org/files/images/nyuh.jpg"/>
          <p:cNvPicPr/>
          <p:nvPr/>
        </p:nvPicPr>
        <p:blipFill>
          <a:blip r:embed="rId9"/>
          <a:stretch/>
        </p:blipFill>
        <p:spPr>
          <a:xfrm>
            <a:off x="1523880" y="152280"/>
            <a:ext cx="2514600" cy="2149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4" descr="http://mlynarzhevskaya.ru/wp-content/uploads/2013/12/%D0%BF%D1%80%D0%B8%D0%B2%D0%B5%D1%828.jpeg"/>
          <p:cNvPicPr/>
          <p:nvPr/>
        </p:nvPicPr>
        <p:blipFill>
          <a:blip r:embed="rId10"/>
          <a:stretch/>
        </p:blipFill>
        <p:spPr>
          <a:xfrm>
            <a:off x="4419720" y="0"/>
            <a:ext cx="1987560" cy="243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6" descr="http://may-ekb.ru/pics500/userimages/article/ti_segodnya_kushal_kak_kochuete_mir_vam___kak_zdorovayutsya_v_raznih_stranah_ili_mezhdunarodnii_den_privetstvii_273092328privetstvieindeycev.jpg"/>
          <p:cNvPicPr/>
          <p:nvPr/>
        </p:nvPicPr>
        <p:blipFill>
          <a:blip r:embed="rId11"/>
          <a:stretch/>
        </p:blipFill>
        <p:spPr>
          <a:xfrm>
            <a:off x="4572000" y="2590920"/>
            <a:ext cx="3073320" cy="203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8" descr="http://cs11269.vk.com/u9266920/135083034/x_8a7132f3.jpg"/>
          <p:cNvPicPr/>
          <p:nvPr/>
        </p:nvPicPr>
        <p:blipFill>
          <a:blip r:embed="rId12"/>
          <a:stretch/>
        </p:blipFill>
        <p:spPr>
          <a:xfrm>
            <a:off x="7010280" y="4800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0" descr="http://www.tema.ru/eng/travel/liberia-2/IMG_8583.jpg"/>
          <p:cNvPicPr/>
          <p:nvPr/>
        </p:nvPicPr>
        <p:blipFill>
          <a:blip r:embed="rId13"/>
          <a:stretch/>
        </p:blipFill>
        <p:spPr>
          <a:xfrm>
            <a:off x="6477120" y="152280"/>
            <a:ext cx="2514600" cy="167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2" descr="http://iledebeaute.ru/files/images/pub/part_1/29106/src/2-4.jpg?630_258"/>
          <p:cNvPicPr/>
          <p:nvPr/>
        </p:nvPicPr>
        <p:blipFill>
          <a:blip r:embed="rId14"/>
          <a:stretch/>
        </p:blipFill>
        <p:spPr>
          <a:xfrm>
            <a:off x="1600200" y="4713120"/>
            <a:ext cx="523872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6248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5db9"/>
                </a:solidFill>
                <a:latin typeface="Times New Roman"/>
              </a:rPr>
              <a:t>Урок-КВ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109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110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1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Text Box 30"/>
          <p:cNvSpPr/>
          <p:nvPr/>
        </p:nvSpPr>
        <p:spPr>
          <a:xfrm>
            <a:off x="3429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8"/>
          <p:cNvSpPr/>
          <p:nvPr/>
        </p:nvSpPr>
        <p:spPr>
          <a:xfrm>
            <a:off x="2057400" y="1371600"/>
            <a:ext cx="655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«Если хочешь быть умен – состязайся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од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Вступительное слово учите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едставление соревнующихся команд и их капитанов, состава жюр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Конк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Разминка «Счетная машин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онкурс теоре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Эстафет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От теории к прак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Конкурс “Путешествие вглубь веков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Конкурс   «Битва титан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 игры, награждение побе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126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127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8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Text Box 30"/>
          <p:cNvSpPr/>
          <p:nvPr/>
        </p:nvSpPr>
        <p:spPr>
          <a:xfrm>
            <a:off x="3429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1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8"/>
          <p:cNvSpPr/>
          <p:nvPr/>
        </p:nvSpPr>
        <p:spPr>
          <a:xfrm>
            <a:off x="1676520" y="16002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Чтоб вы примеры в алгебре решали без зами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проводим конкурс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Georgia"/>
              </a:rPr>
              <a:t>“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Georgia"/>
              </a:rPr>
              <a:t>Счетная машинка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9"/>
          <p:cNvSpPr/>
          <p:nvPr/>
        </p:nvSpPr>
        <p:spPr>
          <a:xfrm>
            <a:off x="2666880" y="304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e5"/>
                </a:solidFill>
                <a:latin typeface="Arial"/>
              </a:rPr>
              <a:t>Размин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144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6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6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 Box 30"/>
          <p:cNvSpPr/>
          <p:nvPr/>
        </p:nvSpPr>
        <p:spPr>
          <a:xfrm>
            <a:off x="3429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1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6"/>
          <p:cNvSpPr/>
          <p:nvPr/>
        </p:nvSpPr>
        <p:spPr>
          <a:xfrm>
            <a:off x="1447920" y="-72360"/>
            <a:ext cx="76960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68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Helvetica Neue"/>
              </a:rPr>
              <a:t>Количество баллов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333333"/>
                </a:solidFill>
                <a:latin typeface="Helvetica Neue"/>
              </a:rPr>
              <a:t> по количеств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Helvetica Neue"/>
              </a:rPr>
              <a:t>правильно решенных примеров. </a:t>
            </a:r>
            <a:r>
              <a:rPr b="1" lang="ru-RU" sz="28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Helvetica Neue"/>
              </a:rPr>
              <a:t> 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52"/>
              <p:cNvSpPr txBox="1"/>
              <p:nvPr/>
            </p:nvSpPr>
            <p:spPr>
              <a:xfrm>
                <a:off x="2133720" y="914400"/>
                <a:ext cx="14475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53"/>
              <p:cNvSpPr txBox="1"/>
              <p:nvPr/>
            </p:nvSpPr>
            <p:spPr>
              <a:xfrm>
                <a:off x="2057400" y="1828800"/>
                <a:ext cx="1523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54"/>
              <p:cNvSpPr txBox="1"/>
              <p:nvPr/>
            </p:nvSpPr>
            <p:spPr>
              <a:xfrm>
                <a:off x="2057400" y="2590920"/>
                <a:ext cx="19051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6</m:t>
                                </m:r>
                              </m:e>
                            </m:rad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55"/>
              <p:cNvSpPr txBox="1"/>
              <p:nvPr/>
            </p:nvSpPr>
            <p:spPr>
              <a:xfrm>
                <a:off x="2057400" y="3505320"/>
                <a:ext cx="19051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4</m:t>
                                </m:r>
                              </m:e>
                            </m:rad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6"/>
              <p:cNvSpPr txBox="1"/>
              <p:nvPr/>
            </p:nvSpPr>
            <p:spPr>
              <a:xfrm>
                <a:off x="1752480" y="4343400"/>
                <a:ext cx="27511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1363680" y="5273640"/>
                <a:ext cx="77803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0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2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</m:t>
                                    </m:r>
                                  </m:e>
                                </m:rad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6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7400" y="-13968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Конкурс теорет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168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0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5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0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Text Box 30"/>
          <p:cNvSpPr/>
          <p:nvPr/>
        </p:nvSpPr>
        <p:spPr>
          <a:xfrm>
            <a:off x="3429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1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Прямоугольник 18"/>
          <p:cNvGrpSpPr/>
          <p:nvPr/>
        </p:nvGrpSpPr>
        <p:grpSpPr>
          <a:xfrm>
            <a:off x="1444680" y="596880"/>
            <a:ext cx="7754760" cy="6346800"/>
            <a:chOff x="1444680" y="596880"/>
            <a:chExt cx="7754760" cy="6346800"/>
          </a:xfrm>
        </p:grpSpPr>
        <p:pic>
          <p:nvPicPr>
            <p:cNvPr id="184" name="Прямоугольник 18" descr=""/>
            <p:cNvPicPr/>
            <p:nvPr/>
          </p:nvPicPr>
          <p:blipFill>
            <a:blip r:embed="rId8"/>
            <a:stretch/>
          </p:blipFill>
          <p:spPr>
            <a:xfrm>
              <a:off x="1444680" y="596880"/>
              <a:ext cx="7754760" cy="634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600200" y="635040"/>
              <a:ext cx="7543800" cy="59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1. Дайте определение квадратного уравнени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2. Способы решения квадратного уравн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3. Дайте определение неполного квадратного уравнени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4. Перечислите виды неполных квадратных уравнени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5. Дайте определение приведенного квадратного уравнени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6.Как называются коэффициенты полного квадратного уравнен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7. Дайте определение арифметического квадратного корн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8.Чему равен квадрат суммы двух выражений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187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188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9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4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9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30"/>
          <p:cNvSpPr/>
          <p:nvPr/>
        </p:nvSpPr>
        <p:spPr>
          <a:xfrm>
            <a:off x="3429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1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00200" y="1600200"/>
          <a:ext cx="7342200" cy="4183200"/>
        </p:xfrm>
        <a:graphic>
          <a:graphicData uri="http://schemas.openxmlformats.org/drawingml/2006/table">
            <a:tbl>
              <a:tblPr/>
              <a:tblGrid>
                <a:gridCol w="2057400"/>
                <a:gridCol w="1684440"/>
                <a:gridCol w="1765080"/>
                <a:gridCol w="183528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Comic Sans MS"/>
                        </a:rPr>
                        <a:t>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3" name="Object 437"/>
              <p:cNvSpPr txBox="1"/>
              <p:nvPr/>
            </p:nvSpPr>
            <p:spPr>
              <a:xfrm>
                <a:off x="1600200" y="2362320"/>
                <a:ext cx="165564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440"/>
              <p:cNvSpPr txBox="1"/>
              <p:nvPr/>
            </p:nvSpPr>
            <p:spPr>
              <a:xfrm>
                <a:off x="1905120" y="2895480"/>
                <a:ext cx="122220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43"/>
              <p:cNvSpPr txBox="1"/>
              <p:nvPr/>
            </p:nvSpPr>
            <p:spPr>
              <a:xfrm>
                <a:off x="1676520" y="3429000"/>
                <a:ext cx="1143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47"/>
              <p:cNvSpPr txBox="1"/>
              <p:nvPr/>
            </p:nvSpPr>
            <p:spPr>
              <a:xfrm>
                <a:off x="1676520" y="4114800"/>
                <a:ext cx="1523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48"/>
              <p:cNvSpPr txBox="1"/>
              <p:nvPr/>
            </p:nvSpPr>
            <p:spPr>
              <a:xfrm>
                <a:off x="1676520" y="4572000"/>
                <a:ext cx="1904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49"/>
              <p:cNvSpPr txBox="1"/>
              <p:nvPr/>
            </p:nvSpPr>
            <p:spPr>
              <a:xfrm>
                <a:off x="1676520" y="5181480"/>
                <a:ext cx="1706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TextBox 30"/>
          <p:cNvSpPr/>
          <p:nvPr/>
        </p:nvSpPr>
        <p:spPr>
          <a:xfrm>
            <a:off x="3200400" y="3808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Эстаф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 теории к практ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-160920" y="0"/>
            <a:ext cx="1608840" cy="6908760"/>
            <a:chOff x="-160920" y="0"/>
            <a:chExt cx="1608840" cy="6908760"/>
          </a:xfrm>
        </p:grpSpPr>
        <p:grpSp>
          <p:nvGrpSpPr>
            <p:cNvPr id="212" name="Group 4"/>
            <p:cNvGrpSpPr/>
            <p:nvPr/>
          </p:nvGrpSpPr>
          <p:grpSpPr>
            <a:xfrm>
              <a:off x="-160920" y="0"/>
              <a:ext cx="1608840" cy="6858000"/>
              <a:chOff x="-160920" y="0"/>
              <a:chExt cx="1608840" cy="6858000"/>
            </a:xfrm>
          </p:grpSpPr>
          <p:sp>
            <p:nvSpPr>
              <p:cNvPr id="213" name="Rectangle 5"/>
              <p:cNvSpPr/>
              <p:nvPr/>
            </p:nvSpPr>
            <p:spPr>
              <a:xfrm>
                <a:off x="0" y="0"/>
                <a:ext cx="1447920" cy="685800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4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52280"/>
                <a:ext cx="1079640" cy="10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AutoShape 7"/>
              <p:cNvSpPr/>
              <p:nvPr/>
            </p:nvSpPr>
            <p:spPr>
              <a:xfrm>
                <a:off x="228600" y="3441600"/>
                <a:ext cx="457200" cy="4572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utoShape 8"/>
              <p:cNvSpPr/>
              <p:nvPr/>
            </p:nvSpPr>
            <p:spPr>
              <a:xfrm>
                <a:off x="380880" y="5194440"/>
                <a:ext cx="4572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utoShape 9"/>
              <p:cNvSpPr/>
              <p:nvPr/>
            </p:nvSpPr>
            <p:spPr>
              <a:xfrm>
                <a:off x="1066680" y="245124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1680 h 914400"/>
                  <a:gd name="textAreaBottom" fmla="*/ 882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00"/>
                      <a:pt x="10800" y="2400"/>
                    </a:cubicBezTo>
                    <a:lnTo>
                      <a:pt x="10800" y="7538"/>
                    </a:lnTo>
                    <a:cubicBezTo>
                      <a:pt x="10800" y="8738"/>
                      <a:pt x="5400" y="9938"/>
                      <a:pt x="0" y="9938"/>
                    </a:cubicBezTo>
                    <a:cubicBezTo>
                      <a:pt x="5400" y="9938"/>
                      <a:pt x="10800" y="11138"/>
                      <a:pt x="10800" y="12338"/>
                    </a:cubicBezTo>
                    <a:lnTo>
                      <a:pt x="10800" y="19200"/>
                    </a:lnTo>
                    <a:cubicBezTo>
                      <a:pt x="10800" y="204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AutoShape 10"/>
              <p:cNvSpPr/>
              <p:nvPr/>
            </p:nvSpPr>
            <p:spPr>
              <a:xfrm>
                <a:off x="152280" y="1905120"/>
                <a:ext cx="533520" cy="685800"/>
              </a:xfrm>
              <a:prstGeom prst="cube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Picture 11" descr="lineika96306742412"/>
              <p:cNvPicPr/>
              <p:nvPr/>
            </p:nvPicPr>
            <p:blipFill>
              <a:blip r:embed="rId2"/>
              <a:stretch/>
            </p:blipFill>
            <p:spPr>
              <a:xfrm rot="772800">
                <a:off x="457200" y="359424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Picture 12" descr="092524_1385447124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451240"/>
                <a:ext cx="79992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Picture 13" descr="plus"/>
              <p:cNvPicPr/>
              <p:nvPr/>
            </p:nvPicPr>
            <p:blipFill>
              <a:blip r:embed="rId4"/>
              <a:stretch/>
            </p:blipFill>
            <p:spPr>
              <a:xfrm rot="974400">
                <a:off x="609120" y="1536840"/>
                <a:ext cx="60984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Picture 14" descr="7page7"/>
              <p:cNvPicPr/>
              <p:nvPr/>
            </p:nvPicPr>
            <p:blipFill>
              <a:blip r:embed="rId5"/>
              <a:stretch/>
            </p:blipFill>
            <p:spPr>
              <a:xfrm rot="1362600">
                <a:off x="837720" y="4127400"/>
                <a:ext cx="45720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icture 15" descr="220px-Nuvola_apps_edu_mathematics_blue-p"/>
              <p:cNvPicPr/>
              <p:nvPr/>
            </p:nvPicPr>
            <p:blipFill>
              <a:blip r:embed="rId6"/>
              <a:stretch/>
            </p:blipFill>
            <p:spPr>
              <a:xfrm rot="19788600">
                <a:off x="0" y="4508280"/>
                <a:ext cx="876240" cy="87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4" name="Picture 16" descr="transportit329615494447"/>
            <p:cNvPicPr/>
            <p:nvPr/>
          </p:nvPicPr>
          <p:blipFill>
            <a:blip r:embed="rId7"/>
            <a:srcRect l="17236" t="17874" r="0" b="0"/>
            <a:stretch/>
          </p:blipFill>
          <p:spPr>
            <a:xfrm rot="729600">
              <a:off x="304920" y="5791320"/>
              <a:ext cx="102852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Text Box 30"/>
          <p:cNvSpPr/>
          <p:nvPr/>
        </p:nvSpPr>
        <p:spPr>
          <a:xfrm>
            <a:off x="3429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9"/>
          <p:cNvSpPr/>
          <p:nvPr/>
        </p:nvSpPr>
        <p:spPr>
          <a:xfrm>
            <a:off x="1905120" y="281160"/>
            <a:ext cx="59436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5=0    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х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х=0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х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6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х</a:t>
            </a:r>
            <a:r>
              <a:rPr b="1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100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3T00:32:40Z</dcterms:created>
  <dc:creator>Бахтияр</dc:creator>
  <dc:description/>
  <dc:language>en-US</dc:language>
  <cp:lastModifiedBy>Баха</cp:lastModifiedBy>
  <dcterms:modified xsi:type="dcterms:W3CDTF">2015-01-28T11:51:03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