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3.gif" ContentType="image/gif"/>
  <Override PartName="/ppt/media/image25.png" ContentType="image/png"/>
  <Override PartName="/ppt/media/image2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C6D5-C314-4531-BB84-5E7AEEE3A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E98A-6CAA-4BD3-B53B-1B14A7B5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4E53-DE5C-4136-85B6-D32CE2A63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5D14-7E8D-4877-BCA4-FD32D24AC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F431-4A8A-4A44-A57F-9BDDBE98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CD68-49F1-4DA6-98D2-B20EBF9E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CD42-AC73-4150-8F6D-7C87052E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42E9-4AF9-4378-ABCD-CDBAE1A5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2993-3325-4394-8867-9FD13665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77CA-C6A9-4D6F-88BA-6BAD3ED8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9C0B-E7EC-4E4E-B85F-98399C03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67AA-CE4B-4E9F-B0B6-2412C05E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B2D5-BDDD-4162-BB03-CECBCB689A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47560" y="5181120"/>
            <a:ext cx="2895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 кла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5562720" y="4648320"/>
            <a:ext cx="30477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дительское собрани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 январ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015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C:\Documents and Settings\Admin\Рабочий стол\Рисунок10.jpg"/>
          <p:cNvPicPr/>
          <p:nvPr/>
        </p:nvPicPr>
        <p:blipFill>
          <a:blip r:embed="rId1"/>
          <a:stretch/>
        </p:blipFill>
        <p:spPr>
          <a:xfrm>
            <a:off x="0" y="0"/>
            <a:ext cx="596268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ffff00"/>
                </a:solidFill>
                <a:uFillTx/>
                <a:latin typeface="Arial"/>
              </a:rPr>
              <a:t>Вся информация </a:t>
            </a:r>
            <a:r>
              <a:rPr b="0" i="1" lang="ru-RU" sz="4400" spc="-1" strike="noStrike" u="sng">
                <a:solidFill>
                  <a:srgbClr val="0000cc"/>
                </a:solidFill>
                <a:uFillTx/>
                <a:latin typeface="Arial"/>
              </a:rPr>
              <a:t>на сайтах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79280" y="1125360"/>
          <a:ext cx="8785440" cy="5005440"/>
        </p:xfrm>
        <a:graphic>
          <a:graphicData uri="http://schemas.openxmlformats.org/drawingml/2006/table">
            <a:tbl>
              <a:tblPr/>
              <a:tblGrid>
                <a:gridCol w="4167360"/>
                <a:gridCol w="291960"/>
                <a:gridCol w="4326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www</a:t>
                      </a: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ege</a:t>
                      </a: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edu</a:t>
                      </a: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r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портал ЕГЭ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8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www</a:t>
                      </a: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fipi</a:t>
                      </a: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r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сайт федерального государственного научного учреждения «Федеральный институт педагогических измерений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www.rustest.ru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сайт федерального государственного учреждения «Федеральный центр тестирования» (ФЦТ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8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www</a:t>
                      </a: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obrnadzor</a:t>
                      </a: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gov</a:t>
                      </a: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ru</a:t>
                      </a: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сайт Рособрнадзо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8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www.obrnadzorhmao.ru</a:t>
                      </a:r>
                      <a:r>
                        <a:rPr b="1" lang="ru-RU" sz="2800" spc="-1" strike="noStrike" u="sng">
                          <a:solidFill>
                            <a:srgbClr val="002060"/>
                          </a:solidFill>
                          <a:uFillTx/>
                          <a:latin typeface="Times New Roman"/>
                          <a:ea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сайт Обрнадзор Югр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>
                        <a:lnSpc>
                          <a:spcPct val="8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8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36440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www</a:t>
                      </a: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admkogalym</a:t>
                      </a: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.</a:t>
                      </a:r>
                      <a:r>
                        <a:rPr b="1" lang="en-US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r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88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Arial"/>
                        </a:rPr>
                        <a:t>сайт Администрации города Когалыма (раздел «Структурные подразделения», подраздел «Управление образования»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стема общественного наблюдения за ходом проведения Г(И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640" y="1905120"/>
            <a:ext cx="8353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ественные наблюда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О посещени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курсов по выбор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кумент об окончании курсо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четная книж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рафик муниципальных пробных экзаменов в 9 класс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3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март 2015 года – русский язык– репетиционный экзам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март 2015 года – алгебра - репетиционный экзам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Притча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 перевернутом камн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5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ин странствующий искатель истины увидел большой камень, на котором было написано: «Переверни и читай». Он с трудом перевернул его и прочел на другой сторон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Зачем ты ищешь нового знания, если не обращаешь внимания на то, что уже знаешь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333399"/>
                </a:solidFill>
                <a:latin typeface="Arial"/>
              </a:rPr>
              <a:t>Отдых и труд рядом идут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9680" y="1285920"/>
            <a:ext cx="825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Где не хватает терпения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до бы постараться поня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де не понимаю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стараться вытерпе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 всегда я принимаю ребен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сегда любл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. Соловейч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C:\Documents and Settings\Admin\Рабочий стол\Рисунок10.png"/>
          <p:cNvPicPr/>
          <p:nvPr/>
        </p:nvPicPr>
        <p:blipFill>
          <a:blip r:embed="rId1"/>
          <a:stretch/>
        </p:blipFill>
        <p:spPr>
          <a:xfrm>
            <a:off x="-228600" y="-228600"/>
            <a:ext cx="9829800" cy="7527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http://lenagold.ru/fon/clipart/s/soln/solna24.gif"/>
          <p:cNvPicPr/>
          <p:nvPr/>
        </p:nvPicPr>
        <p:blipFill>
          <a:blip r:embed="rId2"/>
          <a:stretch/>
        </p:blipFill>
        <p:spPr>
          <a:xfrm>
            <a:off x="2133720" y="2133720"/>
            <a:ext cx="5495760" cy="4825800"/>
          </a:xfrm>
          <a:prstGeom prst="rect">
            <a:avLst/>
          </a:prstGeom>
          <a:ln w="0">
            <a:noFill/>
          </a:ln>
        </p:spPr>
      </p:pic>
      <p:sp>
        <p:nvSpPr>
          <p:cNvPr id="146" name="Содержимое 2"/>
          <p:cNvSpPr/>
          <p:nvPr/>
        </p:nvSpPr>
        <p:spPr>
          <a:xfrm>
            <a:off x="609480" y="2286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Мы вас любим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6" descr="C:\Documents and Settings\Admin\Рабочий стол\Рисунок10.png"/>
          <p:cNvPicPr/>
          <p:nvPr/>
        </p:nvPicPr>
        <p:blipFill>
          <a:blip r:embed="rId1"/>
          <a:stretch/>
        </p:blipFill>
        <p:spPr>
          <a:xfrm>
            <a:off x="-1676520" y="0"/>
            <a:ext cx="1078092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Заголовок 4"/>
          <p:cNvSpPr/>
          <p:nvPr/>
        </p:nvSpPr>
        <p:spPr>
          <a:xfrm>
            <a:off x="0" y="0"/>
            <a:ext cx="7172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00"/>
                </a:solidFill>
                <a:latin typeface="Arial"/>
              </a:rPr>
              <a:t>Разговор с дочкой</a:t>
            </a:r>
            <a:br>
              <a:rPr sz="3700"/>
            </a:b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2"/>
          <a:stretch/>
        </p:blipFill>
        <p:spPr>
          <a:xfrm>
            <a:off x="5931000" y="298440"/>
            <a:ext cx="2865240" cy="319392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3"/>
          <p:cNvSpPr/>
          <p:nvPr/>
        </p:nvSpPr>
        <p:spPr>
          <a:xfrm>
            <a:off x="533520" y="1752480"/>
            <a:ext cx="5410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Мне не хватает теплоты, 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на сказала доч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очь удивилас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Мерзнешь 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И в летние денеч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Ты не поймешь, еще мала,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здохнула мать устал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А дочь кричи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Я поняла!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И тащит одея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А. Бар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Учёба –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от главный труд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Готовность к ОГЭ-201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-6480" y="1432080"/>
            <a:ext cx="915696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-6480" y="-176040"/>
            <a:ext cx="9156960" cy="1444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0" y="1412640"/>
            <a:ext cx="87868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бязательные предме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Русский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Алгеб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редметы по выбо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даются в новой форме (1-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Группа 46"/>
          <p:cNvGrpSpPr/>
          <p:nvPr/>
        </p:nvGrpSpPr>
        <p:grpSpPr>
          <a:xfrm>
            <a:off x="2124000" y="2060640"/>
            <a:ext cx="6174000" cy="642960"/>
            <a:chOff x="2124000" y="2060640"/>
            <a:chExt cx="6174000" cy="642960"/>
          </a:xfrm>
        </p:grpSpPr>
        <p:sp>
          <p:nvSpPr>
            <p:cNvPr id="52" name="Прямая соединительная линия 35"/>
            <p:cNvSpPr/>
            <p:nvPr/>
          </p:nvSpPr>
          <p:spPr>
            <a:xfrm>
              <a:off x="3036600" y="2201760"/>
              <a:ext cx="988920" cy="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Прямая соединительная линия 36"/>
            <p:cNvSpPr/>
            <p:nvPr/>
          </p:nvSpPr>
          <p:spPr>
            <a:xfrm>
              <a:off x="2124000" y="2523960"/>
              <a:ext cx="1901520" cy="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Прямая соединительная линия 37"/>
            <p:cNvSpPr/>
            <p:nvPr/>
          </p:nvSpPr>
          <p:spPr>
            <a:xfrm>
              <a:off x="4710600" y="2362680"/>
              <a:ext cx="608760" cy="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Прямая соединительная линия 39"/>
            <p:cNvSpPr/>
            <p:nvPr/>
          </p:nvSpPr>
          <p:spPr>
            <a:xfrm>
              <a:off x="4025520" y="2201760"/>
              <a:ext cx="685080" cy="160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Прямая соединительная линия 41"/>
            <p:cNvSpPr/>
            <p:nvPr/>
          </p:nvSpPr>
          <p:spPr>
            <a:xfrm flipV="1">
              <a:off x="4025520" y="2362320"/>
              <a:ext cx="685080" cy="160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Прямоугольник 45"/>
            <p:cNvGrpSpPr/>
            <p:nvPr/>
          </p:nvGrpSpPr>
          <p:grpSpPr>
            <a:xfrm>
              <a:off x="5157000" y="2060640"/>
              <a:ext cx="3141000" cy="642960"/>
              <a:chOff x="5157000" y="2060640"/>
              <a:chExt cx="3141000" cy="642960"/>
            </a:xfrm>
          </p:grpSpPr>
          <p:pic>
            <p:nvPicPr>
              <p:cNvPr id="58" name="Прямоугольник 45" descr=""/>
              <p:cNvPicPr/>
              <p:nvPr/>
            </p:nvPicPr>
            <p:blipFill>
              <a:blip r:embed="rId4"/>
              <a:stretch/>
            </p:blipFill>
            <p:spPr>
              <a:xfrm>
                <a:off x="5157000" y="2060640"/>
                <a:ext cx="3141000" cy="64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5395680" y="2201760"/>
                <a:ext cx="266328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Новая форм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" name="Rectangle 45"/>
          <p:cNvSpPr/>
          <p:nvPr/>
        </p:nvSpPr>
        <p:spPr>
          <a:xfrm>
            <a:off x="1476360" y="5373720"/>
            <a:ext cx="61214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Georgia"/>
              </a:rPr>
              <a:t>Выпускники 9-х клас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Georgia"/>
              </a:rPr>
              <a:t>сдают не менее 2-х экзаме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5"/>
          <p:cNvSpPr/>
          <p:nvPr/>
        </p:nvSpPr>
        <p:spPr>
          <a:xfrm>
            <a:off x="5219640" y="2708280"/>
            <a:ext cx="324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С использованием автоматизированной системы ФИП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пуск к ГИ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пускаются учащиеся 9 классов, освоившие образовательные программы основного общего образования и имеющие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ложительны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довые отметки по всем предметам учебного пл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ускники 9 классов, не допущенные к ГИА, а также выпускники, не прошедшие ГИА в текущем году, по усмотрению родителей оставляются на повторное обучение, продолжают получать образование в иных формах или получают справку об обучении в ОУ установленного образ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цам, получившим справку об обучении, предоставляется право не ранее, чем через год пройти ГИА в форме экстерн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Блок-схема: альтернативный процесс 9"/>
          <p:cNvGrpSpPr/>
          <p:nvPr/>
        </p:nvGrpSpPr>
        <p:grpSpPr>
          <a:xfrm>
            <a:off x="6381720" y="646200"/>
            <a:ext cx="2749680" cy="1700280"/>
            <a:chOff x="6381720" y="646200"/>
            <a:chExt cx="2749680" cy="1700280"/>
          </a:xfrm>
        </p:grpSpPr>
        <p:pic>
          <p:nvPicPr>
            <p:cNvPr id="67" name="Блок-схема: альтернативный процесс 9" descr=""/>
            <p:cNvPicPr/>
            <p:nvPr/>
          </p:nvPicPr>
          <p:blipFill>
            <a:blip r:embed="rId1"/>
            <a:stretch/>
          </p:blipFill>
          <p:spPr>
            <a:xfrm>
              <a:off x="6381720" y="646200"/>
              <a:ext cx="274968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519960" y="762120"/>
              <a:ext cx="2481120" cy="14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Arial"/>
                </a:rPr>
                <a:t>Недопуск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Arial"/>
                </a:rPr>
                <a:t>к ГИА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Скругленный прямоугольник 47"/>
          <p:cNvGrpSpPr/>
          <p:nvPr/>
        </p:nvGrpSpPr>
        <p:grpSpPr>
          <a:xfrm>
            <a:off x="3602160" y="2279520"/>
            <a:ext cx="1287360" cy="1103400"/>
            <a:chOff x="3602160" y="2279520"/>
            <a:chExt cx="1287360" cy="1103400"/>
          </a:xfrm>
        </p:grpSpPr>
        <p:pic>
          <p:nvPicPr>
            <p:cNvPr id="70" name="Скругленный прямоугольник 47" descr=""/>
            <p:cNvPicPr/>
            <p:nvPr/>
          </p:nvPicPr>
          <p:blipFill>
            <a:blip r:embed="rId2"/>
            <a:stretch/>
          </p:blipFill>
          <p:spPr>
            <a:xfrm>
              <a:off x="3602160" y="2279520"/>
              <a:ext cx="128736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705120" y="2440080"/>
              <a:ext cx="108900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00000"/>
                  </a:solidFill>
                  <a:latin typeface="Arial"/>
                </a:rPr>
                <a:t>боле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00000"/>
                  </a:solidFill>
                  <a:latin typeface="Arial"/>
                </a:rPr>
                <a:t>двух «2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Скругленный прямоугольник 47"/>
          <p:cNvGrpSpPr/>
          <p:nvPr/>
        </p:nvGrpSpPr>
        <p:grpSpPr>
          <a:xfrm>
            <a:off x="4900680" y="2322360"/>
            <a:ext cx="1360440" cy="817560"/>
            <a:chOff x="4900680" y="2322360"/>
            <a:chExt cx="1360440" cy="817560"/>
          </a:xfrm>
        </p:grpSpPr>
        <p:pic>
          <p:nvPicPr>
            <p:cNvPr id="73" name="Скругленный прямоугольник 47" descr=""/>
            <p:cNvPicPr/>
            <p:nvPr/>
          </p:nvPicPr>
          <p:blipFill>
            <a:blip r:embed="rId3"/>
            <a:stretch/>
          </p:blipFill>
          <p:spPr>
            <a:xfrm>
              <a:off x="4900680" y="2322360"/>
              <a:ext cx="136044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992840" y="2428920"/>
              <a:ext cx="117936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00000"/>
                  </a:solidFill>
                  <a:latin typeface="Arial"/>
                </a:rPr>
                <a:t>неявка на ГИ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Скругленный прямоугольник 56"/>
          <p:cNvGrpSpPr/>
          <p:nvPr/>
        </p:nvGrpSpPr>
        <p:grpSpPr>
          <a:xfrm>
            <a:off x="231840" y="4950000"/>
            <a:ext cx="3346560" cy="2097000"/>
            <a:chOff x="231840" y="4950000"/>
            <a:chExt cx="3346560" cy="2097000"/>
          </a:xfrm>
        </p:grpSpPr>
        <p:pic>
          <p:nvPicPr>
            <p:cNvPr id="76" name="Скругленный прямоугольник 56" descr=""/>
            <p:cNvPicPr/>
            <p:nvPr/>
          </p:nvPicPr>
          <p:blipFill>
            <a:blip r:embed="rId4"/>
            <a:stretch/>
          </p:blipFill>
          <p:spPr>
            <a:xfrm>
              <a:off x="231840" y="4950000"/>
              <a:ext cx="3346560" cy="20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484200" y="5172120"/>
              <a:ext cx="2851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Arial"/>
                </a:rPr>
                <a:t>Аттеста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Arial"/>
                </a:rPr>
                <a:t>об основном общем образован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Блок-схема: альтернативный процесс 9"/>
          <p:cNvGrpSpPr/>
          <p:nvPr/>
        </p:nvGrpSpPr>
        <p:grpSpPr>
          <a:xfrm>
            <a:off x="6907320" y="5121360"/>
            <a:ext cx="2236680" cy="1346040"/>
            <a:chOff x="6907320" y="5121360"/>
            <a:chExt cx="2236680" cy="1346040"/>
          </a:xfrm>
        </p:grpSpPr>
        <p:pic>
          <p:nvPicPr>
            <p:cNvPr id="79" name="Блок-схема: альтернативный процесс 9" descr=""/>
            <p:cNvPicPr/>
            <p:nvPr/>
          </p:nvPicPr>
          <p:blipFill>
            <a:blip r:embed="rId5"/>
            <a:stretch/>
          </p:blipFill>
          <p:spPr>
            <a:xfrm>
              <a:off x="6907320" y="5121360"/>
              <a:ext cx="2236680" cy="13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7027920" y="5219640"/>
              <a:ext cx="2003400" cy="11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Arial"/>
                </a:rPr>
                <a:t>Повторное обучени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Arial"/>
                </a:rPr>
                <a:t>в 9 класс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Блок-схема: альтернативный процесс 9"/>
          <p:cNvGrpSpPr/>
          <p:nvPr/>
        </p:nvGrpSpPr>
        <p:grpSpPr>
          <a:xfrm>
            <a:off x="3786120" y="4346640"/>
            <a:ext cx="2718000" cy="1341360"/>
            <a:chOff x="3786120" y="4346640"/>
            <a:chExt cx="2718000" cy="1341360"/>
          </a:xfrm>
        </p:grpSpPr>
        <p:pic>
          <p:nvPicPr>
            <p:cNvPr id="82" name="Блок-схема: альтернативный процесс 9" descr=""/>
            <p:cNvPicPr/>
            <p:nvPr/>
          </p:nvPicPr>
          <p:blipFill>
            <a:blip r:embed="rId6"/>
            <a:stretch/>
          </p:blipFill>
          <p:spPr>
            <a:xfrm>
              <a:off x="3786120" y="4346640"/>
              <a:ext cx="271800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906720" y="4486320"/>
              <a:ext cx="2487600" cy="10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00000"/>
                  </a:solidFill>
                  <a:latin typeface="Arial"/>
                </a:rPr>
                <a:t>Справк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c00000"/>
                  </a:solidFill>
                  <a:latin typeface="Arial"/>
                </a:rPr>
                <a:t>об обучении в общеобразователь-ном учрежден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AutoShape 37"/>
          <p:cNvSpPr/>
          <p:nvPr/>
        </p:nvSpPr>
        <p:spPr>
          <a:xfrm rot="16200000">
            <a:off x="6876000" y="3429360"/>
            <a:ext cx="2737080" cy="576000"/>
          </a:xfrm>
          <a:prstGeom prst="leftArrow">
            <a:avLst>
              <a:gd name="adj1" fmla="val 49315"/>
              <a:gd name="adj2" fmla="val 54976"/>
            </a:avLst>
          </a:prstGeom>
          <a:solidFill>
            <a:srgbClr val="ffff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совершеннолет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8"/>
          <p:cNvSpPr/>
          <p:nvPr/>
        </p:nvSpPr>
        <p:spPr>
          <a:xfrm>
            <a:off x="250920" y="3284640"/>
            <a:ext cx="1584360" cy="1008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не ниже «3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Скругленный прямоугольник 47"/>
          <p:cNvGrpSpPr/>
          <p:nvPr/>
        </p:nvGrpSpPr>
        <p:grpSpPr>
          <a:xfrm>
            <a:off x="158760" y="2305080"/>
            <a:ext cx="1773360" cy="1127160"/>
            <a:chOff x="158760" y="2305080"/>
            <a:chExt cx="1773360" cy="1127160"/>
          </a:xfrm>
        </p:grpSpPr>
        <p:pic>
          <p:nvPicPr>
            <p:cNvPr id="87" name="Скругленный прямоугольник 47" descr=""/>
            <p:cNvPicPr/>
            <p:nvPr/>
          </p:nvPicPr>
          <p:blipFill>
            <a:blip r:embed="rId7"/>
            <a:stretch/>
          </p:blipFill>
          <p:spPr>
            <a:xfrm>
              <a:off x="158760" y="2305080"/>
              <a:ext cx="177336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63520" y="2427120"/>
              <a:ext cx="1566720" cy="8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00000"/>
                  </a:solidFill>
                  <a:latin typeface="Arial"/>
                </a:rPr>
                <a:t>Успешно по всем предмета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AutoShape 39"/>
          <p:cNvSpPr/>
          <p:nvPr/>
        </p:nvSpPr>
        <p:spPr>
          <a:xfrm>
            <a:off x="826920" y="1844640"/>
            <a:ext cx="432000" cy="504720"/>
          </a:xfrm>
          <a:prstGeom prst="downArrow">
            <a:avLst>
              <a:gd name="adj1" fmla="val 50000"/>
              <a:gd name="adj2" fmla="val 29208"/>
            </a:avLst>
          </a:prstGeom>
          <a:solidFill>
            <a:srgbClr val="ffff00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1"/>
          <p:cNvSpPr/>
          <p:nvPr/>
        </p:nvSpPr>
        <p:spPr>
          <a:xfrm>
            <a:off x="3924360" y="184464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ffff00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2"/>
          <p:cNvSpPr/>
          <p:nvPr/>
        </p:nvSpPr>
        <p:spPr>
          <a:xfrm>
            <a:off x="5286240" y="1785960"/>
            <a:ext cx="432000" cy="504720"/>
          </a:xfrm>
          <a:prstGeom prst="downArrow">
            <a:avLst>
              <a:gd name="adj1" fmla="val 50000"/>
              <a:gd name="adj2" fmla="val 29208"/>
            </a:avLst>
          </a:prstGeom>
          <a:solidFill>
            <a:srgbClr val="ffff00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Скругленный прямоугольник 56"/>
          <p:cNvGrpSpPr/>
          <p:nvPr/>
        </p:nvGrpSpPr>
        <p:grpSpPr>
          <a:xfrm>
            <a:off x="-19080" y="438120"/>
            <a:ext cx="6200640" cy="1403280"/>
            <a:chOff x="-19080" y="438120"/>
            <a:chExt cx="6200640" cy="1403280"/>
          </a:xfrm>
        </p:grpSpPr>
        <p:pic>
          <p:nvPicPr>
            <p:cNvPr id="93" name="Скругленный прямоугольник 56" descr=""/>
            <p:cNvPicPr/>
            <p:nvPr/>
          </p:nvPicPr>
          <p:blipFill>
            <a:blip r:embed="rId8"/>
            <a:stretch/>
          </p:blipFill>
          <p:spPr>
            <a:xfrm>
              <a:off x="-19080" y="438120"/>
              <a:ext cx="620064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196920" y="627120"/>
              <a:ext cx="57704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00"/>
                  </a:solidFill>
                  <a:latin typeface="Arial"/>
                </a:rPr>
                <a:t>Допуск к ГИ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AutoShape 43"/>
          <p:cNvSpPr/>
          <p:nvPr/>
        </p:nvSpPr>
        <p:spPr>
          <a:xfrm>
            <a:off x="5435640" y="3141720"/>
            <a:ext cx="287280" cy="1366920"/>
          </a:xfrm>
          <a:prstGeom prst="downArrow">
            <a:avLst>
              <a:gd name="adj1" fmla="val 67398"/>
              <a:gd name="adj2" fmla="val 72738"/>
            </a:avLst>
          </a:prstGeom>
          <a:solidFill>
            <a:srgbClr val="ffff00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5"/>
          <p:cNvSpPr/>
          <p:nvPr/>
        </p:nvSpPr>
        <p:spPr>
          <a:xfrm>
            <a:off x="2484360" y="4508640"/>
            <a:ext cx="503280" cy="504720"/>
          </a:xfrm>
          <a:prstGeom prst="downArrow">
            <a:avLst>
              <a:gd name="adj1" fmla="val 50000"/>
              <a:gd name="adj2" fmla="val 25072"/>
            </a:avLst>
          </a:prstGeom>
          <a:solidFill>
            <a:srgbClr val="ff0000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46"/>
          <p:cNvSpPr/>
          <p:nvPr/>
        </p:nvSpPr>
        <p:spPr>
          <a:xfrm>
            <a:off x="755640" y="4508640"/>
            <a:ext cx="431640" cy="504720"/>
          </a:xfrm>
          <a:prstGeom prst="downArrow">
            <a:avLst>
              <a:gd name="adj1" fmla="val 50000"/>
              <a:gd name="adj2" fmla="val 29233"/>
            </a:avLst>
          </a:prstGeom>
          <a:solidFill>
            <a:srgbClr val="ff0000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7"/>
          <p:cNvSpPr/>
          <p:nvPr/>
        </p:nvSpPr>
        <p:spPr>
          <a:xfrm>
            <a:off x="4500720" y="3068640"/>
            <a:ext cx="287280" cy="1440000"/>
          </a:xfrm>
          <a:prstGeom prst="downArrow">
            <a:avLst>
              <a:gd name="adj1" fmla="val 67398"/>
              <a:gd name="adj2" fmla="val 76627"/>
            </a:avLst>
          </a:prstGeom>
          <a:solidFill>
            <a:srgbClr val="ffff00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49"/>
          <p:cNvSpPr/>
          <p:nvPr/>
        </p:nvSpPr>
        <p:spPr>
          <a:xfrm rot="5400000">
            <a:off x="3563640" y="3789360"/>
            <a:ext cx="574920" cy="863280"/>
          </a:xfrm>
          <a:prstGeom prst="pie">
            <a:avLst/>
          </a:prstGeom>
          <a:solidFill>
            <a:srgbClr val="ff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Скругленный прямоугольник 47"/>
          <p:cNvGrpSpPr/>
          <p:nvPr/>
        </p:nvGrpSpPr>
        <p:grpSpPr>
          <a:xfrm>
            <a:off x="1951200" y="3584520"/>
            <a:ext cx="1504800" cy="779400"/>
            <a:chOff x="1951200" y="3584520"/>
            <a:chExt cx="1504800" cy="779400"/>
          </a:xfrm>
        </p:grpSpPr>
        <p:pic>
          <p:nvPicPr>
            <p:cNvPr id="101" name="Скругленный прямоугольник 47" descr=""/>
            <p:cNvPicPr/>
            <p:nvPr/>
          </p:nvPicPr>
          <p:blipFill>
            <a:blip r:embed="rId9"/>
            <a:stretch/>
          </p:blipFill>
          <p:spPr>
            <a:xfrm>
              <a:off x="1951200" y="3584520"/>
              <a:ext cx="150480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2043000" y="3652920"/>
              <a:ext cx="13176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c00000"/>
                  </a:solidFill>
                  <a:latin typeface="Arial"/>
                </a:rPr>
                <a:t>Повторная ГИ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Rectangle 51"/>
          <p:cNvSpPr/>
          <p:nvPr/>
        </p:nvSpPr>
        <p:spPr>
          <a:xfrm rot="10800000">
            <a:off x="6948000" y="2349360"/>
            <a:ext cx="289080" cy="27352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ршеннолет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2"/>
          <p:cNvSpPr/>
          <p:nvPr/>
        </p:nvSpPr>
        <p:spPr>
          <a:xfrm rot="5400000">
            <a:off x="6623280" y="4617000"/>
            <a:ext cx="432000" cy="792360"/>
          </a:xfrm>
          <a:prstGeom prst="downArrow">
            <a:avLst>
              <a:gd name="adj1" fmla="val 50000"/>
              <a:gd name="adj2" fmla="val 45854"/>
            </a:avLst>
          </a:prstGeom>
          <a:solidFill>
            <a:srgbClr val="ffff00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Скругленный прямоугольник 47"/>
          <p:cNvGrpSpPr/>
          <p:nvPr/>
        </p:nvGrpSpPr>
        <p:grpSpPr>
          <a:xfrm>
            <a:off x="3846600" y="5748480"/>
            <a:ext cx="2676600" cy="1036440"/>
            <a:chOff x="3846600" y="5748480"/>
            <a:chExt cx="2676600" cy="1036440"/>
          </a:xfrm>
        </p:grpSpPr>
        <p:pic>
          <p:nvPicPr>
            <p:cNvPr id="106" name="Скругленный прямоугольник 47" descr=""/>
            <p:cNvPicPr/>
            <p:nvPr/>
          </p:nvPicPr>
          <p:blipFill>
            <a:blip r:embed="rId10"/>
            <a:stretch/>
          </p:blipFill>
          <p:spPr>
            <a:xfrm>
              <a:off x="3846600" y="5748480"/>
              <a:ext cx="267660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948120" y="5916600"/>
              <a:ext cx="247968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c00000"/>
                  </a:solidFill>
                  <a:latin typeface="Arial"/>
                </a:rPr>
                <a:t>Сдача ГИ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c00000"/>
                  </a:solidFill>
                  <a:latin typeface="Arial"/>
                </a:rPr>
                <a:t>не ранее, чем через го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AutoShape 56"/>
          <p:cNvSpPr/>
          <p:nvPr/>
        </p:nvSpPr>
        <p:spPr>
          <a:xfrm>
            <a:off x="5076720" y="5589720"/>
            <a:ext cx="287280" cy="288720"/>
          </a:xfrm>
          <a:prstGeom prst="downArrow">
            <a:avLst>
              <a:gd name="adj1" fmla="val 50000"/>
              <a:gd name="adj2" fmla="val 25125"/>
            </a:avLst>
          </a:prstGeom>
          <a:solidFill>
            <a:srgbClr val="ffff00"/>
          </a:solidFill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5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252720" y="-360"/>
            <a:ext cx="97218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Результаты освоения основных общеобразовательных программ в 9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Блок-схема: альтернативный процесс 9"/>
          <p:cNvGrpSpPr/>
          <p:nvPr/>
        </p:nvGrpSpPr>
        <p:grpSpPr>
          <a:xfrm>
            <a:off x="2163600" y="3139920"/>
            <a:ext cx="4292640" cy="1816200"/>
            <a:chOff x="2163600" y="3139920"/>
            <a:chExt cx="4292640" cy="1816200"/>
          </a:xfrm>
        </p:grpSpPr>
        <p:pic>
          <p:nvPicPr>
            <p:cNvPr id="111" name="Блок-схема: альтернативный процесс 9" descr=""/>
            <p:cNvPicPr/>
            <p:nvPr/>
          </p:nvPicPr>
          <p:blipFill>
            <a:blip r:embed="rId2"/>
            <a:stretch/>
          </p:blipFill>
          <p:spPr>
            <a:xfrm>
              <a:off x="2163600" y="3139920"/>
              <a:ext cx="4292640" cy="18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2306520" y="3298680"/>
              <a:ext cx="4013280" cy="14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Arial"/>
                </a:rPr>
                <a:t>Справка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00000"/>
                  </a:solidFill>
                  <a:latin typeface="Arial"/>
                </a:rPr>
                <a:t>об обучении в общеобразовательном учрежден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Блок-схема: альтернативный процесс 9"/>
          <p:cNvGrpSpPr/>
          <p:nvPr/>
        </p:nvGrpSpPr>
        <p:grpSpPr>
          <a:xfrm>
            <a:off x="5224320" y="4883040"/>
            <a:ext cx="3876840" cy="1773360"/>
            <a:chOff x="5224320" y="4883040"/>
            <a:chExt cx="3876840" cy="1773360"/>
          </a:xfrm>
        </p:grpSpPr>
        <p:pic>
          <p:nvPicPr>
            <p:cNvPr id="114" name="Блок-схема: альтернативный процесс 9" descr=""/>
            <p:cNvPicPr/>
            <p:nvPr/>
          </p:nvPicPr>
          <p:blipFill>
            <a:blip r:embed="rId3"/>
            <a:stretch/>
          </p:blipFill>
          <p:spPr>
            <a:xfrm>
              <a:off x="5224320" y="4883040"/>
              <a:ext cx="3876840" cy="17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5364000" y="5000760"/>
              <a:ext cx="3605400" cy="14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Arial"/>
                </a:rPr>
                <a:t>Повторное обучение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Arial"/>
                </a:rPr>
                <a:t>в 9 класс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Скругленный прямоугольник 56"/>
          <p:cNvGrpSpPr/>
          <p:nvPr/>
        </p:nvGrpSpPr>
        <p:grpSpPr>
          <a:xfrm>
            <a:off x="176040" y="1152360"/>
            <a:ext cx="4110120" cy="2219400"/>
            <a:chOff x="176040" y="1152360"/>
            <a:chExt cx="4110120" cy="2219400"/>
          </a:xfrm>
        </p:grpSpPr>
        <p:pic>
          <p:nvPicPr>
            <p:cNvPr id="117" name="Скругленный прямоугольник 56" descr=""/>
            <p:cNvPicPr/>
            <p:nvPr/>
          </p:nvPicPr>
          <p:blipFill>
            <a:blip r:embed="rId4"/>
            <a:stretch/>
          </p:blipFill>
          <p:spPr>
            <a:xfrm>
              <a:off x="176040" y="1152360"/>
              <a:ext cx="4110120" cy="22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430200" y="1479600"/>
              <a:ext cx="360684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00"/>
                  </a:solidFill>
                  <a:latin typeface="Arial"/>
                </a:rPr>
                <a:t>Аттестат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00"/>
                  </a:solidFill>
                  <a:latin typeface="Arial"/>
                </a:rPr>
                <a:t>об основном общем образовани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-360" y="907560"/>
            <a:ext cx="62276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Участник ЕГЭ, новой формы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меет право подать апелля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0000cc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Arial"/>
              </a:rPr>
              <a:t>о нарушении установленного порядка проведения ЕГЭ, новой форм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600" spc="-1" strike="noStrike">
                <a:solidFill>
                  <a:srgbClr val="002060"/>
                </a:solidFill>
                <a:latin typeface="Arial"/>
              </a:rPr>
              <a:t>- </a:t>
            </a:r>
            <a:r>
              <a:rPr b="1" lang="ru-RU" sz="2600" spc="-1" strike="noStrike">
                <a:solidFill>
                  <a:srgbClr val="002060"/>
                </a:solidFill>
                <a:latin typeface="Arial"/>
              </a:rPr>
              <a:t>в день экзамена после сдачи бланков ответов до выхода из ППЭ</a:t>
            </a:r>
            <a:r>
              <a:rPr b="0" lang="ru-RU" sz="2600" spc="-1" strike="noStrike">
                <a:solidFill>
                  <a:srgbClr val="00206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50920" y="5300640"/>
            <a:ext cx="67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День официального объявления результатов экзамена устанавливает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Служба по контролю и надзору в сфере образования ХМАО-Юг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Скругленный прямоугольник 56"/>
          <p:cNvGrpSpPr/>
          <p:nvPr/>
        </p:nvGrpSpPr>
        <p:grpSpPr>
          <a:xfrm>
            <a:off x="969840" y="66600"/>
            <a:ext cx="7040520" cy="957240"/>
            <a:chOff x="969840" y="66600"/>
            <a:chExt cx="7040520" cy="957240"/>
          </a:xfrm>
        </p:grpSpPr>
        <p:pic>
          <p:nvPicPr>
            <p:cNvPr id="122" name="Скругленный прямоугольник 56" descr=""/>
            <p:cNvPicPr/>
            <p:nvPr/>
          </p:nvPicPr>
          <p:blipFill>
            <a:blip r:embed="rId1"/>
            <a:stretch/>
          </p:blipFill>
          <p:spPr>
            <a:xfrm>
              <a:off x="969840" y="66600"/>
              <a:ext cx="704052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1166760" y="233280"/>
              <a:ext cx="66517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Arial"/>
                </a:rPr>
                <a:t>АПЕЛЛЯЦ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9"/>
          <p:cNvSpPr/>
          <p:nvPr/>
        </p:nvSpPr>
        <p:spPr>
          <a:xfrm>
            <a:off x="6732720" y="836640"/>
            <a:ext cx="221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Обраща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0"/>
          <p:cNvSpPr/>
          <p:nvPr/>
        </p:nvSpPr>
        <p:spPr>
          <a:xfrm>
            <a:off x="6357960" y="1928880"/>
            <a:ext cx="50328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6588000" y="1557360"/>
            <a:ext cx="24116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Организатор в ауди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Руководитель ПП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6732720" y="3500280"/>
            <a:ext cx="241128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Управление образова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 Админист-рации го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4 эта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0" y="3786120"/>
            <a:ext cx="6516720" cy="16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о несогласии с выставленными баллами (отметкам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-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в течение двух рабочих дней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после официального объявления результатов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экзамена и ознакомления с н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4"/>
          <p:cNvSpPr/>
          <p:nvPr/>
        </p:nvSpPr>
        <p:spPr>
          <a:xfrm>
            <a:off x="6429240" y="3643200"/>
            <a:ext cx="503280" cy="503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5-01-28T11:40:18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