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2812-76C6-43D6-BEBC-2EC89EEC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857-8D96-434B-9469-BB6406C1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EB3-EBB7-4E8D-8723-7F87293F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6C9-D7C7-405F-95BF-6D75B1EA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EBC6-B6FF-4C67-B9DB-6ADEAC31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B329-AD70-42E1-A16E-E2A69AD9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BBA1-D9DA-49E9-BCE6-65ADC6B5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4550-3632-4779-94FB-C7D961AC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1EC7-DDA2-43F9-ACDF-DF853624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2D4A-6965-4CBB-90DC-CA0DDF2E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AA09-F254-4D7A-B17B-BA622D20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3CE-0D77-43A8-9A37-5A477C67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7101-A01A-4A5C-883A-50EAF098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3161-C739-4893-A909-C3C6DACB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5998-9232-46E3-8718-BB022F2A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2F09-45F1-4376-BAEA-E535D3B0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02FA-602C-46AF-A1A6-ED84A6B1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28755-824E-475B-B8E0-438863F7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40FD2-5F11-4FD5-9A3C-02A88C8D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33617-6499-4C84-8FC7-65A52D8D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178AA-F5DF-45A4-BEEC-8ABAA21E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E5C73-723C-4A20-A367-44E75FC1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D24-5A6B-41DD-ACFC-19B113BB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C3618-9E2A-45C6-9896-B35163D3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993B8-7217-477F-ABD3-956AC2A2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E7D7E-5D85-4C4C-8D5B-1BD56156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42378-FEA4-4697-8299-E8BADC62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F77BD-DF9C-42F6-BCD5-1037732F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BCDFF-F9DA-4E74-8F7C-D29CB617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33EFC-5D5C-40CC-B9E5-65A35519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13259-6369-4B4A-924E-4D60DE73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5D80A-E782-4F79-9E31-96AF0607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78CD9-D6D4-4DE4-A878-6F48EF17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8DFA-040D-4CEC-BB32-ED6EB505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A96F3-499A-4C2F-8C32-10A08342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F74EF-6764-4E5C-BC61-745740C5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42BA1-13B7-4F75-9DA3-40FEA3C0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6F719-5185-4DBF-8DD2-3B391FA8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E72DB-FF07-4BB8-B6BC-6F986B75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3408D-BE39-4357-9EBA-51286FAC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DEEF4-770F-409F-A2FC-3E0ECA5D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B6AC7-C4DE-4C60-B60A-FBEA1B0A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0F2B2-7230-4620-AD28-25DFA6EA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3F704-5CC1-4EC8-B565-DF0E94D0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77F-536D-4C0F-B732-6D76EE28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5DB85-C4D6-48C1-B1DB-A1F32F2E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0AA8B-1BFD-4461-96D0-4B0D65D4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F6908-950B-4BC0-A603-C869585A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DC5DC-4F0C-4B78-9622-27945A98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45A22-FDD0-4F4D-AEA2-9A29C531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C6ACE-EDB5-4C71-A80D-1F695458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3EE89-3FE7-4FEF-98BA-AC9741EA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C382C-217F-4F5F-B86A-13CD1727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1A661-B06C-48BD-8EA0-00242784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854E9-2F57-445A-9CFC-9D0EF32E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DA0B-7FD8-451C-837E-F018F7CD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16B85-5EB4-404E-A58C-5CB25948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739-9B45-4C58-8644-FBC23217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5FD-D9D0-4307-A27B-A28E0FA9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AC1-6427-4329-AF25-67F5E91D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6B9B-16FA-43E9-A2F4-6DB3D7353660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3868-31F6-4F4F-BCA6-FF8219EA8786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E909-DF44-4DD0-8529-9EE7EE3D6246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B279-5818-40B1-91EF-842EA390C1F2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1038-8F8B-4C1F-A5EF-B86739B8F56A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33577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Verdana"/>
              </a:rPr>
              <a:t>T I M E </a:t>
            </a:r>
            <a:endParaRPr b="1" lang="en-US" sz="4000" spc="-1" strike="noStrike">
              <a:solidFill>
                <a:srgbClr val="52bde0"/>
              </a:solidFill>
              <a:latin typeface="Verdana"/>
            </a:endParaRPr>
          </a:p>
        </p:txBody>
      </p:sp>
      <p:pic>
        <p:nvPicPr>
          <p:cNvPr id="221" name="Picture 4" descr="http://t2.gstatic.com/images?q=tbn:ANd9GcSq7Tb6HJ8O5NyZsxZS9iGgrdp1CDZSQTlZxHc6Zah5glMIRnLJ4A"/>
          <p:cNvPicPr/>
          <p:nvPr/>
        </p:nvPicPr>
        <p:blipFill>
          <a:blip r:embed="rId1"/>
          <a:stretch/>
        </p:blipFill>
        <p:spPr>
          <a:xfrm>
            <a:off x="826920" y="907920"/>
            <a:ext cx="2133720" cy="2143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://t1.gstatic.com/images?q=tbn:ANd9GcS2SR8SAOn2F_1xOQ3DpXA_lyCWPABbJtMQEcfTOtulMdwwhXB2"/>
          <p:cNvPicPr/>
          <p:nvPr/>
        </p:nvPicPr>
        <p:blipFill>
          <a:blip r:embed="rId2"/>
          <a:stretch/>
        </p:blipFill>
        <p:spPr>
          <a:xfrm>
            <a:off x="3564000" y="907920"/>
            <a:ext cx="2343240" cy="1952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t0.gstatic.com/images?q=tbn:ANd9GcSBg-DuX4h6MFaZgvozFJheKk5Zp9ndBc-JKz5xh1u-JDh4wq0b"/>
          <p:cNvPicPr/>
          <p:nvPr/>
        </p:nvPicPr>
        <p:blipFill>
          <a:blip r:embed="rId3"/>
          <a:stretch/>
        </p:blipFill>
        <p:spPr>
          <a:xfrm>
            <a:off x="971640" y="4005360"/>
            <a:ext cx="2295360" cy="1990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http://t0.gstatic.com/images?q=tbn:ANd9GcS2M-kFLN2RU4WB6Y2B2CCZ9x1qHERuXBk55Dmp_zy5h9Jrh_bR"/>
          <p:cNvPicPr/>
          <p:nvPr/>
        </p:nvPicPr>
        <p:blipFill>
          <a:blip r:embed="rId4"/>
          <a:stretch/>
        </p:blipFill>
        <p:spPr>
          <a:xfrm>
            <a:off x="6300720" y="836640"/>
            <a:ext cx="21718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http://t0.gstatic.com/images?q=tbn:ANd9GcT9zKeC3yVSG8ubqyRPcJbzu8-7o0MP46VWxSnRkcqRjR3xH7ymFQ"/>
          <p:cNvPicPr/>
          <p:nvPr/>
        </p:nvPicPr>
        <p:blipFill>
          <a:blip r:embed="rId1"/>
          <a:stretch/>
        </p:blipFill>
        <p:spPr>
          <a:xfrm>
            <a:off x="1857240" y="642960"/>
            <a:ext cx="4643640" cy="46432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5160"/>
                </a:solidFill>
                <a:latin typeface="Verdana"/>
              </a:rPr>
              <a:t>What time is it now?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 It’s…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What time is it now?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It’s…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pic>
        <p:nvPicPr>
          <p:cNvPr id="244" name="Picture 2" descr="http://t3.gstatic.com/images?q=tbn:ANd9GcTTxzk2xu2EbnTYynl7FS4kA4maUq0IHErSF8OmzToxfKutVKj_"/>
          <p:cNvPicPr/>
          <p:nvPr/>
        </p:nvPicPr>
        <p:blipFill>
          <a:blip r:embed="rId1"/>
          <a:stretch/>
        </p:blipFill>
        <p:spPr>
          <a:xfrm>
            <a:off x="2357280" y="1071720"/>
            <a:ext cx="42134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What time is it now? </a:t>
            </a:r>
            <a:r>
              <a:rPr b="1" lang="en-US" sz="3600" spc="-1" strike="noStrike">
                <a:solidFill>
                  <a:srgbClr val="c00000"/>
                </a:solidFill>
                <a:latin typeface="Verdana"/>
              </a:rPr>
              <a:t>It’s…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pic>
        <p:nvPicPr>
          <p:cNvPr id="246" name="Picture 2" descr="http://t1.gstatic.com/images?q=tbn:ANd9GcTHUiePLt1IgBex-sPPrRm78L18gj7wCxQdgxMSyBqSV2_22QQA"/>
          <p:cNvPicPr/>
          <p:nvPr/>
        </p:nvPicPr>
        <p:blipFill>
          <a:blip r:embed="rId1"/>
          <a:stretch/>
        </p:blipFill>
        <p:spPr>
          <a:xfrm>
            <a:off x="2286000" y="71424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http://t1.gstatic.com/images?q=tbn:ANd9GcTGa8sOW7VTi4PTrKgzsFRJf6Vjz32Jy9kaxcZ3OaQFLgjKmHw8"/>
          <p:cNvPicPr/>
          <p:nvPr/>
        </p:nvPicPr>
        <p:blipFill>
          <a:blip r:embed="rId1"/>
          <a:stretch/>
        </p:blipFill>
        <p:spPr>
          <a:xfrm>
            <a:off x="2050920" y="620640"/>
            <a:ext cx="4883400" cy="36435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Verdana"/>
              </a:rPr>
              <a:t>What time is it now?</a:t>
            </a:r>
            <a:r>
              <a:rPr b="1" lang="en-US" sz="3200" spc="-1" strike="noStrike">
                <a:solidFill>
                  <a:srgbClr val="52bde0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It’s half past 12</a:t>
            </a:r>
            <a:endParaRPr b="1" lang="en-US" sz="3200" spc="-1" strike="noStrike">
              <a:solidFill>
                <a:srgbClr val="52bd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83520" cy="52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ferances: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428840"/>
            <a:ext cx="8183520" cy="5286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annarbor.com/assets/thumbnails_cache/2012/07/19/300w_clock.jp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img-fotki.yandex.ru/get/3103/thest0rm.e9/0_1ea4f_ef2cb5bf_X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vokrugsveta.ru/img/cmn/2008/03/28/015.g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cs304305.userapi.com/u47187/-14/x_817bc2bc.jp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cs5153.userapi.com/u138934666/-14/x_0c8fcdb3.jp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time66.ru/upload/items/full/33339.jp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651240" y="100008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ctur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ttp://t1.gstatic.com/images?q=tbn:ANd9GcQqlMvK9L7yHkDw_xGoalLeFxCkYaay78gAPFejpOJztInITkchEg"/>
          <p:cNvPicPr/>
          <p:nvPr/>
        </p:nvPicPr>
        <p:blipFill>
          <a:blip r:embed="rId1"/>
          <a:stretch/>
        </p:blipFill>
        <p:spPr>
          <a:xfrm>
            <a:off x="2484360" y="620640"/>
            <a:ext cx="3786120" cy="37861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58136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Verdana"/>
              </a:rPr>
              <a:t>What time is it now? 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It’s 6 o’clock</a:t>
            </a:r>
            <a:endParaRPr b="1" lang="en-US" sz="3200" spc="-1" strike="noStrike">
              <a:solidFill>
                <a:srgbClr val="52bd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t3.gstatic.com/images?q=tbn:ANd9GcR5lwCIBbMkwvnBruQpHbwnWBxQ-HOPR8DkFDnWbS_qgjJ5zqHL"/>
          <p:cNvPicPr/>
          <p:nvPr/>
        </p:nvPicPr>
        <p:blipFill>
          <a:blip r:embed="rId1"/>
          <a:stretch/>
        </p:blipFill>
        <p:spPr>
          <a:xfrm>
            <a:off x="2214720" y="571680"/>
            <a:ext cx="4170240" cy="42256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Verdana"/>
              </a:rPr>
              <a:t>What time is it now?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It’s 9 (minutes) past 10</a:t>
            </a:r>
            <a:endParaRPr b="1" lang="en-US" sz="3200" spc="-1" strike="noStrike">
              <a:solidFill>
                <a:srgbClr val="52bd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http://t0.gstatic.com/images?q=tbn:ANd9GcRpjz6uwK05pQDcsoXe8Nl2Ch9G7iKCmgihL31bkHGLdUJdll3T"/>
          <p:cNvPicPr/>
          <p:nvPr/>
        </p:nvPicPr>
        <p:blipFill>
          <a:blip r:embed="rId1"/>
          <a:stretch/>
        </p:blipFill>
        <p:spPr>
          <a:xfrm>
            <a:off x="2000160" y="571680"/>
            <a:ext cx="4714920" cy="46940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What time is it now?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It’s…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http://t1.gstatic.com/images?q=tbn:ANd9GcSrWRXIcc_jUr5yBW77khm7mpJQhVbVNIV9dt7IEIBheVAAcxivWw"/>
          <p:cNvPicPr/>
          <p:nvPr/>
        </p:nvPicPr>
        <p:blipFill>
          <a:blip r:embed="rId1"/>
          <a:stretch/>
        </p:blipFill>
        <p:spPr>
          <a:xfrm>
            <a:off x="2143080" y="642960"/>
            <a:ext cx="4500720" cy="44020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What time is it now?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It’s…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http://t0.gstatic.com/images?q=tbn:ANd9GcQiJ2ef2Zg-jzIHWDtA0ByHGsEYTlT9lemi93bReRf6H3DSdRLHtA"/>
          <p:cNvPicPr/>
          <p:nvPr/>
        </p:nvPicPr>
        <p:blipFill>
          <a:blip r:embed="rId1"/>
          <a:stretch/>
        </p:blipFill>
        <p:spPr>
          <a:xfrm>
            <a:off x="2143080" y="642960"/>
            <a:ext cx="4425840" cy="4214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What time is it now?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It’s …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http://t3.gstatic.com/images?q=tbn:ANd9GcQUo8TYre62h4LfJ6ZaeMvXL2L1Mluzf6-F868kXia192RJJNnpdw"/>
          <p:cNvPicPr/>
          <p:nvPr/>
        </p:nvPicPr>
        <p:blipFill>
          <a:blip r:embed="rId1"/>
          <a:stretch/>
        </p:blipFill>
        <p:spPr>
          <a:xfrm>
            <a:off x="2357280" y="500040"/>
            <a:ext cx="4378320" cy="43592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Verdana"/>
              </a:rPr>
              <a:t>What time is it now?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It’s 10 (minutes) to 2</a:t>
            </a:r>
            <a:endParaRPr b="1" lang="en-US" sz="3200" spc="-1" strike="noStrike">
              <a:solidFill>
                <a:srgbClr val="52bd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http://t0.gstatic.com/images?q=tbn:ANd9GcTjcRlXxZxl_L3ZSqNYd7KwMRJIo-nsQc9ekA0KegjV684iFDms"/>
          <p:cNvPicPr/>
          <p:nvPr/>
        </p:nvPicPr>
        <p:blipFill>
          <a:blip r:embed="rId1"/>
          <a:stretch/>
        </p:blipFill>
        <p:spPr>
          <a:xfrm>
            <a:off x="2143080" y="64296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What time is it now?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It’s…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://t3.gstatic.com/images?q=tbn:ANd9GcQ2__MX5XUVO4_42i_t7A_QOkyPPMby46rtoxglpKmhETU370k_"/>
          <p:cNvPicPr/>
          <p:nvPr/>
        </p:nvPicPr>
        <p:blipFill>
          <a:blip r:embed="rId1"/>
          <a:stretch/>
        </p:blipFill>
        <p:spPr>
          <a:xfrm>
            <a:off x="2786040" y="714240"/>
            <a:ext cx="3505320" cy="41148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What time is it now?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It’s…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5:41:22Z</dcterms:created>
  <dc:creator>Татьяна</dc:creator>
  <dc:description/>
  <dc:language>en-US</dc:language>
  <cp:lastModifiedBy>гыук</cp:lastModifiedBy>
  <dcterms:modified xsi:type="dcterms:W3CDTF">2014-11-13T08:34:07Z</dcterms:modified>
  <cp:revision>17</cp:revision>
  <dc:subject/>
  <dc:title>What time is it now?</dc:title>
</cp:coreProperties>
</file>