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24F-4A4F-4CF6-9797-33B48929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7D2-FCBA-4E14-A5E0-68B942D2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750-E772-42EB-96DC-BA9C17EF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DBE-7443-4598-8B23-4E867EDD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2A23-BF19-4DEE-BAE1-0B109CED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44FE-CCE8-40A5-B19C-CEC89D4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19F2-1AAE-492D-8A92-B6B1D39F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238B-A4EF-46B9-B39A-0207FC07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0E73-5F5B-40C9-B88E-0EC811EB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6B19-CF3F-443C-95D7-B7BF4A5E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92E0-1DFA-4111-B9CD-BC0E607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064-2E19-475F-8C86-DA63C82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312C-9AA6-4999-B710-67F8E444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ED40-C149-411D-9973-85C43B3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DE5E-E235-436F-8B55-924E0E9C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CA99-CFAF-4333-BBE6-AFCF85C9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1C2-FD61-42E5-9C70-B250F535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07A1-B858-4131-AB79-0B046741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35B6-B666-4A44-8D82-DEE577AC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5344-A1CB-492F-9823-129FAF84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D434-F6BC-4D75-B8D1-2EEDE6FF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B1CB-5022-48E9-93EF-F7884B00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B1B-2247-43D2-9510-75319AE5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3A7E-5442-49CD-BFB7-017C6975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BDAB-FDE6-4B80-A538-4074B69F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E15E-7CAA-44A6-8D5F-3EC53271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B249-C7F8-4ACC-B798-F4B51B0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9A63-3E71-4C44-B60C-8D7490A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0DA2-7D55-47BD-8CFE-25255C19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18B8-2CD5-4B51-BAA6-0ED322DE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21905-36F4-4447-9618-374760AA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CF1D3-1B1D-4199-81F9-5744E2A5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32B3A-F014-4C06-85E0-15993331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A7F-5442-4A24-9F6C-6AADFBFB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8B1FF-7FB7-43FE-8691-18C3B8B7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A2FB-8F98-47A5-91C7-B948FA7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B8886-59C4-4E97-8A1B-B9FDF9D4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7DFE-09C5-41B7-98BC-F592FE5C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6844F-F7E9-4D09-A67E-2088F65E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A340-0CB0-4FCC-8096-AA201405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CD8D0-C7F0-4DD7-A7C8-18AA95B1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A5F3-61E2-439C-B2EF-A391A713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3360-CA9C-479E-BF73-C881E123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2C1D-D5A3-419B-8320-5C743E2B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4A3-40E6-4B09-B011-0C59A6F6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76810-1B1B-4BF5-BDDA-AF2EDFC9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8113-043F-42C2-A98D-9245C957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4A45C-519B-47D5-BBCD-618BA253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7D17F-CC5C-42B0-BA07-A72D1D33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DA60-0814-4F50-8667-C11FB26E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821DB-8AB1-416A-8695-C9FDA03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D4559-D541-4659-A660-DE1AACF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BF2D-0C47-454E-AC06-80D107A1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58045-37FC-4C04-A014-B008526D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1A50A-8BD3-4C20-9956-1D2C995D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254-EAFA-4B53-A645-B262D0B3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FC25-91B4-45D8-9395-9FBB8E0E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8E0-77E2-431B-B00F-3AE1DC0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E46-37F8-4069-9834-60F9B30B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427-2A16-499E-9137-415C0055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4899-597A-4EA6-A331-679915FC844A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A2AD-86BE-4A3C-83DF-688A98D2BA6B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A346-9A27-413E-9920-988EDA31E689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01CD-7D6A-4BD7-A96C-20F686D36282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3D0F-381A-487D-B9F1-9267F00C5D10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3577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Verdana"/>
              </a:rPr>
              <a:t>T I M E 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21" name="Picture 4" descr="http://t2.gstatic.com/images?q=tbn:ANd9GcSq7Tb6HJ8O5NyZsxZS9iGgrdp1CDZSQTlZxHc6Zah5glMIRnLJ4A"/>
          <p:cNvPicPr/>
          <p:nvPr/>
        </p:nvPicPr>
        <p:blipFill>
          <a:blip r:embed="rId1"/>
          <a:stretch/>
        </p:blipFill>
        <p:spPr>
          <a:xfrm>
            <a:off x="826920" y="907920"/>
            <a:ext cx="2133720" cy="214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t1.gstatic.com/images?q=tbn:ANd9GcS2SR8SAOn2F_1xOQ3DpXA_lyCWPABbJtMQEcfTOtulMdwwhXB2"/>
          <p:cNvPicPr/>
          <p:nvPr/>
        </p:nvPicPr>
        <p:blipFill>
          <a:blip r:embed="rId2"/>
          <a:stretch/>
        </p:blipFill>
        <p:spPr>
          <a:xfrm>
            <a:off x="3564000" y="907920"/>
            <a:ext cx="2343240" cy="1952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t0.gstatic.com/images?q=tbn:ANd9GcSBg-DuX4h6MFaZgvozFJheKk5Zp9ndBc-JKz5xh1u-JDh4wq0b"/>
          <p:cNvPicPr/>
          <p:nvPr/>
        </p:nvPicPr>
        <p:blipFill>
          <a:blip r:embed="rId3"/>
          <a:stretch/>
        </p:blipFill>
        <p:spPr>
          <a:xfrm>
            <a:off x="971640" y="4005360"/>
            <a:ext cx="2295360" cy="1990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t0.gstatic.com/images?q=tbn:ANd9GcS2M-kFLN2RU4WB6Y2B2CCZ9x1qHERuXBk55Dmp_zy5h9Jrh_bR"/>
          <p:cNvPicPr/>
          <p:nvPr/>
        </p:nvPicPr>
        <p:blipFill>
          <a:blip r:embed="rId4"/>
          <a:stretch/>
        </p:blipFill>
        <p:spPr>
          <a:xfrm>
            <a:off x="6300720" y="836640"/>
            <a:ext cx="21718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t0.gstatic.com/images?q=tbn:ANd9GcT9zKeC3yVSG8ubqyRPcJbzu8-7o0MP46VWxSnRkcqRjR3xH7ymFQ"/>
          <p:cNvPicPr/>
          <p:nvPr/>
        </p:nvPicPr>
        <p:blipFill>
          <a:blip r:embed="rId1"/>
          <a:stretch/>
        </p:blipFill>
        <p:spPr>
          <a:xfrm>
            <a:off x="1857240" y="642960"/>
            <a:ext cx="4643640" cy="4643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5160"/>
                </a:solidFill>
                <a:latin typeface="Verdana"/>
              </a:rPr>
              <a:t>What time is it now?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44" name="Picture 2" descr="http://t3.gstatic.com/images?q=tbn:ANd9GcTTxzk2xu2EbnTYynl7FS4kA4maUq0IHErSF8OmzToxfKutVKj_"/>
          <p:cNvPicPr/>
          <p:nvPr/>
        </p:nvPicPr>
        <p:blipFill>
          <a:blip r:embed="rId1"/>
          <a:stretch/>
        </p:blipFill>
        <p:spPr>
          <a:xfrm>
            <a:off x="2357280" y="1071720"/>
            <a:ext cx="4213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c0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46" name="Picture 2" descr="http://t1.gstatic.com/images?q=tbn:ANd9GcTHUiePLt1IgBex-sPPrRm78L18gj7wCxQdgxMSyBqSV2_22QQA"/>
          <p:cNvPicPr/>
          <p:nvPr/>
        </p:nvPicPr>
        <p:blipFill>
          <a:blip r:embed="rId1"/>
          <a:stretch/>
        </p:blipFill>
        <p:spPr>
          <a:xfrm>
            <a:off x="2286000" y="71424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t1.gstatic.com/images?q=tbn:ANd9GcTGa8sOW7VTi4PTrKgzsFRJf6Vjz32Jy9kaxcZ3OaQFLgjKmHw8"/>
          <p:cNvPicPr/>
          <p:nvPr/>
        </p:nvPicPr>
        <p:blipFill>
          <a:blip r:embed="rId1"/>
          <a:stretch/>
        </p:blipFill>
        <p:spPr>
          <a:xfrm>
            <a:off x="2050920" y="620640"/>
            <a:ext cx="4883400" cy="36435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What time is it now?</a:t>
            </a:r>
            <a:r>
              <a:rPr b="1" lang="en-US" sz="3200" spc="-1" strike="noStrike">
                <a:solidFill>
                  <a:srgbClr val="52bde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t’s half past 12</a:t>
            </a:r>
            <a:endParaRPr b="1" lang="en-US" sz="32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52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ferances: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428840"/>
            <a:ext cx="8183520" cy="5286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annarbor.com/assets/thumbnails_cache/2012/07/19/300w_clock.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img-fotki.yandex.ru/get/3103/thest0rm.e9/0_1ea4f_ef2cb5bf_X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vokrugsveta.ru/img/cmn/2008/03/28/015.g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cs304305.userapi.com/u47187/-14/x_817bc2bc.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cs5153.userapi.com/u138934666/-14/x_0c8fcdb3.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time66.ru/upload/items/full/33339.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651240" y="100008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tur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://t1.gstatic.com/images?q=tbn:ANd9GcQqlMvK9L7yHkDw_xGoalLeFxCkYaay78gAPFejpOJztInITkchEg"/>
          <p:cNvPicPr/>
          <p:nvPr/>
        </p:nvPicPr>
        <p:blipFill>
          <a:blip r:embed="rId1"/>
          <a:stretch/>
        </p:blipFill>
        <p:spPr>
          <a:xfrm>
            <a:off x="2484360" y="62064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58136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It’s 6 o’clock</a:t>
            </a:r>
            <a:endParaRPr b="1" lang="en-US" sz="32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t3.gstatic.com/images?q=tbn:ANd9GcR5lwCIBbMkwvnBruQpHbwnWBxQ-HOPR8DkFDnWbS_qgjJ5zqHL"/>
          <p:cNvPicPr/>
          <p:nvPr/>
        </p:nvPicPr>
        <p:blipFill>
          <a:blip r:embed="rId1"/>
          <a:stretch/>
        </p:blipFill>
        <p:spPr>
          <a:xfrm>
            <a:off x="2214720" y="571680"/>
            <a:ext cx="4170240" cy="42256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t’s 9 (minutes) past 10</a:t>
            </a:r>
            <a:endParaRPr b="1" lang="en-US" sz="32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t0.gstatic.com/images?q=tbn:ANd9GcRpjz6uwK05pQDcsoXe8Nl2Ch9G7iKCmgihL31bkHGLdUJdll3T"/>
          <p:cNvPicPr/>
          <p:nvPr/>
        </p:nvPicPr>
        <p:blipFill>
          <a:blip r:embed="rId1"/>
          <a:stretch/>
        </p:blipFill>
        <p:spPr>
          <a:xfrm>
            <a:off x="2000160" y="571680"/>
            <a:ext cx="4714920" cy="46940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t1.gstatic.com/images?q=tbn:ANd9GcSrWRXIcc_jUr5yBW77khm7mpJQhVbVNIV9dt7IEIBheVAAcxivWw"/>
          <p:cNvPicPr/>
          <p:nvPr/>
        </p:nvPicPr>
        <p:blipFill>
          <a:blip r:embed="rId1"/>
          <a:stretch/>
        </p:blipFill>
        <p:spPr>
          <a:xfrm>
            <a:off x="2143080" y="642960"/>
            <a:ext cx="4500720" cy="44020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t0.gstatic.com/images?q=tbn:ANd9GcQiJ2ef2Zg-jzIHWDtA0ByHGsEYTlT9lemi93bReRf6H3DSdRLHtA"/>
          <p:cNvPicPr/>
          <p:nvPr/>
        </p:nvPicPr>
        <p:blipFill>
          <a:blip r:embed="rId1"/>
          <a:stretch/>
        </p:blipFill>
        <p:spPr>
          <a:xfrm>
            <a:off x="2143080" y="642960"/>
            <a:ext cx="4425840" cy="4214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 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t3.gstatic.com/images?q=tbn:ANd9GcQUo8TYre62h4LfJ6ZaeMvXL2L1Mluzf6-F868kXia192RJJNnpdw"/>
          <p:cNvPicPr/>
          <p:nvPr/>
        </p:nvPicPr>
        <p:blipFill>
          <a:blip r:embed="rId1"/>
          <a:stretch/>
        </p:blipFill>
        <p:spPr>
          <a:xfrm>
            <a:off x="2357280" y="500040"/>
            <a:ext cx="4378320" cy="43592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What time is it now?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t’s 10 (minutes) to 2</a:t>
            </a:r>
            <a:endParaRPr b="1" lang="en-US" sz="32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://t0.gstatic.com/images?q=tbn:ANd9GcTjcRlXxZxl_L3ZSqNYd7KwMRJIo-nsQc9ekA0KegjV684iFDms"/>
          <p:cNvPicPr/>
          <p:nvPr/>
        </p:nvPicPr>
        <p:blipFill>
          <a:blip r:embed="rId1"/>
          <a:stretch/>
        </p:blipFill>
        <p:spPr>
          <a:xfrm>
            <a:off x="2143080" y="64296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t3.gstatic.com/images?q=tbn:ANd9GcQ2__MX5XUVO4_42i_t7A_QOkyPPMby46rtoxglpKmhETU370k_"/>
          <p:cNvPicPr/>
          <p:nvPr/>
        </p:nvPicPr>
        <p:blipFill>
          <a:blip r:embed="rId1"/>
          <a:stretch/>
        </p:blipFill>
        <p:spPr>
          <a:xfrm>
            <a:off x="2786040" y="714240"/>
            <a:ext cx="3505320" cy="41148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5:41:22Z</dcterms:created>
  <dc:creator>Татьяна</dc:creator>
  <dc:description/>
  <dc:language>en-US</dc:language>
  <cp:lastModifiedBy>гыук</cp:lastModifiedBy>
  <dcterms:modified xsi:type="dcterms:W3CDTF">2014-11-13T08:34:07Z</dcterms:modified>
  <cp:revision>17</cp:revision>
  <dc:subject/>
  <dc:title>What time is it now?</dc:title>
</cp:coreProperties>
</file>