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E9A9-D42A-4DB0-9709-0B70328E69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1119-C254-4DA9-B663-8817915C84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7CF6-814D-4206-9512-C75538D1FE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E9E-C920-4457-A2EA-FA0702C8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E64-C96D-4249-9F2F-9A205648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0937C-63BD-45E5-AF2B-BF61DFC9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33AAA-BF5D-4C8D-B321-FD864760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889E7-E604-41F7-AF33-444FB19B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289CE-C0CB-4EFD-9DE8-B5513192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45714-66BF-4AF5-A86A-C2A112B5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77485-A078-4103-BAB5-426DFD68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3E9AB-668B-4416-8CB2-1C250DE9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0E9F3-C2A1-4E80-A187-6031B298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EF606-AF16-4046-BD19-6C231E33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75E-7268-4462-BA82-CA99299C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E5B-0B4D-434E-8351-1DF22F6A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2BB9-1928-4D8E-9B89-0D464B6B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4D4C-F738-4D70-92B2-F6B6732C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DE04-7FA8-4CDA-A64E-61AFFC6E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25BA-214F-40CE-AF22-F5CC8BF0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BB58-F906-44F2-8CDD-D1753E6B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F9FC-700F-4ED7-B399-57A0CDF8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620A-5C65-4595-AA20-EB15584D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372-C98F-4F13-9076-B8A028FB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F1C4-45DF-4DAD-A48B-5E3AFC1F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F731-2B92-40F9-96CF-DEB26BE9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E640-6B99-4999-95F7-707F8B9D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DE44-DCC1-46FD-91F5-7C1459F3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98B5-AC7B-4BEA-A819-BD7BB3D8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A7FEA-E894-4C5C-AB03-C0DF6810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B9830-91B8-4F57-BEAB-8838F553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18160-1E79-4810-ADD2-05A00B52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DB827-C121-40C8-86CB-7299EA74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1191C-8F8C-40BA-8F1D-1757779E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0ACA-CF43-4EB8-9336-02E0FB00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026BA-37BF-4FE2-B83E-4C8201F8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7CF6-9E89-4ACC-B01A-19F974A5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0A501-9C29-4644-983B-9C36D810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36A65-9822-4498-B14E-9066F5E0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7ADEE-99AD-4ADA-B9A1-4C69C23B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026B9-0417-4A02-965E-346444BB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CEB67-DF37-45C8-B04F-35D7E52E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FAF3D-DB69-4FE7-BA47-2C3BA92C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35EC5-08E9-4076-9115-61BA94BA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95724-7529-4BE3-89E6-8A3CAE89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F278-9F3E-4DA9-9BA6-C5C930AA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65148-147E-4FF9-8915-F1E2A6AC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847AD-A508-49D2-8EF4-4E82221B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8E810-30EA-44B6-8B0F-43D2D9DC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4D26C-25D1-4A1E-99E4-ABB836E5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314A5-842A-4FBB-AF9E-24D398A4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4FDF8-39FF-4BF3-8FE2-7AB6A670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85DCF-5FED-4C93-8AEA-CE88A3C5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FC2A3-8E1E-4B9F-B45F-C9B5695C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B77C6-E4B6-4CA5-BD54-47417833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EA546-9220-44A9-9B7E-B576A2F6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DE47-1620-46A6-8679-F4D50A74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38197-FCF9-48A5-91D5-51C2DF7F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E63D4-FCCC-4CA6-8691-2E34C254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B33C4-C4D2-40AF-A131-2CF821F7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8EEDA-FBF2-406E-9F4E-F4C4914E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4C208-B601-4427-A6F9-ECC5F140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39B3E-C1E2-4A3F-9C17-457A1976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98C98-99F1-41FB-BA56-AEE3AF44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836CE-3C7C-421C-AB72-94E5CA7B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8483C-7E55-47E9-971B-5D3B1AA4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1AEFA-74A5-4F0F-BBED-F82E5BFB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AA2-471F-4561-AA08-A99C6AA7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0ACE7-0831-4E1C-812D-7D67997B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76701-2217-4BBF-82A5-A043A672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97B36-9748-42A4-8B90-DB56BEC6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F029D-5BF3-4DFF-9F71-1F11981B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68EC2-94BF-41D0-A0CB-054D4C27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04E6A-5648-47BA-ADF8-7A845B83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EB276-74E1-41D4-8E0C-B61C0CCE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2C630-4FE0-407E-B2BC-D66C1578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9987A-0DD4-4D23-BB3D-69AD0908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6D333-7BE2-4777-8240-4A656C60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E0C-2058-4E06-91B9-430ED685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43694-4E5D-487D-9C68-EAF73B17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9F7C4-8024-4F34-848A-616041E9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F3F6D-2E72-4B1D-873A-297E6FA7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2C55D-C401-41E1-9C73-29ECF0FD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21599-BE68-4204-A3C2-3ADD6F35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743C1-576B-4878-82C5-B89B01B8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F06FA-3088-438A-B939-96D32E11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6E87B-4D04-491D-8E45-5FF6C014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EE691-D2DF-4BA7-B42D-365FE205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62397-C9EF-4C3B-A6E6-5322B16D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602E-5EC1-4E22-82C1-8B655498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4F8BC-3C85-418F-96A8-FE98483B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F7068-7211-4958-96EB-33A5E39D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9E951-F1E3-4095-A39C-40E4F401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78846-D788-4598-AA58-956E6003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DAA7D-FD4C-4338-88AB-176B1C5A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166D0-25F8-4456-B0B3-A9DEC253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14624-5146-41A4-9013-7850D189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6FCF1-D921-4A15-B9F8-B3FD8818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4EDF8-68F4-4D10-8C21-E2BA22D4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0F02A-4780-4FCD-9CB0-8C2210DB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3F82-9A73-477B-91A1-A9EFCE66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04DBD-1E46-496B-AD40-D0857703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2C499-615B-4DB8-8DE5-9A87F5E2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61058-5468-4A26-A8A5-5DF9DEF7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295DD-818C-4963-AB0B-2E2701CB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0C7B8-8CA1-4526-92F7-96708152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5CF7A-B878-4CC0-8973-EF3DFA6A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2B857-A1BA-47ED-8282-DA2833E3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486E6-CD51-40FC-B359-9D288D9A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81FDF-7C5F-4BE8-A726-EB92ECDF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05105-D15B-4F59-84C5-FF862005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32E2-19E7-4CCD-9F23-E4E274AED515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ED9C-106B-4289-A40D-BE89B12DA8D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2E25-9EE7-40CB-9750-BD0D5E084859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CBD6-EF5E-431D-9B10-61720B51B9A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BC0F-6712-4E6F-A999-0EAA83E18D01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A92D-4047-42B1-9BCC-5B33CB8BECF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295B-F363-4F15-A2BB-76FBF8CB98BE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B669-C2BB-422C-854B-8B27DB08066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6369-B804-49BD-A12D-2C6FFA1581B8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3F29-C3A4-4294-B896-B41BD9BB6F2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D379-EA03-4144-8C9E-5AFE4A81162A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B06F-AAE4-415F-9704-9501DF9B382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012D-8489-4F2C-8EA7-4C775895A95D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5119-9391-4772-B2B8-1D0DD489F47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7907-01D7-4AA3-B80A-25C681492639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C719-8E85-4121-BE28-C2CD36FC789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EF2A-D0F6-4686-9B5F-9936749A2F6D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30E2-BBAE-4265-AA7A-D0EE1845D78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3"/>
          <p:cNvSpPr/>
          <p:nvPr/>
        </p:nvSpPr>
        <p:spPr>
          <a:xfrm>
            <a:off x="357120" y="285840"/>
            <a:ext cx="4572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 бы ты  ни  учил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 учишься для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о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1000080" y="250020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Тождественные преобразования степенных выра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5"/>
          <p:cNvSpPr/>
          <p:nvPr/>
        </p:nvSpPr>
        <p:spPr>
          <a:xfrm>
            <a:off x="2428920" y="5643720"/>
            <a:ext cx="628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й колледж традиционный культуры СП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 преподаватель математики Попова Л.А.                                        2013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оугольник 6"/>
          <p:cNvSpPr/>
          <p:nvPr/>
        </p:nvSpPr>
        <p:spPr>
          <a:xfrm>
            <a:off x="0" y="0"/>
            <a:ext cx="8929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Тренажер</a:t>
            </a:r>
            <a:r>
              <a:rPr b="1" i="1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7c4b3b"/>
                </a:solidFill>
                <a:latin typeface="Times New Roman"/>
                <a:ea typeface="Calibri"/>
              </a:rPr>
              <a:t>Представить в виде степени рациональным  показа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2"/>
              <p:cNvSpPr txBox="1"/>
              <p:nvPr/>
            </p:nvSpPr>
            <p:spPr>
              <a:xfrm>
                <a:off x="3214800" y="1428840"/>
                <a:ext cx="2482560" cy="523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х</m:t>
                        </m:r>
                        <m:r>
                          <m:t xml:space="preserve">: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а</m:t>
                        </m:r>
                        <m:r>
                          <m:t xml:space="preserve">: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f>
                          <m:num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6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4" name="Rectangle 4"/>
          <p:cNvSpPr/>
          <p:nvPr/>
        </p:nvSpPr>
        <p:spPr>
          <a:xfrm>
            <a:off x="0" y="513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2876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Физкультминутк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з точки А в  направлении до точки В катер доплыл за 90 минут, а из точки В в  направлении до точки А – за 1 час 30 минут. Почему 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6" name="Рисунок 11" descr="http://minobr.org/images/stories/logo-papem.jpg"/>
          <p:cNvPicPr/>
          <p:nvPr/>
        </p:nvPicPr>
        <p:blipFill>
          <a:blip r:embed="rId1"/>
          <a:stretch/>
        </p:blipFill>
        <p:spPr>
          <a:xfrm>
            <a:off x="6000840" y="4143240"/>
            <a:ext cx="25718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714240" y="0"/>
          <a:ext cx="7858440" cy="6715080"/>
        </p:xfrm>
        <a:graphic>
          <a:graphicData uri="http://schemas.openxmlformats.org/drawingml/2006/table">
            <a:tbl>
              <a:tblPr/>
              <a:tblGrid>
                <a:gridCol w="3929040"/>
                <a:gridCol w="3929400"/>
              </a:tblGrid>
              <a:tr h="4287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Вынесение общего множителя за скоб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4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Разложить на множители , используя формулы сокращени</a:t>
                      </a:r>
                      <a:r>
                        <a:rPr b="0" lang="ru-RU" sz="18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1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207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Решить у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Сократить дроб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78" name="Object 15"/>
              <p:cNvSpPr txBox="1"/>
              <p:nvPr/>
            </p:nvSpPr>
            <p:spPr>
              <a:xfrm>
                <a:off x="714240" y="214200"/>
                <a:ext cx="1828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7"/>
              <p:cNvSpPr txBox="1"/>
              <p:nvPr/>
            </p:nvSpPr>
            <p:spPr>
              <a:xfrm>
                <a:off x="714240" y="1714680"/>
                <a:ext cx="27860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9"/>
              <p:cNvSpPr txBox="1"/>
              <p:nvPr/>
            </p:nvSpPr>
            <p:spPr>
              <a:xfrm>
                <a:off x="4714920" y="285840"/>
                <a:ext cx="2438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20"/>
              <p:cNvSpPr txBox="1"/>
              <p:nvPr/>
            </p:nvSpPr>
            <p:spPr>
              <a:xfrm>
                <a:off x="4714920" y="1000080"/>
                <a:ext cx="29574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21"/>
              <p:cNvSpPr txBox="1"/>
              <p:nvPr/>
            </p:nvSpPr>
            <p:spPr>
              <a:xfrm>
                <a:off x="4643280" y="1714680"/>
                <a:ext cx="22417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22"/>
              <p:cNvSpPr txBox="1"/>
              <p:nvPr/>
            </p:nvSpPr>
            <p:spPr>
              <a:xfrm>
                <a:off x="714240" y="1071720"/>
                <a:ext cx="295776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Object 50"/>
              <p:cNvSpPr txBox="1"/>
              <p:nvPr/>
            </p:nvSpPr>
            <p:spPr>
              <a:xfrm>
                <a:off x="785880" y="2857680"/>
                <a:ext cx="1643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51"/>
              <p:cNvSpPr txBox="1"/>
              <p:nvPr/>
            </p:nvSpPr>
            <p:spPr>
              <a:xfrm>
                <a:off x="714240" y="3214800"/>
                <a:ext cx="221004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52"/>
              <p:cNvSpPr txBox="1"/>
              <p:nvPr/>
            </p:nvSpPr>
            <p:spPr>
              <a:xfrm>
                <a:off x="4729320" y="2643120"/>
                <a:ext cx="16142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54"/>
              <p:cNvSpPr txBox="1"/>
              <p:nvPr/>
            </p:nvSpPr>
            <p:spPr>
              <a:xfrm>
                <a:off x="4629240" y="3143160"/>
                <a:ext cx="239220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56"/>
              <p:cNvSpPr txBox="1"/>
              <p:nvPr/>
            </p:nvSpPr>
            <p:spPr>
              <a:xfrm>
                <a:off x="785880" y="4643280"/>
                <a:ext cx="18860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57"/>
              <p:cNvSpPr txBox="1"/>
              <p:nvPr/>
            </p:nvSpPr>
            <p:spPr>
              <a:xfrm>
                <a:off x="4643280" y="4643280"/>
                <a:ext cx="17733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60"/>
              <p:cNvSpPr txBox="1"/>
              <p:nvPr/>
            </p:nvSpPr>
            <p:spPr>
              <a:xfrm>
                <a:off x="1071720" y="5429160"/>
                <a:ext cx="192852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61"/>
              <p:cNvSpPr txBox="1"/>
              <p:nvPr/>
            </p:nvSpPr>
            <p:spPr>
              <a:xfrm>
                <a:off x="5072040" y="5286240"/>
                <a:ext cx="194148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3"/>
          <p:cNvSpPr/>
          <p:nvPr/>
        </p:nvSpPr>
        <p:spPr>
          <a:xfrm>
            <a:off x="785880" y="92880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Наук так много на земл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У всех – своя тем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Но есть одна из них мил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Зовётся математ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4"/>
          <p:cNvSpPr/>
          <p:nvPr/>
        </p:nvSpPr>
        <p:spPr>
          <a:xfrm>
            <a:off x="3500280" y="2786040"/>
            <a:ext cx="52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В ней не бывает скользких ме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Всё строго в ней доказа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И с нею движется прогрес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И этим нам всё сказ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5"/>
          <p:cNvSpPr/>
          <p:nvPr/>
        </p:nvSpPr>
        <p:spPr>
          <a:xfrm>
            <a:off x="6572160" y="48578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.В. Паниш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Рисунок 11" descr="http://minobr.org/images/stories/logo-papem.jpg"/>
          <p:cNvPicPr/>
          <p:nvPr/>
        </p:nvPicPr>
        <p:blipFill>
          <a:blip r:embed="rId1"/>
          <a:stretch/>
        </p:blipFill>
        <p:spPr>
          <a:xfrm>
            <a:off x="0" y="5000760"/>
            <a:ext cx="228600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20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2000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2000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2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20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20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20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1356840" y="928440"/>
            <a:ext cx="721548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кие преобразования называются тождественными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ать определение тождеств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кие приемы используются при тождественных преобразованиях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зовите свойства степени с рациональным показателем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Формула перехода от корня к степени</a:t>
            </a:r>
            <a:r>
              <a:rPr b="0" i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Формула от отрицательного показателя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Формула сокращенного умножения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TextBox 3"/>
          <p:cNvSpPr/>
          <p:nvPr/>
        </p:nvSpPr>
        <p:spPr>
          <a:xfrm>
            <a:off x="3071880" y="21420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Вопросы:</a:t>
            </a:r>
            <a:r>
              <a:rPr b="1" i="1" lang="ru-RU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7"/>
          <p:cNvSpPr/>
          <p:nvPr/>
        </p:nvSpPr>
        <p:spPr>
          <a:xfrm>
            <a:off x="571680" y="29289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285840" y="77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1"/>
              <p:cNvSpPr txBox="1"/>
              <p:nvPr/>
            </p:nvSpPr>
            <p:spPr>
              <a:xfrm>
                <a:off x="2786040" y="1643040"/>
                <a:ext cx="3236760" cy="494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4" name="Rectangle 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7"/>
          <p:cNvSpPr/>
          <p:nvPr/>
        </p:nvSpPr>
        <p:spPr>
          <a:xfrm>
            <a:off x="500040" y="28584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Свойства степени с рациональным  показателем </a:t>
            </a:r>
            <a:br>
              <a:rPr sz="2800"/>
            </a:br>
            <a:r>
              <a:rPr b="1" i="1" lang="ru-RU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m </a:t>
            </a:r>
            <a:r>
              <a:rPr b="1" i="1" lang="ru-RU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 и  </a:t>
            </a:r>
            <a:r>
              <a:rPr b="1" i="1" lang="en-US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n</a:t>
            </a:r>
            <a:r>
              <a:rPr b="1" i="1" lang="ru-RU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 – рациональные  числа, а &gt;0 и </a:t>
            </a:r>
            <a:r>
              <a:rPr b="1" i="1" lang="en-US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&gt;0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547120" cy="9572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5"/>
          <p:cNvSpPr/>
          <p:nvPr/>
        </p:nvSpPr>
        <p:spPr>
          <a:xfrm>
            <a:off x="857160" y="214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1071720" y="285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285840" y="357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6"/>
          <p:cNvSpPr/>
          <p:nvPr/>
        </p:nvSpPr>
        <p:spPr>
          <a:xfrm>
            <a:off x="0" y="214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7"/>
          <p:cNvSpPr/>
          <p:nvPr/>
        </p:nvSpPr>
        <p:spPr>
          <a:xfrm>
            <a:off x="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2214720" y="3000240"/>
                <a:ext cx="485604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27" name="Прямоугольник 12"/>
          <p:cNvSpPr/>
          <p:nvPr/>
        </p:nvSpPr>
        <p:spPr>
          <a:xfrm>
            <a:off x="402120" y="1643040"/>
            <a:ext cx="39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Arial"/>
              </a:rPr>
              <a:t>Если </a:t>
            </a:r>
            <a:r>
              <a:rPr b="0" lang="en-US" sz="1800" spc="-1" strike="noStrike">
                <a:solidFill>
                  <a:srgbClr val="523227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523227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52322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523227"/>
                </a:solidFill>
                <a:latin typeface="Arial"/>
              </a:rPr>
              <a:t>-  натуральное число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14"/>
          <p:cNvSpPr/>
          <p:nvPr/>
        </p:nvSpPr>
        <p:spPr>
          <a:xfrm>
            <a:off x="1362960" y="221472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1800" spc="-1" strike="noStrike">
                <a:solidFill>
                  <a:srgbClr val="523227"/>
                </a:solidFill>
                <a:latin typeface="Arial"/>
              </a:rPr>
              <a:t>цел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071720" y="1571760"/>
                <a:ext cx="357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4"/>
              <p:cNvSpPr txBox="1"/>
              <p:nvPr/>
            </p:nvSpPr>
            <p:spPr>
              <a:xfrm>
                <a:off x="4143240" y="1571760"/>
                <a:ext cx="12859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5"/>
              <p:cNvSpPr txBox="1"/>
              <p:nvPr/>
            </p:nvSpPr>
            <p:spPr>
              <a:xfrm>
                <a:off x="642960" y="2143080"/>
                <a:ext cx="5000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2" name="Прямоугольник 18"/>
          <p:cNvSpPr/>
          <p:nvPr/>
        </p:nvSpPr>
        <p:spPr>
          <a:xfrm>
            <a:off x="3002040" y="2214720"/>
            <a:ext cx="6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1800" spc="-1" strike="noStrike">
                <a:solidFill>
                  <a:srgbClr val="523227"/>
                </a:solidFill>
                <a:latin typeface="Arial"/>
              </a:rPr>
              <a:t>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19"/>
          <p:cNvSpPr/>
          <p:nvPr/>
        </p:nvSpPr>
        <p:spPr>
          <a:xfrm>
            <a:off x="3647160" y="22147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Arial"/>
              </a:rPr>
              <a:t>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6"/>
              <p:cNvSpPr txBox="1"/>
              <p:nvPr/>
            </p:nvSpPr>
            <p:spPr>
              <a:xfrm>
                <a:off x="4286160" y="2143080"/>
                <a:ext cx="1214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TextBox 21"/>
          <p:cNvSpPr/>
          <p:nvPr/>
        </p:nvSpPr>
        <p:spPr>
          <a:xfrm>
            <a:off x="5643720" y="228600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Arial"/>
              </a:rPr>
              <a:t>справедли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523227"/>
                </a:solidFill>
                <a:latin typeface="Arial"/>
              </a:rPr>
              <a:t>равен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24"/>
          <p:cNvSpPr/>
          <p:nvPr/>
        </p:nvSpPr>
        <p:spPr>
          <a:xfrm>
            <a:off x="5214960" y="5286240"/>
            <a:ext cx="278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9"/>
              <p:cNvSpPr txBox="1"/>
              <p:nvPr/>
            </p:nvSpPr>
            <p:spPr>
              <a:xfrm>
                <a:off x="5572080" y="5357880"/>
                <a:ext cx="10638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" name="TextBox 29"/>
          <p:cNvSpPr/>
          <p:nvPr/>
        </p:nvSpPr>
        <p:spPr>
          <a:xfrm>
            <a:off x="4714920" y="54291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11"/>
              <p:cNvSpPr txBox="1"/>
              <p:nvPr/>
            </p:nvSpPr>
            <p:spPr>
              <a:xfrm>
                <a:off x="2428920" y="4929120"/>
                <a:ext cx="185724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907920" y="353880"/>
            <a:ext cx="8242560" cy="107820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714240" y="357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4449600" y="-13032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4461840" y="79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3"/>
              <p:cNvSpPr txBox="1"/>
              <p:nvPr/>
            </p:nvSpPr>
            <p:spPr>
              <a:xfrm>
                <a:off x="2286000" y="1643040"/>
                <a:ext cx="45244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в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2"/>
              <p:cNvSpPr txBox="1"/>
              <p:nvPr/>
            </p:nvSpPr>
            <p:spPr>
              <a:xfrm>
                <a:off x="2128680" y="2786040"/>
                <a:ext cx="48006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в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"/>
              <p:cNvSpPr txBox="1"/>
              <p:nvPr/>
            </p:nvSpPr>
            <p:spPr>
              <a:xfrm>
                <a:off x="2000160" y="4143240"/>
                <a:ext cx="498168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в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3" name="Rectangle 5"/>
          <p:cNvSpPr/>
          <p:nvPr/>
        </p:nvSpPr>
        <p:spPr>
          <a:xfrm>
            <a:off x="4458600" y="51732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4458600" y="98352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518120" y="216000"/>
            <a:ext cx="598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c4b3b"/>
                </a:solidFill>
                <a:latin typeface="Times New Roman"/>
                <a:ea typeface="Calibri"/>
              </a:rPr>
              <a:t>Формулы сокращенного умно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Прямоугольник 3"/>
          <p:cNvSpPr/>
          <p:nvPr/>
        </p:nvSpPr>
        <p:spPr>
          <a:xfrm>
            <a:off x="1071720" y="28584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2"/>
              <p:cNvSpPr txBox="1"/>
              <p:nvPr/>
            </p:nvSpPr>
            <p:spPr>
              <a:xfrm>
                <a:off x="1785960" y="741240"/>
                <a:ext cx="1714320" cy="575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sSup>
                          <m:e>
                            <m:eqArr>
                              <m:e>
                                <m:r>
                                  <m:t xml:space="preserve">3</m:t>
                                </m:r>
                              </m:e>
                            </m:eqArr>
                          </m:e>
                          <m:sup/>
                        </m:sSup>
                      </m:e>
                    </m:eqAr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5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6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"/>
              <p:cNvSpPr txBox="1"/>
              <p:nvPr/>
            </p:nvSpPr>
            <p:spPr>
              <a:xfrm>
                <a:off x="5500800" y="928800"/>
                <a:ext cx="1603440" cy="56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9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0,1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/>
                            </m:f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,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/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9" name="Прямоугольник 7"/>
          <p:cNvSpPr/>
          <p:nvPr/>
        </p:nvSpPr>
        <p:spPr>
          <a:xfrm>
            <a:off x="2714760" y="21420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Устный сч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1643040" y="214200"/>
          <a:ext cx="6238800" cy="6429600"/>
        </p:xfrm>
        <a:graphic>
          <a:graphicData uri="http://schemas.openxmlformats.org/drawingml/2006/table">
            <a:tbl>
              <a:tblPr/>
              <a:tblGrid>
                <a:gridCol w="6238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7c4b3b"/>
                          </a:solidFill>
                          <a:latin typeface="Times New Roman"/>
                          <a:ea typeface="Times New Roman"/>
                        </a:rPr>
                        <a:t>Найдите и объясните ошиб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61" name="Object 6"/>
              <p:cNvSpPr txBox="1"/>
              <p:nvPr/>
            </p:nvSpPr>
            <p:spPr>
              <a:xfrm>
                <a:off x="2714760" y="1214280"/>
                <a:ext cx="4039920" cy="528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∗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а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493560" y="-6480"/>
            <a:ext cx="8242560" cy="8542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2642760" y="2571840"/>
            <a:ext cx="62866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428760" y="785880"/>
          <a:ext cx="4214520" cy="5416560"/>
        </p:xfrm>
        <a:graphic>
          <a:graphicData uri="http://schemas.openxmlformats.org/drawingml/2006/table">
            <a:tbl>
              <a:tblPr/>
              <a:tblGrid>
                <a:gridCol w="4214520"/>
              </a:tblGrid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7c4b3b"/>
                          </a:solidFill>
                          <a:latin typeface="Times New Roman"/>
                          <a:ea typeface="Calibri"/>
                        </a:rPr>
                        <a:t>Избавиться от кор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1357200" y="1785960"/>
                <a:ext cx="2071800" cy="420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х</m:t>
                            </m:r>
                          </m:e>
                        </m:rad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ad>
                          <m:deg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9</m:t>
                                    </m:r>
                                  </m:num>
                                  <m:den/>
                                </m:f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67" name=""/>
          <p:cNvGraphicFramePr/>
          <p:nvPr/>
        </p:nvGraphicFramePr>
        <p:xfrm>
          <a:off x="5429160" y="857160"/>
          <a:ext cx="3143520" cy="5337360"/>
        </p:xfrm>
        <a:graphic>
          <a:graphicData uri="http://schemas.openxmlformats.org/drawingml/2006/table">
            <a:tbl>
              <a:tblPr/>
              <a:tblGrid>
                <a:gridCol w="3143520"/>
              </a:tblGrid>
              <a:tr h="1513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7c4b3b"/>
                          </a:solidFill>
                          <a:latin typeface="Times New Roman"/>
                          <a:ea typeface="Calibri"/>
                        </a:rPr>
                        <a:t>Избавиться от отрицательного показа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68" name="Object 4"/>
              <p:cNvSpPr txBox="1"/>
              <p:nvPr/>
            </p:nvSpPr>
            <p:spPr>
              <a:xfrm>
                <a:off x="6143760" y="2357280"/>
                <a:ext cx="1500120" cy="371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285840" y="171360"/>
          <a:ext cx="8643960" cy="6629400"/>
        </p:xfrm>
        <a:graphic>
          <a:graphicData uri="http://schemas.openxmlformats.org/drawingml/2006/table">
            <a:tbl>
              <a:tblPr/>
              <a:tblGrid>
                <a:gridCol w="8643960"/>
              </a:tblGrid>
              <a:tr h="131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523227"/>
                          </a:solidFill>
                          <a:latin typeface="Times New Roman"/>
                          <a:ea typeface="Calibri"/>
                        </a:rPr>
                        <a:t>Тренажер</a:t>
                      </a:r>
                      <a:r>
                        <a:rPr b="1" lang="ru-RU" sz="2800" spc="-1" strike="noStrike">
                          <a:solidFill>
                            <a:srgbClr val="523227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7c4b3b"/>
                          </a:solidFill>
                          <a:latin typeface="Times New Roman"/>
                          <a:ea typeface="Calibri"/>
                        </a:rPr>
                        <a:t>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7c4b3b"/>
                          </a:solidFill>
                          <a:latin typeface="Times New Roman"/>
                          <a:ea typeface="Calibri"/>
                        </a:rPr>
                        <a:t>Представить виде степени с рациональны показателе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70" name="Object 2"/>
              <p:cNvSpPr txBox="1"/>
              <p:nvPr/>
            </p:nvSpPr>
            <p:spPr>
              <a:xfrm>
                <a:off x="3500280" y="1357200"/>
                <a:ext cx="2293920" cy="599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/>
                            </m:f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/>
                            </m:f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/>
                            </m:f>
                          </m:sup>
                        </m:sSup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/>
                            </m:f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/>
                            </m:f>
                          </m:sup>
                        </m:sSup>
                      </m:e>
                      <m:e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num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r>
                              <m:t xml:space="preserve">у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/>
                            </m:f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1T14:15:30Z</dcterms:created>
  <dc:creator>User</dc:creator>
  <dc:description>http://aida.ucoz.ru</dc:description>
  <dc:language>en-US</dc:language>
  <cp:lastModifiedBy>Ия</cp:lastModifiedBy>
  <dcterms:modified xsi:type="dcterms:W3CDTF">2014-05-25T15:25:38Z</dcterms:modified>
  <cp:revision>119</cp:revision>
  <dc:subject/>
  <dc:title>Вводное повторение</dc:title>
</cp:coreProperties>
</file>