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12FD-9DE8-4707-9473-7FF7368785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E7C9-450B-4DC1-B0E5-09B0BAA4C4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93C2-094E-4C1B-B934-84AE80EF2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EB4-2C4E-457A-8348-73E283CC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80A-8607-4BDA-95BC-B614D6E9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9E37A-2360-4180-927D-46B0B7FA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98168-049E-4A15-BF35-5D994024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CA8EA-B0BB-43A6-97CF-46F4235D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4E847-03F9-4072-99A3-050F517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845B5-665F-45F2-A6FB-F50411B0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F4D14-2C21-4500-B19C-EBED50C7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A2354-344F-4F90-91D4-0199E61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0780F-7D43-4B72-A563-EC1D1947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2989E-9983-4027-BDAC-4990156E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814-DD70-4E2D-B0C8-96D0AAAB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7B9-E7D0-4799-AB7C-39ADE345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248C-C855-4DEE-B370-6EE97DA1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6F37-B0F6-4C0D-9D6A-EEDCB0C3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5033-D532-4B47-8B28-D04831BA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A83-86ED-4608-A861-BEA3B198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5CE8-2020-46AB-8E03-A7A82792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0221-9E57-4314-AB2F-43C5873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22E3-2BF8-4520-943E-A8299650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AA1-FE2E-434A-977B-7913FA4E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EE70-492F-43CF-BE4C-EC2544A6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1762-6DBE-41BD-B2C0-0B00D974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6F22-BD00-4632-A85A-98D45504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9099-7E38-4190-AABF-AC626349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61FD-75F4-4566-AB24-918FFE4A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75F7-4804-46F9-9520-4FB903D3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29FA-BC41-422A-9DC4-727E64C8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60C5-E95B-4736-A550-B18D97C2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D1E0-E4A5-4733-9387-E98A2665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F933-1F5B-484D-ACAE-89577F9A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255-5A2F-4AD1-A760-D01EADE5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0EDC-9EC7-4CBB-A4F8-5E555D1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0498E-1ED2-4301-BEB1-14A0F147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30CB-3FF1-4DE9-BA90-8AF9B729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7B76-AB23-4B88-9914-54C6CCDC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4922-3100-43E9-A1A2-7483A897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E170-5502-481F-8F95-2D7A2DC9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E0CA-863F-493F-A4A1-7F40A20B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44DF-DDE8-496D-B73C-78F3B156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C2B31-DBB0-44FF-B1F5-45032546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1C70A-7BF7-438B-A264-AA7ECDB2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357-46D8-4B1C-A9C7-E9120117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2B8AF-1E52-46FB-B37F-E41F922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0CF2-2A5F-4C75-B0BD-BEE4D29E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85F85-CDEA-4042-B45A-878A3FD7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88D1-B599-4F01-B559-0F0C5BF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D2CCE-6129-46BD-9FCA-9C334F4F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551C3-5052-4D05-8DB1-BFBA3DF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6BFD-4EBC-4685-8B54-9FF2234B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FDE91-2E44-4AD2-80F0-DABEB8CE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DEE56-55D2-4143-A02A-04BE0429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3AFA6-B9C9-435F-88F2-23BD73DA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461-7A58-43EF-9883-D5E4BAF9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F4EF-1915-4D2D-AC38-746758E8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1618D-D2FF-4549-AFE9-F00C1C17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5E8A-503B-43CA-AB5E-97D93828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C75F-D337-455B-A2E5-7C800072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77AF0-4E7D-42C2-BDC7-9F2D8CE7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891D-FB4D-48FC-9825-D4F14EC8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6353-66A0-4726-9D94-1366837F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1CAC-8B96-457C-B1C7-BE74EEC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FF97-586C-4D81-8210-5A7E67F2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EE937-2AE1-410A-8F15-24D72508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DB0-1A39-4604-AFDA-0728489A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58C77-63DB-41A7-8BA3-B1C78612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A091-DFFA-4D29-94FD-D8BC9BEE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A8FD-0AA1-4A5C-A5BB-D4A1085C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EB0C2-1DC7-4481-8955-B232760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EE4E0-308E-4E0B-B6D9-A13ECFB3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FCDBF-8D84-41F2-B5E6-CF027862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ADF95-5D6E-455E-A195-AA341420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E1988-58A3-4FE0-A6AA-26244242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236E-3689-440D-AB50-7CE1DD6F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54D9E-6D5C-4010-A535-9A69209B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E18-DF96-4F95-A125-A9DF5CA5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6F4C2-5051-41A2-B21F-551A265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D451D-7D5B-43F7-8B05-D7F53085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10D32-55BC-46EB-B5BC-634EFD84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082A1-884E-4142-97CA-C3BAEDB2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6871C-4EE5-4405-9E2F-4089A932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0182D-4441-457C-8B95-661C9AC3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13B0D-2E9B-488D-BC38-BDC57929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0FFB9-C2B4-4F46-A184-E7898A8C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0DEC-DEE5-46BF-B731-DD6A868F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9DB4A-11BF-4E09-84B7-B5433FE5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07B-47E2-45B8-BBF6-B91E220C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18E36-0CCB-4E8C-8E91-88C548D5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43DFF-A800-43DA-BB5F-06BBDD24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839B-9C13-456D-A962-38FBF81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DC355-DD58-4FC4-B7A8-CE2E3B68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A7363-90C5-46FA-A969-409E414C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EA9F4-6A5A-4EC3-8F32-1DDF1329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FB48-3E99-43CE-B4AF-A2FD22BC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28455-F21C-404F-9541-13B64416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EC947-F0B8-488B-B204-CA75CDE3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77F9D-066B-4CF9-93C9-6F077527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FB5-E141-4C44-99E2-494558C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CEFBA-6CBE-4600-AAE7-C8CA7C90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C87E4-CCFE-4AFD-A492-91718FD9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73F17-674B-455A-B01A-FA7EA63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BB5DA-B1C9-4675-B460-61DFE2F8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C10ED-BD20-4D58-94C3-ABCFF21D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C1792-150B-42BC-935D-F0D72DAA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D7B06-32CA-4230-AAFC-469BF82B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2C8FD-B754-4B90-B2A9-067E4CA5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B8600-2934-42A9-8F2F-610DD6C3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D575C-8896-4AE6-8DE3-5E7F49DE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73A4-784A-462A-80ED-4C7CC8DA359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11FC-9EAD-4435-B37C-6EE78E19C0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08D8-C80A-422E-92F0-FB81A763348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C5FB-608F-4F86-A818-80DDAADAE9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4837-9769-476B-9C86-83EABFC53E0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5AFF-BE86-4AE2-940E-6A0F110099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4869-6C35-46EB-97D4-AE70A3C1288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8BB-863A-41CD-AB53-52C6464F6CB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4E0A-4B79-4E9E-84B4-B0FD811761A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9026-5671-49FE-80F6-0B838233C0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2BC-9224-414A-B9CA-1C3E19E259B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8A0A-83EE-433A-B2C0-3738CC6F7C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DA94-1E37-4FCE-B5CF-53CC221F85C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5489-FA20-4CC5-8F1D-9536952EF7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F613-03DD-4CF9-BEDE-63EC28F28D3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E5D6-8B49-4B04-A234-3B9DEC1568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0A33-DBA2-4FBC-AB28-B6CE17E466D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011B-0399-4315-9893-A9E145C6E0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3"/>
          <p:cNvSpPr/>
          <p:nvPr/>
        </p:nvSpPr>
        <p:spPr>
          <a:xfrm>
            <a:off x="357120" y="285840"/>
            <a:ext cx="4572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 бы ты  ни  учил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 учишься для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000080" y="25002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Тождественные преобразования степенны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2428920" y="564372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колледж традиционный культуры 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 преподаватель математики Попова Л.А.                                        201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6"/>
          <p:cNvSpPr/>
          <p:nvPr/>
        </p:nvSpPr>
        <p:spPr>
          <a:xfrm>
            <a:off x="0" y="0"/>
            <a:ext cx="8929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Тренажер</a:t>
            </a:r>
            <a:r>
              <a:rPr b="1" i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Calibri"/>
              </a:rPr>
              <a:t>Представить в виде степени рациональным  показ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2"/>
              <p:cNvSpPr txBox="1"/>
              <p:nvPr/>
            </p:nvSpPr>
            <p:spPr>
              <a:xfrm>
                <a:off x="3214800" y="1428840"/>
                <a:ext cx="2482560" cy="52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х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а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4" name="Rectangle 4"/>
          <p:cNvSpPr/>
          <p:nvPr/>
        </p:nvSpPr>
        <p:spPr>
          <a:xfrm>
            <a:off x="0" y="513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Физкультминут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 точки А в  направлении до точки В катер доплыл за 90 минут, а из точки В в  направлении до точки А – за 1 час 30 минут. Почему 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2880" indent="-272880"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6" name="Рисунок 11" descr="http://minobr.org/images/stories/logo-papem.jpg"/>
          <p:cNvPicPr/>
          <p:nvPr/>
        </p:nvPicPr>
        <p:blipFill>
          <a:blip r:embed="rId1"/>
          <a:stretch/>
        </p:blipFill>
        <p:spPr>
          <a:xfrm>
            <a:off x="6000840" y="4143240"/>
            <a:ext cx="25718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714240" y="0"/>
          <a:ext cx="7858440" cy="6715080"/>
        </p:xfrm>
        <a:graphic>
          <a:graphicData uri="http://schemas.openxmlformats.org/drawingml/2006/table">
            <a:tbl>
              <a:tblPr/>
              <a:tblGrid>
                <a:gridCol w="3929040"/>
                <a:gridCol w="3929400"/>
              </a:tblGrid>
              <a:tr h="4287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Вынесение общего множителя за скоб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Разложить на множители , используя формулы сокращени</a:t>
                      </a:r>
                      <a:r>
                        <a:rPr b="0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1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207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Решить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Сократить дроб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632423"/>
                      </a:solidFill>
                    </a:lnL>
                    <a:lnR w="9360">
                      <a:solidFill>
                        <a:srgbClr val="632423"/>
                      </a:solidFill>
                    </a:lnR>
                    <a:lnT w="9360">
                      <a:solidFill>
                        <a:srgbClr val="632423"/>
                      </a:solidFill>
                    </a:lnT>
                    <a:lnB w="9360">
                      <a:solidFill>
                        <a:srgbClr val="63242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Object 15"/>
              <p:cNvSpPr txBox="1"/>
              <p:nvPr/>
            </p:nvSpPr>
            <p:spPr>
              <a:xfrm>
                <a:off x="714240" y="214200"/>
                <a:ext cx="1828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7"/>
              <p:cNvSpPr txBox="1"/>
              <p:nvPr/>
            </p:nvSpPr>
            <p:spPr>
              <a:xfrm>
                <a:off x="714240" y="1714680"/>
                <a:ext cx="27860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9"/>
              <p:cNvSpPr txBox="1"/>
              <p:nvPr/>
            </p:nvSpPr>
            <p:spPr>
              <a:xfrm>
                <a:off x="4714920" y="285840"/>
                <a:ext cx="2438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0"/>
              <p:cNvSpPr txBox="1"/>
              <p:nvPr/>
            </p:nvSpPr>
            <p:spPr>
              <a:xfrm>
                <a:off x="4714920" y="1000080"/>
                <a:ext cx="2957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1"/>
              <p:cNvSpPr txBox="1"/>
              <p:nvPr/>
            </p:nvSpPr>
            <p:spPr>
              <a:xfrm>
                <a:off x="4643280" y="1714680"/>
                <a:ext cx="22417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2"/>
              <p:cNvSpPr txBox="1"/>
              <p:nvPr/>
            </p:nvSpPr>
            <p:spPr>
              <a:xfrm>
                <a:off x="714240" y="1071720"/>
                <a:ext cx="29577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50"/>
              <p:cNvSpPr txBox="1"/>
              <p:nvPr/>
            </p:nvSpPr>
            <p:spPr>
              <a:xfrm>
                <a:off x="785880" y="2857680"/>
                <a:ext cx="1643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51"/>
              <p:cNvSpPr txBox="1"/>
              <p:nvPr/>
            </p:nvSpPr>
            <p:spPr>
              <a:xfrm>
                <a:off x="714240" y="3214800"/>
                <a:ext cx="22100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2"/>
              <p:cNvSpPr txBox="1"/>
              <p:nvPr/>
            </p:nvSpPr>
            <p:spPr>
              <a:xfrm>
                <a:off x="4729320" y="2643120"/>
                <a:ext cx="1614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54"/>
              <p:cNvSpPr txBox="1"/>
              <p:nvPr/>
            </p:nvSpPr>
            <p:spPr>
              <a:xfrm>
                <a:off x="4629240" y="3143160"/>
                <a:ext cx="23922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56"/>
              <p:cNvSpPr txBox="1"/>
              <p:nvPr/>
            </p:nvSpPr>
            <p:spPr>
              <a:xfrm>
                <a:off x="785880" y="4643280"/>
                <a:ext cx="1886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7"/>
              <p:cNvSpPr txBox="1"/>
              <p:nvPr/>
            </p:nvSpPr>
            <p:spPr>
              <a:xfrm>
                <a:off x="4643280" y="4643280"/>
                <a:ext cx="1773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0"/>
              <p:cNvSpPr txBox="1"/>
              <p:nvPr/>
            </p:nvSpPr>
            <p:spPr>
              <a:xfrm>
                <a:off x="1071720" y="5429160"/>
                <a:ext cx="192852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61"/>
              <p:cNvSpPr txBox="1"/>
              <p:nvPr/>
            </p:nvSpPr>
            <p:spPr>
              <a:xfrm>
                <a:off x="5072040" y="5286240"/>
                <a:ext cx="194148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3"/>
          <p:cNvSpPr/>
          <p:nvPr/>
        </p:nvSpPr>
        <p:spPr>
          <a:xfrm>
            <a:off x="785880" y="92880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Наук так много на зем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У всех – своя те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Но есть одна из них ми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Зовётся математ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4"/>
          <p:cNvSpPr/>
          <p:nvPr/>
        </p:nvSpPr>
        <p:spPr>
          <a:xfrm>
            <a:off x="3500280" y="2786040"/>
            <a:ext cx="52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В ней не бывает скользких м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Всё строго в ней доказа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И с нею движется прогре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И этим нам всё сказ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6572160" y="48578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.В. Паниш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11" descr="http://minobr.org/images/stories/logo-papem.jpg"/>
          <p:cNvPicPr/>
          <p:nvPr/>
        </p:nvPicPr>
        <p:blipFill>
          <a:blip r:embed="rId1"/>
          <a:stretch/>
        </p:blipFill>
        <p:spPr>
          <a:xfrm>
            <a:off x="0" y="5000760"/>
            <a:ext cx="228600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2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20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356840" y="928440"/>
            <a:ext cx="721548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преобразования называются тождественным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ть определение тождеств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приемы используются при тождественных преобразования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зовите свойства степени с рациональным показателем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ула перехода от корня к степени</a:t>
            </a:r>
            <a:r>
              <a:rPr b="0" i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ула от отрицательного показателя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ула сокращенного умножения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3071880" y="21420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Вопросы:</a:t>
            </a:r>
            <a:r>
              <a:rPr b="1" i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7"/>
          <p:cNvSpPr/>
          <p:nvPr/>
        </p:nvSpPr>
        <p:spPr>
          <a:xfrm>
            <a:off x="571680" y="29289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285840" y="77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"/>
              <p:cNvSpPr txBox="1"/>
              <p:nvPr/>
            </p:nvSpPr>
            <p:spPr>
              <a:xfrm>
                <a:off x="2786040" y="1643040"/>
                <a:ext cx="3236760" cy="494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4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7"/>
          <p:cNvSpPr/>
          <p:nvPr/>
        </p:nvSpPr>
        <p:spPr>
          <a:xfrm>
            <a:off x="500040" y="2858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Свойства степени с рациональным  показателем </a:t>
            </a:r>
            <a:br>
              <a:rPr sz="2800"/>
            </a:b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m </a:t>
            </a: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 и  </a:t>
            </a:r>
            <a:r>
              <a:rPr b="1" i="1" lang="en-US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n</a:t>
            </a: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 – рациональные  числа, а &gt;0 и </a:t>
            </a:r>
            <a:r>
              <a:rPr b="1" i="1" lang="en-US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&gt;0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547120" cy="9572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5"/>
          <p:cNvSpPr/>
          <p:nvPr/>
        </p:nvSpPr>
        <p:spPr>
          <a:xfrm>
            <a:off x="85716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071720" y="285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285840" y="357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2214720" y="3000240"/>
                <a:ext cx="485604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7" name="Прямоугольник 12"/>
          <p:cNvSpPr/>
          <p:nvPr/>
        </p:nvSpPr>
        <p:spPr>
          <a:xfrm>
            <a:off x="402120" y="164304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523227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52322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-  натуральное число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4"/>
          <p:cNvSpPr/>
          <p:nvPr/>
        </p:nvSpPr>
        <p:spPr>
          <a:xfrm>
            <a:off x="1362960" y="22147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071720" y="1571760"/>
                <a:ext cx="357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4143240" y="1571760"/>
                <a:ext cx="1285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642960" y="2143080"/>
                <a:ext cx="5000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Прямоугольник 18"/>
          <p:cNvSpPr/>
          <p:nvPr/>
        </p:nvSpPr>
        <p:spPr>
          <a:xfrm>
            <a:off x="3002040" y="2214720"/>
            <a:ext cx="6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9"/>
          <p:cNvSpPr/>
          <p:nvPr/>
        </p:nvSpPr>
        <p:spPr>
          <a:xfrm>
            <a:off x="3647160" y="2214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6"/>
              <p:cNvSpPr txBox="1"/>
              <p:nvPr/>
            </p:nvSpPr>
            <p:spPr>
              <a:xfrm>
                <a:off x="4286160" y="2143080"/>
                <a:ext cx="1214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TextBox 21"/>
          <p:cNvSpPr/>
          <p:nvPr/>
        </p:nvSpPr>
        <p:spPr>
          <a:xfrm>
            <a:off x="5643720" y="22860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справедли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523227"/>
                </a:solidFill>
                <a:latin typeface="Arial"/>
              </a:rPr>
              <a:t>равен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4"/>
          <p:cNvSpPr/>
          <p:nvPr/>
        </p:nvSpPr>
        <p:spPr>
          <a:xfrm>
            <a:off x="5214960" y="52862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9"/>
              <p:cNvSpPr txBox="1"/>
              <p:nvPr/>
            </p:nvSpPr>
            <p:spPr>
              <a:xfrm>
                <a:off x="5572080" y="5357880"/>
                <a:ext cx="1063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TextBox 29"/>
          <p:cNvSpPr/>
          <p:nvPr/>
        </p:nvSpPr>
        <p:spPr>
          <a:xfrm>
            <a:off x="4714920" y="54291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1"/>
              <p:cNvSpPr txBox="1"/>
              <p:nvPr/>
            </p:nvSpPr>
            <p:spPr>
              <a:xfrm>
                <a:off x="2428920" y="4929120"/>
                <a:ext cx="18572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907920" y="353880"/>
            <a:ext cx="8242560" cy="10782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714240" y="357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4449600" y="-13032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461840" y="79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2286000" y="1643040"/>
                <a:ext cx="45244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128680" y="2786040"/>
                <a:ext cx="4800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"/>
              <p:cNvSpPr txBox="1"/>
              <p:nvPr/>
            </p:nvSpPr>
            <p:spPr>
              <a:xfrm>
                <a:off x="2000160" y="4143240"/>
                <a:ext cx="49816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Rectangle 5"/>
          <p:cNvSpPr/>
          <p:nvPr/>
        </p:nvSpPr>
        <p:spPr>
          <a:xfrm>
            <a:off x="4458600" y="51732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4458600" y="98352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518120" y="216000"/>
            <a:ext cx="59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Calibri"/>
              </a:rPr>
              <a:t>Формулы сокращенного умн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3"/>
          <p:cNvSpPr/>
          <p:nvPr/>
        </p:nvSpPr>
        <p:spPr>
          <a:xfrm>
            <a:off x="1071720" y="2858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1785960" y="741240"/>
                <a:ext cx="1714320" cy="575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sSup>
                          <m:e>
                            <m:eqArr>
                              <m:e>
                                <m:r>
                                  <m:t xml:space="preserve">3</m:t>
                                </m:r>
                              </m:e>
                            </m:eqArr>
                          </m:e>
                          <m:sup/>
                        </m:sSup>
                      </m:e>
                    </m:eqAr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5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6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"/>
              <p:cNvSpPr txBox="1"/>
              <p:nvPr/>
            </p:nvSpPr>
            <p:spPr>
              <a:xfrm>
                <a:off x="5500800" y="928800"/>
                <a:ext cx="1603440" cy="56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9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0,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,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/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Прямоугольник 7"/>
          <p:cNvSpPr/>
          <p:nvPr/>
        </p:nvSpPr>
        <p:spPr>
          <a:xfrm>
            <a:off x="2714760" y="21420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Устный с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1643040" y="214200"/>
          <a:ext cx="6238800" cy="6429600"/>
        </p:xfrm>
        <a:graphic>
          <a:graphicData uri="http://schemas.openxmlformats.org/drawingml/2006/table">
            <a:tbl>
              <a:tblPr/>
              <a:tblGrid>
                <a:gridCol w="6238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Найдите и объясните ошиб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Object 6"/>
              <p:cNvSpPr txBox="1"/>
              <p:nvPr/>
            </p:nvSpPr>
            <p:spPr>
              <a:xfrm>
                <a:off x="2714760" y="1214280"/>
                <a:ext cx="4039920" cy="528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а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8542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2642760" y="2571840"/>
            <a:ext cx="62866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28760" y="785880"/>
          <a:ext cx="4214520" cy="5416560"/>
        </p:xfrm>
        <a:graphic>
          <a:graphicData uri="http://schemas.openxmlformats.org/drawingml/2006/table">
            <a:tbl>
              <a:tblPr/>
              <a:tblGrid>
                <a:gridCol w="4214520"/>
              </a:tblGrid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7c4b3b"/>
                          </a:solidFill>
                          <a:latin typeface="Times New Roman"/>
                          <a:ea typeface="Calibri"/>
                        </a:rPr>
                        <a:t>Избавиться от кор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1357200" y="1785960"/>
                <a:ext cx="2071800" cy="420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х</m:t>
                            </m:r>
                          </m:e>
                        </m:rad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ad>
                          <m:deg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9</m:t>
                                    </m:r>
                                  </m:num>
                                  <m:den/>
                                </m:f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67" name=""/>
          <p:cNvGraphicFramePr/>
          <p:nvPr/>
        </p:nvGraphicFramePr>
        <p:xfrm>
          <a:off x="5429160" y="857160"/>
          <a:ext cx="3143520" cy="5337360"/>
        </p:xfrm>
        <a:graphic>
          <a:graphicData uri="http://schemas.openxmlformats.org/drawingml/2006/table">
            <a:tbl>
              <a:tblPr/>
              <a:tblGrid>
                <a:gridCol w="3143520"/>
              </a:tblGrid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7c4b3b"/>
                          </a:solidFill>
                          <a:latin typeface="Times New Roman"/>
                          <a:ea typeface="Calibri"/>
                        </a:rPr>
                        <a:t>Избавиться от отрицательного показа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8" name="Object 4"/>
              <p:cNvSpPr txBox="1"/>
              <p:nvPr/>
            </p:nvSpPr>
            <p:spPr>
              <a:xfrm>
                <a:off x="6143760" y="2357280"/>
                <a:ext cx="1500120" cy="371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285840" y="171360"/>
          <a:ext cx="8643960" cy="6629400"/>
        </p:xfrm>
        <a:graphic>
          <a:graphicData uri="http://schemas.openxmlformats.org/drawingml/2006/table">
            <a:tbl>
              <a:tblPr/>
              <a:tblGrid>
                <a:gridCol w="8643960"/>
              </a:tblGrid>
              <a:tr h="131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523227"/>
                          </a:solidFill>
                          <a:latin typeface="Times New Roman"/>
                          <a:ea typeface="Calibri"/>
                        </a:rPr>
                        <a:t>Тренажер</a:t>
                      </a:r>
                      <a:r>
                        <a:rPr b="1" lang="ru-RU" sz="2800" spc="-1" strike="noStrike">
                          <a:solidFill>
                            <a:srgbClr val="523227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7c4b3b"/>
                          </a:solidFill>
                          <a:latin typeface="Times New Roman"/>
                          <a:ea typeface="Calibri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7c4b3b"/>
                          </a:solidFill>
                          <a:latin typeface="Times New Roman"/>
                          <a:ea typeface="Calibri"/>
                        </a:rPr>
                        <a:t>Представить виде степени с рациональны показателе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3500280" y="1357200"/>
                <a:ext cx="2293920" cy="599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у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/>
                            </m:f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4:15:30Z</dcterms:created>
  <dc:creator>User</dc:creator>
  <dc:description>http://aida.ucoz.ru</dc:description>
  <dc:language>en-US</dc:language>
  <cp:lastModifiedBy>Ия</cp:lastModifiedBy>
  <dcterms:modified xsi:type="dcterms:W3CDTF">2014-05-25T15:25:38Z</dcterms:modified>
  <cp:revision>119</cp:revision>
  <dc:subject/>
  <dc:title>Вводное повторение</dc:title>
</cp:coreProperties>
</file>