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%D0%BE%20%D0%BD%D0%B5%D1%82.wav" ContentType="audio/x-wav"/>
  <Override PartName="/ppt/media/%D0%94%D0%90.wav" ContentType="audio/x-wav"/>
  <Override PartName="/ppt/media/image6.gif" ContentType="image/gif"/>
  <Override PartName="/ppt/media/image19.jpeg" ContentType="image/jpeg"/>
  <Override PartName="/ppt/media/image1.gif" ContentType="image/gif"/>
  <Override PartName="/ppt/media/image16.jpeg" ContentType="image/jpeg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93D-8442-4324-9449-A2360D22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5B8-77A5-4A76-ABF9-FEBF0429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5E1-2A8A-4E2C-8A3C-21128067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CBD-FC69-4212-8D7F-D7E42E51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5ED-700A-4CA2-A834-C76C87F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228-F15D-40DD-8FFE-347EFBC4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564-A9F3-4A13-8323-C2810B16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F53-7106-479A-8E9E-CF4AE53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EC8-1E20-441F-BD85-E1685344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EE4-14DC-4C41-A8C1-8869376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11C-EDDD-4479-9328-F8766C0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777-8BC9-48DC-9DB2-61773DD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BB6-3A95-4C80-8026-B17FAB3BA9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.xml"/><Relationship Id="rId3" Type="http://schemas.openxmlformats.org/officeDocument/2006/relationships/slide" Target="slide83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" Target="slide24.xml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" Target="slide64.xml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" Target="slide44.xml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.xml"/><Relationship Id="rId3" Type="http://schemas.openxmlformats.org/officeDocument/2006/relationships/slide" Target="slide83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47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52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53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57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58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62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63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67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68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72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/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0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2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4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4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Sony</cp:lastModifiedBy>
  <dcterms:modified xsi:type="dcterms:W3CDTF">2013-12-13T17:55:07Z</dcterms:modified>
  <cp:revision>45</cp:revision>
  <dc:subject/>
  <dc:title>Прочитай внимательно и приготовься ответить на вопрос</dc:title>
</cp:coreProperties>
</file>