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%D0%BE%20%D0%BD%D0%B5%D1%82.wav" ContentType="audio/x-wav"/>
  <Override PartName="/ppt/media/%D0%94%D0%90.wav" ContentType="audio/x-wav"/>
  <Override PartName="/ppt/media/image6.gif" ContentType="image/gif"/>
  <Override PartName="/ppt/media/image19.jpeg" ContentType="image/jpeg"/>
  <Override PartName="/ppt/media/image1.gif" ContentType="image/gif"/>
  <Override PartName="/ppt/media/image16.jpeg" ContentType="image/jpeg"/>
  <Override PartName="/ppt/media/image18.png" ContentType="image/png"/>
  <Override PartName="/ppt/media/image15.gif" ContentType="image/gif"/>
  <Override PartName="/ppt/media/image14.gif" ContentType="image/gif"/>
  <Override PartName="/ppt/media/image17.png" ContentType="image/png"/>
  <Override PartName="/ppt/media/image2.gif" ContentType="image/gif"/>
  <Override PartName="/ppt/media/image3.png" ContentType="image/png"/>
  <Override PartName="/ppt/media/image4.gif" ContentType="image/gif"/>
  <Override PartName="/ppt/media/image5.gif" ContentType="image/gif"/>
  <Override PartName="/ppt/media/image13.png" ContentType="image/png"/>
  <Override PartName="/ppt/media/image10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8DF-3C4D-4781-BDF4-BD86C6FA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2277-F120-4B63-8AB1-A4B1F5E4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06EF-5007-45CD-8CEF-DA4F4FF4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FE4-1046-4937-8F84-F412F0C8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E21-98BD-4710-B30E-3EC78727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D36E-CE3C-4599-9644-3D0F84D5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423F-FECE-400E-BF7C-85EAF214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8F91-1544-441A-BD67-E8C12E56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DF3-5CCB-48E3-9AA8-F7CAD1F2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35A9-4089-47B4-A1F8-F9829042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A5BA-3770-47D9-BA15-FE67F2BA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6DCF-49E2-43A3-BDB1-5C13FAC1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F324-CD23-4D54-80F6-F57784AB07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1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1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2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3.xml"/><Relationship Id="rId3" Type="http://schemas.openxmlformats.org/officeDocument/2006/relationships/slide" Target="slide83.xml"/><Relationship Id="rId4" Type="http://schemas.openxmlformats.org/officeDocument/2006/relationships/audio" Target="../media/&#1044;&#1040;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2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" Target="slide24.xml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" Target="slide64.xml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" Target="slide44.xml"/><Relationship Id="rId11" Type="http://schemas.openxmlformats.org/officeDocument/2006/relationships/image" Target="../media/image10.gif"/><Relationship Id="rId12" Type="http://schemas.openxmlformats.org/officeDocument/2006/relationships/image" Target="../media/image11.gif"/><Relationship Id="rId13" Type="http://schemas.openxmlformats.org/officeDocument/2006/relationships/image" Target="../media/image12.gif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33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3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37.xml"/><Relationship Id="rId3" Type="http://schemas.openxmlformats.org/officeDocument/2006/relationships/slide" Target="slide38.xml"/><Relationship Id="rId4" Type="http://schemas.openxmlformats.org/officeDocument/2006/relationships/slide" Target="slide37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3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4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3.xml"/><Relationship Id="rId3" Type="http://schemas.openxmlformats.org/officeDocument/2006/relationships/slide" Target="slide83.xml"/><Relationship Id="rId4" Type="http://schemas.openxmlformats.org/officeDocument/2006/relationships/audio" Target="../media/&#1044;&#1040;.wav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48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4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52.xml"/><Relationship Id="rId3" Type="http://schemas.openxmlformats.org/officeDocument/2006/relationships/slide" Target="slide53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5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57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5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63.xml"/><Relationship Id="rId3" Type="http://schemas.openxmlformats.org/officeDocument/2006/relationships/slide" Target="slide62.xml"/><Relationship Id="rId4" Type="http://schemas.openxmlformats.org/officeDocument/2006/relationships/slide" Target="slide62.xml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Picture 4" descr="6484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WordArt 5"/>
            <p:cNvSpPr txBox="1"/>
            <p:nvPr/>
          </p:nvSpPr>
          <p:spPr>
            <a:xfrm rot="687000">
              <a:off x="1186920" y="1267920"/>
              <a:ext cx="6837480" cy="294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9966"/>
                  </a:solidFill>
                  <a:latin typeface="Arial"/>
                </a:rPr>
                <a:t>Тренажёр </a:t>
              </a:r>
              <a:endParaRPr b="0" lang="en-US" sz="1800" spc="1" strike="noStrike">
                <a:ln w="0">
                  <a:noFill/>
                </a:ln>
                <a:solidFill>
                  <a:srgbClr val="339966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9966"/>
                  </a:solidFill>
                  <a:latin typeface="Arial"/>
                </a:rPr>
                <a:t>"Работаем над техникой чтения"</a:t>
              </a:r>
              <a:endParaRPr b="0" lang="en-US" sz="1800" spc="1" strike="noStrike">
                <a:ln w="0">
                  <a:noFill/>
                </a:ln>
                <a:solidFill>
                  <a:srgbClr val="339966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1640" y="1844640"/>
            <a:ext cx="617364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исую туман. Вот он: белый, как молоко. Ничего на рисунке не вид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8">
            <a:hlinkClick r:id="rId2" action="ppaction://hlinksldjump"/>
          </p:cNvPr>
          <p:cNvSpPr/>
          <p:nvPr/>
        </p:nvSpPr>
        <p:spPr>
          <a:xfrm>
            <a:off x="3564000" y="328464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иню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>
            <a:hlinkClick r:id="rId3" action="ppaction://hlinksldjump"/>
          </p:cNvPr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Бел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>
            <a:hlinkClick r:id="rId4" action="ppaction://hlinksldjump"/>
          </p:cNvPr>
          <p:cNvSpPr/>
          <p:nvPr/>
        </p:nvSpPr>
        <p:spPr>
          <a:xfrm>
            <a:off x="3564000" y="177336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ер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акую краску художник взял для рисова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>
            <a:hlinkClick r:id="" action="ppaction://hlinkshowjump?jump=nextslide"/>
          </p:cNvPr>
          <p:cNvSpPr/>
          <p:nvPr/>
        </p:nvSpPr>
        <p:spPr>
          <a:xfrm>
            <a:off x="7308720" y="5373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500" fill="hold"/>
                                        <p:tgtEl>
                                          <p:spTgt spid="11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18920" y="1844640"/>
            <a:ext cx="559908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Настя после школы. Одна мама была дома. Настя села у стола, взяла книжку и прочла сказку. Мама была р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8"/>
          <p:cNvSpPr/>
          <p:nvPr/>
        </p:nvSpPr>
        <p:spPr>
          <a:xfrm>
            <a:off x="250920" y="333360"/>
            <a:ext cx="864216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ем порадовала дочка ма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>
            <a:hlinkClick r:id="rId2" action="ppaction://hlinksldjump"/>
          </p:cNvPr>
          <p:cNvSpPr/>
          <p:nvPr/>
        </p:nvSpPr>
        <p:spPr>
          <a:xfrm>
            <a:off x="2627280" y="3284640"/>
            <a:ext cx="5402160" cy="93636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рочитала сказ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>
            <a:hlinkClick r:id="rId3" action="ppaction://hlinksldjump"/>
          </p:cNvPr>
          <p:cNvSpPr/>
          <p:nvPr/>
        </p:nvSpPr>
        <p:spPr>
          <a:xfrm>
            <a:off x="2627280" y="4797360"/>
            <a:ext cx="5402160" cy="93672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омогла помыть пос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>
            <a:hlinkClick r:id="rId4" action="ppaction://hlinksldjump"/>
          </p:cNvPr>
          <p:cNvSpPr/>
          <p:nvPr/>
        </p:nvSpPr>
        <p:spPr>
          <a:xfrm>
            <a:off x="2627280" y="1773360"/>
            <a:ext cx="5402160" cy="93636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Вовремя пришла до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>
            <a:hlinkClick r:id="" action="ppaction://hlinkshowjump?jump=nextslide"/>
          </p:cNvPr>
          <p:cNvSpPr/>
          <p:nvPr/>
        </p:nvSpPr>
        <p:spPr>
          <a:xfrm>
            <a:off x="7308720" y="5373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500" fill="hold"/>
                                        <p:tgtEl>
                                          <p:spTgt spid="13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500" fill="hold"/>
                                        <p:tgtEl>
                                          <p:spTgt spid="12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10"/>
          <p:cNvSpPr/>
          <p:nvPr/>
        </p:nvSpPr>
        <p:spPr>
          <a:xfrm flipV="1">
            <a:off x="179280" y="2708280"/>
            <a:ext cx="8964720" cy="14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395280" y="1484280"/>
            <a:ext cx="87487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Monotype Corsiva"/>
              </a:rPr>
              <a:t>Прочитай внимательн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Monotype Corsiva"/>
              </a:rPr>
              <a:t>приготовься ответи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Monotype Corsiva"/>
              </a:rPr>
              <a:t>на вопросы</a:t>
            </a:r>
            <a:r>
              <a:rPr b="0" i="1" lang="ru-RU" sz="6600" spc="-1" strike="noStrike">
                <a:solidFill>
                  <a:srgbClr val="009900"/>
                </a:solidFill>
                <a:latin typeface="Monotype Corsiva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AG00218_"/>
          <p:cNvPicPr/>
          <p:nvPr/>
        </p:nvPicPr>
        <p:blipFill>
          <a:blip r:embed="rId1"/>
          <a:stretch/>
        </p:blipFill>
        <p:spPr>
          <a:xfrm rot="20589000">
            <a:off x="611280" y="1628640"/>
            <a:ext cx="2520720" cy="1928880"/>
          </a:xfrm>
          <a:prstGeom prst="rect">
            <a:avLst/>
          </a:prstGeom>
          <a:ln w="0">
            <a:noFill/>
          </a:ln>
        </p:spPr>
      </p:pic>
      <p:sp>
        <p:nvSpPr>
          <p:cNvPr id="47" name="Line 12"/>
          <p:cNvSpPr/>
          <p:nvPr/>
        </p:nvSpPr>
        <p:spPr>
          <a:xfrm flipV="1">
            <a:off x="179280" y="3573000"/>
            <a:ext cx="8964720" cy="18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1"/>
          <p:cNvSpPr/>
          <p:nvPr/>
        </p:nvSpPr>
        <p:spPr>
          <a:xfrm flipV="1">
            <a:off x="179280" y="4653000"/>
            <a:ext cx="8964720" cy="14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чит"/>
          <p:cNvPicPr/>
          <p:nvPr/>
        </p:nvPicPr>
        <p:blipFill>
          <a:blip r:embed="rId2"/>
          <a:stretch/>
        </p:blipFill>
        <p:spPr>
          <a:xfrm>
            <a:off x="6443640" y="4965840"/>
            <a:ext cx="2160720" cy="169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092 C 0.38906 -0.01295 0.7783 -0.02497 0.75555 -0.00485 C 0.73281 0.01526 -0.12847 0.09804 -0.13646 0.12023 C -0.14445 0.14243 0.70798 0.10266 0.70798 0.12833 C 0.70798 0.15376 -0.06719 0.24809 -0.13646 0.27399 C -0.20573 0.30012 0.21979 0.28231 0.29201 0.28416 E">
                                      <p:cBhvr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1773360"/>
            <a:ext cx="617364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я играл у моря. Он строил дом из песка. Песок надо брать мокрый, тогда дом будет хорош. Ура! Дом готов и краси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5">
            <a:hlinkClick r:id="" action="ppaction://hlinkshowjump?jump=nextslide"/>
          </p:cNvPr>
          <p:cNvSpPr/>
          <p:nvPr/>
        </p:nvSpPr>
        <p:spPr>
          <a:xfrm>
            <a:off x="4143240" y="621504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648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9"/>
          <p:cNvSpPr/>
          <p:nvPr/>
        </p:nvSpPr>
        <p:spPr>
          <a:xfrm>
            <a:off x="826920" y="260280"/>
            <a:ext cx="716472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то играл у мор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0">
            <a:hlinkClick r:id="rId3" action="ppaction://hlinksldjump"/>
          </p:cNvPr>
          <p:cNvSpPr/>
          <p:nvPr/>
        </p:nvSpPr>
        <p:spPr>
          <a:xfrm>
            <a:off x="4500720" y="3284640"/>
            <a:ext cx="3528720" cy="936360"/>
          </a:xfrm>
          <a:custGeom>
            <a:avLst/>
            <a:gdLst>
              <a:gd name="textAreaLeft" fmla="*/ 0 w 3528720"/>
              <a:gd name="textAreaRight" fmla="*/ 3529080 w 3528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Ми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1">
            <a:hlinkClick r:id="rId4" action="ppaction://hlinksldjump"/>
          </p:cNvPr>
          <p:cNvSpPr/>
          <p:nvPr/>
        </p:nvSpPr>
        <p:spPr>
          <a:xfrm>
            <a:off x="4572000" y="4797360"/>
            <a:ext cx="3457440" cy="936720"/>
          </a:xfrm>
          <a:custGeom>
            <a:avLst/>
            <a:gdLst>
              <a:gd name="textAreaLeft" fmla="*/ 0 w 3457440"/>
              <a:gd name="textAreaRight" fmla="*/ 3457800 w 3457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а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2">
            <a:hlinkClick r:id="rId5" action="ppaction://hlinksldjump"/>
          </p:cNvPr>
          <p:cNvSpPr/>
          <p:nvPr/>
        </p:nvSpPr>
        <p:spPr>
          <a:xfrm>
            <a:off x="4500720" y="1773360"/>
            <a:ext cx="3528720" cy="936360"/>
          </a:xfrm>
          <a:custGeom>
            <a:avLst/>
            <a:gdLst>
              <a:gd name="textAreaLeft" fmla="*/ 0 w 3528720"/>
              <a:gd name="textAreaRight" fmla="*/ 3529080 w 3528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Ви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6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G00315_"/>
          <p:cNvPicPr/>
          <p:nvPr/>
        </p:nvPicPr>
        <p:blipFill>
          <a:blip r:embed="rId1"/>
          <a:stretch/>
        </p:blipFill>
        <p:spPr>
          <a:xfrm>
            <a:off x="0" y="0"/>
            <a:ext cx="3198960" cy="36100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>
            <a:hlinkClick r:id="rId2" action="ppaction://hlinksldjump"/>
          </p:cNvPr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rId3" action="ppaction://hlinksldjump"/>
          </p:cNvPr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500" fill="hold"/>
                                        <p:tgtEl>
                                          <p:spTgt spid="15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15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500" fill="hold"/>
                                        <p:tgtEl>
                                          <p:spTgt spid="15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500" fill="hold"/>
                                        <p:tgtEl>
                                          <p:spTgt spid="15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1557360"/>
            <a:ext cx="631836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к сажал яблони. Ему сказали: «Зачем тебе эти яблони? Долго ждать с этих яблонь плода, и ты не съешь с них яблочка». Старик сказал: «Я не съем, другие съедят, мне спасибо скажут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>
            <a:hlinkClick r:id="" action="ppaction://hlinkshowjump?jump=nextslide"/>
          </p:cNvPr>
          <p:cNvSpPr/>
          <p:nvPr/>
        </p:nvSpPr>
        <p:spPr>
          <a:xfrm>
            <a:off x="4143240" y="621504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468360" y="404640"/>
            <a:ext cx="8316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Для кого старик сажал яблон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">
            <a:hlinkClick r:id="rId2" action="ppaction://hlinksldjump"/>
          </p:cNvPr>
          <p:cNvSpPr/>
          <p:nvPr/>
        </p:nvSpPr>
        <p:spPr>
          <a:xfrm>
            <a:off x="3635280" y="328464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Для гусен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>
            <a:hlinkClick r:id="rId3" action="ppaction://hlinksldjump"/>
          </p:cNvPr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Для друг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>
            <a:hlinkClick r:id="rId4" action="ppaction://hlinksldjump"/>
          </p:cNvPr>
          <p:cNvSpPr/>
          <p:nvPr/>
        </p:nvSpPr>
        <p:spPr>
          <a:xfrm>
            <a:off x="3564000" y="177336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Для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3"/>
          <p:cNvSpPr/>
          <p:nvPr/>
        </p:nvSpPr>
        <p:spPr>
          <a:xfrm>
            <a:off x="3857760" y="2643120"/>
            <a:ext cx="1368360" cy="12970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"/>
          <p:cNvSpPr/>
          <p:nvPr/>
        </p:nvSpPr>
        <p:spPr>
          <a:xfrm>
            <a:off x="3857760" y="2643120"/>
            <a:ext cx="1368360" cy="12956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"/>
          <p:cNvSpPr/>
          <p:nvPr/>
        </p:nvSpPr>
        <p:spPr>
          <a:xfrm>
            <a:off x="3857760" y="2643120"/>
            <a:ext cx="1366560" cy="129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17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500" fill="hold"/>
                                        <p:tgtEl>
                                          <p:spTgt spid="17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500" fill="hold"/>
                                        <p:tgtEl>
                                          <p:spTgt spid="17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24000" y="126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80"/>
                </a:solidFill>
                <a:latin typeface="Times New Roman"/>
              </a:rPr>
              <a:t>Выбери доступный тебе  уровень и читай всл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3"/>
          <p:cNvGrpSpPr/>
          <p:nvPr/>
        </p:nvGrpSpPr>
        <p:grpSpPr>
          <a:xfrm>
            <a:off x="0" y="4083120"/>
            <a:ext cx="2543040" cy="2774880"/>
            <a:chOff x="0" y="4083120"/>
            <a:chExt cx="2543040" cy="2774880"/>
          </a:xfrm>
        </p:grpSpPr>
        <p:grpSp>
          <p:nvGrpSpPr>
            <p:cNvPr id="52" name="Group 18"/>
            <p:cNvGrpSpPr/>
            <p:nvPr/>
          </p:nvGrpSpPr>
          <p:grpSpPr>
            <a:xfrm>
              <a:off x="0" y="4083120"/>
              <a:ext cx="2543040" cy="2774880"/>
              <a:chOff x="0" y="4083120"/>
              <a:chExt cx="2543040" cy="2774880"/>
            </a:xfrm>
          </p:grpSpPr>
          <p:pic>
            <p:nvPicPr>
              <p:cNvPr id="53" name="Picture 5" descr="ar5">
                <a:hlinkClick r:id="rId1" action="ppaction://hlinksldjump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0" y="4083120"/>
                <a:ext cx="2543040" cy="277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6" descr="J0095665"/>
              <p:cNvPicPr/>
              <p:nvPr/>
            </p:nvPicPr>
            <p:blipFill>
              <a:blip r:embed="rId3"/>
              <a:stretch/>
            </p:blipFill>
            <p:spPr>
              <a:xfrm>
                <a:off x="1763640" y="5805360"/>
                <a:ext cx="37008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" name="Rectangle 19"/>
            <p:cNvSpPr/>
            <p:nvPr/>
          </p:nvSpPr>
          <p:spPr>
            <a:xfrm>
              <a:off x="250920" y="587700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до 2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24"/>
          <p:cNvGrpSpPr/>
          <p:nvPr/>
        </p:nvGrpSpPr>
        <p:grpSpPr>
          <a:xfrm>
            <a:off x="2195640" y="3213000"/>
            <a:ext cx="2444760" cy="2665440"/>
            <a:chOff x="2195640" y="3213000"/>
            <a:chExt cx="2444760" cy="2665440"/>
          </a:xfrm>
        </p:grpSpPr>
        <p:grpSp>
          <p:nvGrpSpPr>
            <p:cNvPr id="57" name="Group 14"/>
            <p:cNvGrpSpPr/>
            <p:nvPr/>
          </p:nvGrpSpPr>
          <p:grpSpPr>
            <a:xfrm>
              <a:off x="2195640" y="3213000"/>
              <a:ext cx="2444760" cy="2665440"/>
              <a:chOff x="2195640" y="3213000"/>
              <a:chExt cx="2444760" cy="2665440"/>
            </a:xfrm>
          </p:grpSpPr>
          <p:pic>
            <p:nvPicPr>
              <p:cNvPr id="58" name="Picture 10" descr="ar2">
                <a:hlinkClick r:id="rId4" action="ppaction://hlinksldjump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2195640" y="3213000"/>
                <a:ext cx="2444760" cy="266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7" descr="J0095666"/>
              <p:cNvPicPr/>
              <p:nvPr/>
            </p:nvPicPr>
            <p:blipFill>
              <a:blip r:embed="rId6"/>
              <a:stretch/>
            </p:blipFill>
            <p:spPr>
              <a:xfrm>
                <a:off x="3778560" y="4797360"/>
                <a:ext cx="51408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" name="Rectangle 20"/>
            <p:cNvSpPr/>
            <p:nvPr/>
          </p:nvSpPr>
          <p:spPr>
            <a:xfrm>
              <a:off x="2268360" y="4797360"/>
              <a:ext cx="1729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до 4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6"/>
          <p:cNvGrpSpPr/>
          <p:nvPr/>
        </p:nvGrpSpPr>
        <p:grpSpPr>
          <a:xfrm>
            <a:off x="6732720" y="1844640"/>
            <a:ext cx="2410920" cy="2207880"/>
            <a:chOff x="6732720" y="1844640"/>
            <a:chExt cx="2410920" cy="2207880"/>
          </a:xfrm>
        </p:grpSpPr>
        <p:grpSp>
          <p:nvGrpSpPr>
            <p:cNvPr id="62" name="Group 16"/>
            <p:cNvGrpSpPr/>
            <p:nvPr/>
          </p:nvGrpSpPr>
          <p:grpSpPr>
            <a:xfrm>
              <a:off x="6840360" y="1844640"/>
              <a:ext cx="2303280" cy="2207880"/>
              <a:chOff x="6840360" y="1844640"/>
              <a:chExt cx="2303280" cy="2207880"/>
            </a:xfrm>
          </p:grpSpPr>
          <p:pic>
            <p:nvPicPr>
              <p:cNvPr id="63" name="Picture 12" descr="ar3">
                <a:hlinkClick r:id="rId7" action="ppaction://hlinksldjump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6840360" y="1844640"/>
                <a:ext cx="2303280" cy="220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9" descr="J0095668"/>
              <p:cNvPicPr/>
              <p:nvPr/>
            </p:nvPicPr>
            <p:blipFill>
              <a:blip r:embed="rId9"/>
              <a:stretch/>
            </p:blipFill>
            <p:spPr>
              <a:xfrm>
                <a:off x="8280360" y="3189240"/>
                <a:ext cx="441000" cy="500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Rectangle 21"/>
            <p:cNvSpPr/>
            <p:nvPr/>
          </p:nvSpPr>
          <p:spPr>
            <a:xfrm>
              <a:off x="6732720" y="321300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до 10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5"/>
          <p:cNvGrpSpPr/>
          <p:nvPr/>
        </p:nvGrpSpPr>
        <p:grpSpPr>
          <a:xfrm>
            <a:off x="4500720" y="2349360"/>
            <a:ext cx="2374920" cy="2592360"/>
            <a:chOff x="4500720" y="2349360"/>
            <a:chExt cx="2374920" cy="2592360"/>
          </a:xfrm>
        </p:grpSpPr>
        <p:grpSp>
          <p:nvGrpSpPr>
            <p:cNvPr id="67" name="Group 15"/>
            <p:cNvGrpSpPr/>
            <p:nvPr/>
          </p:nvGrpSpPr>
          <p:grpSpPr>
            <a:xfrm>
              <a:off x="4500720" y="2349360"/>
              <a:ext cx="2374920" cy="2592360"/>
              <a:chOff x="4500720" y="2349360"/>
              <a:chExt cx="2374920" cy="2592360"/>
            </a:xfrm>
          </p:grpSpPr>
          <p:pic>
            <p:nvPicPr>
              <p:cNvPr id="68" name="Picture 11" descr="ar6">
                <a:hlinkClick r:id="rId10" action="ppaction://hlinksldjump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4500720" y="2349360"/>
                <a:ext cx="2374920" cy="25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Picture 8" descr="J0095667"/>
              <p:cNvPicPr/>
              <p:nvPr/>
            </p:nvPicPr>
            <p:blipFill>
              <a:blip r:embed="rId12"/>
              <a:stretch/>
            </p:blipFill>
            <p:spPr>
              <a:xfrm>
                <a:off x="6012000" y="3862440"/>
                <a:ext cx="438120" cy="523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" name="Rectangle 22"/>
            <p:cNvSpPr/>
            <p:nvPr/>
          </p:nvSpPr>
          <p:spPr>
            <a:xfrm>
              <a:off x="4572000" y="393372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до 9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9"/>
          <p:cNvGrpSpPr/>
          <p:nvPr/>
        </p:nvGrpSpPr>
        <p:grpSpPr>
          <a:xfrm>
            <a:off x="395280" y="333360"/>
            <a:ext cx="8424720" cy="720720"/>
            <a:chOff x="395280" y="333360"/>
            <a:chExt cx="8424720" cy="720720"/>
          </a:xfrm>
        </p:grpSpPr>
        <p:pic>
          <p:nvPicPr>
            <p:cNvPr id="72" name="Picture 27" descr="AG00346_"/>
            <p:cNvPicPr/>
            <p:nvPr/>
          </p:nvPicPr>
          <p:blipFill>
            <a:blip r:embed="rId13"/>
            <a:stretch/>
          </p:blipFill>
          <p:spPr>
            <a:xfrm>
              <a:off x="395280" y="333360"/>
              <a:ext cx="84247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Rectangle 28"/>
            <p:cNvSpPr/>
            <p:nvPr/>
          </p:nvSpPr>
          <p:spPr>
            <a:xfrm>
              <a:off x="3108600" y="487800"/>
              <a:ext cx="553284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00"/>
                  </a:solidFill>
                  <a:latin typeface="Times New Roman"/>
                </a:rPr>
                <a:t>Для чтения текста отводится одна мину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63280" y="1628640"/>
            <a:ext cx="588636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и медведь добыли мясо и стали за него драться. Медведь не хотел уступить, и лев не уступал. Они так долго бились, что ослабели оба и легли. Лиса увидала их мясо, подхватила его и убеж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1258920" y="333360"/>
            <a:ext cx="665964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ому досталось мяс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>
            <a:hlinkClick r:id="rId2" action="ppaction://hlinksldjump"/>
          </p:cNvPr>
          <p:cNvSpPr/>
          <p:nvPr/>
        </p:nvSpPr>
        <p:spPr>
          <a:xfrm>
            <a:off x="4643280" y="3284640"/>
            <a:ext cx="3386160" cy="93636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и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>
            <a:hlinkClick r:id="rId3" action="ppaction://hlinksldjump"/>
          </p:cNvPr>
          <p:cNvSpPr/>
          <p:nvPr/>
        </p:nvSpPr>
        <p:spPr>
          <a:xfrm>
            <a:off x="4643280" y="4797360"/>
            <a:ext cx="3386160" cy="93672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Медвед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8">
            <a:hlinkClick r:id="rId4" action="ppaction://hlinksldjump"/>
          </p:cNvPr>
          <p:cNvSpPr/>
          <p:nvPr/>
        </p:nvSpPr>
        <p:spPr>
          <a:xfrm>
            <a:off x="4643280" y="1773360"/>
            <a:ext cx="3386160" cy="93636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ь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500" fill="hold"/>
                                        <p:tgtEl>
                                          <p:spTgt spid="19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500" fill="hold"/>
                                        <p:tgtEl>
                                          <p:spTgt spid="19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500" fill="hold"/>
                                        <p:tgtEl>
                                          <p:spTgt spid="18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500" fill="hold"/>
                                        <p:tgtEl>
                                          <p:spTgt spid="18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920" y="1700280"/>
            <a:ext cx="716760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я накатался на саночках с ледяной горы и на коньках по замёрзшей реке, прибежал домой румяный, весёлый и говорит отцу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ж как весело зимой!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бы хотел, чтобы всё зима была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пиши твоё желание в мою карманную книжку, - сказал отец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я записа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179280" y="333360"/>
            <a:ext cx="867564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акое желание мальчик высказал отц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олучить новые са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Чтобы всегда зима бы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Чтобы всегда было так же вес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500" fill="hold"/>
                                        <p:tgtEl>
                                          <p:spTgt spid="20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500" fill="hold"/>
                                        <p:tgtEl>
                                          <p:spTgt spid="20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500" fill="hold"/>
                                        <p:tgtEl>
                                          <p:spTgt spid="20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500" fill="hold"/>
                                        <p:tgtEl>
                                          <p:spTgt spid="20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500" fill="hold"/>
                                        <p:tgtEl>
                                          <p:spTgt spid="7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500" fill="hold"/>
                                        <p:tgtEl>
                                          <p:spTgt spid="7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500" fill="hold"/>
                                        <p:tgtEl>
                                          <p:spTgt spid="7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500" fill="hold"/>
                                        <p:tgtEl>
                                          <p:spTgt spid="7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920" y="1700280"/>
            <a:ext cx="696600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мышь в гости к лягушке. Лягушка встретила мышь на берегу и стала её звать к себе в хоромы под воду. Мышь полезла да воды хлебнула и насилу жива вон вылезла. «Никогда, - сказала она, - к чужим людям в гости ходить не буду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решила мышь, когда выбралась на берег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Научиться пла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Не ходить в гости к лягуш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Не ходить к чужим в г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AG00315_"/>
          <p:cNvPicPr/>
          <p:nvPr/>
        </p:nvPicPr>
        <p:blipFill>
          <a:blip r:embed="rId1"/>
          <a:stretch/>
        </p:blipFill>
        <p:spPr>
          <a:xfrm>
            <a:off x="684360" y="18900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>
            <a:hlinkClick r:id="rId2" action="ppaction://hlinksldjump"/>
          </p:cNvPr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>
            <a:hlinkClick r:id="rId3" action="ppaction://hlinksldjump"/>
          </p:cNvPr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500" fill="hold"/>
                                        <p:tgtEl>
                                          <p:spTgt spid="23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500" fill="hold"/>
                                        <p:tgtEl>
                                          <p:spTgt spid="23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500" fill="hold"/>
                                        <p:tgtEl>
                                          <p:spTgt spid="22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500" fill="hold"/>
                                        <p:tgtEl>
                                          <p:spTgt spid="22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47280" y="1071720"/>
            <a:ext cx="6193080" cy="43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я с дедушкой были большими друзьями и любили задавать друг другу разные вопрос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сил как-то дедушка внук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для чего, Петенька, людям руки нужн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бы в мячик играть, - ответил Пет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ещё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бы кошку глади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вечер отвечал Петя дедушке. Правильно отвечал. Только он маленький был и обо всех других людях по своим рукам судил, а не по трудовым, рабочим рука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8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395280" y="260280"/>
            <a:ext cx="810108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ему хотел научить дедушка вну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">
            <a:hlinkClick r:id="rId2" action="ppaction://hlinksldjump"/>
          </p:cNvPr>
          <p:cNvSpPr/>
          <p:nvPr/>
        </p:nvSpPr>
        <p:spPr>
          <a:xfrm>
            <a:off x="4284720" y="3284640"/>
            <a:ext cx="3744720" cy="93636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Трудолюб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1">
            <a:hlinkClick r:id="rId3" action="ppaction://hlinksldjump"/>
          </p:cNvPr>
          <p:cNvSpPr/>
          <p:nvPr/>
        </p:nvSpPr>
        <p:spPr>
          <a:xfrm>
            <a:off x="4284720" y="4797360"/>
            <a:ext cx="3744720" cy="93672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Аккура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2">
            <a:hlinkClick r:id="rId4" action="ppaction://hlinksldjump"/>
          </p:cNvPr>
          <p:cNvSpPr/>
          <p:nvPr/>
        </p:nvSpPr>
        <p:spPr>
          <a:xfrm>
            <a:off x="4284720" y="1773360"/>
            <a:ext cx="3744720" cy="93636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Терп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500" fill="hold"/>
                                        <p:tgtEl>
                                          <p:spTgt spid="24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500" fill="hold"/>
                                        <p:tgtEl>
                                          <p:spTgt spid="24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8" dur="500" fill="hold"/>
                                        <p:tgtEl>
                                          <p:spTgt spid="24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500" fill="hold"/>
                                        <p:tgtEl>
                                          <p:spTgt spid="24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8560" y="2349000"/>
            <a:ext cx="576108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орву ромашку, колокольчик, василёк. Букет подарю маме. Она будет р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71280" y="981000"/>
            <a:ext cx="7056360" cy="47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ираешься через ельник, а молодые ёлочки колю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трогай нас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умаешь, тихонечко заде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 тихонько не задевай. Мы свою одёжку бережё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 что за одёжка у вас такая особенна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олки наши  зелёные – не листья. Не меняются каждое лет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к что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т выросла свеженькая еловая лапка, а иголки на ней сменятся только через семь ле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, это не скор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т и приходится береч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5"/>
          <p:cNvSpPr/>
          <p:nvPr/>
        </p:nvSpPr>
        <p:spPr>
          <a:xfrm>
            <a:off x="468360" y="260280"/>
            <a:ext cx="838836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Почему ёлочки берегут свою одеж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Она сменится только л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Она сменится только через семь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Она на всю жизнь од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500" fill="hold"/>
                                        <p:tgtEl>
                                          <p:spTgt spid="26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9" dur="500" fill="hold"/>
                                        <p:tgtEl>
                                          <p:spTgt spid="26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5" dur="500" fill="hold"/>
                                        <p:tgtEl>
                                          <p:spTgt spid="26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500" fill="hold"/>
                                        <p:tgtEl>
                                          <p:spTgt spid="26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920" y="1268280"/>
            <a:ext cx="7129440" cy="436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е детей, брат и сестра, отправились в школу. Они должны были проходить мимо тенистой рощ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ешь ли что, - сказал брат сестре. – В школу мы ещё успеем, а в роще должно быть очень весело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е понравилось предложение брата. Дети бросили книжки в траву и скрылись под кудрявыми берёзк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де всего дети увидели золотого жуч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играй же с н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меня нет времени, - отвечал жу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стало стыдно; они пошли в школу и хотя пришли поздно, но учились прилежн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5"/>
          <p:cNvSpPr/>
          <p:nvPr/>
        </p:nvSpPr>
        <p:spPr>
          <a:xfrm>
            <a:off x="1187280" y="260280"/>
            <a:ext cx="673272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ответил детям жу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6">
            <a:hlinkClick r:id="rId2" action="ppaction://hlinksldjump"/>
          </p:cNvPr>
          <p:cNvSpPr/>
          <p:nvPr/>
        </p:nvSpPr>
        <p:spPr>
          <a:xfrm>
            <a:off x="2340000" y="3284640"/>
            <a:ext cx="5689440" cy="93636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«Сначала сходите в школ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7">
            <a:hlinkClick r:id="rId3" action="ppaction://hlinksldjump"/>
          </p:cNvPr>
          <p:cNvSpPr/>
          <p:nvPr/>
        </p:nvSpPr>
        <p:spPr>
          <a:xfrm>
            <a:off x="2340000" y="4797360"/>
            <a:ext cx="5689440" cy="93672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«Я вас боюс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8">
            <a:hlinkClick r:id="rId4" action="ppaction://hlinksldjump"/>
          </p:cNvPr>
          <p:cNvSpPr/>
          <p:nvPr/>
        </p:nvSpPr>
        <p:spPr>
          <a:xfrm>
            <a:off x="2340000" y="1773360"/>
            <a:ext cx="5689440" cy="93636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«У меня нет време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0" dur="500" fill="hold"/>
                                        <p:tgtEl>
                                          <p:spTgt spid="28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6" dur="500" fill="hold"/>
                                        <p:tgtEl>
                                          <p:spTgt spid="28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500" fill="hold"/>
                                        <p:tgtEl>
                                          <p:spTgt spid="28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500" fill="hold"/>
                                        <p:tgtEl>
                                          <p:spTgt spid="28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Из каких цветов малыш решил собрать бук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8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Мак, колокольчик, рома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9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Ромашка, тюльпан, колоколь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0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Колокольчик, василёк, рома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81360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а лисичка по дорожке, нашла скалочку. Подняла и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шла дальше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в деревню и стучится в избу: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ук-стук!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то там?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 лисичка-сестричка! Пустите переночевать!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нас и без тебя тесно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 я не потесню вас: сама лягу на лавочку, хвостик под лавочку, скалочку под печку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о утром лисичка встала, сожгла свою скалочку, а потом спрашивает: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де же моя скалочка? Давайте мне за неё курочку!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ик – делать нечего! – отдал ей за скалочку курочку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ла лисичка курочку и пошла в другую деревню.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5"/>
          <p:cNvSpPr/>
          <p:nvPr/>
        </p:nvSpPr>
        <p:spPr>
          <a:xfrm>
            <a:off x="1403280" y="404640"/>
            <a:ext cx="6732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уда исчезла скалоч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">
            <a:hlinkClick r:id="rId2" action="ppaction://hlinksldjump"/>
          </p:cNvPr>
          <p:cNvSpPr/>
          <p:nvPr/>
        </p:nvSpPr>
        <p:spPr>
          <a:xfrm>
            <a:off x="2843280" y="3284640"/>
            <a:ext cx="5186160" cy="936360"/>
          </a:xfrm>
          <a:custGeom>
            <a:avLst/>
            <a:gdLst>
              <a:gd name="textAreaLeft" fmla="*/ 0 w 5186160"/>
              <a:gd name="textAreaRight" fmla="*/ 5186520 w 51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иса сожг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7">
            <a:hlinkClick r:id="rId3" action="ppaction://hlinksldjump"/>
          </p:cNvPr>
          <p:cNvSpPr/>
          <p:nvPr/>
        </p:nvSpPr>
        <p:spPr>
          <a:xfrm>
            <a:off x="2916360" y="4797360"/>
            <a:ext cx="5113080" cy="936720"/>
          </a:xfrm>
          <a:custGeom>
            <a:avLst/>
            <a:gdLst>
              <a:gd name="textAreaLeft" fmla="*/ 0 w 5113080"/>
              <a:gd name="textAreaRight" fmla="*/ 5113440 w 51130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иса перепрят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8">
            <a:hlinkClick r:id="rId4" action="ppaction://hlinksldjump"/>
          </p:cNvPr>
          <p:cNvSpPr/>
          <p:nvPr/>
        </p:nvSpPr>
        <p:spPr>
          <a:xfrm>
            <a:off x="2843280" y="1773360"/>
            <a:ext cx="5186160" cy="936360"/>
          </a:xfrm>
          <a:custGeom>
            <a:avLst/>
            <a:gdLst>
              <a:gd name="textAreaLeft" fmla="*/ 0 w 5186160"/>
              <a:gd name="textAreaRight" fmla="*/ 5186520 w 51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Хозяева перепрят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AG00315_"/>
          <p:cNvPicPr/>
          <p:nvPr/>
        </p:nvPicPr>
        <p:blipFill>
          <a:blip r:embed="rId1"/>
          <a:stretch/>
        </p:blipFill>
        <p:spPr>
          <a:xfrm>
            <a:off x="684360" y="18900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6"/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500" fill="hold"/>
                                        <p:tgtEl>
                                          <p:spTgt spid="30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3" dur="500" fill="hold"/>
                                        <p:tgtEl>
                                          <p:spTgt spid="30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9" dur="500" fill="hold"/>
                                        <p:tgtEl>
                                          <p:spTgt spid="30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500" fill="hold"/>
                                        <p:tgtEl>
                                          <p:spTgt spid="30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6978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долго ехали поездом через болотистые места, поросшие лиственницами и соснам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Особенно запомнился мне один вечер. Мы уже собирались ложиться спать, когда отец, выглянув из окна, позвал нас к себе. Я так и замер от изумления.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Всюду в лесу сияли, мерцали, вертелись какие-то летающие огоньки, похожие на падающие звёзды.     Казалось, мы попали в сказочную стран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Когда поезд промчался дальше и чудесное зрелище исчезло, отец объяснил нам, что это были не падающие звёзды, а светлячки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5"/>
          <p:cNvSpPr/>
          <p:nvPr/>
        </p:nvSpPr>
        <p:spPr>
          <a:xfrm>
            <a:off x="611280" y="333360"/>
            <a:ext cx="8028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за огоньки мелькали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3203640" y="3284640"/>
            <a:ext cx="4825800" cy="936360"/>
          </a:xfrm>
          <a:custGeom>
            <a:avLst/>
            <a:gdLst>
              <a:gd name="textAreaLeft" fmla="*/ 0 w 4825800"/>
              <a:gd name="textAreaRight" fmla="*/ 4826160 w 4825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Глаза 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3203640" y="4797360"/>
            <a:ext cx="4825800" cy="936720"/>
          </a:xfrm>
          <a:custGeom>
            <a:avLst/>
            <a:gdLst>
              <a:gd name="textAreaLeft" fmla="*/ 0 w 4825800"/>
              <a:gd name="textAreaRight" fmla="*/ 4826160 w 48258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ветля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8"/>
          <p:cNvSpPr/>
          <p:nvPr/>
        </p:nvSpPr>
        <p:spPr>
          <a:xfrm>
            <a:off x="3132000" y="1773360"/>
            <a:ext cx="4897440" cy="936360"/>
          </a:xfrm>
          <a:custGeom>
            <a:avLst/>
            <a:gdLst>
              <a:gd name="textAreaLeft" fmla="*/ 0 w 4897440"/>
              <a:gd name="textAreaRight" fmla="*/ 4897800 w 4897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Уличные фона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4" dur="500" fill="hold"/>
                                        <p:tgtEl>
                                          <p:spTgt spid="32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0" dur="500" fill="hold"/>
                                        <p:tgtEl>
                                          <p:spTgt spid="32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6" dur="500" fill="hold"/>
                                        <p:tgtEl>
                                          <p:spTgt spid="32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500" fill="hold"/>
                                        <p:tgtEl>
                                          <p:spTgt spid="32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67690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цветок в нашем лесу самый красивый, самый нежный, самый пахучий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нечно, я, ландыш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акие же у тебя цветки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Цветки у меня - будто колокольчики снежные на тонком стебле. Будто светятся в сумерках. А запах такой, что не надышишься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А что же сейчас висит у тебя на стебле, на месте беленьких колокольчиков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расные ягоды. Тоже красивые. Загляденье! Но ты их не трогай, не срывай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тчего же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А они ядовитые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ачем же тебе, нежному цветку, ядовитые ягоды? - Чтобы ты, сладкоежка, не съел!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появляется у ландыша вместо цвет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6"/>
          <p:cNvSpPr/>
          <p:nvPr/>
        </p:nvSpPr>
        <p:spPr>
          <a:xfrm>
            <a:off x="3419640" y="3284640"/>
            <a:ext cx="4609800" cy="93636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Красные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3419640" y="4797360"/>
            <a:ext cx="4609800" cy="93672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Чёрные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8"/>
          <p:cNvSpPr/>
          <p:nvPr/>
        </p:nvSpPr>
        <p:spPr>
          <a:xfrm>
            <a:off x="3419640" y="1773360"/>
            <a:ext cx="4609800" cy="93636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Зелёные листо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1" dur="500" fill="hold"/>
                                        <p:tgtEl>
                                          <p:spTgt spid="34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500" fill="hold"/>
                                        <p:tgtEl>
                                          <p:spTgt spid="34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3" dur="500" fill="hold"/>
                                        <p:tgtEl>
                                          <p:spTgt spid="34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9" dur="500" fill="hold"/>
                                        <p:tgtEl>
                                          <p:spTgt spid="34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58920" y="549360"/>
            <a:ext cx="6502320" cy="544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шка, Михаил, косолапый... В тайге охотники знают - лучше не связывайся с ним, с бурым медведем; если поранишь, ударом лапы убьёт он охотник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Медведь не трогает первым человека. Когда учует  уходит  с его дорог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Всё лето кормится медведь в тайге перед зимнею спячкой. Засунет в муравейник лапу — слизнёт муравьёв.      Обсасывает кусты малины. Попадётся гнездо тетёрки — съест птенцов. Зазевается лесная мышка — и мышку съест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Или залезет в речку, когда идут метать икру лосось. Сидит в реке и ждёт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плывёт рыбина покрупнее, быстро медведь подденет её острыми когтями и выбросит на берег. И снова замрё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AutoShape 5">
            <a:hlinkClick r:id="" action="ppaction://hlinkshowjump?jump=nextslide"/>
          </p:cNvPr>
          <p:cNvSpPr/>
          <p:nvPr/>
        </p:nvSpPr>
        <p:spPr>
          <a:xfrm>
            <a:off x="3995640" y="649908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Как ведёт себя медведь при встрече с челове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6"/>
          <p:cNvSpPr/>
          <p:nvPr/>
        </p:nvSpPr>
        <p:spPr>
          <a:xfrm>
            <a:off x="3635280" y="328464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разу напад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Бежит навстреч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8"/>
          <p:cNvSpPr/>
          <p:nvPr/>
        </p:nvSpPr>
        <p:spPr>
          <a:xfrm>
            <a:off x="3635280" y="177336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ервым не трог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500" fill="hold"/>
                                        <p:tgtEl>
                                          <p:spTgt spid="36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4" dur="500" fill="hold"/>
                                        <p:tgtEl>
                                          <p:spTgt spid="36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0" dur="500" fill="hold"/>
                                        <p:tgtEl>
                                          <p:spTgt spid="35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6" dur="500" fill="hold"/>
                                        <p:tgtEl>
                                          <p:spTgt spid="35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4">
            <a:hlinkClick r:id="" action="ppaction://hlinkshowjump?jump=nextslide"/>
          </p:cNvPr>
          <p:cNvSpPr/>
          <p:nvPr/>
        </p:nvSpPr>
        <p:spPr>
          <a:xfrm>
            <a:off x="7380360" y="5157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187280" y="5157720"/>
            <a:ext cx="6050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530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 я шёл по берегу нашего ручья и под кустом заметил ежа. Он тоже заметил меня, свернулся и затукал: тук-тук. Я прикоснулся к нему кончиком сапога — он страшно фыркнул и поддал своими иголками в сапог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- А, ты так со мной! — сказал я и кончиком сапога спихнул его в руче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Мгновенно ёж развернулся в воде и поплыл к берегу, как маленькая свинья, только вместо щетины на спине иголки. Я взял палочку, скатил ею ежа в свою шляпу и понёс домо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Мышей у меня было много. Я слышал - ёжик их ловит, и решил: пусть он живет у меня и ловит мышей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684360" y="404640"/>
            <a:ext cx="8100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Зачем писатель принёс ёжика дом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1979640" y="3284640"/>
            <a:ext cx="6049800" cy="936360"/>
          </a:xfrm>
          <a:custGeom>
            <a:avLst/>
            <a:gdLst>
              <a:gd name="textAreaLeft" fmla="*/ 0 w 6049800"/>
              <a:gd name="textAreaRight" fmla="*/ 6050160 w 604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овить мы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7"/>
          <p:cNvSpPr/>
          <p:nvPr/>
        </p:nvSpPr>
        <p:spPr>
          <a:xfrm>
            <a:off x="1908000" y="4797360"/>
            <a:ext cx="6121440" cy="936720"/>
          </a:xfrm>
          <a:custGeom>
            <a:avLst/>
            <a:gdLst>
              <a:gd name="textAreaLeft" fmla="*/ 0 w 6121440"/>
              <a:gd name="textAreaRight" fmla="*/ 6121800 w 6121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Рассмотреть повниматель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8"/>
          <p:cNvSpPr/>
          <p:nvPr/>
        </p:nvSpPr>
        <p:spPr>
          <a:xfrm>
            <a:off x="1979640" y="1773360"/>
            <a:ext cx="6049800" cy="936360"/>
          </a:xfrm>
          <a:custGeom>
            <a:avLst/>
            <a:gdLst>
              <a:gd name="textAreaLeft" fmla="*/ 0 w 6049800"/>
              <a:gd name="textAreaRight" fmla="*/ 6050160 w 604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оказать дет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AG00315_"/>
          <p:cNvPicPr/>
          <p:nvPr/>
        </p:nvPicPr>
        <p:blipFill>
          <a:blip r:embed="rId1"/>
          <a:stretch/>
        </p:blipFill>
        <p:spPr>
          <a:xfrm>
            <a:off x="684360" y="69228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4"/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6">
            <a:hlinkClick r:id="" action="ppaction://hlinkshowjump?jump=lastslide"/>
          </p:cNvPr>
          <p:cNvSpPr/>
          <p:nvPr/>
        </p:nvSpPr>
        <p:spPr>
          <a:xfrm>
            <a:off x="7236000" y="4724280"/>
            <a:ext cx="1295280" cy="115272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9" y="3794"/>
                </a:moveTo>
                <a:lnTo>
                  <a:pt x="19142" y="10800"/>
                </a:lnTo>
                <a:lnTo>
                  <a:pt x="5129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7308720" y="2708280"/>
            <a:ext cx="1295640" cy="1152360"/>
          </a:xfrm>
          <a:custGeom>
            <a:avLst/>
            <a:gdLst>
              <a:gd name="textAreaLeft" fmla="*/ 74520 w 1295640"/>
              <a:gd name="textAreaRight" fmla="*/ 1221120 w 1295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500" fill="hold"/>
                                        <p:tgtEl>
                                          <p:spTgt spid="9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500" fill="hold"/>
                                        <p:tgtEl>
                                          <p:spTgt spid="9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8:08:17Z</dcterms:created>
  <dc:creator>Г.Т.Н</dc:creator>
  <dc:description/>
  <dc:language>en-US</dc:language>
  <cp:lastModifiedBy>Sony</cp:lastModifiedBy>
  <dcterms:modified xsi:type="dcterms:W3CDTF">2013-12-13T17:55:07Z</dcterms:modified>
  <cp:revision>45</cp:revision>
  <dc:subject/>
  <dc:title>Прочитай внимательно и приготовься ответить на вопрос</dc:title>
</cp:coreProperties>
</file>