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BB3-7A24-45B0-A90A-570C09F4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405-A597-465C-B99E-17E54026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82C-30B7-416F-8F3C-16B0849F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189-5D4A-4606-AFD5-2FD1049E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6D8E-DA9E-4A6E-BBB1-89D2826A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C73-2E86-42FB-9063-B89BF535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FF4-8309-4C7C-9BB9-D0141D3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F53-1412-4E6C-B465-6003B00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A59-C620-490E-8998-D052E3B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D2D7-2844-4FD0-8940-D604F934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29E9-7B5A-45C4-8171-CB9D483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5E0-A1F4-465D-8452-8C5FDC0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1255-C573-4D7D-B44C-DF292C7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4AF-E747-474D-8941-FE325A1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6C8-3F3C-429B-B881-FC8F14D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A82-F927-4AE9-9A45-ED2FF22A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993D-B42F-42CF-BB77-06971244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CC2-412A-4EC1-A820-87DF9153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2F8-7548-4CCC-ADEF-609A32FA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6B4-EC03-47BF-9B67-43FC303A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22A-F496-4702-8595-9125C94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AC7-C31E-4B88-8FFC-A742905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AB2-1308-4776-871B-6E4AD62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2A3-FC9A-40F6-B37E-02C4954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C7E-DF68-4F6B-A0B4-67654E86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0670-1708-47B1-AD3D-F66E50312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539640" y="0"/>
            <a:ext cx="83534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Уро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муж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5229360"/>
            <a:ext cx="558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Газеева Г.В.  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руководитель 9 класса В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Тетюшская СОШ №1 им. Ханжина П.С.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5362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 rot="21431400">
            <a:off x="323640" y="1125000"/>
            <a:ext cx="2273040" cy="3240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 rot="21451800">
            <a:off x="322560" y="43646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8.03.1911 - 16.11.194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116000" y="1159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Клочков Василий Георги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203640" y="1200600"/>
            <a:ext cx="56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чков (Диев) Василий Георгиевич - военный комиссар 4-й роты 2-го батальона 1075-го стрелкового полка 316-й стрелковой дивизии 16-й армии Западного фронта, младший политру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987640" y="2602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6 ноября 1941 года во главе группы истребителей танков у железнодорожного разъезда Дубосеково Волоколамского района Московской области отражал многочисленные атаки противника. Группа, вошедшая в историю битвы под Москвой и Великой Отечественной войны, как 28 героев-панфиловцев, уничтожила восемнадцать тан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50920" y="4940640"/>
            <a:ext cx="889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всю страну стали известны легендарные слова младшего политрука Клочкова, обращённые к бойцам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"Велика Россия, а отступать некуда - позади Москва!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24000" y="60202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критическую минуту боя отважный офицер-политработник бросился со связкой гранат под вражеский танк и погиб смертью геро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 rot="21374400">
            <a:off x="323640" y="981000"/>
            <a:ext cx="191448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632680" y="188640"/>
            <a:ext cx="52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астелло Николай Францевич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43280" y="134136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андир 4-й авиационной эскадрильи 42-й дальнебомбардировочной авиационной дивизии 3-го бомбардировочного авиационного корпуса Дальнебомбардировочной авиации, капит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556000" y="306828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6 июня 1941 года при выполнении очередного полёта на боевое задание, его бомбардировщик был подбит и загорелся. Капитан Гастелло Н.Ф. направил горящий самолёт на скопление вражеских войск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 rot="21333600">
            <a:off x="177480" y="39326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3.05.1908 -26.06. 1941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26920" y="471780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ание Героя Советского Союза капитану Гастелло Николаю Францевичу присвоено посмертно Указом Президиума Верховного Совета СССР от 26 июля 1941 года за наземный тар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 rot="21357600">
            <a:off x="341280" y="839520"/>
            <a:ext cx="1989000" cy="28414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2487600" y="259920"/>
            <a:ext cx="51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Чайкина Елизавета Ивановна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rot="21364200">
            <a:off x="322920" y="37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8.08.1918 – 23.11.1941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84360" y="14126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ретарь Пеновского подпольного райкома комсомола Калининской области, одна из организаторов партизанского отря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843280" y="2493000"/>
            <a:ext cx="590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ажды Чайкина получила задание командира партизанского отряда пробиться в Пено, разведать численность вражеского гарнизона и местонахождение его штаба. 22 ноября 1941 года Лиза по пути в Пено зашла на хутор Красное Покатище к своей подруге. Её заметил бывший кулак и донёс фашистам. Гитлеровцы ворвались в дом Купровых, расстреляли семью, а Чайкину увезли в Пено. Здесь её зверски пытали, требуя указать, где находятся партизаны. Ничего не добившись, фашисты 23 ноября 1941 года расстреляли мужественную партизанк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79280" y="5805360"/>
            <a:ext cx="885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вание Героя Советского Союза Елизавете Ивановне Чайкиной присвоено посмерт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 марта 1942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 rot="21357000">
            <a:off x="184320" y="1123920"/>
            <a:ext cx="2286000" cy="2419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411280" y="26028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Зоя Анатольевна Космодемьянска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 rot="21421800">
            <a:off x="178560" y="36439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3.09.1923 – 29.11.19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771640" y="1557360"/>
            <a:ext cx="61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7 ноября 1941года вышел приказ Сталина за № 0428, предписывавший лишить «германскую армию возможности располагаться в селах и городах, выгнать немецких захватчиков из всех населённых пунктов на холод в поле, выкурить их из всех помещений и теплых убежищ и заставить мерзнуть под открытым небом», с этой целью «разрушать и сжигать дотла все населенные пункты в тылу немецких войск на расстоянии 40-60 км в глубину от переднего края и на 20-30 км вправо и влево от дорог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95280" y="44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я в составе одной из диверсионных групп также получила задание сжечь в течение 5-7 дней 10 населенных пунктов, в их числе деревню Петрищево. Группа, в которой она находилась, попала под обстрел у деревни Головково и понесла тяжелые потери. Космодемьянская была арестована при выполнении этого задания и после пыток казнена немцами 29 ноября 1941 год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042920" y="26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и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Наши земл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 rot="21369600">
            <a:off x="179280" y="1196640"/>
            <a:ext cx="180036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 rot="21412800">
            <a:off x="250920" y="3357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яничкин М.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9 - 19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484360" y="119700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556000" y="33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лисеев М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899 - 19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4788000" y="1197000"/>
            <a:ext cx="1717560" cy="2160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78800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ванов П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09 - 19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4">
            <a:lum contrast="54000"/>
          </a:blip>
          <a:stretch/>
        </p:blipFill>
        <p:spPr>
          <a:xfrm rot="355200">
            <a:off x="7092720" y="1197000"/>
            <a:ext cx="1733400" cy="218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 rot="374400">
            <a:off x="6876720" y="335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ванов Н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04 - 19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13" descr=""/>
          <p:cNvPicPr/>
          <p:nvPr/>
        </p:nvPicPr>
        <p:blipFill>
          <a:blip r:embed="rId5">
            <a:lum contrast="48000"/>
          </a:blip>
          <a:stretch/>
        </p:blipFill>
        <p:spPr>
          <a:xfrm>
            <a:off x="324000" y="4076640"/>
            <a:ext cx="1695240" cy="2035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4"/>
          <p:cNvSpPr/>
          <p:nvPr/>
        </p:nvSpPr>
        <p:spPr>
          <a:xfrm>
            <a:off x="250920" y="602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дионов П.З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23 - 19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5" descr="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2484360" y="4076640"/>
            <a:ext cx="175284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"/>
          <p:cNvPicPr/>
          <p:nvPr/>
        </p:nvPicPr>
        <p:blipFill>
          <a:blip r:embed="rId7">
            <a:lum contrast="54000"/>
          </a:blip>
          <a:stretch/>
        </p:blipFill>
        <p:spPr>
          <a:xfrm>
            <a:off x="4788000" y="4076640"/>
            <a:ext cx="1728720" cy="2016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2484360" y="6093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ыжов М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3 - 194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64328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роверов Я.П. 1904 - 19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9" descr=""/>
          <p:cNvPicPr/>
          <p:nvPr/>
        </p:nvPicPr>
        <p:blipFill>
          <a:blip r:embed="rId8">
            <a:lum contrast="54000"/>
          </a:blip>
          <a:stretch/>
        </p:blipFill>
        <p:spPr>
          <a:xfrm>
            <a:off x="7020000" y="4076640"/>
            <a:ext cx="1800000" cy="2016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0"/>
          <p:cNvSpPr/>
          <p:nvPr/>
        </p:nvSpPr>
        <p:spPr>
          <a:xfrm>
            <a:off x="7020000" y="6165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анжин П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24 -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6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6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6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63640" y="18900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Полные кавалеры ордена Сла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Наши земл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>
            <a:lum contrast="48000"/>
          </a:blip>
          <a:stretch/>
        </p:blipFill>
        <p:spPr>
          <a:xfrm rot="21328800">
            <a:off x="1042920" y="1267920"/>
            <a:ext cx="1489320" cy="193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24360" y="1197000"/>
            <a:ext cx="155880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 rot="276000">
            <a:off x="6819480" y="1268280"/>
            <a:ext cx="1457280" cy="18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212920" y="3933720"/>
            <a:ext cx="1579680" cy="201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5292720" y="4005360"/>
            <a:ext cx="1547640" cy="19144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399564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ёгтев С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3 - 19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1187280" y="3213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 rot="21378600"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отов Н.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7 - 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 rot="357600">
            <a:off x="6587640" y="31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алкин П.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8 - 19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05092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довников Г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5292720" y="595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фонов Г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898 -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195640" y="260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Афгани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836640"/>
            <a:ext cx="871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фганская во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1979—1989)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данном конфликте принимали участие вооруженные силы правительства Демократической Республики Афганистан (ДРА) с одной стороны и вооруженная оппозиция («моджахеды», или «душманы») — с друг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рьба велась за полный политический контроль над территорией Афганиста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военный конфликт оказалась непосредственно втянута и Советская Армия. Моджахедам в ходе конфликта поддержку оказывали военные специалисты США (ЦРУ), ряда европейских стран — членов НАТО, Китая, а также пакистанские спецслужб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95280" y="407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5 февраля 1989г. для многих из нас стал днем, когда кончился счет потерям наших солдат, офицеров и служащих. А итог печал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84360" y="501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олее 13тыс. матерей и отцов не дождались своих сыновей и не  сказали они: «мама, я жив», а около 33тыс. вернулись изранен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24000" y="47628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Тетюшского района на эту войну было призван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147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. Мужество, настойчивость в достижении поставленной цели, готовность всё отдать, а если потребуется и жизнь — во имя Родины — эти благородные качества помогли тетюшским юношам в нелёгкое врем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наших земляков, пройдя через непомерные тяготы афганской войны, вернулись. Вернулись — чтобы жить. Сегодня они продолжают честно и добросовестно служить Родине. Их верность долгу, крепкая дружба, взаимопомощь, стойкость являются хорошим примером для молодого поко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есть семьи, где оплакивают невозвратные потери дорогих и близких павших на земле Афганистана. Есть они и среди наших земляков. Слишком рано оборвались жизни пятерых парней, уроженцев земли Тетюшс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т имена ребя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ложивших головы на чужой далёкой земле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627280" y="4437000"/>
            <a:ext cx="18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люшкин Геннадий Леонтьевич, урожене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ла Тоншерм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25 декабря 1979 год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56360" y="32130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ингалиев Гумар Мингазиевич, уроженец села Большие Атряси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10 сентября 1985 год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348000" y="32130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усин Хамид Гусманович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женец села Большая Турм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26 октября 1985 г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9640" y="4581360"/>
            <a:ext cx="187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хметзянов Шамиль Хабирович, уроженец села Большая Турма, погиб 21 ноябр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985 год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68360" y="321300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тапов Андрей Николаевич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женец села Иоково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12 июля 1987 го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1"/>
          <a:srcRect l="3681" t="3074" r="3443" b="2941"/>
          <a:stretch/>
        </p:blipFill>
        <p:spPr>
          <a:xfrm>
            <a:off x="900000" y="1052640"/>
            <a:ext cx="162576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2"/>
          <a:srcRect l="3791" t="5069" r="7696" b="4212"/>
          <a:stretch/>
        </p:blipFill>
        <p:spPr>
          <a:xfrm>
            <a:off x="3995640" y="1052640"/>
            <a:ext cx="1600200" cy="201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1655640" cy="203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657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619280" y="47628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хо афганской войны тревожит и ещё долго будет тревожить сердца и умы наших людей. Мы отдаём дань уважения мужеству и самоотверженности воинов- интернационалис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амять о героическом подвиге наших военных, и отдавая дань уважения их подвигу,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5 февра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читается в России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нем памяти воинов-интернационалис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68360" y="2565360"/>
            <a:ext cx="52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м отцы остали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 молод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 молодым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бронзе обелис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тали над планет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усские мальчиш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Юностью бессмерт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мятью свяще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тали над плане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й и нетлен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39640" y="907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Родина наша -  колыбель героев, огненный горн, где плавятся простые души, становясь крепкими, как алмаз и сталь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А.Н. Толстой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2843280" y="907920"/>
            <a:ext cx="388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цветка незабуд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спроси про войн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прислушайся чут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услышь тиш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сть навеки укры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ья - то слава в гран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 ничто не забы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 никто не забы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95280" y="47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аша страна неоднократно подвергалась смертельной опасности. Но великий народ устоя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боях за родную землю он показал непревзойдённые образцы отваги и муж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71640" y="335772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042920" y="3716280"/>
            <a:ext cx="691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од не забыл своих геро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мять об их славных подвигах он донёс до наши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 rot="21338400">
            <a:off x="468360" y="907920"/>
            <a:ext cx="2984400" cy="3384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708360" y="977760"/>
            <a:ext cx="497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блюдение Русской земли от беды на востоке, знаменитые подвиги за веру и землю на западе доставили Александру славную память на Руси, сделали его самым видным историческим лицом в нашей древней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Мономаха до До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 rot="21333600">
            <a:off x="609840" y="4364640"/>
            <a:ext cx="30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30 мая 1220 - 14 ноябр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2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04720" y="-720"/>
            <a:ext cx="65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Александр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Невски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24000" y="4797360"/>
            <a:ext cx="8640720" cy="155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Отпуская домой захваченных в плен рыцарей сказал им: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«Идите и скажите всем в чужих краях, что Русь жива. Пусть без страха жалуют к нам в гости… Но, если кто с мечом к нам придёт, от меча и погибнет. На том и стоит, и стоять будет русская земл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8064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усский народ издавна миролюбив, но когда над ним нависала опасность со стороны внешних захватчиков и поработителей, он поднимался и бил врага беспощад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250920" y="549360"/>
            <a:ext cx="853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 нашего народа сложилось много славных традиций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одна из традиций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ветской Армии и Морского Флот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годня мы называем этот день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День защитника Отечества - 23 февраля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50920" y="10141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ле победы Великой Октябрьской социалистической революции иностранные империалисты не могли примириться с существованием Советской республики. Они готовили нападение на первую в мире страну Сове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т Народных Комисаров издал декрет, в котором говорилос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«Новая Рабоче-крестьянская Армия создается из наиболее сознательных и организованных элементов трудящихся!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яды ее росли и креп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феврале 1918г. отряды Красной Армии под Нарвой, Псковом, Равелем приостановили продвижение немецких оккуп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память о героическом дне - 23 февраля стал отмечаться советским народом как день рождения Красной Ар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553760" y="182880"/>
            <a:ext cx="5877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ы родила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 в дни парадных марше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каня шаг по гулкой мостов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 стременах перед тобой фельдмарш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 привставал с поднятою ру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ое рожденье, вот оно како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укно шинелей прожжено насквоз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круг метель шрапнельным выла вое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овал обувку старую моро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твоих рядах со стариком усат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с моряком, видавшим смерть не раз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шагал юнец походкою солда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шинелью, заметая снег и гряз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тоял февраль, заря за гребнем лес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залось, не хотела рассвет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этот день твоим рожденьем ст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Н.Агее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24000" y="-251280"/>
            <a:ext cx="8135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1941-1945г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ного пролили крови бойцы Советской Армии и Военно-Морского Флота, защищая свою Роди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усский народ, стойким характером, несгибаемой волей в тяжелую годину изгонял врагов со своей родн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99840" y="2205360"/>
            <a:ext cx="5691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, Родина, смогу ль забы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Твои нелегкие поб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Твои немыслимые б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Забыть, как прадеды и д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Умели драться и люби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, Родина! Всегда с тоб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не вечно жить и вечно помн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52876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всегда останутся в памяти герои Великой Отечественной войны, чье мужество согревает наши серд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9:17Z</dcterms:created>
  <dc:creator>Admin</dc:creator>
  <dc:description/>
  <dc:language>en-US</dc:language>
  <cp:lastModifiedBy>User</cp:lastModifiedBy>
  <dcterms:modified xsi:type="dcterms:W3CDTF">2015-01-28T20:47:26Z</dcterms:modified>
  <cp:revision>9</cp:revision>
  <dc:subject/>
  <dc:title>Слайд 1</dc:title>
</cp:coreProperties>
</file>