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4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4BDB-F17A-4786-9A07-C19AB240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1EB2-A29D-4489-A112-47557854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20E1-D213-4C58-9C1A-BAA2A913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9C8-F0DD-49FE-93DF-5037B5AF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6EF9-44C5-4044-B671-EE1A75CA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F4C1-EC86-47C6-AF43-8A325653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F98C-866C-438F-ACFD-01242B57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00E9-5EA1-4DE3-A747-CF95C886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B78E-D453-4062-8BA3-9056EE45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5501-A265-4EA2-9B00-050DEF13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CCE3-CA7F-44E1-AFCA-981783D2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92A-5076-4EEB-9402-C4E6A137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B5ED-6AC4-4B95-87C9-805E9C13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AF49-C835-498F-9D14-625F14DD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568E-CA10-49DE-9297-417372C1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BEEE-7558-462E-8EB8-6E57BC46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05F6-8B27-4489-8B5E-CA80D7DF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394-1ABC-4C99-92A2-6415D2F5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087-7E92-4F88-B18F-5223499C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260B-7C15-4145-9F3F-134517B0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423F-5A75-406A-B5DC-FA6243B7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4BDB-5A72-4278-9A5B-A258B87F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A10-E134-4734-8021-8BE28ED3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87F-F834-4F27-83F9-23017DD3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5054-EB26-4285-95B4-DE75418DB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8EB4-CECF-453F-8285-D9CF86BF1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539640" y="0"/>
            <a:ext cx="835344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Уро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муже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5229360"/>
            <a:ext cx="5580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ла Газеева Г.В.  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ный руководитель 9 класса В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«Тетюшская СОШ №1 им. Ханжина П.С.»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3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536256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 rot="21431400">
            <a:off x="323640" y="1125000"/>
            <a:ext cx="2273040" cy="3240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 rot="21451800">
            <a:off x="322560" y="43646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8.03.1911 - 16.11.194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116000" y="11592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Герой Советского Сою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Клочков Василий Георги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3203640" y="1200600"/>
            <a:ext cx="568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очков (Диев) Василий Георгиевич - военный комиссар 4-й роты 2-го батальона 1075-го стрелкового полка 316-й стрелковой дивизии 16-й армии Западного фронта, младший политрук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987640" y="2602080"/>
            <a:ext cx="586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6 ноября 1941 года во главе группы истребителей танков у железнодорожного разъезда Дубосеково Волоколамского района Московской области отражал многочисленные атаки противника. Группа, вошедшая в историю битвы под Москвой и Великой Отечественной войны, как 28 героев-панфиловцев, уничтожила восемнадцать танк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250920" y="4940640"/>
            <a:ext cx="8893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всю страну стали известны легендарные слова младшего политрука Клочкова, обращённые к бойцам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"Велика Россия, а отступать некуда - позади Москва!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324000" y="602028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критическую минуту боя отважный офицер-политработник бросился со связкой гранат под вражеский танк и погиб смертью геро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 rot="21374400">
            <a:off x="323640" y="981000"/>
            <a:ext cx="1914480" cy="28576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2632680" y="188640"/>
            <a:ext cx="520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Герой Советского Союз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Гастелло Николай Францевич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843280" y="1341360"/>
            <a:ext cx="56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омандир 4-й авиационной эскадрильи 42-й дальнебомбардировочной авиационной дивизии 3-го бомбардировочного авиационного корпуса Дальнебомбардировочной авиации, капита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556000" y="306828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6 июня 1941 года при выполнении очередного полёта на боевое задание, его бомбардировщик был подбит и загорелся. Капитан Гастелло Н.Ф. направил горящий самолёт на скопление вражеских войск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 rot="21333600">
            <a:off x="177480" y="393264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3.05.1908 -26.06. 1941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826920" y="4717800"/>
            <a:ext cx="71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вание Героя Советского Союза капитану Гастелло Николаю Францевичу присвоено посмертно Указом Президиума Верховного Совета СССР от 26 июля 1941 года за наземный тара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 rot="21357600">
            <a:off x="341280" y="839520"/>
            <a:ext cx="1989000" cy="28414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2487600" y="259920"/>
            <a:ext cx="514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Герой Советского Союз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Чайкина Елизавета Ивановна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 rot="21364200">
            <a:off x="322920" y="378828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8.08.1918 – 23.11.1941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484360" y="141264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кретарь Пеновского подпольного райкома комсомола Калининской области, одна из организаторов партизанского отря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2843280" y="2493000"/>
            <a:ext cx="590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днажды Чайкина получила задание командира партизанского отряда пробиться в Пено, разведать численность вражеского гарнизона и местонахождение его штаба. 22 ноября 1941 года Лиза по пути в Пено зашла на хутор Красное Покатище к своей подруге. Её заметил бывший кулак и донёс фашистам. Гитлеровцы ворвались в дом Купровых, расстреляли семью, а Чайкину увезли в Пено. Здесь её зверски пытали, требуя указать, где находятся партизаны. Ничего не добившись, фашисты 23 ноября 1941 года расстреляли мужественную партизанку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79280" y="5805360"/>
            <a:ext cx="885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вание Героя Советского Союза Елизавете Ивановне Чайкиной присвоено посмерт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 марта 1942 го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 rot="21357000">
            <a:off x="184320" y="1123920"/>
            <a:ext cx="2286000" cy="24195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411280" y="260280"/>
            <a:ext cx="62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Герой Советского Сою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Зоя Анатольевна Космодемьянская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 rot="21421800">
            <a:off x="178560" y="364392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3.09.1923 – 29.11.19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2771640" y="1557360"/>
            <a:ext cx="615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7 ноября 1941года вышел приказ Сталина за № 0428, предписывавший лишить «германскую армию возможности располагаться в селах и городах, выгнать немецких захватчиков из всех населённых пунктов на холод в поле, выкурить их из всех помещений и теплых убежищ и заставить мерзнуть под открытым небом», с этой целью «разрушать и сжигать дотла все населенные пункты в тылу немецких войск на расстоянии 40-60 км в глубину от переднего края и на 20-30 км вправо и влево от дорог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95280" y="4437000"/>
            <a:ext cx="85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оя в составе одной из диверсионных групп также получила задание сжечь в течение 5-7 дней 10 населенных пунктов, в их числе деревню Петрищево. Группа, в которой она находилась, попала под обстрел у деревни Головково и понесла тяжелые потери. Космодемьянская была арестована при выполнении этого задания и после пыток казнена немцами 29 ноября 1941 год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1042920" y="26028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Герои Советского Сою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Наши земля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 rot="21369600">
            <a:off x="179280" y="1196640"/>
            <a:ext cx="1800360" cy="21589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 rot="21412800">
            <a:off x="250920" y="335736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яничкин М.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09 - 194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2484360" y="1197000"/>
            <a:ext cx="1800360" cy="2160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2556000" y="3357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лисеев М.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899 - 19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4788000" y="1197000"/>
            <a:ext cx="1717560" cy="2160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4788000" y="3357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ванов П.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09 - 19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11" descr=""/>
          <p:cNvPicPr/>
          <p:nvPr/>
        </p:nvPicPr>
        <p:blipFill>
          <a:blip r:embed="rId4">
            <a:lum contrast="54000"/>
          </a:blip>
          <a:stretch/>
        </p:blipFill>
        <p:spPr>
          <a:xfrm rot="355200">
            <a:off x="7092720" y="1197000"/>
            <a:ext cx="1733400" cy="21812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2"/>
          <p:cNvSpPr/>
          <p:nvPr/>
        </p:nvSpPr>
        <p:spPr>
          <a:xfrm rot="374400">
            <a:off x="6876720" y="3357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ванов Н.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04 - 195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13" descr=""/>
          <p:cNvPicPr/>
          <p:nvPr/>
        </p:nvPicPr>
        <p:blipFill>
          <a:blip r:embed="rId5">
            <a:lum contrast="48000"/>
          </a:blip>
          <a:stretch/>
        </p:blipFill>
        <p:spPr>
          <a:xfrm>
            <a:off x="324000" y="4076640"/>
            <a:ext cx="1695240" cy="2035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4"/>
          <p:cNvSpPr/>
          <p:nvPr/>
        </p:nvSpPr>
        <p:spPr>
          <a:xfrm>
            <a:off x="250920" y="6021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одионов П.З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23 - 197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15" descr=""/>
          <p:cNvPicPr/>
          <p:nvPr/>
        </p:nvPicPr>
        <p:blipFill>
          <a:blip r:embed="rId6">
            <a:lum contrast="54000"/>
          </a:blip>
          <a:stretch/>
        </p:blipFill>
        <p:spPr>
          <a:xfrm>
            <a:off x="2484360" y="4076640"/>
            <a:ext cx="1752840" cy="201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"/>
          <p:cNvPicPr/>
          <p:nvPr/>
        </p:nvPicPr>
        <p:blipFill>
          <a:blip r:embed="rId7">
            <a:lum contrast="54000"/>
          </a:blip>
          <a:stretch/>
        </p:blipFill>
        <p:spPr>
          <a:xfrm>
            <a:off x="4788000" y="4076640"/>
            <a:ext cx="1728720" cy="2016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7"/>
          <p:cNvSpPr/>
          <p:nvPr/>
        </p:nvSpPr>
        <p:spPr>
          <a:xfrm>
            <a:off x="2484360" y="6093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ыжов М.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13 - 194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4643280" y="6021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тароверов Я.П. 1904 - 19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19" descr=""/>
          <p:cNvPicPr/>
          <p:nvPr/>
        </p:nvPicPr>
        <p:blipFill>
          <a:blip r:embed="rId8">
            <a:lum contrast="54000"/>
          </a:blip>
          <a:stretch/>
        </p:blipFill>
        <p:spPr>
          <a:xfrm>
            <a:off x="7020000" y="4076640"/>
            <a:ext cx="1800000" cy="20163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0"/>
          <p:cNvSpPr/>
          <p:nvPr/>
        </p:nvSpPr>
        <p:spPr>
          <a:xfrm>
            <a:off x="7020000" y="616572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Ханжин П.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24 -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6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6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6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6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6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6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6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6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6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6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6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6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6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6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6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6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6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6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6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6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6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1763640" y="189000"/>
            <a:ext cx="62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Полные кавалеры ордена Слав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Наши земля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>
            <a:lum contrast="48000"/>
          </a:blip>
          <a:stretch/>
        </p:blipFill>
        <p:spPr>
          <a:xfrm rot="21328800">
            <a:off x="1042920" y="1267920"/>
            <a:ext cx="1489320" cy="1932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3924360" y="1197000"/>
            <a:ext cx="1558800" cy="194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3">
            <a:lum contrast="30000"/>
          </a:blip>
          <a:stretch/>
        </p:blipFill>
        <p:spPr>
          <a:xfrm rot="276000">
            <a:off x="6819480" y="1268280"/>
            <a:ext cx="1457280" cy="1857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2212920" y="3933720"/>
            <a:ext cx="1579680" cy="2016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5">
            <a:lum contrast="36000"/>
          </a:blip>
          <a:stretch/>
        </p:blipFill>
        <p:spPr>
          <a:xfrm>
            <a:off x="5292720" y="4005360"/>
            <a:ext cx="1547640" cy="19144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3995640" y="3141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ёгтев С.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13 - 198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1187280" y="3213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3"/>
          <p:cNvSpPr/>
          <p:nvPr/>
        </p:nvSpPr>
        <p:spPr>
          <a:xfrm rot="21378600"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отов Н.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17 - 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4"/>
          <p:cNvSpPr/>
          <p:nvPr/>
        </p:nvSpPr>
        <p:spPr>
          <a:xfrm rot="357600">
            <a:off x="6587640" y="314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алкин П.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18 - 19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2050920" y="59500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адовников Г.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5292720" y="59500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афонов Г.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898 -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195640" y="26028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Афганист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50920" y="836640"/>
            <a:ext cx="8713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фганская воин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(1979—1989)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данном конфликте принимали участие вооруженные силы правительства Демократической Республики Афганистан (ДРА) с одной стороны и вооруженная оппозиция («моджахеды», или «душманы») — с друг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рьба велась за полный политический контроль над территорией Афганистан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военный конфликт оказалась непосредственно втянута и Советская Армия. Моджахедам в ходе конфликта поддержку оказывали военные специалисты США (ЦРУ), ряда европейских стран — членов НАТО, Китая, а также пакистанские спецслужб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395280" y="4076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5 февраля 1989г. для многих из нас стал днем, когда кончился счет потерям наших солдат, офицеров и служащих. А итог печал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84360" y="5013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олее 13тыс. матерей и отцов не дождались своих сыновей и не  сказали они: «мама, я жив», а около 33тыс. вернулись израненны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324000" y="476280"/>
            <a:ext cx="85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Тетюшского района на эту войну было призвано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147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еловек. Мужество, настойчивость в достижении поставленной цели, готовность всё отдать, а если потребуется и жизнь — во имя Родины — эти благородные качества помогли тетюшским юношам в нелёгкое врем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инство наших земляков, пройдя через непомерные тяготы афганской войны, вернулись. Вернулись — чтобы жить. Сегодня они продолжают честно и добросовестно служить Родине. Их верность долгу, крепкая дружба, взаимопомощь, стойкость являются хорошим примером для молодого покол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есть семьи, где оплакивают невозвратные потери дорогих и близких павших на земле Афганистана. Есть они и среди наших земляков. Слишком рано оборвались жизни пятерых парней, уроженцев земли Тетюшс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179280" y="260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от имена ребят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ложивших головы на чужой далёкой земле: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627280" y="4437000"/>
            <a:ext cx="1800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люшкин Геннадий Леонтьевич, уроженец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ла Тоншерма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гиб 25 декабря 1979 год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156360" y="3213000"/>
            <a:ext cx="27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ингалиев Гумар Мингазиевич, уроженец села Большие Атряси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гиб 10 сентября 1985 год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348000" y="3213000"/>
            <a:ext cx="27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усин Хамид Гусманович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роженец села Большая Турма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гиб 26 октября 1985 год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9640" y="4581360"/>
            <a:ext cx="18716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хметзянов Шамиль Хабирович, уроженец села Большая Турма, погиб 21 ноябр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985 год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468360" y="3213000"/>
            <a:ext cx="252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тапов Андрей Николаевич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роженец села Иоково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гиб 12 июля 1987 го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0" descr=""/>
          <p:cNvPicPr/>
          <p:nvPr/>
        </p:nvPicPr>
        <p:blipFill>
          <a:blip r:embed="rId1"/>
          <a:srcRect l="3681" t="3074" r="3443" b="2941"/>
          <a:stretch/>
        </p:blipFill>
        <p:spPr>
          <a:xfrm>
            <a:off x="900000" y="1052640"/>
            <a:ext cx="1625760" cy="2016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"/>
          <p:cNvPicPr/>
          <p:nvPr/>
        </p:nvPicPr>
        <p:blipFill>
          <a:blip r:embed="rId2"/>
          <a:srcRect l="3791" t="5069" r="7696" b="4212"/>
          <a:stretch/>
        </p:blipFill>
        <p:spPr>
          <a:xfrm>
            <a:off x="3995640" y="1052640"/>
            <a:ext cx="1600200" cy="2016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3"/>
          <a:stretch/>
        </p:blipFill>
        <p:spPr>
          <a:xfrm>
            <a:off x="6804000" y="1052640"/>
            <a:ext cx="1655640" cy="2038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6574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1619280" y="47628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Эхо афганской войны тревожит и ещё долго будет тревожить сердца и умы наших людей. Мы отдаём дань уважения мужеству и самоотверженности воинов- интернационалис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память о героическом подвиге наших военных, и отдавая дань уважения их подвигу,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5 февраля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считается в России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Днем памяти воинов-интернационалис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268360" y="2565360"/>
            <a:ext cx="525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ам отцы осталис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чно молоды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чно молодыми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бронзе обелис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стали над планет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усские мальчиш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Юностью бессмертно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амятью священ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стали над планет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чной и нетленн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539640" y="90792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Родина наша -  колыбель героев, огненный горн, где плавятся простые души, становясь крепкими, как алмаз и сталь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А.Н. Толстой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2843280" y="907920"/>
            <a:ext cx="3889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цветка незабуд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ы спроси про войн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ы прислушайся чутк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ы услышь тишин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усть навеки укры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ья - то слава в грани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о ничто не забыт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 никто не забы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95280" y="476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 протяжении многих веков наша страна неоднократно подвергалась смертельной опасности. Но великий народ устоя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боях за родную землю он показал непревзойдённые образцы отваги и муже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971640" y="335772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042920" y="3716280"/>
            <a:ext cx="6913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род не забыл своих герое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мять об их славных подвигах он донёс до наших дн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 rot="21338400">
            <a:off x="468360" y="907920"/>
            <a:ext cx="2984400" cy="3384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3708360" y="977760"/>
            <a:ext cx="4970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блюдение Русской земли от беды на востоке, знаменитые подвиги за веру и землю на западе доставили Александру славную память на Руси, сделали его самым видным историческим лицом в нашей древней исто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 Мономаха до Донск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 rot="21333600">
            <a:off x="609840" y="4364640"/>
            <a:ext cx="30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30 мая 1220 - 14 ноября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126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404720" y="-720"/>
            <a:ext cx="657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Александр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Невски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24000" y="4797360"/>
            <a:ext cx="8640720" cy="1557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Отпуская домой захваченных в плен рыцарей сказал им: </a:t>
            </a: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«Идите и скажите всем в чужих краях, что Русь жива. Пусть без страха жалуют к нам в гости… Но, если кто с мечом к нам придёт, от меча и погибнет. На том и стоит, и стоять будет русская земля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539640" y="549360"/>
            <a:ext cx="8064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Русский народ издавна миролюбив, но когда над ним нависала опасность со стороны внешних захватчиков и поработителей, он поднимался и бил врага беспощадно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250920" y="549360"/>
            <a:ext cx="8534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У нашего народа сложилось много славных традиций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 одна из традиций –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ен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оветской Армии и Морского Флота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егодня мы называем этот день –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День защитника Отечества - 23 февраля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50920" y="1014120"/>
            <a:ext cx="864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сле победы Великой Октябрьской социалистической революции иностранные империалисты не могли примириться с существованием Советской республики. Они готовили нападение на первую в мире страну Сове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вет Народных Комисаров издал декрет, в котором говорилось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«Новая Рабоче-крестьянская Армия создается из наиболее сознательных и организованных элементов трудящихся!»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яды ее росли и креп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феврале 1918г. отряды Красной Армии под Нарвой, Псковом, Равелем приостановили продвижение немецких оккупан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 память о героическом дне - 23 февраля стал отмечаться советским народом как день рождения Красной Арм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1553760" y="182880"/>
            <a:ext cx="5877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Ты родилас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е в дни парадных марше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чеканя шаг по гулкой мостов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а стременах перед тобой фельдмарша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е привставал с поднятою ру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Твое рожденье, вот оно како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укно шинелей прожжено насквозь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округ метель шрапнельным выла вое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ковал обувку старую моро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 твоих рядах со стариком усаты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 с моряком, видавшим смерть не раз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шагал юнец походкою солдат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шинелью, заметая снег и гряз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тоял февраль, заря за гребнем лес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Казалось, не хотела рассвет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 этот день твоим рожденьем ста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Н.Агее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324000" y="-251280"/>
            <a:ext cx="81356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1941-1945г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ного пролили крови бойцы Советской Армии и Военно-Морского Флота, защищая свою Родин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усский народ, стойким характером, несгибаемой волей в тяжелую годину изгонял врагов со своей родной зем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599840" y="2205360"/>
            <a:ext cx="5691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О, Родина, смогу ль забы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Твои нелегкие побед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Твои немыслимые бед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Забыть, как прадеды и де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Умели драться и любит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О, Родина! Всегда с тоб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Мне вечно жить и вечно помни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95280" y="528768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всегда останутся в памяти герои Великой Отечественной войны, чье мужество согревает наши сердц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5:39:17Z</dcterms:created>
  <dc:creator>Admin</dc:creator>
  <dc:description/>
  <dc:language>en-US</dc:language>
  <cp:lastModifiedBy>User</cp:lastModifiedBy>
  <dcterms:modified xsi:type="dcterms:W3CDTF">2015-01-28T20:47:26Z</dcterms:modified>
  <cp:revision>9</cp:revision>
  <dc:subject/>
  <dc:title>Слайд 1</dc:title>
</cp:coreProperties>
</file>