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A25-763F-43D5-A950-065EDF13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4B4-A6C2-4F52-8FCC-882FC6C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6C0-9059-42F4-8D62-1E391FB4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DF6-30BF-4E4E-BE32-423E2945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EA89-161E-45AE-9600-AA59FD7B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B197-4259-4BE9-B9A5-A222EEBB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027-CD0B-46A0-B346-2FD0086F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6DB-80DC-4625-8AF2-FD0CE3B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B731-C09E-470A-A0B5-5D65A52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1111-D0C1-46DF-9A89-B69AA9D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A23C-367A-4E31-9DAD-C855216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1F2-346F-4ABD-BA3D-B9502993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F0F-0B81-41B0-A871-7C5D321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2CE1-A882-410F-A164-45AD173F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64CF-AF0E-4E98-BFDD-7324117F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F04-733D-4078-92A0-F405B3BE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E1A-A15E-46FB-9F32-6ACB7605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0F63D-305C-450F-8405-C128F61F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B7E8B-21CB-43CD-AA42-75470A03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D8A00-760F-4A31-975B-AD02BEC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4C255-F356-482B-A37F-87F752A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03C06-BEB4-48C6-B729-F4FDB6B4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B50-5768-47F6-ADCB-92446D3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CA3F4-048E-4F39-BE78-89401FBA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2C291-7D23-4E80-839D-1AD8508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C25C5-D624-47AC-8F62-F9D3FE7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88806-95C9-40D4-9965-DF8A07B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10E6-CD4C-4D24-A4D7-EB41FE9A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3BC0B-3F7B-41A9-8715-7DF1E3A9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D1C0B-87B0-4064-8F19-DCE74738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CA0E-6FC8-40CF-959E-0B374291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75BC-79DF-49F6-AD2A-5031E9D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7A67-55C7-4C23-9B59-9231E5C8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74B-98E8-4348-9243-03892E2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722C-04E0-48A1-BAD3-4C14764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CDF5-F319-4A76-BD52-721BF7D7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1AF2-89B0-42E1-8A13-03C8473C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FAEC-D8F0-4004-A340-1685D22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40E2-4029-4F55-95A4-851EF64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F5C6-665D-4235-B0C9-D45ABF5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E724-DDB1-416E-B542-0A28CB5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A8B2-17DE-4D14-A9EF-7FF9671F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564D-AF8A-4D47-9BCF-B70F22C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EB122-3783-46FE-89B8-AFF37B87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760-9EC8-4DC0-B258-3929B9C2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7DE06-7385-47D9-97DE-F7B0163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3844A-A7A3-48B8-92EA-020BCE03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D2DB5-BA9E-4EF8-A881-D93CE48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C12B2-F9EA-477B-AB2F-CB2BF3D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1033B-B72E-45F5-A654-86C00048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A0755-F0B0-4BB0-8186-2CF0360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0424A-910F-4A87-9EA0-14614EB0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7BB1D-7988-4087-AB62-61820DA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CEF07-7B75-4701-A6FC-AA0F643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C0785-9861-4E49-A51E-B05155EE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AAA-726C-4336-9ACB-9BD52D5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C6397-7F61-4D40-BEE7-EFB43999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47288-5E79-42D9-9B1A-7050785C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9743E-0E1E-4889-B676-3E2CCA0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E88A5-E547-4AB1-91E6-A8BA904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48AB2-336A-4534-8519-03894DE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B664B-2B19-440D-8C88-88BBBB0B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C5229-D250-449B-B656-F0C406F4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4EBA4-B995-4BD7-940E-00A3538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11A36-2F67-4A5E-A11D-C8A209D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E6937-C1A8-488F-A118-7901D6B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ADD-CFD2-4024-8B9B-04AB042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4C26A-CA52-4647-8753-0A97950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72F28-A6C8-496C-BE0A-02EC7DE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DF123-28C2-4752-B41B-49547DC7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55EA2-D655-4757-A263-88484591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98E3B-E6F3-452E-9331-C4CB303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9D84E-359C-41F1-AA79-2804B3C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89FE7-A0A1-4C44-A120-A0DC339E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FB12C-83A2-4FB8-90C0-F18391A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75F9D-6A5D-434D-89FC-582A839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A17AF-A047-4D46-B88D-2DA2C43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EB7-29F5-472E-A886-95BC6A9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FF941-604E-426A-BDD5-063CF7E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914C1-956B-4AB3-B2D7-045B5FD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06C65-3D95-4299-9B59-8C133F33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9F319-72C8-43E9-BA97-F976CE37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3804F-9A25-4155-B9CF-9840885F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4E6-49F4-4659-9BC9-F5C989F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7CA-B624-4492-B02E-296ADEF438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89C-7768-4563-AA5E-A70C97D630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0166-7F58-4894-900A-EC49859A24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41E1-C588-4CCD-ABED-3AD7525B7E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BD0-A7E2-4218-B498-CC0F132644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F24-4CDA-4712-BA0D-89DA98BCC2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52DB-53D8-4EB6-B968-6390282A39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Century Schoolbook"/>
              </a:rPr>
              <a:t>«ВМЕСТЕ ВЕСЕЛЕЕ С ПЕСНЕЙ»</a:t>
            </a:r>
            <a:br>
              <a:rPr sz="3000"/>
            </a:br>
            <a:r>
              <a:rPr b="1" lang="ru-RU" sz="1800" spc="-1" strike="noStrike">
                <a:solidFill>
                  <a:srgbClr val="990000"/>
                </a:solidFill>
                <a:latin typeface="Century Schoolbook"/>
              </a:rPr>
              <a:t>ИССЛЕДОВАТЕЛЬСКИЙ  ПРОЕКТ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142880" y="3500280"/>
            <a:ext cx="50007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Пимаева Вероник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Щупкина Юл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Шашорина Н.В. Учитель музык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395280" y="5715000"/>
            <a:ext cx="8280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БОУ «Нижнебаскунчакская СОШ М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Ахтубинский район» имени К,К,Искалиев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7" descr="D:\конкурс 2014\SAM_0478.JPG"/>
          <p:cNvPicPr/>
          <p:nvPr/>
        </p:nvPicPr>
        <p:blipFill>
          <a:blip r:embed="rId1"/>
          <a:stretch/>
        </p:blipFill>
        <p:spPr>
          <a:xfrm>
            <a:off x="214200" y="2428920"/>
            <a:ext cx="3857760" cy="2857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D:\конкурс 2014\SAM_0408.JPG"/>
          <p:cNvPicPr/>
          <p:nvPr/>
        </p:nvPicPr>
        <p:blipFill>
          <a:blip r:embed="rId2"/>
          <a:stretch/>
        </p:blipFill>
        <p:spPr>
          <a:xfrm>
            <a:off x="5357880" y="92880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6"/>
          <p:cNvSpPr/>
          <p:nvPr/>
        </p:nvSpPr>
        <p:spPr>
          <a:xfrm>
            <a:off x="1643040" y="285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2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План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643280" y="1341360"/>
            <a:ext cx="4248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распределение обязанностей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пределение источников информаци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79280" y="407196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бсуждение проблем, которые могут возникнуть в ходе работы над проекто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6"/>
          <p:cNvSpPr/>
          <p:nvPr/>
        </p:nvSpPr>
        <p:spPr>
          <a:xfrm>
            <a:off x="0" y="58294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3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Сбор материала и ан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5" descr="C:\Users\Наташа\Desktop\Новая папка (2)\SAM_0627.JPG"/>
          <p:cNvPicPr/>
          <p:nvPr/>
        </p:nvPicPr>
        <p:blipFill>
          <a:blip r:embed="rId1"/>
          <a:stretch/>
        </p:blipFill>
        <p:spPr>
          <a:xfrm>
            <a:off x="142920" y="1000080"/>
            <a:ext cx="4327560" cy="306396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6" descr="C:\Users\Наташа\Desktop\Новая папка (2)\SAM_0621.JPG"/>
          <p:cNvPicPr/>
          <p:nvPr/>
        </p:nvPicPr>
        <p:blipFill>
          <a:blip r:embed="rId2"/>
          <a:stretch/>
        </p:blipFill>
        <p:spPr>
          <a:xfrm>
            <a:off x="4357800" y="3000240"/>
            <a:ext cx="435924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Object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345440" cy="42480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2"/>
          <p:cNvSpPr/>
          <p:nvPr/>
        </p:nvSpPr>
        <p:spPr>
          <a:xfrm>
            <a:off x="684360" y="98100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ую музыку вы слушаете чаще всего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40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8"/>
          <p:cNvSpPr/>
          <p:nvPr/>
        </p:nvSpPr>
        <p:spPr>
          <a:xfrm>
            <a:off x="250920" y="333360"/>
            <a:ext cx="76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1349280" y="90792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ужна ли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1187280" y="1197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вой любимый певец – исполнитель, групп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"/>
          <p:cNvSpPr/>
          <p:nvPr/>
        </p:nvSpPr>
        <p:spPr>
          <a:xfrm>
            <a:off x="1332000" y="1484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меешь ты играть на музыкальном инструменте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7"/>
          <p:cNvGrpSpPr/>
          <p:nvPr/>
        </p:nvGrpSpPr>
        <p:grpSpPr>
          <a:xfrm>
            <a:off x="1332000" y="2205000"/>
            <a:ext cx="6048360" cy="3946680"/>
            <a:chOff x="1332000" y="2205000"/>
            <a:chExt cx="6048360" cy="3946680"/>
          </a:xfrm>
        </p:grpSpPr>
        <p:sp>
          <p:nvSpPr>
            <p:cNvPr id="405" name="AutoShape 32"/>
            <p:cNvSpPr/>
            <p:nvPr/>
          </p:nvSpPr>
          <p:spPr>
            <a:xfrm>
              <a:off x="1692000" y="2420640"/>
              <a:ext cx="5472360" cy="3730680"/>
            </a:xfrm>
            <a:prstGeom prst="rect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1332000" y="2205000"/>
              <a:ext cx="6048360" cy="394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3161520" y="4387680"/>
              <a:ext cx="336240" cy="330120"/>
            </a:xfrm>
            <a:prstGeom prst="pie">
              <a:avLst/>
            </a:pr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9"/>
            <p:cNvSpPr/>
            <p:nvPr/>
          </p:nvSpPr>
          <p:spPr>
            <a:xfrm>
              <a:off x="3161520" y="4374720"/>
              <a:ext cx="336240" cy="164880"/>
            </a:xfrm>
            <a:prstGeom prst="pi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2837880" y="4463640"/>
              <a:ext cx="579240" cy="266400"/>
            </a:xfrm>
            <a:prstGeom prst="pie">
              <a:avLst/>
            </a:pr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2837880" y="4400280"/>
              <a:ext cx="579240" cy="1522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6"/>
            <p:cNvSpPr/>
            <p:nvPr/>
          </p:nvSpPr>
          <p:spPr>
            <a:xfrm>
              <a:off x="2675880" y="4578120"/>
              <a:ext cx="80640" cy="266400"/>
            </a:xfrm>
            <a:prstGeom prst="pie">
              <a:avLst/>
            </a:pr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5"/>
            <p:cNvSpPr/>
            <p:nvPr/>
          </p:nvSpPr>
          <p:spPr>
            <a:xfrm>
              <a:off x="2756880" y="4578120"/>
              <a:ext cx="605880" cy="253800"/>
            </a:xfrm>
            <a:prstGeom prst="pie">
              <a:avLst/>
            </a:pr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"/>
            <p:cNvSpPr/>
            <p:nvPr/>
          </p:nvSpPr>
          <p:spPr>
            <a:xfrm>
              <a:off x="2675880" y="4489200"/>
              <a:ext cx="686880" cy="177840"/>
            </a:xfrm>
            <a:prstGeom prst="pi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3080520" y="4603320"/>
              <a:ext cx="1306800" cy="354960"/>
            </a:xfrm>
            <a:prstGeom prst="pie">
              <a:avLst/>
            </a:pr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2"/>
            <p:cNvSpPr/>
            <p:nvPr/>
          </p:nvSpPr>
          <p:spPr>
            <a:xfrm>
              <a:off x="3080520" y="4438440"/>
              <a:ext cx="1306800" cy="342720"/>
            </a:xfrm>
            <a:prstGeom prst="pi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4361400" y="4857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7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2192040" y="4463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7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2591640" y="41716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3022920" y="40960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6"/>
            <p:cNvSpPr/>
            <p:nvPr/>
          </p:nvSpPr>
          <p:spPr>
            <a:xfrm>
              <a:off x="5438880" y="3689640"/>
              <a:ext cx="121320" cy="114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5632200" y="3626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а,для души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жизн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5438880" y="4235040"/>
              <a:ext cx="121320" cy="114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5628240" y="4171680"/>
              <a:ext cx="1227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нимаютс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о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438880" y="4781160"/>
              <a:ext cx="121320" cy="11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631480" y="4717800"/>
              <a:ext cx="1164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ы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сполн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0"/>
            <p:cNvSpPr/>
            <p:nvPr/>
          </p:nvSpPr>
          <p:spPr>
            <a:xfrm>
              <a:off x="5438880" y="5326920"/>
              <a:ext cx="121320" cy="1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5626800" y="52632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ая группа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1332000" y="2205000"/>
              <a:ext cx="6048360" cy="394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6"/>
          <p:cNvSpPr/>
          <p:nvPr/>
        </p:nvSpPr>
        <p:spPr>
          <a:xfrm>
            <a:off x="971640" y="476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"/>
          <p:cNvGrpSpPr/>
          <p:nvPr/>
        </p:nvGrpSpPr>
        <p:grpSpPr>
          <a:xfrm>
            <a:off x="1424160" y="1052640"/>
            <a:ext cx="6172200" cy="4575600"/>
            <a:chOff x="1424160" y="1052640"/>
            <a:chExt cx="6172200" cy="4575600"/>
          </a:xfrm>
        </p:grpSpPr>
        <p:sp>
          <p:nvSpPr>
            <p:cNvPr id="433" name="Freeform 42"/>
            <p:cNvSpPr/>
            <p:nvPr/>
          </p:nvSpPr>
          <p:spPr>
            <a:xfrm>
              <a:off x="2360880" y="4099320"/>
              <a:ext cx="364320" cy="430920"/>
            </a:xfrm>
            <a:prstGeom prst="pi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1"/>
            <p:cNvSpPr/>
            <p:nvPr/>
          </p:nvSpPr>
          <p:spPr>
            <a:xfrm>
              <a:off x="2360880" y="4080960"/>
              <a:ext cx="364320" cy="215280"/>
            </a:xfrm>
            <a:prstGeom prst="pi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"/>
            <p:cNvSpPr/>
            <p:nvPr/>
          </p:nvSpPr>
          <p:spPr>
            <a:xfrm>
              <a:off x="1884600" y="4211640"/>
              <a:ext cx="738000" cy="336960"/>
            </a:xfrm>
            <a:prstGeom prst="pie">
              <a:avLst/>
            </a:prstGeom>
            <a:solidFill>
              <a:srgbClr val="8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1884600" y="4118400"/>
              <a:ext cx="738000" cy="196200"/>
            </a:xfrm>
            <a:prstGeom prst="pi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2893320" y="4230720"/>
              <a:ext cx="794160" cy="308520"/>
            </a:xfrm>
            <a:prstGeom prst="pie">
              <a:avLst/>
            </a:pr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"/>
            <p:cNvSpPr/>
            <p:nvPr/>
          </p:nvSpPr>
          <p:spPr>
            <a:xfrm>
              <a:off x="2893320" y="4090320"/>
              <a:ext cx="794160" cy="2152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3696480" y="4361400"/>
              <a:ext cx="140400" cy="355320"/>
            </a:xfrm>
            <a:prstGeom prst="pie">
              <a:avLst/>
            </a:pr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2987280" y="4361400"/>
              <a:ext cx="709200" cy="355320"/>
            </a:xfrm>
            <a:prstGeom prst="pie">
              <a:avLst/>
            </a:pr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2987280" y="4286520"/>
              <a:ext cx="849600" cy="196560"/>
            </a:xfrm>
            <a:prstGeom prst="pi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3"/>
            <p:cNvSpPr/>
            <p:nvPr/>
          </p:nvSpPr>
          <p:spPr>
            <a:xfrm>
              <a:off x="1716480" y="4361400"/>
              <a:ext cx="186480" cy="374400"/>
            </a:xfrm>
            <a:prstGeom prst="pie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1902960" y="4361400"/>
              <a:ext cx="653760" cy="374400"/>
            </a:xfrm>
            <a:prstGeom prst="pie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1716480" y="4258440"/>
              <a:ext cx="840600" cy="243000"/>
            </a:xfrm>
            <a:prstGeom prst="pi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2005920" y="4539240"/>
              <a:ext cx="513360" cy="308880"/>
            </a:xfrm>
            <a:prstGeom prst="pie">
              <a:avLst/>
            </a:prstGeom>
            <a:solidFill>
              <a:srgbClr val="66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2519640" y="4398840"/>
              <a:ext cx="140400" cy="449280"/>
            </a:xfrm>
            <a:prstGeom prst="pie">
              <a:avLst/>
            </a:prstGeom>
            <a:solidFill>
              <a:srgbClr val="66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8"/>
            <p:cNvSpPr/>
            <p:nvPr/>
          </p:nvSpPr>
          <p:spPr>
            <a:xfrm>
              <a:off x="2005920" y="4398840"/>
              <a:ext cx="653760" cy="21528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"/>
            <p:cNvSpPr/>
            <p:nvPr/>
          </p:nvSpPr>
          <p:spPr>
            <a:xfrm>
              <a:off x="2716200" y="4520880"/>
              <a:ext cx="849960" cy="336960"/>
            </a:xfrm>
            <a:prstGeom prst="pie">
              <a:avLst/>
            </a:pr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6"/>
            <p:cNvSpPr/>
            <p:nvPr/>
          </p:nvSpPr>
          <p:spPr>
            <a:xfrm>
              <a:off x="2716200" y="4398840"/>
              <a:ext cx="849960" cy="224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5"/>
            <p:cNvSpPr/>
            <p:nvPr/>
          </p:nvSpPr>
          <p:spPr>
            <a:xfrm>
              <a:off x="1476000" y="1052640"/>
              <a:ext cx="6120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0000"/>
                  </a:solidFill>
                  <a:latin typeface="Arial"/>
                  <a:ea typeface="Times New Roman"/>
                </a:rPr>
                <a:t>Анкетирование родителей  и учащихся на совпадение музыкальных вкусов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4"/>
            <p:cNvSpPr/>
            <p:nvPr/>
          </p:nvSpPr>
          <p:spPr>
            <a:xfrm>
              <a:off x="3413520" y="3930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3880800" y="4567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3226680" y="4876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"/>
            <p:cNvSpPr/>
            <p:nvPr/>
          </p:nvSpPr>
          <p:spPr>
            <a:xfrm>
              <a:off x="1956960" y="4866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1424160" y="4548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"/>
            <p:cNvSpPr/>
            <p:nvPr/>
          </p:nvSpPr>
          <p:spPr>
            <a:xfrm>
              <a:off x="1751040" y="396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8"/>
            <p:cNvSpPr/>
            <p:nvPr/>
          </p:nvSpPr>
          <p:spPr>
            <a:xfrm>
              <a:off x="2378160" y="3893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4356360" y="3428640"/>
              <a:ext cx="63360" cy="7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>
              <a:off x="4576680" y="3428640"/>
              <a:ext cx="121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п-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4354560" y="3828240"/>
              <a:ext cx="65160" cy="65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4579560" y="378864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ый певец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4354560" y="4165200"/>
              <a:ext cx="65160" cy="65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578120" y="4089600"/>
              <a:ext cx="2226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щие праздники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4354560" y="4455360"/>
              <a:ext cx="65160" cy="65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"/>
            <p:cNvSpPr/>
            <p:nvPr/>
          </p:nvSpPr>
          <p:spPr>
            <a:xfrm>
              <a:off x="4584240" y="4421160"/>
              <a:ext cx="168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ая групп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4354560" y="4736160"/>
              <a:ext cx="65160" cy="6516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4585680" y="473616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месте на концерт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7"/>
            <p:cNvSpPr/>
            <p:nvPr/>
          </p:nvSpPr>
          <p:spPr>
            <a:xfrm>
              <a:off x="4354560" y="5060160"/>
              <a:ext cx="65160" cy="6516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4564080" y="5060160"/>
              <a:ext cx="201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ют дома, караок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5"/>
            <p:cNvSpPr/>
            <p:nvPr/>
          </p:nvSpPr>
          <p:spPr>
            <a:xfrm>
              <a:off x="4354560" y="5384520"/>
              <a:ext cx="65160" cy="658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>
              <a:off x="4564440" y="5384520"/>
              <a:ext cx="19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лушают классику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6"/>
          <p:cNvSpPr/>
          <p:nvPr/>
        </p:nvSpPr>
        <p:spPr>
          <a:xfrm>
            <a:off x="0" y="33336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аключительный этап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полнение про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042920" y="558972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оздание презентации для выступлени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0" y="1268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подбор и разучивание песенного материа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9" descr="D:\конкурс 2014\SAM_0406.JPG"/>
          <p:cNvPicPr/>
          <p:nvPr/>
        </p:nvPicPr>
        <p:blipFill>
          <a:blip r:embed="rId1"/>
          <a:stretch/>
        </p:blipFill>
        <p:spPr>
          <a:xfrm>
            <a:off x="4429080" y="1500120"/>
            <a:ext cx="3927600" cy="300528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0" descr="D:\конкурс 2014\SAM_0391.JPG"/>
          <p:cNvPicPr/>
          <p:nvPr/>
        </p:nvPicPr>
        <p:blipFill>
          <a:blip r:embed="rId2"/>
          <a:stretch/>
        </p:blipFill>
        <p:spPr>
          <a:xfrm>
            <a:off x="214200" y="2143080"/>
            <a:ext cx="4017960" cy="32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6"/>
          <p:cNvSpPr/>
          <p:nvPr/>
        </p:nvSpPr>
        <p:spPr>
          <a:xfrm>
            <a:off x="1357200" y="3571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ы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1042920" y="4292640"/>
            <a:ext cx="309744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9"/>
          <p:cNvSpPr/>
          <p:nvPr/>
        </p:nvSpPr>
        <p:spPr>
          <a:xfrm>
            <a:off x="395280" y="2349360"/>
            <a:ext cx="302580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0"/>
          <p:cNvSpPr/>
          <p:nvPr/>
        </p:nvSpPr>
        <p:spPr>
          <a:xfrm>
            <a:off x="4716360" y="4292640"/>
            <a:ext cx="3240360" cy="1512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5580000" y="2349360"/>
            <a:ext cx="3313080" cy="15112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1258920" y="46576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устроили концерт «Минута славы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5796000" y="242100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лушали и разучивали любимые песн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468360" y="270828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посмотрели видеосъемки выступления вокальной группы и хо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5219640" y="4437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дружились в совместных мероприятиях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 rot="1519200">
            <a:off x="2911320" y="1012680"/>
            <a:ext cx="212760" cy="1440000"/>
          </a:xfrm>
          <a:prstGeom prst="downArrow">
            <a:avLst>
              <a:gd name="adj1" fmla="val 50000"/>
              <a:gd name="adj2" fmla="val 166729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0"/>
          <p:cNvSpPr/>
          <p:nvPr/>
        </p:nvSpPr>
        <p:spPr>
          <a:xfrm rot="19898400">
            <a:off x="5935320" y="872640"/>
            <a:ext cx="210960" cy="1441440"/>
          </a:xfrm>
          <a:prstGeom prst="downArrow">
            <a:avLst>
              <a:gd name="adj1" fmla="val 50000"/>
              <a:gd name="adj2" fmla="val 167055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1"/>
          <p:cNvSpPr/>
          <p:nvPr/>
        </p:nvSpPr>
        <p:spPr>
          <a:xfrm rot="800400">
            <a:off x="3776400" y="933480"/>
            <a:ext cx="215640" cy="3457440"/>
          </a:xfrm>
          <a:prstGeom prst="downArrow">
            <a:avLst>
              <a:gd name="adj1" fmla="val 50000"/>
              <a:gd name="adj2" fmla="val 301145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2"/>
          <p:cNvSpPr/>
          <p:nvPr/>
        </p:nvSpPr>
        <p:spPr>
          <a:xfrm rot="20763000">
            <a:off x="4862160" y="933120"/>
            <a:ext cx="217440" cy="3457440"/>
          </a:xfrm>
          <a:prstGeom prst="downArrow">
            <a:avLst>
              <a:gd name="adj1" fmla="val 50000"/>
              <a:gd name="adj2" fmla="val 299242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6"/>
          <p:cNvSpPr/>
          <p:nvPr/>
        </p:nvSpPr>
        <p:spPr>
          <a:xfrm>
            <a:off x="3059280" y="3141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итоги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7"/>
          <p:cNvSpPr/>
          <p:nvPr/>
        </p:nvSpPr>
        <p:spPr>
          <a:xfrm>
            <a:off x="324000" y="3500280"/>
            <a:ext cx="309708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/>
          <p:cNvSpPr/>
          <p:nvPr/>
        </p:nvSpPr>
        <p:spPr>
          <a:xfrm>
            <a:off x="324000" y="1916280"/>
            <a:ext cx="3025800" cy="1439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2916360" y="404640"/>
            <a:ext cx="3313080" cy="1511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5508720" y="3500280"/>
            <a:ext cx="3240000" cy="15130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2771640" y="4941720"/>
            <a:ext cx="3529080" cy="19162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3"/>
          <p:cNvSpPr/>
          <p:nvPr/>
        </p:nvSpPr>
        <p:spPr>
          <a:xfrm>
            <a:off x="5508720" y="1844640"/>
            <a:ext cx="3240000" cy="15130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3214800" y="64296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неклассное мероприятие    «Минута славы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539640" y="220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общения на тему «Моя любимая групп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5724360" y="2133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фераты на тему     «Мой любимый исполнител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642960" y="3786120"/>
            <a:ext cx="25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лассный час         «Я и современная музык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6084720" y="3807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зучивание песен на уроке музы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3276720" y="5373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нцерт для родите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4356000" y="3716280"/>
            <a:ext cx="216000" cy="1152720"/>
          </a:xfrm>
          <a:prstGeom prst="downArrow">
            <a:avLst>
              <a:gd name="adj1" fmla="val 50000"/>
              <a:gd name="adj2" fmla="val 159729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 flipV="1">
            <a:off x="4356000" y="198900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4572000" y="393228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6"/>
          <p:cNvSpPr/>
          <p:nvPr/>
        </p:nvSpPr>
        <p:spPr>
          <a:xfrm>
            <a:off x="4572000" y="24940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7"/>
          <p:cNvSpPr/>
          <p:nvPr/>
        </p:nvSpPr>
        <p:spPr>
          <a:xfrm>
            <a:off x="3492360" y="393228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8"/>
          <p:cNvSpPr/>
          <p:nvPr/>
        </p:nvSpPr>
        <p:spPr>
          <a:xfrm>
            <a:off x="3419640" y="2494080"/>
            <a:ext cx="936360" cy="287280"/>
          </a:xfrm>
          <a:prstGeom prst="leftArrow">
            <a:avLst>
              <a:gd name="adj1" fmla="val 50000"/>
              <a:gd name="adj2" fmla="val 81485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Диаграмма 1" descr=""/>
          <p:cNvPicPr/>
          <p:nvPr/>
        </p:nvPicPr>
        <p:blipFill>
          <a:blip r:embed="rId1"/>
          <a:stretch/>
        </p:blipFill>
        <p:spPr>
          <a:xfrm>
            <a:off x="1109520" y="1262160"/>
            <a:ext cx="69249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6"/>
          <p:cNvSpPr/>
          <p:nvPr/>
        </p:nvSpPr>
        <p:spPr>
          <a:xfrm>
            <a:off x="539640" y="1557360"/>
            <a:ext cx="8353440" cy="405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ычков В.И. Метод проектов в современной школе. - М.,200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«Обучение для будущего»: Учебное пособие. – М., 201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ергеев И.С. Как организовать проектную деятельность учащихся. – М., 200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сурсы сети Интернет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nsportal.ru/detskii-sad/raznoe/issledovatelskii-tvorcheskii-proekt-puteshestvie-v-mir-muzy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future4you.ru/index.php?option=com_content&amp;view=article&amp;id=1582&amp;Itemid=942 http://900igr.net/prezentatsii/muzyka/Proekt-po-muzyke/Proekt-po-muzyke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www.lossofsoul.com/music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971640" y="62064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нформационные источ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72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Century Schoolbook"/>
              </a:rPr>
              <a:t>ЦЕЛЬ ПРОЕКТА: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ЫЯВИТЬ МУЗЫКАЛЬНЫЕ ИНТЕРЕСЫ, КОТОРЫЕ СМОГЛИ БЫ СПЛОТИТЬ НАШ КЛАСС И СДЕЛАТЬ ЖИЗНЬ ВЕСЕЛЕЙ И ИНТЕРЕСНЕЙ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 u="sng">
                <a:solidFill>
                  <a:srgbClr val="990000"/>
                </a:solidFill>
                <a:uFillTx/>
                <a:latin typeface="Century Schoolbook"/>
              </a:rPr>
              <a:t>ДИДАКТИЧЕСКАЯ ЦЕЛЬ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Century Schoolbook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Century Schoolbook"/>
              </a:rPr>
              <a:t>ВОСПИТАТЬ ЧУВСТВО СПЛОЧЁННОСТИ И ДРУЖБЫ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Oval 4"/>
          <p:cNvSpPr/>
          <p:nvPr/>
        </p:nvSpPr>
        <p:spPr>
          <a:xfrm>
            <a:off x="357120" y="2071800"/>
            <a:ext cx="3857760" cy="20858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3214800" y="4500720"/>
            <a:ext cx="3384360" cy="180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364000" y="2060640"/>
            <a:ext cx="3384720" cy="180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5715000" y="2428920"/>
            <a:ext cx="280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брать материал о любимых песнях и исполнител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642960" y="228600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вершенствовать творческие, интеллектуальные и коммуникативные способности 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214800" y="478620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звивать  музыкальные способности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2700360" y="47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Задачи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AutoShape 19" descr=""/>
          <p:cNvPicPr/>
          <p:nvPr/>
        </p:nvPicPr>
        <p:blipFill>
          <a:blip r:embed="rId1"/>
          <a:stretch/>
        </p:blipFill>
        <p:spPr>
          <a:xfrm>
            <a:off x="2736720" y="1182600"/>
            <a:ext cx="811440" cy="8654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21"/>
          <p:cNvSpPr/>
          <p:nvPr/>
        </p:nvSpPr>
        <p:spPr>
          <a:xfrm rot="19301400">
            <a:off x="5867280" y="1125360"/>
            <a:ext cx="287280" cy="1008360"/>
          </a:xfrm>
          <a:prstGeom prst="downArrow">
            <a:avLst>
              <a:gd name="adj1" fmla="val 30676"/>
              <a:gd name="adj2" fmla="val 100003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4786200" y="1285920"/>
            <a:ext cx="436680" cy="3168720"/>
          </a:xfrm>
          <a:prstGeom prst="downArrow">
            <a:avLst>
              <a:gd name="adj1" fmla="val 24861"/>
              <a:gd name="adj2" fmla="val 163336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2268360" y="105264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Гипотеза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187280" y="2349360"/>
            <a:ext cx="712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Мы предполагаем , что при разносторонних интересах каждого музыка сплачивает наш класс и делает дружнее и добрее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2195640" y="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Вопросы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95280" y="907920"/>
            <a:ext cx="3384720" cy="2160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651640" y="765000"/>
            <a:ext cx="3313080" cy="22323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611280" y="134136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озможно ли развитие личностных качеств ребят посредством музык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5796000" y="1341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нтересны ли песни  современных детей их родителям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724360" y="4076640"/>
            <a:ext cx="3097440" cy="18003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012000" y="450864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Если интерес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 в какой ме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AutoShape 14" descr=""/>
          <p:cNvPicPr/>
          <p:nvPr/>
        </p:nvPicPr>
        <p:blipFill>
          <a:blip r:embed="rId1"/>
          <a:stretch/>
        </p:blipFill>
        <p:spPr>
          <a:xfrm>
            <a:off x="3591000" y="590400"/>
            <a:ext cx="560160" cy="67788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4"/>
          <p:cNvSpPr/>
          <p:nvPr/>
        </p:nvSpPr>
        <p:spPr>
          <a:xfrm>
            <a:off x="7308720" y="3284640"/>
            <a:ext cx="216000" cy="706320"/>
          </a:xfrm>
          <a:prstGeom prst="downArrow">
            <a:avLst>
              <a:gd name="adj1" fmla="val 50000"/>
              <a:gd name="adj2" fmla="val 99947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1"/>
          <p:cNvSpPr/>
          <p:nvPr/>
        </p:nvSpPr>
        <p:spPr>
          <a:xfrm>
            <a:off x="468360" y="4005360"/>
            <a:ext cx="3311640" cy="1944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971640" y="4221000"/>
            <a:ext cx="230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к связаны музыкаль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нтересы и личнос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бёнк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/>
          <p:cNvSpPr/>
          <p:nvPr/>
        </p:nvSpPr>
        <p:spPr>
          <a:xfrm rot="18961200">
            <a:off x="5341680" y="593280"/>
            <a:ext cx="234720" cy="777960"/>
          </a:xfrm>
          <a:prstGeom prst="downArrow">
            <a:avLst>
              <a:gd name="adj1" fmla="val 50000"/>
              <a:gd name="adj2" fmla="val 100123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4"/>
          <p:cNvSpPr/>
          <p:nvPr/>
        </p:nvSpPr>
        <p:spPr>
          <a:xfrm>
            <a:off x="2050920" y="3213000"/>
            <a:ext cx="217440" cy="706680"/>
          </a:xfrm>
          <a:prstGeom prst="downArrow">
            <a:avLst>
              <a:gd name="adj1" fmla="val 50000"/>
              <a:gd name="adj2" fmla="val 100058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468360" y="476280"/>
            <a:ext cx="799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Методы исслед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бор информ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учение литературы, статей о классической музыке и современных исполнителях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лушание музыкальных произведений современной и классической музык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 и опрос одноклассников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ланирование и проведение внеклассного мероприяти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дведение итогов и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Объект исслед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чащиеся 5 класса</a:t>
            </a: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Предмет исследовани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узыкальные интересы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79280" y="533520"/>
            <a:ext cx="8352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исслед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этап: Подготовительны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Формулирование основополагающих вопросов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Создание рабочей группы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Знакомство учащихся с темами исследований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этап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Обсуждение плана проекта, проблемных вопрос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Распределение обязанност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Рекомендация списка ресурсов по теме проекта :как найти источники достоверной информации по теме исследования и использовать их, соблюдая авторские прав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ий этап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Сбор материала и его анали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Тестирование, опрос одноклассников и их родителей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Исследования в виде диаграм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й этап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Подведение итог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абота над созданием презентаци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Подсчёт и оформление результат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лексия работы над проектом: осуществляется путём обсуждения того, что удалось и не удалось сделать в данном проект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79280" y="1052640"/>
            <a:ext cx="87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Любишь  ли ты  музыку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Нужна ли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Какую музыку ты любишь?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классическую; б) современную; в) поп- музыку; г) танцевальну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  Твой любимый певец – исполнитель, группа, любимое произвед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   Где ты слушаешь музыку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на уроках музы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о ТВ (телевидение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 на телефон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по  ради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концерт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  Любишь ли ты петь, танцевать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  Умеешь ты играть на музыкальном инструменте? (на каком 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  Устраиваются ли в твоей  семье музыкальные вечер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Посещаете ли вы вместе концерты, музыкальные спектакли, оперу, балет и т.д.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 Помогает ли тебе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"/>
          <p:cNvSpPr/>
          <p:nvPr/>
        </p:nvSpPr>
        <p:spPr>
          <a:xfrm>
            <a:off x="468360" y="404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- опрос одноклассни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826920" y="189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1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Подготовительны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763640" y="328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здание рабочей групп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SAM_3863.JPG"/>
          <p:cNvPicPr/>
          <p:nvPr/>
        </p:nvPicPr>
        <p:blipFill>
          <a:blip r:embed="rId1"/>
          <a:stretch/>
        </p:blipFill>
        <p:spPr>
          <a:xfrm>
            <a:off x="3500280" y="3857760"/>
            <a:ext cx="3738600" cy="26859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5" descr="C:\Users\Наташа\Desktop\Новая папка (2)\SAM_0613.JPG"/>
          <p:cNvPicPr/>
          <p:nvPr/>
        </p:nvPicPr>
        <p:blipFill>
          <a:blip r:embed="rId2"/>
          <a:stretch/>
        </p:blipFill>
        <p:spPr>
          <a:xfrm>
            <a:off x="500040" y="857160"/>
            <a:ext cx="415296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42:02Z</dcterms:created>
  <dc:creator>SSH</dc:creator>
  <dc:description/>
  <dc:language>en-US</dc:language>
  <cp:lastModifiedBy>Наташа</cp:lastModifiedBy>
  <dcterms:modified xsi:type="dcterms:W3CDTF">2015-01-27T17:18:23Z</dcterms:modified>
  <cp:revision>180</cp:revision>
  <dc:subject/>
  <dc:title>Слайд 1</dc:title>
</cp:coreProperties>
</file>