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419-D04A-46F8-90FD-DDFEC461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623-BD47-4C03-A23C-AD9BB32C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F62-56F5-47AC-99EC-63B12512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437-5443-4025-AECE-970AFEDA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540F-245B-4A5A-9329-6EB4C904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280B-E497-425E-9BCA-624917F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234D-76FB-410A-AF55-D985D82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B395-6F31-457F-84DD-6B3B9E25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E1F-2D37-4868-8E17-32068DAB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E554-FF5F-4DEB-A680-152041E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AF5F-9E31-43C7-BC83-8EE974AF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82C-F4F5-4035-8DA7-6FF597DE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24F4-7A6E-4476-941D-80A649C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C6BF-C6E9-4A1B-9504-34B7BAA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D9E8-5119-4DAA-BD99-2085233E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5421-540A-4E80-B6FA-F47FCF56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AB03-A7CB-4769-88D3-3AB981EE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6B8D1-374D-4997-A5B7-728D586B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2EA3C-9DCC-4ECE-983E-78C0A70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D5367-917C-4751-8C75-46AFE812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E7E7B-A5AE-43FB-8A64-BE826AB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2E8AD-0550-4620-A693-5BF080C4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A2C-0C8F-48DA-BD53-3EB018EC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EAFF1-A492-409E-880C-FEE8D8A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974CE-5E9D-46D5-8EBF-C88E1199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C8EEC-AFA4-43FD-B4D8-A7439841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5654C-38DF-4ACB-8585-6C8D1C6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2A5C5-7684-4DE6-90D1-9B1AE4AF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1AB0B-DB25-4B3B-A193-1E52E808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2A832-B59F-4F56-975C-F70C0D24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C929-D61D-4299-932B-6AC55D8F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B8B1-3E73-402C-870C-1D72610D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E977-9449-4E1D-A7E2-6F5879B8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740-8B3B-4006-9331-42F6DA55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AC85-DF1E-43CD-941F-D4EF4567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5ACF-08E5-49F7-8F3C-6EE2FF24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ABF6-DDDE-4BDE-BAF7-CEE1EACC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7081-5938-478B-839C-C6C99E75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89A3-2BBA-4653-9A9C-4A2EA09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06AF-1E84-4CD0-ADFD-20DF1A5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C029-93C3-49C0-80D0-2428E288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2E0BF-4B73-4FBE-BBA8-425F8A7D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8DA1-9936-400F-9228-2C3D47A1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ED010-44A8-4A39-A814-2EA71154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424-0C20-48BC-A99F-5415A47D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AE0FC-8A71-451A-A902-5EA49E39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049B0-F4AD-4F7C-910C-B0FC4CEC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3A163-94F1-43B1-9354-F182F461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59F15-2082-4523-B2A7-78501CAE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70140-9EC9-4D67-AC65-AFDE7C4A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E633A-D9CF-4FB6-98D7-A4725B46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854ED-FA8B-46FB-8F61-7A5423C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8AA2E-BFD7-43E1-AC14-F18BB46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47ACD-6D42-43F6-BBDD-A5936DE3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7E5F7-7EC0-49F7-9779-17FD61EB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8B6-972F-4EDF-8B17-E7FE0635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5DC0B-CEB6-44ED-9B70-A3222FBB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4A8A6-1658-4179-B4A4-3BDDC44D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2229D-1A3C-4A11-BE8C-7DCBFFF2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F30C1-BB4B-4FA2-AD2D-3715D37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B86E9-A549-423B-BC08-9540BE3D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3CB34-027B-4955-8DC4-C05DF589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DADEF-4C1E-4CE2-A1C5-8F6ABE45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A364A-8F81-43CE-A0B4-70618D5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BAB4E-AB5A-45C3-8804-3DDF132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E6A58-F2DC-4F1F-87EA-C13E364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898-8D1F-480F-AA5E-FF31A005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B4170-9415-4278-BA5F-D578B5D2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D2C7A-F520-415E-97DF-3CA88D6C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28AB1-C95D-4CF8-85CC-2E74E22A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FD3AF-5AE2-4C92-B8F6-F47ED14F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BDE6F-BAFA-4627-BA9A-1777936D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19D9A-7880-4F66-9182-A24FE82C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6455E-FCD2-41C7-80CB-E261A58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ED5ED-926F-413D-9F1F-F22B39A8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B2479-6B90-4E47-B154-11AF7139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CDCAB-55EA-49C3-ADFC-7228747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245-BCC9-4620-84E6-A60DC13A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ABE43-99B5-41FC-923E-0D1341D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AB017-60B0-4AA8-AC27-8E053A5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CA15F-2C9E-4CA5-AEA3-A949809C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F7068-FD35-4194-90A6-7176AE96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9DDAB-E110-49A6-9CB6-1D424038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956-783E-412A-A01D-56DF7CC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737D-ED85-432B-9BFB-8868BCBB6D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CE77-D85C-423A-B0B7-0CF07A446D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C9E7-73D1-4D8A-8715-FD421AF866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F54-0ED5-4C76-9992-1B53643789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85CB-A773-44B8-A948-D26C23FAE6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DCD-22F9-4210-BF68-629B62EE31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D2FB-EACA-4C7C-9568-AC212A9389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Century Schoolbook"/>
              </a:rPr>
              <a:t>«ВМЕСТЕ ВЕСЕЛЕЕ С ПЕСНЕЙ»</a:t>
            </a:r>
            <a:br>
              <a:rPr sz="3000"/>
            </a:br>
            <a:r>
              <a:rPr b="1" lang="ru-RU" sz="1800" spc="-1" strike="noStrike">
                <a:solidFill>
                  <a:srgbClr val="990000"/>
                </a:solidFill>
                <a:latin typeface="Century Schoolbook"/>
              </a:rPr>
              <a:t>ИССЛЕДОВАТЕЛЬСКИЙ  ПРОЕКТ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142880" y="3500280"/>
            <a:ext cx="50007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Пимаева Вероник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Щупкина Юл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Шашорина Н.В. Учитель музык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395280" y="5715000"/>
            <a:ext cx="8280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БОУ «Нижнебаскунчакская СОШ М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«Ахтубинский район» имени К,К,Искалиева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7" descr="D:\конкурс 2014\SAM_0478.JPG"/>
          <p:cNvPicPr/>
          <p:nvPr/>
        </p:nvPicPr>
        <p:blipFill>
          <a:blip r:embed="rId1"/>
          <a:stretch/>
        </p:blipFill>
        <p:spPr>
          <a:xfrm>
            <a:off x="214200" y="2428920"/>
            <a:ext cx="3857760" cy="28573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D:\конкурс 2014\SAM_0408.JPG"/>
          <p:cNvPicPr/>
          <p:nvPr/>
        </p:nvPicPr>
        <p:blipFill>
          <a:blip r:embed="rId2"/>
          <a:stretch/>
        </p:blipFill>
        <p:spPr>
          <a:xfrm>
            <a:off x="5357880" y="928800"/>
            <a:ext cx="35002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6"/>
          <p:cNvSpPr/>
          <p:nvPr/>
        </p:nvSpPr>
        <p:spPr>
          <a:xfrm>
            <a:off x="1643040" y="285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2 этап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Планиро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643280" y="1341360"/>
            <a:ext cx="4248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распределение обязанностей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определение источников информации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179280" y="407196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"/>
              </a:rPr>
              <a:t>обсуждение проблем, которые могут возникнуть в ходе работы над проекто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6"/>
          <p:cNvSpPr/>
          <p:nvPr/>
        </p:nvSpPr>
        <p:spPr>
          <a:xfrm>
            <a:off x="0" y="58294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3 этап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Сбор материала и анали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5" descr="C:\Users\Наташа\Desktop\Новая папка (2)\SAM_0627.JPG"/>
          <p:cNvPicPr/>
          <p:nvPr/>
        </p:nvPicPr>
        <p:blipFill>
          <a:blip r:embed="rId1"/>
          <a:stretch/>
        </p:blipFill>
        <p:spPr>
          <a:xfrm>
            <a:off x="142920" y="1000080"/>
            <a:ext cx="4327560" cy="306396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6" descr="C:\Users\Наташа\Desktop\Новая папка (2)\SAM_0621.JPG"/>
          <p:cNvPicPr/>
          <p:nvPr/>
        </p:nvPicPr>
        <p:blipFill>
          <a:blip r:embed="rId2"/>
          <a:stretch/>
        </p:blipFill>
        <p:spPr>
          <a:xfrm>
            <a:off x="4357800" y="3000240"/>
            <a:ext cx="435924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Object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345440" cy="42480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2"/>
          <p:cNvSpPr/>
          <p:nvPr/>
        </p:nvSpPr>
        <p:spPr>
          <a:xfrm>
            <a:off x="684360" y="98100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кую музыку вы слушаете чаще всего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40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ы проведенных исследова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8"/>
          <p:cNvSpPr/>
          <p:nvPr/>
        </p:nvSpPr>
        <p:spPr>
          <a:xfrm>
            <a:off x="250920" y="333360"/>
            <a:ext cx="76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Результаты проведенных исследовани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1349280" y="90792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ужна ли музыка в жизни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1187280" y="1197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вой любимый певец – исполнитель, групп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"/>
          <p:cNvSpPr/>
          <p:nvPr/>
        </p:nvSpPr>
        <p:spPr>
          <a:xfrm>
            <a:off x="1332000" y="1484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меешь ты играть на музыкальном инструменте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7"/>
          <p:cNvGrpSpPr/>
          <p:nvPr/>
        </p:nvGrpSpPr>
        <p:grpSpPr>
          <a:xfrm>
            <a:off x="1332000" y="2205000"/>
            <a:ext cx="6048360" cy="3946680"/>
            <a:chOff x="1332000" y="2205000"/>
            <a:chExt cx="6048360" cy="3946680"/>
          </a:xfrm>
        </p:grpSpPr>
        <p:sp>
          <p:nvSpPr>
            <p:cNvPr id="405" name="AutoShape 32"/>
            <p:cNvSpPr/>
            <p:nvPr/>
          </p:nvSpPr>
          <p:spPr>
            <a:xfrm>
              <a:off x="1692000" y="2420640"/>
              <a:ext cx="5472360" cy="3730680"/>
            </a:xfrm>
            <a:prstGeom prst="rect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1332000" y="2205000"/>
              <a:ext cx="6048360" cy="394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3161520" y="4387680"/>
              <a:ext cx="336240" cy="330120"/>
            </a:xfrm>
            <a:prstGeom prst="pie">
              <a:avLst/>
            </a:pr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9"/>
            <p:cNvSpPr/>
            <p:nvPr/>
          </p:nvSpPr>
          <p:spPr>
            <a:xfrm>
              <a:off x="3161520" y="4374720"/>
              <a:ext cx="336240" cy="164880"/>
            </a:xfrm>
            <a:prstGeom prst="pi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2837880" y="4463640"/>
              <a:ext cx="579240" cy="266400"/>
            </a:xfrm>
            <a:prstGeom prst="pie">
              <a:avLst/>
            </a:pr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2837880" y="4400280"/>
              <a:ext cx="579240" cy="15228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6"/>
            <p:cNvSpPr/>
            <p:nvPr/>
          </p:nvSpPr>
          <p:spPr>
            <a:xfrm>
              <a:off x="2675880" y="4578120"/>
              <a:ext cx="80640" cy="266400"/>
            </a:xfrm>
            <a:prstGeom prst="pie">
              <a:avLst/>
            </a:pr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5"/>
            <p:cNvSpPr/>
            <p:nvPr/>
          </p:nvSpPr>
          <p:spPr>
            <a:xfrm>
              <a:off x="2756880" y="4578120"/>
              <a:ext cx="605880" cy="253800"/>
            </a:xfrm>
            <a:prstGeom prst="pie">
              <a:avLst/>
            </a:pr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4"/>
            <p:cNvSpPr/>
            <p:nvPr/>
          </p:nvSpPr>
          <p:spPr>
            <a:xfrm>
              <a:off x="2675880" y="4489200"/>
              <a:ext cx="686880" cy="177840"/>
            </a:xfrm>
            <a:prstGeom prst="pie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3080520" y="4603320"/>
              <a:ext cx="1306800" cy="354960"/>
            </a:xfrm>
            <a:prstGeom prst="pie">
              <a:avLst/>
            </a:pr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2"/>
            <p:cNvSpPr/>
            <p:nvPr/>
          </p:nvSpPr>
          <p:spPr>
            <a:xfrm>
              <a:off x="3080520" y="4438440"/>
              <a:ext cx="1306800" cy="342720"/>
            </a:xfrm>
            <a:prstGeom prst="pi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4361400" y="48574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7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2192040" y="4463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7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8"/>
            <p:cNvSpPr/>
            <p:nvPr/>
          </p:nvSpPr>
          <p:spPr>
            <a:xfrm>
              <a:off x="2591640" y="41716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"/>
            <p:cNvSpPr/>
            <p:nvPr/>
          </p:nvSpPr>
          <p:spPr>
            <a:xfrm>
              <a:off x="3022920" y="40960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6"/>
            <p:cNvSpPr/>
            <p:nvPr/>
          </p:nvSpPr>
          <p:spPr>
            <a:xfrm>
              <a:off x="5438880" y="3689640"/>
              <a:ext cx="121320" cy="114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5632200" y="3626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а,для души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жизн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5438880" y="4235040"/>
              <a:ext cx="121320" cy="114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5628240" y="4171680"/>
              <a:ext cx="12276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нимаютс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зыкой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5438880" y="4781160"/>
              <a:ext cx="121320" cy="113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631480" y="4717800"/>
              <a:ext cx="1164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ый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сполн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0"/>
            <p:cNvSpPr/>
            <p:nvPr/>
          </p:nvSpPr>
          <p:spPr>
            <a:xfrm>
              <a:off x="5438880" y="5326920"/>
              <a:ext cx="121320" cy="11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5626800" y="5263200"/>
              <a:ext cx="146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ая группа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1332000" y="2205000"/>
              <a:ext cx="6048360" cy="394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6"/>
          <p:cNvSpPr/>
          <p:nvPr/>
        </p:nvSpPr>
        <p:spPr>
          <a:xfrm>
            <a:off x="971640" y="476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Результаты проведенных исследовани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"/>
          <p:cNvGrpSpPr/>
          <p:nvPr/>
        </p:nvGrpSpPr>
        <p:grpSpPr>
          <a:xfrm>
            <a:off x="1424160" y="1052640"/>
            <a:ext cx="6172200" cy="4575600"/>
            <a:chOff x="1424160" y="1052640"/>
            <a:chExt cx="6172200" cy="4575600"/>
          </a:xfrm>
        </p:grpSpPr>
        <p:sp>
          <p:nvSpPr>
            <p:cNvPr id="433" name="Freeform 42"/>
            <p:cNvSpPr/>
            <p:nvPr/>
          </p:nvSpPr>
          <p:spPr>
            <a:xfrm>
              <a:off x="2360880" y="4099320"/>
              <a:ext cx="364320" cy="430920"/>
            </a:xfrm>
            <a:prstGeom prst="pi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1"/>
            <p:cNvSpPr/>
            <p:nvPr/>
          </p:nvSpPr>
          <p:spPr>
            <a:xfrm>
              <a:off x="2360880" y="4080960"/>
              <a:ext cx="364320" cy="215280"/>
            </a:xfrm>
            <a:prstGeom prst="pie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0"/>
            <p:cNvSpPr/>
            <p:nvPr/>
          </p:nvSpPr>
          <p:spPr>
            <a:xfrm>
              <a:off x="1884600" y="4211640"/>
              <a:ext cx="738000" cy="336960"/>
            </a:xfrm>
            <a:prstGeom prst="pie">
              <a:avLst/>
            </a:prstGeom>
            <a:solidFill>
              <a:srgbClr val="8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"/>
            <p:cNvSpPr/>
            <p:nvPr/>
          </p:nvSpPr>
          <p:spPr>
            <a:xfrm>
              <a:off x="1884600" y="4118400"/>
              <a:ext cx="738000" cy="196200"/>
            </a:xfrm>
            <a:prstGeom prst="pie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2893320" y="4230720"/>
              <a:ext cx="794160" cy="308520"/>
            </a:xfrm>
            <a:prstGeom prst="pie">
              <a:avLst/>
            </a:prstGeom>
            <a:solidFill>
              <a:srgbClr val="4d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"/>
            <p:cNvSpPr/>
            <p:nvPr/>
          </p:nvSpPr>
          <p:spPr>
            <a:xfrm>
              <a:off x="2893320" y="4090320"/>
              <a:ext cx="794160" cy="2152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3696480" y="4361400"/>
              <a:ext cx="140400" cy="355320"/>
            </a:xfrm>
            <a:prstGeom prst="pie">
              <a:avLst/>
            </a:pr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2987280" y="4361400"/>
              <a:ext cx="709200" cy="355320"/>
            </a:xfrm>
            <a:prstGeom prst="pie">
              <a:avLst/>
            </a:pr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2987280" y="4286520"/>
              <a:ext cx="849600" cy="196560"/>
            </a:xfrm>
            <a:prstGeom prst="pi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3"/>
            <p:cNvSpPr/>
            <p:nvPr/>
          </p:nvSpPr>
          <p:spPr>
            <a:xfrm>
              <a:off x="1716480" y="4361400"/>
              <a:ext cx="186480" cy="374400"/>
            </a:xfrm>
            <a:prstGeom prst="pie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1902960" y="4361400"/>
              <a:ext cx="653760" cy="374400"/>
            </a:xfrm>
            <a:prstGeom prst="pie">
              <a:avLst/>
            </a:prstGeom>
            <a:solidFill>
              <a:srgbClr val="3300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1"/>
            <p:cNvSpPr/>
            <p:nvPr/>
          </p:nvSpPr>
          <p:spPr>
            <a:xfrm>
              <a:off x="1716480" y="4258440"/>
              <a:ext cx="840600" cy="243000"/>
            </a:xfrm>
            <a:prstGeom prst="pi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2005920" y="4539240"/>
              <a:ext cx="513360" cy="308880"/>
            </a:xfrm>
            <a:prstGeom prst="pie">
              <a:avLst/>
            </a:prstGeom>
            <a:solidFill>
              <a:srgbClr val="66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2519640" y="4398840"/>
              <a:ext cx="140400" cy="449280"/>
            </a:xfrm>
            <a:prstGeom prst="pie">
              <a:avLst/>
            </a:prstGeom>
            <a:solidFill>
              <a:srgbClr val="66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8"/>
            <p:cNvSpPr/>
            <p:nvPr/>
          </p:nvSpPr>
          <p:spPr>
            <a:xfrm>
              <a:off x="2005920" y="4398840"/>
              <a:ext cx="653760" cy="21528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"/>
            <p:cNvSpPr/>
            <p:nvPr/>
          </p:nvSpPr>
          <p:spPr>
            <a:xfrm>
              <a:off x="2716200" y="4520880"/>
              <a:ext cx="849960" cy="336960"/>
            </a:xfrm>
            <a:prstGeom prst="pie">
              <a:avLst/>
            </a:pr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6"/>
            <p:cNvSpPr/>
            <p:nvPr/>
          </p:nvSpPr>
          <p:spPr>
            <a:xfrm>
              <a:off x="2716200" y="4398840"/>
              <a:ext cx="849960" cy="224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5"/>
            <p:cNvSpPr/>
            <p:nvPr/>
          </p:nvSpPr>
          <p:spPr>
            <a:xfrm>
              <a:off x="1476000" y="1052640"/>
              <a:ext cx="6120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0000"/>
                  </a:solidFill>
                  <a:latin typeface="Arial"/>
                  <a:ea typeface="Times New Roman"/>
                </a:rPr>
                <a:t>Анкетирование родителей  и учащихся на совпадение музыкальных вкусов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4"/>
            <p:cNvSpPr/>
            <p:nvPr/>
          </p:nvSpPr>
          <p:spPr>
            <a:xfrm>
              <a:off x="3413520" y="3930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3880800" y="4567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"/>
            <p:cNvSpPr/>
            <p:nvPr/>
          </p:nvSpPr>
          <p:spPr>
            <a:xfrm>
              <a:off x="3226680" y="48765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1"/>
            <p:cNvSpPr/>
            <p:nvPr/>
          </p:nvSpPr>
          <p:spPr>
            <a:xfrm>
              <a:off x="1956960" y="4866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1424160" y="4548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9"/>
            <p:cNvSpPr/>
            <p:nvPr/>
          </p:nvSpPr>
          <p:spPr>
            <a:xfrm>
              <a:off x="1751040" y="3968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8"/>
            <p:cNvSpPr/>
            <p:nvPr/>
          </p:nvSpPr>
          <p:spPr>
            <a:xfrm>
              <a:off x="2378160" y="38934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4356360" y="3428640"/>
              <a:ext cx="63360" cy="7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6"/>
            <p:cNvSpPr/>
            <p:nvPr/>
          </p:nvSpPr>
          <p:spPr>
            <a:xfrm>
              <a:off x="4576680" y="3428640"/>
              <a:ext cx="121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п-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4354560" y="3828240"/>
              <a:ext cx="65160" cy="65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4579560" y="378864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ый певец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4354560" y="4165200"/>
              <a:ext cx="65160" cy="65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4578120" y="4089600"/>
              <a:ext cx="22262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щие праздники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4354560" y="4455360"/>
              <a:ext cx="65160" cy="65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0"/>
            <p:cNvSpPr/>
            <p:nvPr/>
          </p:nvSpPr>
          <p:spPr>
            <a:xfrm>
              <a:off x="4584240" y="4421160"/>
              <a:ext cx="168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ая групп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4354560" y="4736160"/>
              <a:ext cx="65160" cy="6516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4585680" y="4736160"/>
              <a:ext cx="188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месте на концерт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7"/>
            <p:cNvSpPr/>
            <p:nvPr/>
          </p:nvSpPr>
          <p:spPr>
            <a:xfrm>
              <a:off x="4354560" y="5060160"/>
              <a:ext cx="65160" cy="65160"/>
            </a:xfrm>
            <a:prstGeom prst="rect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4564080" y="5060160"/>
              <a:ext cx="201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ют дома, караок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5"/>
            <p:cNvSpPr/>
            <p:nvPr/>
          </p:nvSpPr>
          <p:spPr>
            <a:xfrm>
              <a:off x="4354560" y="5384520"/>
              <a:ext cx="65160" cy="658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>
              <a:off x="4564440" y="5384520"/>
              <a:ext cx="19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лушают классику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6"/>
          <p:cNvSpPr/>
          <p:nvPr/>
        </p:nvSpPr>
        <p:spPr>
          <a:xfrm>
            <a:off x="0" y="333360"/>
            <a:ext cx="91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Заключительный этап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ыполнение про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042920" y="558972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оздание презентации для выступлени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0" y="126828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подбор и разучивание песенного материал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9" descr="D:\конкурс 2014\SAM_0406.JPG"/>
          <p:cNvPicPr/>
          <p:nvPr/>
        </p:nvPicPr>
        <p:blipFill>
          <a:blip r:embed="rId1"/>
          <a:stretch/>
        </p:blipFill>
        <p:spPr>
          <a:xfrm>
            <a:off x="4429080" y="1500120"/>
            <a:ext cx="3927600" cy="300528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0" descr="D:\конкурс 2014\SAM_0391.JPG"/>
          <p:cNvPicPr/>
          <p:nvPr/>
        </p:nvPicPr>
        <p:blipFill>
          <a:blip r:embed="rId2"/>
          <a:stretch/>
        </p:blipFill>
        <p:spPr>
          <a:xfrm>
            <a:off x="214200" y="2143080"/>
            <a:ext cx="4017960" cy="32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6"/>
          <p:cNvSpPr/>
          <p:nvPr/>
        </p:nvSpPr>
        <p:spPr>
          <a:xfrm>
            <a:off x="1357200" y="3571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ы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"/>
          <p:cNvSpPr/>
          <p:nvPr/>
        </p:nvSpPr>
        <p:spPr>
          <a:xfrm>
            <a:off x="1042920" y="4292640"/>
            <a:ext cx="3097440" cy="144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9"/>
          <p:cNvSpPr/>
          <p:nvPr/>
        </p:nvSpPr>
        <p:spPr>
          <a:xfrm>
            <a:off x="395280" y="2349360"/>
            <a:ext cx="3025800" cy="144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0"/>
          <p:cNvSpPr/>
          <p:nvPr/>
        </p:nvSpPr>
        <p:spPr>
          <a:xfrm>
            <a:off x="4716360" y="4292640"/>
            <a:ext cx="3240360" cy="15127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1"/>
          <p:cNvSpPr/>
          <p:nvPr/>
        </p:nvSpPr>
        <p:spPr>
          <a:xfrm>
            <a:off x="5580000" y="2349360"/>
            <a:ext cx="3313080" cy="15112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1258920" y="46576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устроили концерт «Минута славы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5796000" y="242100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лушали и разучивали любимые песни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468360" y="270828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посмотрели видеосъемки выступления вокальной группы и хор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5219640" y="4437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дружились в совместных мероприятиях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9"/>
          <p:cNvSpPr/>
          <p:nvPr/>
        </p:nvSpPr>
        <p:spPr>
          <a:xfrm rot="1519200">
            <a:off x="2911320" y="1012680"/>
            <a:ext cx="212760" cy="1440000"/>
          </a:xfrm>
          <a:prstGeom prst="downArrow">
            <a:avLst>
              <a:gd name="adj1" fmla="val 50000"/>
              <a:gd name="adj2" fmla="val 166729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20"/>
          <p:cNvSpPr/>
          <p:nvPr/>
        </p:nvSpPr>
        <p:spPr>
          <a:xfrm rot="19898400">
            <a:off x="5935320" y="872640"/>
            <a:ext cx="210960" cy="1441440"/>
          </a:xfrm>
          <a:prstGeom prst="downArrow">
            <a:avLst>
              <a:gd name="adj1" fmla="val 50000"/>
              <a:gd name="adj2" fmla="val 167055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21"/>
          <p:cNvSpPr/>
          <p:nvPr/>
        </p:nvSpPr>
        <p:spPr>
          <a:xfrm rot="800400">
            <a:off x="3776400" y="933480"/>
            <a:ext cx="215640" cy="3457440"/>
          </a:xfrm>
          <a:prstGeom prst="downArrow">
            <a:avLst>
              <a:gd name="adj1" fmla="val 50000"/>
              <a:gd name="adj2" fmla="val 301145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2"/>
          <p:cNvSpPr/>
          <p:nvPr/>
        </p:nvSpPr>
        <p:spPr>
          <a:xfrm rot="20763000">
            <a:off x="4862160" y="933120"/>
            <a:ext cx="217440" cy="3457440"/>
          </a:xfrm>
          <a:prstGeom prst="downArrow">
            <a:avLst>
              <a:gd name="adj1" fmla="val 50000"/>
              <a:gd name="adj2" fmla="val 299242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6"/>
          <p:cNvSpPr/>
          <p:nvPr/>
        </p:nvSpPr>
        <p:spPr>
          <a:xfrm>
            <a:off x="3059280" y="3141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итоги про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7"/>
          <p:cNvSpPr/>
          <p:nvPr/>
        </p:nvSpPr>
        <p:spPr>
          <a:xfrm>
            <a:off x="324000" y="3500280"/>
            <a:ext cx="3097080" cy="144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/>
          <p:cNvSpPr/>
          <p:nvPr/>
        </p:nvSpPr>
        <p:spPr>
          <a:xfrm>
            <a:off x="324000" y="1916280"/>
            <a:ext cx="3025800" cy="1439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2916360" y="404640"/>
            <a:ext cx="3313080" cy="1511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>
            <a:off x="5508720" y="3500280"/>
            <a:ext cx="3240000" cy="15130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2771640" y="4941720"/>
            <a:ext cx="3529080" cy="19162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3"/>
          <p:cNvSpPr/>
          <p:nvPr/>
        </p:nvSpPr>
        <p:spPr>
          <a:xfrm>
            <a:off x="5508720" y="1844640"/>
            <a:ext cx="3240000" cy="15130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3214800" y="64296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неклассное мероприятие    «Минута славы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539640" y="220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ообщения на тему «Моя любимая групп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5724360" y="2133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ефераты на тему     «Мой любимый исполнител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642960" y="3786120"/>
            <a:ext cx="259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лассный час         «Я и современная музык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6084720" y="3807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зучивание песен на уроке музы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9"/>
          <p:cNvSpPr/>
          <p:nvPr/>
        </p:nvSpPr>
        <p:spPr>
          <a:xfrm>
            <a:off x="3276720" y="5373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онцерт для родите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0"/>
          <p:cNvSpPr/>
          <p:nvPr/>
        </p:nvSpPr>
        <p:spPr>
          <a:xfrm>
            <a:off x="4356000" y="3716280"/>
            <a:ext cx="216000" cy="1152720"/>
          </a:xfrm>
          <a:prstGeom prst="downArrow">
            <a:avLst>
              <a:gd name="adj1" fmla="val 50000"/>
              <a:gd name="adj2" fmla="val 159729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1"/>
          <p:cNvSpPr/>
          <p:nvPr/>
        </p:nvSpPr>
        <p:spPr>
          <a:xfrm flipV="1">
            <a:off x="4356000" y="1989000"/>
            <a:ext cx="216000" cy="1224000"/>
          </a:xfrm>
          <a:prstGeom prst="downArrow">
            <a:avLst>
              <a:gd name="adj1" fmla="val 50000"/>
              <a:gd name="adj2" fmla="val 141667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4572000" y="3932280"/>
            <a:ext cx="936720" cy="288720"/>
          </a:xfrm>
          <a:prstGeom prst="rightArrow">
            <a:avLst>
              <a:gd name="adj1" fmla="val 50000"/>
              <a:gd name="adj2" fmla="val 81110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6"/>
          <p:cNvSpPr/>
          <p:nvPr/>
        </p:nvSpPr>
        <p:spPr>
          <a:xfrm>
            <a:off x="4572000" y="24940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7"/>
          <p:cNvSpPr/>
          <p:nvPr/>
        </p:nvSpPr>
        <p:spPr>
          <a:xfrm>
            <a:off x="3492360" y="3932280"/>
            <a:ext cx="863640" cy="288720"/>
          </a:xfrm>
          <a:prstGeom prst="leftArrow">
            <a:avLst>
              <a:gd name="adj1" fmla="val 50000"/>
              <a:gd name="adj2" fmla="val 74782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8"/>
          <p:cNvSpPr/>
          <p:nvPr/>
        </p:nvSpPr>
        <p:spPr>
          <a:xfrm>
            <a:off x="3419640" y="2494080"/>
            <a:ext cx="936360" cy="287280"/>
          </a:xfrm>
          <a:prstGeom prst="leftArrow">
            <a:avLst>
              <a:gd name="adj1" fmla="val 50000"/>
              <a:gd name="adj2" fmla="val 81485"/>
            </a:avLst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Диаграмма 1" descr=""/>
          <p:cNvPicPr/>
          <p:nvPr/>
        </p:nvPicPr>
        <p:blipFill>
          <a:blip r:embed="rId1"/>
          <a:stretch/>
        </p:blipFill>
        <p:spPr>
          <a:xfrm>
            <a:off x="1109520" y="1262160"/>
            <a:ext cx="69249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6"/>
          <p:cNvSpPr/>
          <p:nvPr/>
        </p:nvSpPr>
        <p:spPr>
          <a:xfrm>
            <a:off x="539640" y="1557360"/>
            <a:ext cx="8353440" cy="405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ычков В.И. Метод проектов в современной школе. - М.,2009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tel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«Обучение для будущего»: Учебное пособие. – М., 201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ергеев И.С. Как организовать проектную деятельность учащихся. – М., 2009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есурсы сети Интернет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http://nsportal.ru/detskii-sad/raznoe/issledovatelskii-tvorcheskii-proekt-puteshestvie-v-mir-muzy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http://future4you.ru/index.php?option=com_content&amp;view=article&amp;id=1582&amp;Itemid=942 http://900igr.net/prezentatsii/muzyka/Proekt-po-muzyke/Proekt-po-muzyke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http://www.lossofsoul.com/music.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971640" y="62064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нформационные источ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372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Century Schoolbook"/>
              </a:rPr>
              <a:t>ЦЕЛЬ ПРОЕКТА: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ВЫЯВИТЬ МУЗЫКАЛЬНЫЕ ИНТЕРЕСЫ, КОТОРЫЕ СМОГЛИ БЫ СПЛОТИТЬ НАШ КЛАСС И СДЕЛАТЬ ЖИЗНЬ ВЕСЕЛЕЙ И ИНТЕРЕСНЕЙ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 u="sng">
                <a:solidFill>
                  <a:srgbClr val="990000"/>
                </a:solidFill>
                <a:uFillTx/>
                <a:latin typeface="Century Schoolbook"/>
              </a:rPr>
              <a:t>ДИДАКТИЧЕСКАЯ ЦЕЛЬ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Century Schoolbook"/>
              </a:rPr>
              <a:t>: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Century Schoolbook"/>
              </a:rPr>
              <a:t>ВОСПИТАТЬ ЧУВСТВО СПЛОЧЁННОСТИ И ДРУЖБЫ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Oval 4"/>
          <p:cNvSpPr/>
          <p:nvPr/>
        </p:nvSpPr>
        <p:spPr>
          <a:xfrm>
            <a:off x="357120" y="2071800"/>
            <a:ext cx="3857760" cy="20858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3214800" y="4500720"/>
            <a:ext cx="3384360" cy="180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5364000" y="2060640"/>
            <a:ext cx="3384720" cy="1800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5715000" y="2428920"/>
            <a:ext cx="280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брать материал о любимых песнях и исполнител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642960" y="228600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вершенствовать творческие, интеллектуальные и коммуникативные способности 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3214800" y="4786200"/>
            <a:ext cx="33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азвивать  музыкальные способности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2700360" y="476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Задачи проек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AutoShape 19" descr=""/>
          <p:cNvPicPr/>
          <p:nvPr/>
        </p:nvPicPr>
        <p:blipFill>
          <a:blip r:embed="rId1"/>
          <a:stretch/>
        </p:blipFill>
        <p:spPr>
          <a:xfrm>
            <a:off x="2736720" y="1182600"/>
            <a:ext cx="811440" cy="8654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21"/>
          <p:cNvSpPr/>
          <p:nvPr/>
        </p:nvSpPr>
        <p:spPr>
          <a:xfrm rot="19301400">
            <a:off x="5867280" y="1125360"/>
            <a:ext cx="287280" cy="1008360"/>
          </a:xfrm>
          <a:prstGeom prst="downArrow">
            <a:avLst>
              <a:gd name="adj1" fmla="val 30676"/>
              <a:gd name="adj2" fmla="val 100003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0"/>
          <p:cNvSpPr/>
          <p:nvPr/>
        </p:nvSpPr>
        <p:spPr>
          <a:xfrm>
            <a:off x="4786200" y="1285920"/>
            <a:ext cx="436680" cy="3168720"/>
          </a:xfrm>
          <a:prstGeom prst="downArrow">
            <a:avLst>
              <a:gd name="adj1" fmla="val 24861"/>
              <a:gd name="adj2" fmla="val 163336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2268360" y="105264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Гипотеза проек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187280" y="2349360"/>
            <a:ext cx="7128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Мы предполагаем , что при разносторонних интересах каждого музыка сплачивает наш класс и делает дружнее и добрее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2195640" y="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Вопросы проек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95280" y="907920"/>
            <a:ext cx="3384720" cy="21607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651640" y="765000"/>
            <a:ext cx="3313080" cy="22323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611280" y="134136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озможно ли развитие личностных качеств ребят посредством музыки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5796000" y="1341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нтересны ли песни  современных детей их родителям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"/>
          <p:cNvSpPr/>
          <p:nvPr/>
        </p:nvSpPr>
        <p:spPr>
          <a:xfrm>
            <a:off x="5724360" y="4076640"/>
            <a:ext cx="3097440" cy="18003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6012000" y="4508640"/>
            <a:ext cx="266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Если интерес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 в какой мер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AutoShape 14" descr=""/>
          <p:cNvPicPr/>
          <p:nvPr/>
        </p:nvPicPr>
        <p:blipFill>
          <a:blip r:embed="rId1"/>
          <a:stretch/>
        </p:blipFill>
        <p:spPr>
          <a:xfrm>
            <a:off x="3591000" y="590400"/>
            <a:ext cx="560160" cy="67788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4"/>
          <p:cNvSpPr/>
          <p:nvPr/>
        </p:nvSpPr>
        <p:spPr>
          <a:xfrm>
            <a:off x="7308720" y="3284640"/>
            <a:ext cx="216000" cy="706320"/>
          </a:xfrm>
          <a:prstGeom prst="downArrow">
            <a:avLst>
              <a:gd name="adj1" fmla="val 50000"/>
              <a:gd name="adj2" fmla="val 99947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1"/>
          <p:cNvSpPr/>
          <p:nvPr/>
        </p:nvSpPr>
        <p:spPr>
          <a:xfrm>
            <a:off x="468360" y="4005360"/>
            <a:ext cx="3311640" cy="19447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971640" y="4221000"/>
            <a:ext cx="230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к связаны музыкальн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нтересы и личнос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ебёнк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4"/>
          <p:cNvSpPr/>
          <p:nvPr/>
        </p:nvSpPr>
        <p:spPr>
          <a:xfrm rot="18961200">
            <a:off x="5341680" y="593280"/>
            <a:ext cx="234720" cy="777960"/>
          </a:xfrm>
          <a:prstGeom prst="downArrow">
            <a:avLst>
              <a:gd name="adj1" fmla="val 50000"/>
              <a:gd name="adj2" fmla="val 100123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4"/>
          <p:cNvSpPr/>
          <p:nvPr/>
        </p:nvSpPr>
        <p:spPr>
          <a:xfrm>
            <a:off x="2050920" y="3213000"/>
            <a:ext cx="217440" cy="706680"/>
          </a:xfrm>
          <a:prstGeom prst="downArrow">
            <a:avLst>
              <a:gd name="adj1" fmla="val 50000"/>
              <a:gd name="adj2" fmla="val 100058"/>
            </a:avLst>
          </a:prstGeom>
          <a:gradFill rotWithShape="0">
            <a:gsLst>
              <a:gs pos="0">
                <a:srgbClr val="000000"/>
              </a:gs>
              <a:gs pos="100000">
                <a:srgbClr val="ff8328"/>
              </a:gs>
            </a:gsLst>
            <a:lin ang="5400000"/>
          </a:gradFill>
          <a:ln w="3816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468360" y="476280"/>
            <a:ext cx="799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Методы исследова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бор информ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учение литературы, статей о классической музыке и современных исполнителях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лушание музыкальных произведений современной и классической музык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 и опрос одноклассников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ланирование и проведение внеклассного мероприяти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дведение итогов и результат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Объект исследова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чащиеся 5 класса</a:t>
            </a: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Schoolbook"/>
              </a:rPr>
              <a:t>Предмет исследовани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узыкальные интересы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79280" y="533520"/>
            <a:ext cx="83520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од исследова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этап: Подготовительны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Формулирование основополагающих вопросов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Создание рабочей группы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Знакомство учащихся с темами исследований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й этап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Обсуждение плана проекта, проблемных вопрос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Распределение обязанност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Рекомендация списка ресурсов по теме проекта :как найти источники достоверной информации по теме исследования и использовать их, соблюдая авторские прав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ий этап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Сбор материала и его анализ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Тестирование, опрос одноклассников и их родителей 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Исследования в виде диаграм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ый этап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Подведение итого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абота над созданием презентаци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Подсчёт и оформление результато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флексия работы над проектом: осуществляется путём обсуждения того, что удалось и не удалось сделать в данном проект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79280" y="1052640"/>
            <a:ext cx="871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Любишь  ли ты  музыку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Нужна ли музыка в жизни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Какую музыку ты любишь?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классическую; б) современную; в) поп- музыку; г) танцевальну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  Твой любимый певец – исполнитель, группа, любимое произвед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   Где ты слушаешь музыку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на уроках музы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по ТВ (телевидение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 на телефон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по  ради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) концерт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  Любишь ли ты петь, танцевать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  Умеешь ты играть на музыкальном инструменте? (на каком 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  Устраиваются ли в твоей  семье музыкальные вечер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  Посещаете ли вы вместе концерты, музыкальные спектакли, оперу, балет и т.д.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 Помогает ли тебе музыка в жизни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"/>
          <p:cNvSpPr/>
          <p:nvPr/>
        </p:nvSpPr>
        <p:spPr>
          <a:xfrm>
            <a:off x="468360" y="4046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- опрос одноклассни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826920" y="189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1 этап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Подготовительны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763640" y="3284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здание рабочей групп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8" descr="SAM_3863.JPG"/>
          <p:cNvPicPr/>
          <p:nvPr/>
        </p:nvPicPr>
        <p:blipFill>
          <a:blip r:embed="rId1"/>
          <a:stretch/>
        </p:blipFill>
        <p:spPr>
          <a:xfrm>
            <a:off x="3500280" y="3857760"/>
            <a:ext cx="3738600" cy="268596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5" descr="C:\Users\Наташа\Desktop\Новая папка (2)\SAM_0613.JPG"/>
          <p:cNvPicPr/>
          <p:nvPr/>
        </p:nvPicPr>
        <p:blipFill>
          <a:blip r:embed="rId2"/>
          <a:stretch/>
        </p:blipFill>
        <p:spPr>
          <a:xfrm>
            <a:off x="500040" y="857160"/>
            <a:ext cx="415296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42:02Z</dcterms:created>
  <dc:creator>SSH</dc:creator>
  <dc:description/>
  <dc:language>en-US</dc:language>
  <cp:lastModifiedBy>Наташа</cp:lastModifiedBy>
  <dcterms:modified xsi:type="dcterms:W3CDTF">2015-01-27T17:18:23Z</dcterms:modified>
  <cp:revision>180</cp:revision>
  <dc:subject/>
  <dc:title>Слайд 1</dc:title>
</cp:coreProperties>
</file>