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4FF24-73EC-4127-81C8-1891EB752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9893E-DE59-42BA-A0FA-C847FC44F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D24C4-C844-431B-B9AB-6DAA92D6A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65367-D70F-40F6-98D8-D5F94FAB2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77B88-A9BC-465E-8108-DC72B3E8E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CEF78-8030-4055-B262-13A47FA11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F54C2-6C29-469A-8D5B-A001E98E4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B04D1-19B4-48A7-98A5-5C8E24957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64A23-EA96-49F1-9623-FE50B97F6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D5C21-E9E8-43D6-9328-3F6CB605B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48CAF-450D-4BCD-8178-EC060DD56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7AF1F-E091-4F7B-8237-20F026367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6D58C-ABFC-4D89-AC15-D274ACAFB9C0}" type="slidenum">
              <a:rPr b="0" lang="ru-RU" sz="12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26560" y="1413000"/>
            <a:ext cx="6985080" cy="28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Calibri"/>
              </a:rPr>
              <a:t>Совершенствование системы поддержки ученика – исследователя как условие достижения нового качества образования на уроках физики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TextBox 4"/>
          <p:cNvSpPr/>
          <p:nvPr/>
        </p:nvSpPr>
        <p:spPr>
          <a:xfrm>
            <a:off x="3851280" y="4508640"/>
            <a:ext cx="4052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Е.А. Федотова, учитель физики</a:t>
            </a: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  <a:ea typeface="Arial"/>
              </a:rPr>
              <a:t>МОУ Белореченская СОШ, 2014</a:t>
            </a: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71640" y="692280"/>
            <a:ext cx="69660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сновная цель использования робототехники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205920" y="2046240"/>
            <a:ext cx="482436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формировать личность, способную самостоятельно ставить учебные цели, проектировать пути их реализации, контролировать и оценивать свои достижения, работать с разными источниками информации, оценивать их и на этой основе формулировать собственное мнение, суждение, оценку. 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5" name="Picture 6" descr="C:\Users\I.R.U\Desktop\документы\Я сайт\Применение роботов на уроках физики1 — копия.JPG"/>
          <p:cNvPicPr/>
          <p:nvPr/>
        </p:nvPicPr>
        <p:blipFill>
          <a:blip r:embed="rId1"/>
          <a:stretch/>
        </p:blipFill>
        <p:spPr>
          <a:xfrm>
            <a:off x="5218200" y="2584440"/>
            <a:ext cx="3932280" cy="29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09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сновные этапы разработки </a:t>
            </a:r>
            <a:br>
              <a:rPr sz="3200"/>
            </a:b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Лего-проекта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1116000" y="2119320"/>
            <a:ext cx="6912000" cy="34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75"/>
              </a:spcBef>
              <a:buClr>
                <a:srgbClr val="9bbb5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означение темы проекта.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75"/>
              </a:spcBef>
              <a:buClr>
                <a:srgbClr val="9bbb5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Цель и задачи представляемого проекта. Гипотеза.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75"/>
              </a:spcBef>
              <a:buClr>
                <a:srgbClr val="9bbb5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зработка механизма на основе конструктора Лего.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75"/>
              </a:spcBef>
              <a:buClr>
                <a:srgbClr val="9bbb5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ставление программы для работы механизма в среде Lego Mindstorms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75"/>
              </a:spcBef>
              <a:buClr>
                <a:srgbClr val="9bbb5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естирование модели, устранение дефектов и неисправностей.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75"/>
              </a:spcBef>
              <a:buClr>
                <a:srgbClr val="9bbb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71640" y="836280"/>
            <a:ext cx="720072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озобновляемые источники энергии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900000" y="1628640"/>
            <a:ext cx="734544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9bbb5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бор предоставляет учащимся возможность участвовать в решении научных, инженерных, технологических и конструкторских  задач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9bbb5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ботая с набором, ребята участвуют в реальных исследованиях, и предлагают собственные методы для решения проблем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9bbb5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здают и дорабатывают различные модели, наблюдают и объясняют влияние различных параметров на их функционирование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9bbb5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ходе этой деятельности учащиеся на собственном опыте узнают, как ученые и инженеры применяют в своей работе научные знания  и находят обоснованное объяснение наблюдаемым явлениям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0" name="Picture 2" descr="E:\робототехника\фото роботов\IMG_0858.JPG"/>
          <p:cNvPicPr/>
          <p:nvPr/>
        </p:nvPicPr>
        <p:blipFill>
          <a:blip r:embed="rId1"/>
          <a:stretch/>
        </p:blipFill>
        <p:spPr>
          <a:xfrm>
            <a:off x="461880" y="1703520"/>
            <a:ext cx="8145720" cy="43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42920" y="620640"/>
            <a:ext cx="7561440" cy="88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Пневматические механизмы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971640" y="1483920"/>
            <a:ext cx="7200720" cy="44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Calibri"/>
              </a:rPr>
              <a:t>Набор 9641 позволяет учащимся и учителям: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9bbb5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изучать модели – чтобы понять, как они действуют;  проводить специализированные занятия для развития знаний, умений и понимания важности этапа проектирования;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9bbb5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проектировать различные, всё более усложняющиеся модели и для внеучебных применений;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9bbb5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научиться эффективно организовывать индивидуальную и коллективную работу, исполнять различные роли и брать на себя ответственность за принятые решения и совершенные действия;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9bbb5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устанавливать взаимосвязи между проектированием и технологиями, а также другими предметами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. 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3" name="Picture 2" descr="E:\робототехника\фото роботов\IMG_0864.JPG"/>
          <p:cNvPicPr/>
          <p:nvPr/>
        </p:nvPicPr>
        <p:blipFill>
          <a:blip r:embed="rId1"/>
          <a:stretch/>
        </p:blipFill>
        <p:spPr>
          <a:xfrm>
            <a:off x="826920" y="1379520"/>
            <a:ext cx="7129800" cy="48672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E:\робототехника\фото роботов\IMG_0859.JPG"/>
          <p:cNvPicPr/>
          <p:nvPr/>
        </p:nvPicPr>
        <p:blipFill>
          <a:blip r:embed="rId2"/>
          <a:stretch/>
        </p:blipFill>
        <p:spPr>
          <a:xfrm>
            <a:off x="826920" y="1386000"/>
            <a:ext cx="7215480" cy="48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95120" y="620280"/>
            <a:ext cx="69642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Технология и физика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900000" y="1700280"/>
            <a:ext cx="7344000" cy="37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 algn="just">
              <a:lnSpc>
                <a:spcPct val="100000"/>
              </a:lnSpc>
              <a:buClr>
                <a:srgbClr val="9bbb5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Этот набор отлично подойдет учителям, которые не боятся ставить перед своими учениками сложные, но интересные задачи, заставляют ребят размышлять, задавать вопросы, спорить.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64600" indent="-264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64600" indent="-264600" algn="just">
              <a:lnSpc>
                <a:spcPct val="100000"/>
              </a:lnSpc>
              <a:buClr>
                <a:srgbClr val="9bbb5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ботая с набором, учащиеся должны будут применять ранее полученные знания по естественным наукам, технологии и математике, а также использовать навыки технического конструирования, творческий подход и интуицию при изучении нового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64600" indent="-264600"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7" name="Picture 2" descr="E:\робототехника\фото роботов\IMG_0862.JPG"/>
          <p:cNvPicPr/>
          <p:nvPr/>
        </p:nvPicPr>
        <p:blipFill>
          <a:blip r:embed="rId1"/>
          <a:stretch/>
        </p:blipFill>
        <p:spPr>
          <a:xfrm>
            <a:off x="420840" y="1500120"/>
            <a:ext cx="850392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26920" y="817560"/>
            <a:ext cx="7490160" cy="117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Times New Roman"/>
                <a:ea typeface="Trebuchet MS"/>
              </a:rPr>
              <a:t>Робототехника – обучение с увлечением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971280" y="2276280"/>
            <a:ext cx="7056360" cy="21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полнительным преимуществом изучения робототехники является создание команды и, в перспективе, участие в городских, региональных, общероссийских и международных олимпиадах по робототехнике, что значительно усиливает мотивацию учеников к получению знаний.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14T03:37:35Z</dcterms:created>
  <dc:creator>Fedotova</dc:creator>
  <dc:description/>
  <dc:language>en-US</dc:language>
  <cp:lastModifiedBy>I.R.U</cp:lastModifiedBy>
  <dcterms:modified xsi:type="dcterms:W3CDTF">2015-01-28T15:21:43Z</dcterms:modified>
  <cp:revision>39</cp:revision>
  <dc:subject/>
  <dc:title>Презентация PowerPoint</dc:title>
</cp:coreProperties>
</file>