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CA1-B7F1-46B1-A275-AF2F52FD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748-FBF5-4951-AB26-35D7CD70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145-6993-4B6A-96B7-FB88B235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B25-FC21-4F2E-AF54-31387A53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950-77E5-4574-B175-76B048C0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1BA-9957-444E-A717-AC029862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F13-4F9A-40BD-8B48-1A76AE51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701-73CC-4A54-B0D2-2F3A0A51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4C5-7EC1-4ADA-B78B-7B94DC32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DE1-F9BA-493D-98C3-C1184DF7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6C1-AC2F-4A38-BDE5-AE5E15A0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EBF-169E-4C65-AB82-6C2E3EE4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C621-C720-46C9-BE53-131044B171DD}" type="slidenum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413000"/>
            <a:ext cx="698508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Совершенствование системы поддержки ученика – исследователя как условие достижения нового качества образования на уроках физик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851280" y="4508640"/>
            <a:ext cx="40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.А. Федотова, учитель физик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МОУ Белореченская СОШ, 2014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696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цель использования робототехники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920" y="2046240"/>
            <a:ext cx="482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ть личность, способную самостоятельно ставить учебные цели, проектировать пути их реализации, контролировать и оценивать свои достижения, работать с разными источниками информации, оценивать их и на этой основе формулировать собственное мнение, суждение, оценку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6" descr="C:\Users\I.R.U\Desktop\документы\Я сайт\Применение роботов на уроках физики1 — копия.JPG"/>
          <p:cNvPicPr/>
          <p:nvPr/>
        </p:nvPicPr>
        <p:blipFill>
          <a:blip r:embed="rId1"/>
          <a:stretch/>
        </p:blipFill>
        <p:spPr>
          <a:xfrm>
            <a:off x="5218200" y="2584440"/>
            <a:ext cx="39322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го-проекта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2119320"/>
            <a:ext cx="6912000" cy="34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ение темы проекта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и задачи представляемого проекта. Гипотеза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механизма на основе конструктора Лего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ление программы для работы механизма в среде Lego Mindstorm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ирование модели, устранение дефектов и неисправностей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20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обновляемые источники энерг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1628640"/>
            <a:ext cx="7345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ор предоставляет учащимся возможность участвовать в решении научных, инженерных, технологических и конструкторских  задач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я с набором, ребята участвуют в реальных исследованиях, и предлагают собственные методы для решения пробле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ют и дорабатывают различные модели, наблюдают и объясняют влияние различных параметров на их функционировани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этой деятельности учащиеся на собственном опыте узнают, как ученые и инженеры применяют в своей работе научные знания  и находят обоснованное объяснение наблюдаемым явления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E:\робототехника\фото роботов\IMG_0858.JPG"/>
          <p:cNvPicPr/>
          <p:nvPr/>
        </p:nvPicPr>
        <p:blipFill>
          <a:blip r:embed="rId1"/>
          <a:stretch/>
        </p:blipFill>
        <p:spPr>
          <a:xfrm>
            <a:off x="461880" y="1703520"/>
            <a:ext cx="81457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5614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невматические механизм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71640" y="1483920"/>
            <a:ext cx="72007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Набор 9641 позволяет учащимся и учителям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зучать модели – чтобы понять, как они действуют;  проводить специализированные занятия для развития знаний, умений и понимания важности этапа проектирования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ектировать различные, всё более усложняющиеся модели и для внеучебных применений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учиться эффективно организовывать индивидуальную и коллективную работу, исполнять различные роли и брать на себя ответственность за принятые решения и совершенные действия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танавливать взаимосвязи между проектированием и технологиями, а также другими предметам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E:\робототехника\фото роботов\IMG_0864.JPG"/>
          <p:cNvPicPr/>
          <p:nvPr/>
        </p:nvPicPr>
        <p:blipFill>
          <a:blip r:embed="rId1"/>
          <a:stretch/>
        </p:blipFill>
        <p:spPr>
          <a:xfrm>
            <a:off x="826920" y="1379520"/>
            <a:ext cx="7129800" cy="486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E:\робототехника\фото роботов\IMG_0859.JPG"/>
          <p:cNvPicPr/>
          <p:nvPr/>
        </p:nvPicPr>
        <p:blipFill>
          <a:blip r:embed="rId2"/>
          <a:stretch/>
        </p:blipFill>
        <p:spPr>
          <a:xfrm>
            <a:off x="826920" y="1386000"/>
            <a:ext cx="72154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5120" y="620280"/>
            <a:ext cx="6964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ехнология и физ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00000" y="1700280"/>
            <a:ext cx="73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т набор отлично подойдет учителям, которые не боятся ставить перед своими учениками сложные, но интересные задачи, заставляют ребят размышлять, задавать вопросы, спорить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 algn="just">
              <a:lnSpc>
                <a:spcPct val="10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я с набором, учащиеся должны будут применять ранее полученные знания по естественным наукам, технологии и математике, а также использовать навыки технического конструирования, творческий подход и интуицию при изучении новог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E:\робототехника\фото роботов\IMG_0862.JPG"/>
          <p:cNvPicPr/>
          <p:nvPr/>
        </p:nvPicPr>
        <p:blipFill>
          <a:blip r:embed="rId1"/>
          <a:stretch/>
        </p:blipFill>
        <p:spPr>
          <a:xfrm>
            <a:off x="420840" y="1500120"/>
            <a:ext cx="8503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17560"/>
            <a:ext cx="749016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rebuchet MS"/>
              </a:rPr>
              <a:t>Робототехника – обучение с увлечение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280" y="2276280"/>
            <a:ext cx="70563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м преимуществом изучения робототехники является создание команды и, в перспективе, участие в городских, региональных, общероссийских и международных олимпиадах по робототехнике, что значительно усиливает мотивацию учеников к получению знаний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03:37:35Z</dcterms:created>
  <dc:creator>Fedotova</dc:creator>
  <dc:description/>
  <dc:language>en-US</dc:language>
  <cp:lastModifiedBy>I.R.U</cp:lastModifiedBy>
  <dcterms:modified xsi:type="dcterms:W3CDTF">2015-01-28T15:21:43Z</dcterms:modified>
  <cp:revision>39</cp:revision>
  <dc:subject/>
  <dc:title>Презентация PowerPoint</dc:title>
</cp:coreProperties>
</file>