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wmf" ContentType="image/x-wmf"/>
  <Override PartName="/ppt/media/image22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FD1C-D6AA-4C03-AA91-5367F3A8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C51C-E986-4D32-8ADA-CD7D0979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C8D-3A27-4200-800E-12E6A9D2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681E-DB2D-4382-89D9-4073F606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948-BC6A-49B7-AC6F-A4CF8874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FE8-589C-4A4E-BF84-D8E11F62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737-85F6-4DD1-89CE-45E083A0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8D9-DAD8-49A7-8B62-08733C45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254-B060-4194-A646-F7E4CBC8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FF7E-7B65-41D7-A2B7-9D36AA8C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A691-707E-43F3-B18A-11CD832F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9CB-8B2A-4AA4-A6A5-C27E0285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163982-B247-48D8-A6DF-B3D12F087EB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800080"/>
                </a:solidFill>
                <a:latin typeface="Arial"/>
              </a:rPr>
              <a:t>ЗДОРОВЬЕ. </a:t>
            </a:r>
            <a:r>
              <a:rPr b="1" lang="en-US" sz="8800" spc="-1" strike="noStrike">
                <a:solidFill>
                  <a:srgbClr val="800080"/>
                </a:solidFill>
                <a:latin typeface="Arial"/>
              </a:rPr>
              <a:t>r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1413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ВРЕДНЫЕ ПРИВЫЧ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4859280" y="3060720"/>
            <a:ext cx="4284720" cy="3779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613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66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8080"/>
                </a:solidFill>
                <a:latin typeface="Arial"/>
              </a:rPr>
              <a:t>Договоримся, что действие алкоголя, никотина и наркотиков мы образно объединим и будем называть </a:t>
            </a: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008080"/>
                </a:solidFill>
                <a:latin typeface="Arial"/>
              </a:rPr>
              <a:t>иллюзией счастья</a:t>
            </a: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66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8080"/>
                </a:solidFill>
                <a:latin typeface="Arial"/>
              </a:rPr>
              <a:t>Мозг вырабатывает различные вещества, которые мы называем гормонами, попадая в кровь все эти вещества разносятся по организму, и как бы подсказывают органам, как им себя нужно вести, к примеру гормон адреналин помогает тебе бежать не просто быстро, а очень быстр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66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8080"/>
                </a:solidFill>
                <a:latin typeface="Arial"/>
              </a:rPr>
              <a:t>Мы остановим свое внимание на </a:t>
            </a: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008080"/>
                </a:solidFill>
                <a:latin typeface="Arial"/>
              </a:rPr>
              <a:t>гормонах счастья</a:t>
            </a: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66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8080"/>
                </a:solidFill>
                <a:latin typeface="Arial"/>
              </a:rPr>
              <a:t>«Гормоны счастья" дают нам чувство лёгкости, радости и бодрости. Таким же действием обладают и многие нынешние наркотики, включая табак и алкого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ГОРМОНЫ СЧА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-61920"/>
            <a:ext cx="67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КАК СИГАРЕТНЫЙ ДЫМ ВОЗДЕЙСТВУЕТ НА ЧЕЛОВЕ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0520" y="1728720"/>
            <a:ext cx="1779840" cy="2232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4842000"/>
            <a:ext cx="1835280" cy="1817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050920" y="1628640"/>
            <a:ext cx="6840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У курильщика очень большой риск заболеть раком лег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У него может появиться страшный кашель, голос станет некраси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Зубы от никотина желтеют, появляется неприятный запах изо 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Возникают сердечно-сосудистые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Расстройство нервной системы проявляется снижением трудоспособности, ослаблением памя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блюдается снижение физической акти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Ухудшается обмен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Появляются аллергические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443640" y="0"/>
            <a:ext cx="244944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0480" y="360000"/>
            <a:ext cx="60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СТАТИ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59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55e00"/>
                </a:solidFill>
                <a:latin typeface="Arial"/>
              </a:rPr>
              <a:t>По оценкам социологов, Россия сегодня – одна из самых курящих стран ми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55e00"/>
                </a:solidFill>
                <a:latin typeface="Arial"/>
              </a:rPr>
              <a:t>А наши школьники в «табачном» смысле также впереди планеты всей: 80% российских учащихся рано или поздно пробуют сигар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55e00"/>
                </a:solidFill>
                <a:latin typeface="Arial"/>
              </a:rPr>
              <a:t>Более того, по оценкам независимых экспертов, за последние 10 лет средний возраст ребенка-курильщика снизился на 3–4 г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55e00"/>
                </a:solidFill>
                <a:latin typeface="Arial"/>
              </a:rPr>
              <a:t>Начинают теперь с младших классов школы в 7–8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55e00"/>
                </a:solidFill>
                <a:latin typeface="Arial"/>
              </a:rPr>
              <a:t>К 17–18 годам многие превращаются уже в заядлых курильщиков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55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59640" y="20520"/>
            <a:ext cx="2484360" cy="15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ВОЗДЕЙСТВИЕ АЛКОГОЛЯ НА ОРГАН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00720" y="539640"/>
            <a:ext cx="5759280" cy="6300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724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Характер влияния алкоголя на организм человека давно и подробно изучен физиологами и мед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то касается подростков, то острое алкогольное отравление приводит к значительным изменениям деятельности сердечнососудист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лкоголь замедляет циркуляцию крови в сосудах мозга, приводя к постоянному кислородному голоданию его клеток, в результате чего наступает ослабление памяти и медленная психическая деградация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480000" y="0"/>
            <a:ext cx="2664000" cy="2003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КАК ВЫГЛЯДИТ ЖИЗНЬ НАРКО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8200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В чем сила, привлекательность, “прелесть” наркотиков? В том, что они дают “кайф”. То есть – вызывают возбужденное эмоциональное состояние, имитирующее радость и даже счастье, усиливают половое влечение, имитирующее любовь (влюбленность), создают ощущение полноты бытия, сопровождаемое фантастическими образами- 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галлюцинациями. 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Исчезает на время тревога, 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появляется чувство полной 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безопасности и возможности 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делать что угодно, вплоть до 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самоубийства и убийства. Нет 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тормозов. Нет ограничителей. 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Но длится все это недолго.</a:t>
            </a:r>
            <a:br>
              <a:rPr sz="2100"/>
            </a:br>
            <a:r>
              <a:rPr b="0" lang="ru-RU" sz="2100" spc="-1" strike="noStrike">
                <a:solidFill>
                  <a:srgbClr val="355e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4140360" cy="307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75280" y="81000"/>
            <a:ext cx="3203640" cy="2619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КАК ВЫГЛЯДИТ ЖИЗНЬ НАРКО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260360"/>
            <a:ext cx="59403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6b6b"/>
                </a:solidFill>
                <a:latin typeface="Arial"/>
              </a:rPr>
              <a:t>Потом наступает депрессия, возникают страхи, галлюцинаторные образы приобретают угрожающий вид, во всем теле и в голове боль, человека колотит и трясет... И чтобы вернуть ощущение счастья (кайфа), надо опять обкуриваться, колоться... И так без конца. Вернее – до конца, до полного саморазрушения и гибели. Наркотики-галлюциногены обманывают психику, активизируют незадействованные ранее участки мозга, которые начинают работать в режиме, неадекватном действительности, и если такое повторяется, то уже вся психическая деятельность человека становится неадекватной. Человек приобретает стойкое и тяжелое психическое заболевание. Тут уже бессильны – логика, воля, знания, голос разум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480000" y="2879640"/>
            <a:ext cx="2664000" cy="37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480000" y="0"/>
            <a:ext cx="2664000" cy="3311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044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КАК ВЫГЛЯДИТ ЖИ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НЬ</a:t>
            </a: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 НАРКО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760" y="1330200"/>
            <a:ext cx="6221520" cy="52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Aft>
                <a:spcPts val="1412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55e00"/>
                </a:solidFill>
                <a:latin typeface="Arial"/>
              </a:rPr>
              <a:t>Тут уже не до кайфа – лишь бы не корежило. </a:t>
            </a:r>
            <a:br>
              <a:rPr sz="2000"/>
            </a:br>
            <a:r>
              <a:rPr b="1" lang="en-US" sz="2000" spc="-1" strike="noStrike">
                <a:solidFill>
                  <a:srgbClr val="355e00"/>
                </a:solidFill>
                <a:latin typeface="Arial"/>
              </a:rPr>
              <a:t>Вот описание “ломки” одним из несчастных:</a:t>
            </a:r>
            <a:br>
              <a:rPr sz="2000"/>
            </a:br>
            <a:r>
              <a:rPr b="1" lang="en-US" sz="2000" spc="-1" strike="noStrike">
                <a:solidFill>
                  <a:srgbClr val="355e00"/>
                </a:solidFill>
                <a:latin typeface="Arial"/>
              </a:rPr>
              <a:t>“Боль нечеловеческая. Будто внутрь забралась целая шайка садистов, одни сплющивают тебе кости, другие выворачивают суставы, третьи всюду вколачивают гвозди. Кишки рвутся на части, ты натурально сходишь с ума. Все из меня течет – из глаз, из носа, понос замучил (раз пятьдесят в день), от туалета дальше чем на два шага лучше не отходить. Рвет одной желчью.</a:t>
            </a:r>
            <a:br>
              <a:rPr sz="2000"/>
            </a:br>
            <a:r>
              <a:rPr b="1" lang="en-US" sz="2000" spc="-1" strike="noStrike">
                <a:solidFill>
                  <a:srgbClr val="355e00"/>
                </a:solidFill>
                <a:latin typeface="Arial"/>
              </a:rPr>
              <a:t>Если бы все начиналось именно с этого, с ломки, ни одного наркомана не было бы”.</a:t>
            </a:r>
            <a:br>
              <a:rPr sz="2000"/>
            </a:br>
            <a:r>
              <a:rPr b="1" lang="en-US" sz="2000" spc="-1" strike="noStrike">
                <a:solidFill>
                  <a:srgbClr val="355e00"/>
                </a:solidFill>
                <a:latin typeface="Arial"/>
              </a:rPr>
              <a:t>Есть и более впечатляющие, поистине страшные описания ломки. И у всех один рефрен – “сходишь с ума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443640" y="3419640"/>
            <a:ext cx="270036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659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4935600" cy="70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55e00"/>
                </a:solidFill>
                <a:latin typeface="Arial"/>
              </a:rPr>
              <a:t>У хронических наркоманов отмечаются тяжелые поражения печени и других внутренних органов, происходит умственная и нравственная деградация личности. Все значимое в жизни потеряно: дом, семья, дети, работа. Непрестанно гложет обида: жизнь прошла, ее не вернуть, впереди безысходность и новые муки. Но пуще, чем обида, грызет мысль: где, как достать новую порцию наркотика. Для наркомана барьеров, запретов на пути к зелью нет: за щепотку, за кубик наркотика он убьет родную мать. Закономерно превращение наркоманов в бомжей либо в преступников. Но в любом случае они – смертники. Глумясь над собой, человек за считанные годы сводит себя в моги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Послеслов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0000" y="17640"/>
            <a:ext cx="4680000" cy="5741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9144000" cy="55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55e00"/>
                </a:solidFill>
                <a:uFillTx/>
                <a:latin typeface="Arial"/>
              </a:rPr>
              <a:t>Здоровье</a:t>
            </a:r>
            <a:r>
              <a:rPr b="1" lang="ru-RU" sz="2400" spc="-1" strike="noStrike">
                <a:solidFill>
                  <a:srgbClr val="355e00"/>
                </a:solidFill>
                <a:latin typeface="Arial"/>
              </a:rPr>
              <a:t> - это бесценное достояние 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55e00"/>
                </a:solidFill>
                <a:latin typeface="Arial"/>
              </a:rPr>
              <a:t>только каждого человека, но и вс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55e00"/>
                </a:solidFill>
                <a:latin typeface="Arial"/>
              </a:rPr>
              <a:t>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55e00"/>
                </a:solidFill>
                <a:uFillTx/>
                <a:latin typeface="Arial"/>
              </a:rPr>
              <a:t>Здоровье</a:t>
            </a:r>
            <a:r>
              <a:rPr b="1" lang="ru-RU" sz="2400" spc="-1" strike="noStrike">
                <a:solidFill>
                  <a:srgbClr val="355e00"/>
                </a:solidFill>
                <a:latin typeface="Arial"/>
              </a:rPr>
              <a:t> помогает нам выполн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55e00"/>
                </a:solidFill>
                <a:latin typeface="Arial"/>
              </a:rPr>
              <a:t>наши планы, успешно решать жизн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55e00"/>
                </a:solidFill>
                <a:latin typeface="Arial"/>
              </a:rPr>
              <a:t>основные задачи, преодоле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55e00"/>
                </a:solidFill>
                <a:latin typeface="Arial"/>
              </a:rPr>
              <a:t>трудности, а если придется, то и значительные перегру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55e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Доброе здоровь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, разумно сохраняемое и укрепляемое самим человеком, обеспечивает ему долгую и активную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00720" y="1260360"/>
            <a:ext cx="4414680" cy="5427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1276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ЗДОРОВЬ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cc0066"/>
                </a:solidFill>
                <a:uFillTx/>
                <a:latin typeface="Arial"/>
              </a:rPr>
              <a:t>Здоровье</a:t>
            </a:r>
            <a:r>
              <a:rPr b="0" lang="ru-RU" sz="32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это первая и важнейшая потребность человека, определяющая способность его к труду и обеспечивающая гармоническое развитие лич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cc0066"/>
                </a:solidFill>
                <a:uFillTx/>
                <a:latin typeface="Arial"/>
              </a:rPr>
              <a:t>Здоровье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 - это пол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физическое, псих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и социальное благополуч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а не только отсутств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болезн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или физических деф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59280" y="1079640"/>
            <a:ext cx="4284720" cy="5518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8686800" cy="58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устойчивость к действию повреждающих фактор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оказатели роста и развития в пределах среднестатистической норм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функциональное состояние организма в пределах среднестатистической норм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наличие резервных возможн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организм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отсутствие какого-либо заболе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или дефектов развит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высокий уровень морально-волев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и ценностно-мотивацио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установ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ПРИЗНАКИ 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ЧТО НЕ ЗАПРЕЩЕНО – ТО РАЗРЕШЕ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6372360" cy="4869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60720" y="1600200"/>
            <a:ext cx="6840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8080"/>
                </a:solidFill>
                <a:latin typeface="Arial"/>
              </a:rPr>
              <a:t>НАМ МЕШАЮТ НАШИ ПРИВЫЧКИ. НЕКОТОРЫЕ ИЗ ВРЕДНЫХ ПРИВЫЧЕК СЛАВЯТСЯ ТЕМ, ЧТО НА НИХ СТОИТ БОЛЬШОЙ И ЖИРНЫЙ ОБЩЕСТВЕННЫЙ ЗАПРЕТ. НАПРИМЕР, УПОТРЕБЛЕНИЕ НАРКОТИ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1497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Говорят, в статус социально и государственно неодобряемых вредных привычек попадают те, зависимость от которых действует на человека разрушительнее все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543640" cy="451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879640" y="1260360"/>
            <a:ext cx="61200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55e00"/>
                </a:solidFill>
                <a:latin typeface="Arial"/>
              </a:rPr>
              <a:t>Сегодня в России регулярно употребляют наркотики 5, 99 мл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Официальная статистика по</a:t>
            </a:r>
            <a:r>
              <a:rPr b="1" lang="en-US" sz="2800" spc="-1" strike="noStrike">
                <a:solidFill>
                  <a:srgbClr val="e6e6e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ркомании</a:t>
            </a: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 приводит цифру 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0 тыс.</a:t>
            </a: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р</a:t>
            </a: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команов, однако это те, что добровольно встали н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медицинский уч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Медицинские учреждени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</a:t>
            </a: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гу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ацио</a:t>
            </a: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нарно пролечить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</a:t>
            </a: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 год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 бол</a:t>
            </a: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ее 50 тыс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Какими привычками больна Росс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800000"/>
            <a:ext cx="8820000" cy="50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55e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55e00"/>
                </a:solidFill>
                <a:latin typeface="Arial"/>
              </a:rPr>
              <a:t>От общего числа наркоманов в России по статистике         20% - это школьники.</a:t>
            </a:r>
            <a:br>
              <a:rPr sz="2400"/>
            </a:br>
            <a:r>
              <a:rPr b="1" lang="en-US" sz="2400" spc="-1" strike="noStrike">
                <a:solidFill>
                  <a:srgbClr val="355e00"/>
                </a:solidFill>
                <a:latin typeface="Arial"/>
              </a:rPr>
              <a:t>               </a:t>
            </a:r>
            <a:r>
              <a:rPr b="1" lang="en-US" sz="24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55e00"/>
                </a:solidFill>
                <a:latin typeface="Arial"/>
              </a:rPr>
              <a:t>60% – молодежь в возрасте 16-30 лет</a:t>
            </a:r>
            <a:br>
              <a:rPr sz="2400"/>
            </a:br>
            <a:r>
              <a:rPr b="1" lang="en-US" sz="2400" spc="-1" strike="noStrike">
                <a:solidFill>
                  <a:srgbClr val="355e00"/>
                </a:solidFill>
                <a:latin typeface="Arial"/>
              </a:rPr>
              <a:t>                            20% - люди более старшего возра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55e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55e00"/>
                </a:solidFill>
                <a:latin typeface="Arial"/>
              </a:rPr>
              <a:t>Средний возраст приобщения к наркотикам в России составляет по статистике 15-17 лет, резко увеличивается процент употребления наркотиков детьми 9-13 лет. Замечены и случаи употребления наркотиков детьми 6-7 лет - к наркомании их приобщают родители-нарком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55e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55e00"/>
                </a:solidFill>
                <a:latin typeface="Arial"/>
              </a:rPr>
              <a:t>Число смертей от употребления наркотиков за последние годы выросло в 12 раз, а среди детей - в 42 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109440" y="-44280"/>
            <a:ext cx="2449440" cy="1844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е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много статист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20"/>
            <a:ext cx="91440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Что приносит с собой наркома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19640" y="3419640"/>
            <a:ext cx="3898800" cy="3340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439640"/>
            <a:ext cx="845964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666600"/>
                </a:solidFill>
                <a:latin typeface="Arial"/>
              </a:rPr>
              <a:t>В последние годы наркоманы становятся основной причиной роста заболеваемости СПИДом. По статистике почти 90% выявленных случаев заражения ВИЧ-инфекцией являлись следствием внутривенного употребления наркотиков, и причиной заражения явилось использование общих шприце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4a4a"/>
                </a:solidFill>
                <a:latin typeface="Arial"/>
              </a:rPr>
              <a:t>Около 80% преступлений по данным МВД сегодня происходят на почве наркомании. Разбойные нападения, кражи, грабежи, убийства совершаются часто ради одной доз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4a4a"/>
                </a:solidFill>
                <a:latin typeface="Arial"/>
              </a:rPr>
              <a:t>Статистика наркомании по России говорит, что зи числа употребляющих наркотики излечиваются только 5-6 процентов наркоманов. Излечившимися статистика считает, тех, кто не употребляет наркотики в течение года после леч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900000"/>
            <a:ext cx="8748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КТО В ГРУППЕ РИС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Arial"/>
              </a:rPr>
              <a:t>Люди инфантильные. Им приятно, когда появляется что-то, помогающее временно абстрагироваться от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Arial"/>
              </a:rPr>
              <a:t>Люди, не умеющие себе отказывать. «Хочу – и все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Arial"/>
              </a:rPr>
              <a:t>Лентяи эмоциональные и интеллектуальные. Им труднее всех расстаться со своей привычкой, даже если она им ничего не д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ПРИЧ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79280" y="720720"/>
            <a:ext cx="8896320" cy="5762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92360" y="1484280"/>
            <a:ext cx="5759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7640" y="1484280"/>
            <a:ext cx="14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978200" y="1484280"/>
            <a:ext cx="237960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1484280"/>
            <a:ext cx="2592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6360" y="5661000"/>
            <a:ext cx="6408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500720" y="3714840"/>
            <a:ext cx="1440" cy="11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500720" y="3642840"/>
            <a:ext cx="2447640" cy="115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122560" y="3787560"/>
            <a:ext cx="2450880" cy="10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5:01:07Z</dcterms:created>
  <dc:creator>Светлана</dc:creator>
  <dc:description/>
  <dc:language>en-US</dc:language>
  <cp:lastModifiedBy>SamLab.ws</cp:lastModifiedBy>
  <dcterms:modified xsi:type="dcterms:W3CDTF">2010-12-07T07:32:04Z</dcterms:modified>
  <cp:revision>5</cp:revision>
  <dc:subject/>
  <dc:title>ЗДОРОВЬЕ. ru</dc:title>
</cp:coreProperties>
</file>