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wmf" ContentType="image/x-wmf"/>
  <Override PartName="/ppt/media/image22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01F-2F46-4FE6-B497-A040E971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EEE-57F2-4AD6-8AF6-BBC59FDD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63C-60FA-4071-A67A-DF4C320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B59-CE62-4D60-AC86-EBE6AA9C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AC2-3EC2-4F6E-AAC8-B5ABDD43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78B-FCEE-4A9F-ACB3-8CB8E64B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EC9-2DEB-42DE-86A8-23D4B558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66B-7133-48B0-A1AB-13A6A02B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9E5-D45D-4717-84BD-6F0D32D1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D48-2ACF-4AC4-8D51-26CFE3DE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B0D-0AB6-4115-B69C-EFA5382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93B-2CC7-4EF9-9169-4E5A4CD6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7B46F8-BD3A-4F3B-A6D7-D85CCC3D697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800080"/>
                </a:solidFill>
                <a:latin typeface="Arial"/>
              </a:rPr>
              <a:t>ЗДОРОВЬЕ. </a:t>
            </a:r>
            <a:r>
              <a:rPr b="1" lang="en-US" sz="8800" spc="-1" strike="noStrike">
                <a:solidFill>
                  <a:srgbClr val="800080"/>
                </a:solidFill>
                <a:latin typeface="Arial"/>
              </a:rPr>
              <a:t>r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ВРЕДНЫЕ ПРИВЫЧ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4859280" y="3060720"/>
            <a:ext cx="4284720" cy="377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61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Договоримся, что действие алкоголя, никотина и наркотиков мы образно объединим и будем называть 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иллюзией счастья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Мозг вырабатывает различные вещества, которые мы называем гормонами, попадая в кровь все эти вещества разносятся по организму, и как бы подсказывают органам, как им себя нужно вести, к примеру гормон адреналин помогает тебе бежать не просто быстро, а очень быстр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Мы остановим свое внимание на 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гормонах счастья</a:t>
            </a:r>
            <a:r>
              <a:rPr b="1" lang="en-US" sz="2600" spc="-1" strike="noStrike">
                <a:solidFill>
                  <a:srgbClr val="008080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«Гормоны счастья" дают нам чувство лёгкости, радости и бодрости. Таким же действием обладают и многие нынешние наркотики, включая табак и алкого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ГОРМОНЫ СЧА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-61920"/>
            <a:ext cx="67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КАК СИГАРЕТНЫЙ ДЫМ ВОЗДЕЙСТВУЕТ НА ЧЕЛО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0520" y="1728720"/>
            <a:ext cx="1779840" cy="223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4842000"/>
            <a:ext cx="1835280" cy="1817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0920" y="1628640"/>
            <a:ext cx="6840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У курильщика очень большой риск заболеть раком ле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У него может появиться страшный кашель, голос станет некраси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Зубы от никотина желтеют, появляется неприятный запах изо 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Возникают сердечно-сосудист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асстройство нервной системы проявляется снижением трудоспособности, ослаблением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блюдается снижение физической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Ухудшается обмен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Появляются аллергически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443640" y="0"/>
            <a:ext cx="244944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0480" y="360000"/>
            <a:ext cx="60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СТАТ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59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По оценкам социологов, Россия сегодня – одна из самых курящих стран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А наши школьники в «табачном» смысле также впереди планеты всей: 80% российских учащихся рано или поздно пробуют сигар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Более того, по оценкам независимых экспертов, за последние 10 лет средний возраст ребенка-курильщика снизился на 3–4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Начинают теперь с младших классов школы в 7–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К 17–18 годам многие превращаются уже в заядлых курильщиков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59640" y="20520"/>
            <a:ext cx="2484360" cy="15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ВОЗДЕЙСТВИЕ АЛКОГОЛЯ НА ОРГ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539640"/>
            <a:ext cx="5759280" cy="630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2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арактер влияния алкоголя на организм человека давно и подробно изучен физиологами и мед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то касается подростков, то острое алкогольное отравление приводит к значительным изменениям деятельности сердечнососудист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коголь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80000" y="0"/>
            <a:ext cx="2664000" cy="200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АК ВЫГЛЯДИТ ЖИЗНЬ НАРКО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8200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В чем сила, привлекательность, “прелесть” наркотиков? В том, что они дают “кайф”. То есть – вызывают возбужденное эмоциональное состояние, имитирующее радость и даже счастье, усиливают половое влечение, имитирующее любовь (влюбленность), создают ощущение полноты бытия, сопровождаемое фантастическими образами-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галлюцинациями.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Исчезает на время тревога,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появляется чувство полной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безопасности и возможности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делать что угодно, вплоть до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самоубийства и убийства. Нет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тормозов. Нет ограничителей. 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55e00"/>
                </a:solidFill>
                <a:latin typeface="Arial"/>
              </a:rPr>
              <a:t>Но длится все это недолго.</a:t>
            </a:r>
            <a:br>
              <a:rPr sz="2100"/>
            </a:br>
            <a:r>
              <a:rPr b="0" lang="ru-RU" sz="2100" spc="-1" strike="noStrike">
                <a:solidFill>
                  <a:srgbClr val="355e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140360" cy="307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75280" y="81000"/>
            <a:ext cx="3203640" cy="2619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АК ВЫГЛЯДИТ ЖИЗНЬ НАРКО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260360"/>
            <a:ext cx="59403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6b6b"/>
                </a:solidFill>
                <a:latin typeface="Arial"/>
              </a:rPr>
              <a:t>Потом наступает депрессия, возникают страхи, галлюцинаторные образы приобретают угрожающий вид, во всем теле и в голове боль, человека колотит и трясет... И чтобы вернуть ощущение счастья (кайфа), надо опять обкуриваться, колоться... И так без конца. Вернее – до конца, до полного саморазрушения и гибели. Наркотики-галлюциногены обманывают психику, активизируют незадействованные ранее участки мозга, которые начинают работать в режиме, неадекватном действительности, и если такое повторяется, то уже вся психическая деятельность человека становится неадекватной. Человек приобретает стойкое и тяжелое психическое заболевание. Тут уже бессильны – логика, воля, знания, голос разум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80000" y="2879640"/>
            <a:ext cx="2664000" cy="37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480000" y="0"/>
            <a:ext cx="2664000" cy="331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АК ВЫГЛЯДИТ Ж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НЬ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НАРКО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60" y="1330200"/>
            <a:ext cx="622152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Aft>
                <a:spcPts val="1412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Тут уже не до кайфа – лишь бы не корежило. </a:t>
            </a:r>
            <a:br>
              <a:rPr sz="2000"/>
            </a:b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Вот описание “ломки” одним из несчастных:</a:t>
            </a:r>
            <a:br>
              <a:rPr sz="2000"/>
            </a:b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“Боль нечеловеческая. Будто внутрь забралась целая шайка садистов, одни сплющивают тебе кости, другие выворачивают суставы, третьи всюду вколачивают гвозди. Кишки рвутся на части, ты натурально сходишь с ума. Все из меня течет – из глаз, из носа, понос замучил (раз пятьдесят в день), от туалета дальше чем на два шага лучше не отходить. Рвет одной желчью.</a:t>
            </a:r>
            <a:br>
              <a:rPr sz="2000"/>
            </a:b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Если бы все начиналось именно с этого, с ломки, ни одного наркомана не было бы”.</a:t>
            </a:r>
            <a:br>
              <a:rPr sz="2000"/>
            </a:br>
            <a:r>
              <a:rPr b="1" lang="en-US" sz="2000" spc="-1" strike="noStrike">
                <a:solidFill>
                  <a:srgbClr val="355e00"/>
                </a:solidFill>
                <a:latin typeface="Arial"/>
              </a:rPr>
              <a:t>Есть и более впечатляющие, поистине страшные описания ломки. И у всех один рефрен – “сходишь с ума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443640" y="3419640"/>
            <a:ext cx="2700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65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4935600" cy="70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55e00"/>
                </a:solidFill>
                <a:latin typeface="Arial"/>
              </a:rPr>
              <a:t>У хронических наркоманов отмечаются тяжелые поражения печени и других внутренних органов, происходит умственная и нравственная деградация личности. Все значимое в жизни потеряно: дом, семья, дети, работа. Непрестанно гложет обида: жизнь прошла, ее не вернуть, впереди безысходность и новые муки. Но пуще, чем обида, грызет мысль: где, как достать новую порцию наркотика. Для наркомана барьеров, запретов на пути к зелью нет: за щепотку, за кубик наркотика он убьет родную мать. Закономерно превращение наркоманов в бомжей либо в преступников. Но в любом случае они – смертники. Глумясь над собой, человек за считанные годы сводит себя в моги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Послеслов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0000" y="17640"/>
            <a:ext cx="4680000" cy="5741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91440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55e00"/>
                </a:solidFill>
                <a:uFillTx/>
                <a:latin typeface="Arial"/>
              </a:rPr>
              <a:t>Здоровье</a:t>
            </a: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 - это бесценное достояние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только каждого человека, но и вс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55e00"/>
                </a:solidFill>
                <a:uFillTx/>
                <a:latin typeface="Arial"/>
              </a:rPr>
              <a:t>Здоровье</a:t>
            </a: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 помогает нам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наши планы, успешно решать жизн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основные задачи, преодоле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Arial"/>
              </a:rPr>
              <a:t>трудности, а если придется, то и значительные перегру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55e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оброе здоровь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, разумно сохраняемое и укрепляемое самим человеком, обеспечивает ему долгую и активну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1260360"/>
            <a:ext cx="4414680" cy="5427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2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ДОРОВЬ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Здоровье</a:t>
            </a:r>
            <a:r>
              <a:rPr b="0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это первая и важнейшая потребность человека, определяющая способность его к труду и обеспечивающая гармоническое развитие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Здоровье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 - это пол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физическое, псих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и социальное благополуч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а не только отсутст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болез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или физических деф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1079640"/>
            <a:ext cx="4284720" cy="551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686800" cy="58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стойчивость к действию повреждающих фак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казатели роста и развития в пределах среднестатистической нор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ункциональное состояние организма в пределах среднестатистической нор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личие резервных возмож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организм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отсутствие какого-либо заболе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ли дефектов развит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высокий уровень морально-воле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 ценностно-мотивацио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стан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РИЗНАКИ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ЧТО НЕ ЗАПРЕЩЕНО – ТО РАЗРЕШЕ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6372360" cy="486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60720" y="1600200"/>
            <a:ext cx="6840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НАМ МЕШАЮТ НАШИ ПРИВЫЧКИ. НЕКОТОРЫЕ ИЗ ВРЕДНЫХ ПРИВЫЧЕК СЛАВЯТСЯ ТЕМ, ЧТО НА НИХ СТОИТ БОЛЬШОЙ И ЖИРНЫЙ ОБЩЕСТВЕННЫЙ ЗАПРЕТ. НАПРИМЕР, УПОТРЕБЛЕНИЕ НАРКОТИ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149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Говорят, в статус социально и государственно неодобряемых вредных привычек попадают те, зависимость от которых действует на человека разрушительнее вс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543640" cy="451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79640" y="1260360"/>
            <a:ext cx="61200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55e00"/>
                </a:solidFill>
                <a:latin typeface="Arial"/>
              </a:rPr>
              <a:t>Сегодня в России регулярно употребляют наркотики 5, 99 м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Официальная статистика по</a:t>
            </a:r>
            <a:r>
              <a:rPr b="1" lang="en-US" sz="28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ркомании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 приводит цифру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0 тыс.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р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команов, однако это те, что добровольно встали н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медицинский у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Медицинские учрежден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гу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цио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нарно пролечить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 год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бол</a:t>
            </a:r>
            <a:r>
              <a:rPr b="1" lang="en-US" sz="2800" spc="-1" strike="noStrike">
                <a:solidFill>
                  <a:srgbClr val="355e00"/>
                </a:solidFill>
                <a:latin typeface="Arial"/>
              </a:rPr>
              <a:t>ее 50 тыс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акими привычками больна Росс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00000"/>
            <a:ext cx="8820000" cy="50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От общего числа наркоманов в России по статистике         20% - это школьники.</a:t>
            </a:r>
            <a:br>
              <a:rPr sz="2400"/>
            </a:b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               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60% – молодежь в возрасте 16-30 лет</a:t>
            </a:r>
            <a:br>
              <a:rPr sz="2400"/>
            </a:b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                            20% - люди более старшего возра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Замечены и случаи употребления наркотиков детьми 6-7 лет - к наркомании их приобщают родители-нарком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55e00"/>
                </a:solidFill>
                <a:latin typeface="Arial"/>
              </a:rPr>
              <a:t>Число смертей от употребления наркотиков за последние годы выросло в 12 раз, а среди детей - в 42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109440" y="-44280"/>
            <a:ext cx="2449440" cy="1844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много статис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20"/>
            <a:ext cx="91440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Что приносит с собой нарком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9640" y="3419640"/>
            <a:ext cx="3898800" cy="3340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439640"/>
            <a:ext cx="84596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666600"/>
                </a:solidFill>
                <a:latin typeface="Arial"/>
              </a:rPr>
              <a:t>В последние годы наркоманы становятся основной причиной роста заболеваемости СПИДом. По статистике почти 90% выявленных случаев заражения ВИЧ-инфекцией являлись следствием внутривенного употребления наркотиков, и причиной заражения явилось использование общих шпри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4a4a"/>
                </a:solidFill>
                <a:latin typeface="Arial"/>
              </a:rPr>
              <a:t>Около 80% преступлений по данным МВД сегодня происходят на почве наркомании. Разбойные нападения, кражи, грабежи, убийства совершаются часто ради одной доз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4a4a"/>
                </a:solidFill>
                <a:latin typeface="Arial"/>
              </a:rPr>
              <a:t>Статистика наркомании по России говорит, что зи числа употребляющих наркотики излечиваются только 5-6 процентов наркоманов. Излечившимися статистика считает, тех, кто не употребляет наркотики в течение года после ле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90000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КТО В ГРУППЕ РИС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Люди инфантильные. Им приятно, когда появляется что-то, помогающее временно абстрагироваться от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Люди, не умеющие себе отказывать. «Хочу – и все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Лентяи эмоциональные и интеллектуальные. Им труднее всех расстаться со своей привычкой, даже если она им ничего не 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ПРИЧ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8896320" cy="576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92360" y="1484280"/>
            <a:ext cx="575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148428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978200" y="1484280"/>
            <a:ext cx="23796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1484280"/>
            <a:ext cx="2592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5661000"/>
            <a:ext cx="6408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500720" y="3714840"/>
            <a:ext cx="1440" cy="11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00720" y="3642840"/>
            <a:ext cx="2447640" cy="115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122560" y="3787560"/>
            <a:ext cx="2450880" cy="10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1:07Z</dcterms:created>
  <dc:creator>Светлана</dc:creator>
  <dc:description/>
  <dc:language>en-US</dc:language>
  <cp:lastModifiedBy>SamLab.ws</cp:lastModifiedBy>
  <dcterms:modified xsi:type="dcterms:W3CDTF">2010-12-07T07:32:04Z</dcterms:modified>
  <cp:revision>5</cp:revision>
  <dc:subject/>
  <dc:title>ЗДОРОВЬЕ. ru</dc:title>
</cp:coreProperties>
</file>