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6.jpeg" ContentType="image/jpeg"/>
  <Override PartName="/ppt/media/image3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png" ContentType="image/png"/>
  <Override PartName="/ppt/media/image9.jpeg" ContentType="image/jpeg"/>
  <Override PartName="/ppt/media/image23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5B7-280E-4DB1-B7FD-02BCEA61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A40-463C-4C29-8730-E340F76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12A-C882-48E7-8FB9-B622500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FF8-AE95-4B50-BA4B-50774F49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6AEC-7F2A-4240-B327-96131044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EFB-7ADB-4347-8D77-F008B77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E1B-2C20-4EA4-AAEE-84424D4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CA9-8003-4A5C-80AB-B575040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E8D-8FBB-4CD1-ABAD-C6CE058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97E-24D2-4ABC-8B4D-C2EC472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F78E-5D74-4F79-A434-8D7503EB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88E-38E2-41C5-9837-85272EF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211-F190-42E9-9131-60D2CA4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4F2F-7528-48F5-A642-D121FFA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FED-0F86-4F65-B33E-8E5DAE6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493-B977-4E4F-AA0D-52D957F4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A9A1-15C9-4A5B-99B3-95998B80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2CA8-68AC-41A7-8E02-E9B931EF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4168-22F8-4F9D-A54C-89140E4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0375-4B50-49B6-B38E-F87AC25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5EE5-C080-4231-977D-9D6182B5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BC79-89AA-4D50-B6EF-92550EA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B42-3D70-48D2-8F44-3DDA06B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61F2-4534-4778-9ABC-1DB4453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A141-ED79-4339-BB88-FF34493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3CA0-83F9-4380-8F33-B718971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B5A8-1781-4388-B252-D2EEAD9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6C5F-8464-44B7-A6F4-16ACC3CA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3288-AC9B-46B1-9F65-897E5615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44C5-ED15-4C1C-96C0-02190BBD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22E5F-364F-4CEC-BBFD-8AD84580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07995-DECD-4DA8-BD2D-47096F0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36E97-A144-4021-B22F-1F2F93B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BDA-46AA-4777-BC6C-22C69879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10AD3-CF21-401E-AB51-0A7A5D21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09B32-4617-4391-99AC-53AD9DF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30C5E-0F90-4147-B2F5-47EDB4D0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1C240-1E86-45E7-8194-CB0F4B8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35378-CB62-4AD9-BAE5-9F4A41D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125A4-76FA-4B6F-9F0E-16AACC6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D4007-1373-4180-A2CA-92586E7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EB5C5-30BD-475F-80EB-C498409E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E99E6-5FE9-4A30-8BF3-38310E98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6E40-F62A-472F-8C3E-8D69239F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057-204A-4A5B-9B17-C3069E5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07EA-B5AF-4201-B2C2-F79CA72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79997-E492-4F1C-9441-8AB38D6A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3A2E-6BB1-40E0-B118-A0FF3BE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0868-0F79-4C29-80ED-C071B00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E4B4-9083-40DD-97F9-1F99538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3824-F65E-41C3-B0A0-04A1CE2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7E16-C00A-4892-886F-AB0E6D2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6F5B-C07A-4EB3-B719-E45C43E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6C8B-D4EF-4762-9F55-B1D57DF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CEE3-2300-47E9-9AE3-CE8DF635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F6F-99BD-4FFF-B823-B43F5E6F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B5CF-A958-4A73-8A6E-FBF56F86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5855-7BA8-47E4-930A-1E6AE1DF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C3E4-E29C-41CC-95E8-0DF1A9A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30E8-0830-4D55-8919-6D639D6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EC87-7F36-4769-A901-739E6BF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B351-9FD0-413A-B3D8-7630B7C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8A5B-6268-49C5-98ED-4B3914B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9F8E-0912-4093-BD88-8EEC6AC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C664-31D8-4383-996B-9CEA2EF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9413-70B8-4D5A-9E44-6EC6881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9D5-D603-46C7-BCA8-0A4ED39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4123-05E8-48FD-AB98-AF16A55B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2F5D-7B49-4F69-A189-E6C99F9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B119-AAE9-4331-82F0-2C064D5B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B83A4-A5A4-4D24-AF50-52A7F96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97AC-0825-4B99-A1E5-C71E764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96E4-4D7E-4EB4-8789-78DA1BC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EC3F-D872-42E0-893A-DF77F51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D4CB-0B4C-4578-8569-15B2D7F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5C729-BACB-48D7-9A9C-5FC66D9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C839-1D69-42C0-8ECA-2835713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532-5855-40B2-B057-8F2B348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8A324-212E-4414-A00B-B80ACE7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ABDE-0681-4671-8C7E-74F497A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DDD8A-BB1F-48AF-960F-3E78C6B1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0928-E037-482F-AAF8-05A142D7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5D560-A51D-4463-8C8E-833C444A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2C3732-B0D8-4FD4-8058-D5AAF6AC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2BF337-8D05-44C0-8B22-23307124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A7F8CB-21DA-4AD5-8FD1-38545DF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493F7-9C40-4C44-8B6E-FDB9E2B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D3293-2124-4B5D-BF40-8BE6795A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905-3EE1-4E3E-A6A8-A6D4974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3022D-8EBE-4BE1-80AF-F7FC0254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D6BF2-C53A-48E7-81F2-5D093DD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B2CBA-FD4B-44D4-B53E-9281EF5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C9F18-18EF-4740-B148-A462F51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2E5A40-9A85-4396-B697-F84FBF4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57D1B1-55DE-46FB-8AB1-E24ED39A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B1C1A0-0621-4AE5-8D57-25E3961B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ABC-086D-4F4E-B386-DCCCEF24407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3F9-EB3C-4CE2-B551-23C17DAE94F0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58EE-D5A7-4BFE-810E-68DC9F8A79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EBC-BCE3-40F4-B89F-DD0ADBB8B31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12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1AF7-6A39-4E40-9BB8-BFF09609202D}" type="slidenum">
              <a:rPr b="0" lang="ru-RU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8DB-2F0D-40A3-BC98-BC3DEC62BC97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0160-F89F-498B-9B43-CCD54ABCB4D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2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C53-4B17-4F95-9F0D-0A9EF6A3D37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dt" idx="24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79280" y="1988640"/>
            <a:ext cx="51418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5c2305"/>
                </a:solidFill>
                <a:latin typeface="Arial"/>
              </a:rPr>
              <a:t>Знакомство с к</a:t>
            </a:r>
            <a:r>
              <a:rPr b="1" lang="en-US" sz="6000" spc="-1" strike="noStrike">
                <a:solidFill>
                  <a:srgbClr val="5c2305"/>
                </a:solidFill>
                <a:latin typeface="Book Antiqua"/>
              </a:rPr>
              <a:t>омпьютер</a:t>
            </a:r>
            <a:br>
              <a:rPr sz="6000"/>
            </a:br>
            <a:endParaRPr b="0" lang="en-US" sz="6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4065120" y="560880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тика стр.22- 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BF1-14C1-4754-9EF8-2EEE232278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испле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(МОНИТОР)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7640" y="2420640"/>
            <a:ext cx="712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исплей - устройство, которое имеет экран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Дисплей предназначен для вывода на экран текстовой и графической информац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73392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220968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994-E733-4D2A-9F53-09C0D42228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авиатура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то устройство имеющее клавиши, он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едназначен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 для ввода  текстовой информации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 помощью клавиатуры  мы вводим алфавитно – цифровые данные и управляем работой компьютера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83" name="Rectangle 5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876920" cy="11145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2757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64D-BE98-4142-B42E-3F06DA1DB0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ышь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548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Мышь -самое простое устройство для работы с компьютером 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служит для ввода информаци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Мыши бывают 2 и более кнопочные. Самая главная – левая  кнопка, служит для запуска программ, активизации меню, выделения объектов. Правая кнопка – служит для вызова вспомогательных меню объекта. Средняя кнопка используется крайне редко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9387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08132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bs00284_"/>
          <p:cNvPicPr/>
          <p:nvPr/>
        </p:nvPicPr>
        <p:blipFill>
          <a:blip r:embed="rId2"/>
          <a:stretch/>
        </p:blipFill>
        <p:spPr>
          <a:xfrm>
            <a:off x="5791320" y="457200"/>
            <a:ext cx="200160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9B9-2A88-4724-B830-D59D97FFE4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837720"/>
            <a:ext cx="889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ополнительные составляющие компьюте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5484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устройства для вывода информации)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ринтер – печат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Сканер – видеть, считывать информацию с листа 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бумаги или слайда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Модем – связ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ифровая фотокамера – видет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олонки , микрофон –говорить, слышать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82896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bs00270_"/>
          <p:cNvPicPr/>
          <p:nvPr/>
        </p:nvPicPr>
        <p:blipFill>
          <a:blip r:embed="rId2"/>
          <a:stretch/>
        </p:blipFill>
        <p:spPr>
          <a:xfrm>
            <a:off x="6553080" y="2286000"/>
            <a:ext cx="1486080" cy="9716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36669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8" descr="j0079217"/>
          <p:cNvPicPr/>
          <p:nvPr/>
        </p:nvPicPr>
        <p:blipFill>
          <a:blip r:embed="rId3"/>
          <a:stretch/>
        </p:blipFill>
        <p:spPr>
          <a:xfrm>
            <a:off x="6705720" y="3429000"/>
            <a:ext cx="162864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000-DC39-41E9-95B8-51C955794C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bs01070_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15876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68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ехника безопасности при работе с компьютером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Запрещается: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c2305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1.ТРОГАТЬ РАЗЪЕМЫ СОЕДИНИТЕЛЬНЫХ КАБЕЛЕЙ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ПРИКАСАТЬСЯ К ПИТАЮЩИМ ПРОВОДАМ И УСТРОЙСТВАМ ЗАЗЕМЛЕНИЯ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ПРИКАСАТЬСЯ К ТЫЛЬНОЙ СТОРОНЕ МОНИТОРА, КЛАВИАТУРЫ, К ЭКРАНУ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ВКЛЮЧАТЬ И ОТКЛЮЧАТЬ АППАРАТУРУ БЕЗ РАЗРЕШЕНИЯ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УЧИТЕЛЯ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КЛАСТЬ НА МОНИТОР И КЛАВИАТУРУ КНИГИ И ТЕТРАДИ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РАБОТАТЬ ВЛАЖНЫМИ РУКАМИ И ВО ВЛАЖНОЙ ОДЕЖДЕ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Times New Roman"/>
              </a:rPr>
              <a:t>САМИМ РЕМОНТИРОВАТЬ ИСПОРЧЕННУЮ АППАРАТУРУ.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computer"/>
          <p:cNvPicPr/>
          <p:nvPr/>
        </p:nvPicPr>
        <p:blipFill>
          <a:blip r:embed="rId2"/>
          <a:stretch/>
        </p:blipFill>
        <p:spPr>
          <a:xfrm>
            <a:off x="6300720" y="4041720"/>
            <a:ext cx="2158920" cy="20034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755640" y="1752480"/>
            <a:ext cx="7470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На протяжении всей истории человек создавал приспособления, помогающие ему в работе и в быту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И вот в ХХ веке человек создал замечательную вещь, грандиозное изобретение. Это компьютер!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36" name="Picture 4" descr="h1(6)"/>
          <p:cNvPicPr/>
          <p:nvPr/>
        </p:nvPicPr>
        <p:blipFill>
          <a:blip r:embed="rId3"/>
          <a:stretch/>
        </p:blipFill>
        <p:spPr>
          <a:xfrm>
            <a:off x="7093080" y="126828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18920" y="1699920"/>
            <a:ext cx="660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c2305"/>
                </a:solidFill>
                <a:latin typeface="Book Antiqua"/>
              </a:rPr>
              <a:t>Возникновение компьютеров</a:t>
            </a:r>
            <a:endParaRPr b="0" lang="en-US" sz="4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Book Antiqua"/>
              </a:rPr>
              <a:t>Первые компьютеры</a:t>
            </a:r>
            <a:endParaRPr b="0" lang="en-US" sz="4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39" name="Picture 10" descr="computer1"/>
          <p:cNvPicPr/>
          <p:nvPr/>
        </p:nvPicPr>
        <p:blipFill>
          <a:blip r:embed="rId2"/>
          <a:stretch/>
        </p:blipFill>
        <p:spPr>
          <a:xfrm>
            <a:off x="1258920" y="1989000"/>
            <a:ext cx="3240000" cy="2970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4917960" y="27115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2305"/>
                </a:solidFill>
                <a:latin typeface="Book Antiqua"/>
              </a:rPr>
              <a:t>1946 год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9" descr="computer2 "/>
          <p:cNvPicPr/>
          <p:nvPr/>
        </p:nvPicPr>
        <p:blipFill>
          <a:blip r:embed="rId2"/>
          <a:srcRect l="0" t="0" r="8249" b="12175"/>
          <a:stretch/>
        </p:blipFill>
        <p:spPr>
          <a:xfrm>
            <a:off x="611280" y="620640"/>
            <a:ext cx="5113080" cy="403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983160" y="479736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о  - вычислительная машин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07680" y="53197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ЭВ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39000" y="836640"/>
            <a:ext cx="31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могали человеку  решать задачи, требующие сложных вычислен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7" descr="computer"/>
          <p:cNvPicPr/>
          <p:nvPr/>
        </p:nvPicPr>
        <p:blipFill>
          <a:blip r:embed="rId2"/>
          <a:stretch/>
        </p:blipFill>
        <p:spPr>
          <a:xfrm>
            <a:off x="611280" y="1628640"/>
            <a:ext cx="4752720" cy="4353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6985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305"/>
                </a:solidFill>
                <a:latin typeface="Book Antiqua"/>
              </a:rPr>
              <a:t>Современный компьютер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500720" y="2060640"/>
            <a:ext cx="397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полняет самые разнообразные действия с информацией ( с текстами, с числами, рисунками, чертежами, звуками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67320" y="558972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сональный компьютер (П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05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837720"/>
            <a:ext cx="73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Book Antiqua"/>
              </a:rPr>
              <a:t>Из чего состоит компьютер?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183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Системный блок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Монито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Клавиату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Мышь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Колонки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Принте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Скане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другие устройств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EE5-9574-44BC-BB20-D835442963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991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сновные составляющие компьюте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Системный блок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Монитор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лавиатура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Мышь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6910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bs00242_"/>
          <p:cNvPicPr/>
          <p:nvPr/>
        </p:nvPicPr>
        <p:blipFill>
          <a:blip r:embed="rId2"/>
          <a:stretch/>
        </p:blipFill>
        <p:spPr>
          <a:xfrm>
            <a:off x="4284720" y="5084640"/>
            <a:ext cx="1228680" cy="8096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7"/>
          <p:cNvSpPr/>
          <p:nvPr/>
        </p:nvSpPr>
        <p:spPr>
          <a:xfrm>
            <a:off x="342900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6" descr="pe01691_"/>
          <p:cNvPicPr/>
          <p:nvPr/>
        </p:nvPicPr>
        <p:blipFill>
          <a:blip r:embed="rId3"/>
          <a:stretch/>
        </p:blipFill>
        <p:spPr>
          <a:xfrm>
            <a:off x="4859280" y="3789360"/>
            <a:ext cx="1371600" cy="10350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"/>
          <p:cNvSpPr/>
          <p:nvPr/>
        </p:nvSpPr>
        <p:spPr>
          <a:xfrm>
            <a:off x="36291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8" descr="bd05011_"/>
          <p:cNvPicPr/>
          <p:nvPr/>
        </p:nvPicPr>
        <p:blipFill>
          <a:blip r:embed="rId4"/>
          <a:stretch/>
        </p:blipFill>
        <p:spPr>
          <a:xfrm>
            <a:off x="4500720" y="2708280"/>
            <a:ext cx="1047600" cy="973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1"/>
          <p:cNvSpPr/>
          <p:nvPr/>
        </p:nvSpPr>
        <p:spPr>
          <a:xfrm>
            <a:off x="39146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0" descr="bs00283_"/>
          <p:cNvPicPr/>
          <p:nvPr/>
        </p:nvPicPr>
        <p:blipFill>
          <a:blip r:embed="rId5"/>
          <a:stretch/>
        </p:blipFill>
        <p:spPr>
          <a:xfrm>
            <a:off x="5364000" y="1557360"/>
            <a:ext cx="11131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48B4-976B-4586-A04A-3C1F84036F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истемный блок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истемный блок – основной компонент любого персонального компьютера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 его металлическом корпусе заключены главные элементы ЭВМ. Именно в нем находится материнская плата, на которой располагается сердце любого компьютера - процессор  и оперативная память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0000"/>
                </a:solidFill>
                <a:uFillTx/>
                <a:latin typeface="Arial"/>
              </a:rPr>
              <a:t>Системный блок предназначен для обработки информации и управления работой всех устройств компьютера.  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а лицевой панели системного блока находится: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Флоппи - дисковод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CD – ROM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Две кнопки: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POWER (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итание),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RESET (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кнопка экстренной перезагрузки ПК в случаи «зависания»)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Флоппи - дисковод  и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CD – ROM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-  используют для считывания информации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7" name="Rectangle 1029"/>
          <p:cNvSpPr/>
          <p:nvPr/>
        </p:nvSpPr>
        <p:spPr>
          <a:xfrm>
            <a:off x="42004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1028" descr="bs00184_"/>
          <p:cNvPicPr/>
          <p:nvPr/>
        </p:nvPicPr>
        <p:blipFill>
          <a:blip r:embed="rId2"/>
          <a:stretch/>
        </p:blipFill>
        <p:spPr>
          <a:xfrm>
            <a:off x="6705720" y="4191120"/>
            <a:ext cx="742680" cy="514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31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033"/>
          <p:cNvSpPr/>
          <p:nvPr/>
        </p:nvSpPr>
        <p:spPr>
          <a:xfrm>
            <a:off x="3747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035"/>
          <p:cNvSpPr/>
          <p:nvPr/>
        </p:nvSpPr>
        <p:spPr>
          <a:xfrm>
            <a:off x="38908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034" descr="bs00287_"/>
          <p:cNvPicPr/>
          <p:nvPr/>
        </p:nvPicPr>
        <p:blipFill>
          <a:blip r:embed="rId3"/>
          <a:stretch/>
        </p:blipFill>
        <p:spPr>
          <a:xfrm>
            <a:off x="7620120" y="5883120"/>
            <a:ext cx="1133280" cy="974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956720" y="1197000"/>
            <a:ext cx="9284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9:20:02Z</dcterms:created>
  <dc:creator>Катя</dc:creator>
  <dc:description/>
  <dc:language>en-US</dc:language>
  <cp:lastModifiedBy>Марина</cp:lastModifiedBy>
  <dcterms:modified xsi:type="dcterms:W3CDTF">2015-01-28T15:59:00Z</dcterms:modified>
  <cp:revision>13</cp:revision>
  <dc:subject/>
  <dc:title>Компьютер –             это просто!</dc:title>
</cp:coreProperties>
</file>