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media/image7.png" ContentType="image/png"/>
  <Override PartName="/ppt/media/image15.wmf" ContentType="image/x-wmf"/>
  <Override PartName="/ppt/media/image12.wmf" ContentType="image/x-wmf"/>
  <Override PartName="/ppt/media/image4.png" ContentType="image/png"/>
  <Override PartName="/ppt/media/image6.jpeg" ContentType="image/jpeg"/>
  <Override PartName="/ppt/media/image3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2.png" ContentType="image/png"/>
  <Override PartName="/ppt/media/image9.jpeg" ContentType="image/jpeg"/>
  <Override PartName="/ppt/media/image23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F48-1BDE-4E97-936D-4AAEB7B4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EB80-B5B9-4B74-A5EF-A00AF99D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7CD7-ED72-451A-9B30-E0069B0C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CE6-1156-4386-97B0-FE3EEF54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1E90-8980-4195-AAFA-A7543847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6922-B59F-455C-A50F-B99BAD92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E19B-3550-478F-A62D-EA2215CB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C61F-8465-4EB0-B342-ADD47AF4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1BE0-B444-4537-9410-EC0510B3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017A-E2FB-430F-A724-6C9C8198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80BE-8BBB-45A7-BCB3-59607FD2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344-982C-4A0B-B905-4565DB40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FB63-07D0-42DA-9DC6-072CFB5F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C29D-8BED-4469-8144-9C696127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AC46-9AB1-494C-BE2A-73F5AD5D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B971-580F-4B20-B1FB-A2F7BD98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4420-1FF6-4453-ADDC-C3010EC0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71A91-49E7-4CED-9AC3-7600FEF3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40288-389F-42B9-B933-4DFE7CFA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555B1-3371-4C99-917D-2E55E401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7982C-436E-4707-9381-2284CD54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B40F3-7B48-4C40-AE9B-E282727E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38BB-25BD-42B8-825E-2B30B6E4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AD9C2-2A91-4BEB-957B-5B66ED8A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A80DE-1A5D-4A92-889F-EDA6187F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52532-7EE8-4CAA-AE0D-AAB13198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DCD69-A4F6-4455-A1E6-0338FF56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2C549-A9E6-4C07-84C0-A027C741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271A2-D33B-40BD-8C37-BFCE5565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B7ADC-0410-45E0-8E57-761CD09D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A8E915-4E4C-4521-A18A-A4085BB2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38C5A8-6ECC-4617-A2E8-B17780E7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0E6227-9B9E-4AAD-B407-50D29203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D1EE-C424-4EC5-BDE0-9E67854A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DC1232-6E9D-4414-92BC-BDEC54B0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D77CD7-6D51-4B9E-A909-3B461958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D43003-CEFA-43B2-8E0E-6BDB7D5E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D3FCFF-56A0-4FFE-91E2-B80993F5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6F7BC0-8704-43F3-8BC5-DE5F8428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E624F7-16DD-4CA1-88AC-A79806E1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720553-9EAF-4990-8913-F284AF1A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E15BB0-22BC-4404-B242-B6E5A45B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9B90C2-D1EA-4B33-AF1D-34CAFA19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C02B7-F6F8-4C94-8E5F-7D2FB4A3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941-68D1-4A10-8395-69D2CEEA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09E9C-21C2-4FEB-B988-283817E5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F615A-BC05-4113-9BB0-FE513A9D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61771-FE28-4870-9774-D0A5F168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725F9-41D5-4820-A889-71CFD8A3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A6402-3F02-4015-B298-7A4317DA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FA9D7-FAC3-4537-AADF-C87C6A3F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6C2D3-A6F8-42B8-9AA8-D7CBD3E6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C5C20-2290-47B9-8DA0-1D3469C9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F9273-09F9-4DC6-8CDA-D97E44EE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27DAA-F8EF-4D27-8249-3C77EB00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1CC8-0924-40D4-990C-DF945369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079DA-741E-438A-AF32-54E15534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A425F-1789-4320-A6F2-0C4F4455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0D8C1-919F-43CB-8870-CB889CB0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E5A7F-3956-4E79-B177-F4873B5D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D6A76-68CB-4D60-9026-D2EFB3E1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A929A-0B1D-4E66-9ED3-AE48F087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79552-1404-46E0-96B9-A7A7BC83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362DF-78E4-4186-9E78-C3196815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A789C-2DD6-4783-87B4-D86EA4B5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0B20C-8412-41B2-813B-4AADE8B5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ED5-B1DD-4263-A511-74305E6B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3F61F-190D-40DD-B38C-4A765081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91DA8-8C71-4ABE-B440-645447BE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50D33-00B8-4271-B4EA-F63D320C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77441-2D05-40DB-9C01-C91613C3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EDB48-9564-458F-ABDE-05969D35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F2996-EEBE-4AD2-B407-2A41F07C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A2E74-EBBC-4E6A-8FF3-4D40ACF6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70AAD-634E-491D-A337-99ADD846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91382-8ABA-4FF6-9BA0-5B7813AE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DC970-C6F8-4B77-8F8D-C9C45766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E6E-AFDD-4519-BAAF-5100D645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13C93-3F88-4855-A54A-CFF2D3CF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B418C-7F3C-46A7-B0D3-0E6F360F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3BB54-0EA0-4412-98B1-173A1F12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377B2-EFC6-4D52-9F94-041952E1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0699A-ED76-4F26-9CE1-CD69F7F0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1256E8-BDBB-43E8-8DB5-0DAA15E8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AC9FAD-AE12-49CE-BB88-DA1774F4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DB67DD-E269-4C21-BDAE-BF479382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0FAC05-4AD0-423E-BA88-391F0693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72C1AD-1358-4593-B6B5-B22402D8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CF2-E2AB-48DD-B7F4-307F3C6D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58AA00-3AA4-49E4-A0E8-59E2C97B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E564A6-1CCE-4B3A-88DB-ECE07647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74D7F4-5815-4A4E-882D-EE5ED782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D929B3-ABE8-42DD-88B1-400F0A41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5799C0-1A3E-4160-A32C-87A78781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D3BD33-4583-4C46-963C-8E268CA9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6D6D13-55A3-41D4-B832-19F32EDE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7F3E-AA81-4EBB-8C7C-D7230CEEEF0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AE07-871D-49E2-9C7D-FFD85A5650E2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EF1B-B1B2-49D3-8F86-38EA41603E1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0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C20F-317E-4B94-A571-B5E3FEFA6D8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dt" idx="12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5DEA-0B8A-4696-BC60-C259B5EE87FA}" type="slidenum">
              <a:rPr b="0" lang="ru-RU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D9B0-B003-4C30-947A-9AF88D2D5D66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3B3D-2E82-4514-BF17-549E547C34D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22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9BE6-2D1C-4A6A-881A-875179EC8D5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dt" idx="24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79280" y="1988640"/>
            <a:ext cx="514188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5c2305"/>
                </a:solidFill>
                <a:latin typeface="Arial"/>
              </a:rPr>
              <a:t>Знакомство с к</a:t>
            </a:r>
            <a:r>
              <a:rPr b="1" lang="en-US" sz="6000" spc="-1" strike="noStrike">
                <a:solidFill>
                  <a:srgbClr val="5c2305"/>
                </a:solidFill>
                <a:latin typeface="Book Antiqua"/>
              </a:rPr>
              <a:t>омпьютер</a:t>
            </a:r>
            <a:br>
              <a:rPr sz="6000"/>
            </a:br>
            <a:endParaRPr b="0" lang="en-US" sz="6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3" name=""/>
          <p:cNvSpPr/>
          <p:nvPr/>
        </p:nvSpPr>
        <p:spPr>
          <a:xfrm>
            <a:off x="4065120" y="5608800"/>
            <a:ext cx="29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форматика стр.22- 2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6,-106,-106)"/>
                                      </p:to>
                                    </p:se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6,-106,-106)"/>
                                      </p:to>
                                    </p:set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92A8-AE80-46A6-ABE0-56DABFFD73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Диспле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(МОНИТОР)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47640" y="2420640"/>
            <a:ext cx="712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Дисплей - устройство, которое имеет экран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Дисплей предназначен для вывода на экран текстовой и графической информации.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373392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4284720" y="1557360"/>
            <a:ext cx="220968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2530-CDB8-42C6-8F6B-8FDF76CE1DC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авиатура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Это устройство имеющее клавиши, оно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предназначен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Verdana"/>
              </a:rPr>
              <a:t> для ввода  текстовой информации.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С помощью клавиатуры  мы вводим алфавитно – цифровые данные и управляем работой компьютера.</a:t>
            </a: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383" name="Rectangle 5" descr=""/>
          <p:cNvPicPr/>
          <p:nvPr/>
        </p:nvPicPr>
        <p:blipFill>
          <a:blip r:embed="rId2"/>
          <a:stretch/>
        </p:blipFill>
        <p:spPr>
          <a:xfrm>
            <a:off x="2209680" y="838080"/>
            <a:ext cx="4876920" cy="111456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5"/>
          <p:cNvSpPr/>
          <p:nvPr/>
        </p:nvSpPr>
        <p:spPr>
          <a:xfrm>
            <a:off x="275760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21CA-4E8F-417C-BA55-2149D1DC7D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Мышь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5484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Мышь -самое простое устройство для работы с компьютером и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служит для ввода информации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Мыши бывают 2 и более кнопочные. Самая главная – левая  кнопка, служит для запуска программ, активизации меню, выделения объектов. Правая кнопка – служит для вызова вспомогательных меню объекта. Средняя кнопка используется крайне редко.</a:t>
            </a: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39387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408132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6" descr="bs00284_"/>
          <p:cNvPicPr/>
          <p:nvPr/>
        </p:nvPicPr>
        <p:blipFill>
          <a:blip r:embed="rId2"/>
          <a:stretch/>
        </p:blipFill>
        <p:spPr>
          <a:xfrm>
            <a:off x="5791320" y="457200"/>
            <a:ext cx="200160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8E32-4A2B-44C3-BA3E-ED6D630C78D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0560" y="837720"/>
            <a:ext cx="8893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Дополнительные составляющие компьютера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5484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устройства для вывода информации)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Принтер – печать</a:t>
            </a: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Сканер – видеть, считывать информацию с листа </a:t>
            </a: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бумаги или слайда.</a:t>
            </a: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Модем – связь</a:t>
            </a: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Цифровая фотокамера – видеть</a:t>
            </a: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Колонки , микрофон –говорить, слышать.</a:t>
            </a: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382896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4" descr="bs00270_"/>
          <p:cNvPicPr/>
          <p:nvPr/>
        </p:nvPicPr>
        <p:blipFill>
          <a:blip r:embed="rId2"/>
          <a:stretch/>
        </p:blipFill>
        <p:spPr>
          <a:xfrm>
            <a:off x="6553080" y="2286000"/>
            <a:ext cx="1486080" cy="9716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7"/>
          <p:cNvSpPr/>
          <p:nvPr/>
        </p:nvSpPr>
        <p:spPr>
          <a:xfrm>
            <a:off x="366696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345276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8" descr="j0079217"/>
          <p:cNvPicPr/>
          <p:nvPr/>
        </p:nvPicPr>
        <p:blipFill>
          <a:blip r:embed="rId3"/>
          <a:stretch/>
        </p:blipFill>
        <p:spPr>
          <a:xfrm>
            <a:off x="6705720" y="3429000"/>
            <a:ext cx="1628640" cy="1628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6" dur="1" fill="hold">
                                    <p:stCondLst>
                                      <p:cond evt="end">
                                        <p:tn val="440"/>
                                      </p:cond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DAC5-A609-4948-B643-FAB8C1EE08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6" descr="bs01070_"/>
          <p:cNvPicPr/>
          <p:nvPr/>
        </p:nvPicPr>
        <p:blipFill>
          <a:blip r:embed="rId2"/>
          <a:stretch/>
        </p:blipFill>
        <p:spPr>
          <a:xfrm>
            <a:off x="6629400" y="685800"/>
            <a:ext cx="2286000" cy="15876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768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Техника безопасности при работе с компьютером</a:t>
            </a: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Запрещается: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c2305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1.ТРОГАТЬ РАЗЪЕМЫ СОЕДИНИТЕЛЬНЫХ КАБЕЛЕЙ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  <a:ea typeface="Arial"/>
              </a:rPr>
              <a:t>ПРИКАСАТЬСЯ К ПИТАЮЩИМ ПРОВОДАМ И УСТРОЙСТВАМ ЗАЗЕМЛЕНИЯ.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  <a:ea typeface="Arial"/>
              </a:rPr>
              <a:t>ПРИКАСАТЬСЯ К ТЫЛЬНОЙ СТОРОНЕ МОНИТОРА, КЛАВИАТУРЫ, К ЭКРАНУ.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  <a:ea typeface="Arial"/>
              </a:rPr>
              <a:t>ВКЛЮЧАТЬ И ОТКЛЮЧАТЬ АППАРАТУРУ БЕЗ РАЗРЕШЕНИЯ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УЧИТЕЛЯ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5.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  <a:ea typeface="Arial"/>
              </a:rPr>
              <a:t>КЛАСТЬ НА МОНИТОР И КЛАВИАТУРУ КНИГИ И ТЕТРАДИ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6.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  <a:ea typeface="Arial"/>
              </a:rPr>
              <a:t>РАБОТАТЬ ВЛАЖНЫМИ РУКАМИ И ВО ВЛАЖНОЙ ОДЕЖДЕ.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7.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  <a:ea typeface="Times New Roman"/>
              </a:rPr>
              <a:t>САМИМ РЕМОНТИРОВАТЬ ИСПОРЧЕННУЮ АППАРАТУРУ.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251460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3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3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3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3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3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3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3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3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0" descr="computer"/>
          <p:cNvPicPr/>
          <p:nvPr/>
        </p:nvPicPr>
        <p:blipFill>
          <a:blip r:embed="rId2"/>
          <a:stretch/>
        </p:blipFill>
        <p:spPr>
          <a:xfrm>
            <a:off x="6300720" y="4041720"/>
            <a:ext cx="2158920" cy="20034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755640" y="1752480"/>
            <a:ext cx="7470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c2305"/>
                </a:solidFill>
                <a:latin typeface="Book Antiqua"/>
              </a:rPr>
              <a:t>На протяжении всей истории человек создавал приспособления, помогающие ему в работе и в быту.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2305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5c2305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5c2305"/>
                </a:solidFill>
                <a:latin typeface="Book Antiqua"/>
              </a:rPr>
              <a:t>И вот в ХХ веке человек создал замечательную вещь, грандиозное изобретение. Это компьютер!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336" name="Picture 4" descr="h1(6)"/>
          <p:cNvPicPr/>
          <p:nvPr/>
        </p:nvPicPr>
        <p:blipFill>
          <a:blip r:embed="rId3"/>
          <a:stretch/>
        </p:blipFill>
        <p:spPr>
          <a:xfrm>
            <a:off x="7093080" y="1268280"/>
            <a:ext cx="1028520" cy="952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18920" y="1699920"/>
            <a:ext cx="6607080" cy="23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c2305"/>
                </a:solidFill>
                <a:latin typeface="Book Antiqua"/>
              </a:rPr>
              <a:t>Возникновение компьютеров</a:t>
            </a:r>
            <a:endParaRPr b="0" lang="en-US" sz="48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6,-106,-106)"/>
                                      </p:to>
                                    </p:se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6,-106,-106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2305"/>
                </a:solidFill>
                <a:latin typeface="Book Antiqua"/>
              </a:rPr>
              <a:t>Первые компьютеры</a:t>
            </a:r>
            <a:endParaRPr b="0" lang="en-US" sz="44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339" name="Picture 10" descr="computer1"/>
          <p:cNvPicPr/>
          <p:nvPr/>
        </p:nvPicPr>
        <p:blipFill>
          <a:blip r:embed="rId2"/>
          <a:stretch/>
        </p:blipFill>
        <p:spPr>
          <a:xfrm>
            <a:off x="1258920" y="1989000"/>
            <a:ext cx="3240000" cy="29703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12"/>
          <p:cNvSpPr/>
          <p:nvPr/>
        </p:nvSpPr>
        <p:spPr>
          <a:xfrm>
            <a:off x="4917960" y="2711520"/>
            <a:ext cx="31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c2305"/>
                </a:solidFill>
                <a:latin typeface="Book Antiqua"/>
              </a:rPr>
              <a:t>1946 год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9" descr="computer2 "/>
          <p:cNvPicPr/>
          <p:nvPr/>
        </p:nvPicPr>
        <p:blipFill>
          <a:blip r:embed="rId2"/>
          <a:srcRect l="0" t="0" r="8249" b="12175"/>
          <a:stretch/>
        </p:blipFill>
        <p:spPr>
          <a:xfrm>
            <a:off x="611280" y="620640"/>
            <a:ext cx="5113080" cy="4032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983160" y="4797360"/>
            <a:ext cx="47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лектронно  - вычислительная машин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407680" y="5319720"/>
            <a:ext cx="87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ЭВ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39000" y="836640"/>
            <a:ext cx="31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омогали человеку  решать задачи, требующие сложных вычислени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7" descr="computer"/>
          <p:cNvPicPr/>
          <p:nvPr/>
        </p:nvPicPr>
        <p:blipFill>
          <a:blip r:embed="rId2"/>
          <a:stretch/>
        </p:blipFill>
        <p:spPr>
          <a:xfrm>
            <a:off x="611280" y="1628640"/>
            <a:ext cx="4752720" cy="4353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31640" y="836280"/>
            <a:ext cx="6985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c2305"/>
                </a:solidFill>
                <a:latin typeface="Book Antiqua"/>
              </a:rPr>
              <a:t>Современный компьютер</a:t>
            </a:r>
            <a:endParaRPr b="0" lang="en-US" sz="40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347" name="Picture 10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500720" y="2060640"/>
            <a:ext cx="397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ыполняет самые разнообразные действия с информацией ( с текстами, с числами, рисунками, чертежами, звуками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67320" y="5589720"/>
            <a:ext cx="37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ерсональный компьютер (ПК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905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00000" y="837720"/>
            <a:ext cx="73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2305"/>
                </a:solidFill>
                <a:latin typeface="Book Antiqua"/>
              </a:rPr>
              <a:t>Из чего состоит компьютер?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42920" y="1752480"/>
            <a:ext cx="71834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c230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2305"/>
                </a:solidFill>
                <a:latin typeface="Book Antiqua"/>
              </a:rPr>
              <a:t>Системный блок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c230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2305"/>
                </a:solidFill>
                <a:latin typeface="Book Antiqua"/>
              </a:rPr>
              <a:t>Монитор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c230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2305"/>
                </a:solidFill>
                <a:latin typeface="Book Antiqua"/>
              </a:rPr>
              <a:t>Клавиатура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c230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2305"/>
                </a:solidFill>
                <a:latin typeface="Book Antiqua"/>
              </a:rPr>
              <a:t>Мышь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c230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2305"/>
                </a:solidFill>
                <a:latin typeface="Book Antiqua"/>
              </a:rPr>
              <a:t>Колонки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c230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2305"/>
                </a:solidFill>
                <a:latin typeface="Book Antiqua"/>
              </a:rPr>
              <a:t>Принтер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c230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2305"/>
                </a:solidFill>
                <a:latin typeface="Book Antiqua"/>
              </a:rPr>
              <a:t>Сканер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c230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2305"/>
                </a:solidFill>
                <a:latin typeface="Book Antiqua"/>
              </a:rPr>
              <a:t>другие устройства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DFE9-F68F-4B06-823E-4D1E46170D3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837720"/>
            <a:ext cx="7991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Основные составляющие компьютера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Системный блок</a:t>
            </a: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Монитор</a:t>
            </a: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Клавиатура</a:t>
            </a: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Мышь</a:t>
            </a: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369108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4" descr="bs00242_"/>
          <p:cNvPicPr/>
          <p:nvPr/>
        </p:nvPicPr>
        <p:blipFill>
          <a:blip r:embed="rId2"/>
          <a:stretch/>
        </p:blipFill>
        <p:spPr>
          <a:xfrm>
            <a:off x="4284720" y="5084640"/>
            <a:ext cx="1228680" cy="80964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7"/>
          <p:cNvSpPr/>
          <p:nvPr/>
        </p:nvSpPr>
        <p:spPr>
          <a:xfrm>
            <a:off x="342900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6" descr="pe01691_"/>
          <p:cNvPicPr/>
          <p:nvPr/>
        </p:nvPicPr>
        <p:blipFill>
          <a:blip r:embed="rId3"/>
          <a:stretch/>
        </p:blipFill>
        <p:spPr>
          <a:xfrm>
            <a:off x="4859280" y="3789360"/>
            <a:ext cx="1371600" cy="10350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9"/>
          <p:cNvSpPr/>
          <p:nvPr/>
        </p:nvSpPr>
        <p:spPr>
          <a:xfrm>
            <a:off x="362916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8" descr="bd05011_"/>
          <p:cNvPicPr/>
          <p:nvPr/>
        </p:nvPicPr>
        <p:blipFill>
          <a:blip r:embed="rId4"/>
          <a:stretch/>
        </p:blipFill>
        <p:spPr>
          <a:xfrm>
            <a:off x="4500720" y="2708280"/>
            <a:ext cx="1047600" cy="9730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1"/>
          <p:cNvSpPr/>
          <p:nvPr/>
        </p:nvSpPr>
        <p:spPr>
          <a:xfrm>
            <a:off x="391464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10" descr="bs00283_"/>
          <p:cNvPicPr/>
          <p:nvPr/>
        </p:nvPicPr>
        <p:blipFill>
          <a:blip r:embed="rId5"/>
          <a:stretch/>
        </p:blipFill>
        <p:spPr>
          <a:xfrm>
            <a:off x="5364000" y="1557360"/>
            <a:ext cx="1113120" cy="1257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3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3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A675-4A95-4383-8937-C934CE424E1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Системный блок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Системный блок – основной компонент любого персонального компьютера.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В его металлическом корпусе заключены главные элементы ЭВМ. Именно в нем находится материнская плата, на которой располагается сердце любого компьютера - процессор  и оперативная память.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ff0000"/>
                </a:solidFill>
                <a:uFillTx/>
                <a:latin typeface="Arial"/>
              </a:rPr>
              <a:t>Системный блок предназначен для обработки информации и управления работой всех устройств компьютера.  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На лицевой панели системного блока находится: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5c2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Флоппи - дисковод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5c2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CD – ROM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5c2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Две кнопки: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POWER (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питание),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 RESET (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кнопка экстренной перезагрузки ПК в случаи «зависания»)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Флоппи - дисковод  и   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CD – ROM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 -  используют для считывания информации.</a:t>
            </a: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7" name="Rectangle 1029"/>
          <p:cNvSpPr/>
          <p:nvPr/>
        </p:nvSpPr>
        <p:spPr>
          <a:xfrm>
            <a:off x="420048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1028" descr="bs00184_"/>
          <p:cNvPicPr/>
          <p:nvPr/>
        </p:nvPicPr>
        <p:blipFill>
          <a:blip r:embed="rId2"/>
          <a:stretch/>
        </p:blipFill>
        <p:spPr>
          <a:xfrm>
            <a:off x="6705720" y="4191120"/>
            <a:ext cx="742680" cy="5140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031"/>
          <p:cNvSpPr/>
          <p:nvPr/>
        </p:nvSpPr>
        <p:spPr>
          <a:xfrm>
            <a:off x="41148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1033"/>
          <p:cNvSpPr/>
          <p:nvPr/>
        </p:nvSpPr>
        <p:spPr>
          <a:xfrm>
            <a:off x="374796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1035"/>
          <p:cNvSpPr/>
          <p:nvPr/>
        </p:nvSpPr>
        <p:spPr>
          <a:xfrm>
            <a:off x="389088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1034" descr="bs00287_"/>
          <p:cNvPicPr/>
          <p:nvPr/>
        </p:nvPicPr>
        <p:blipFill>
          <a:blip r:embed="rId3"/>
          <a:stretch/>
        </p:blipFill>
        <p:spPr>
          <a:xfrm>
            <a:off x="7620120" y="5883120"/>
            <a:ext cx="1133280" cy="9748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7956720" y="1197000"/>
            <a:ext cx="92844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19:20:02Z</dcterms:created>
  <dc:creator>Катя</dc:creator>
  <dc:description/>
  <dc:language>en-US</dc:language>
  <cp:lastModifiedBy>Марина</cp:lastModifiedBy>
  <dcterms:modified xsi:type="dcterms:W3CDTF">2015-01-28T15:59:00Z</dcterms:modified>
  <cp:revision>13</cp:revision>
  <dc:subject/>
  <dc:title>Компьютер –             это просто!</dc:title>
</cp:coreProperties>
</file>