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5.jpeg" ContentType="image/jpeg"/>
  <Override PartName="/ppt/media/image10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0804-D0DC-40B4-A4B0-A353E5BF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E96F-81AF-476F-B713-FB9C545F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A2D-26D9-4CE0-B77B-5EA14D89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785-3E8A-49DE-994B-D815F7DD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BB5-2D5C-4DB1-8DFA-42D57F90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94F-F5AD-4E38-8294-01534998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FC4-E678-4A24-9E97-2F8D5150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029-2F40-496F-9A5D-6B3883C2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989-5D1C-4127-B327-F280012A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762-5DA6-4A8D-A37D-88050CBB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463-271F-461B-8DFD-8415EAB7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D93-B5B6-49C9-8500-52DAF960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0DB6-662B-46AB-B989-3EDD5CB08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3505320" cy="2819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99"/>
                </a:solidFill>
                <a:latin typeface="Arial"/>
              </a:rPr>
              <a:t>Рисование </a:t>
            </a:r>
            <a:br>
              <a:rPr sz="4000"/>
            </a:br>
            <a:r>
              <a:rPr b="0" i="1" lang="en-US" sz="4000" spc="-1" strike="noStrike">
                <a:solidFill>
                  <a:srgbClr val="ff3399"/>
                </a:solidFill>
                <a:latin typeface="Arial"/>
              </a:rPr>
              <a:t>по памяти и представлению пт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280" y="3962520"/>
            <a:ext cx="3200400" cy="2895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876920" y="15228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99"/>
                </a:solidFill>
                <a:latin typeface="Arial"/>
              </a:rPr>
              <a:t>Валентин Серов</a:t>
            </a:r>
            <a:br>
              <a:rPr sz="4000"/>
            </a:br>
            <a:r>
              <a:rPr b="0" i="1" lang="en-US" sz="4000" spc="-1" strike="noStrike">
                <a:solidFill>
                  <a:srgbClr val="ff3399"/>
                </a:solidFill>
                <a:latin typeface="Arial"/>
              </a:rPr>
              <a:t>Ворона в павлиньих перь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47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514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143160" y="3457440"/>
            <a:ext cx="60008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10T17:51:1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