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D38-6838-4535-A34C-8E2AD50A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681-E67B-4F1C-A5A6-CA5BE3C8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E7B-5285-4488-873D-9944A281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70E-7C98-425C-A66C-91974789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863-0FBF-4D72-ADD2-BDB897C2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A7A-181F-4D42-92B3-C80A78C2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147-FE96-4516-88CC-01AA794A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0A7-4EDC-45C5-AB07-F0CFF1F5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9A8-C0ED-48D4-8EF4-215BD015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BDC-A62B-4534-9BF5-7E6A63F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AF3-1519-4152-AEEC-26F201DB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A44-E8DF-4ED1-8EE0-F292024A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BDD9-F761-4E0B-9E3D-488736D07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99"/>
                </a:solidFill>
                <a:latin typeface="Arial"/>
              </a:rPr>
              <a:t>Рисование </a:t>
            </a:r>
            <a:br>
              <a:rPr sz="4000"/>
            </a:br>
            <a:r>
              <a:rPr b="0" i="1" lang="en-US" sz="4000" spc="-1" strike="noStrike">
                <a:solidFill>
                  <a:srgbClr val="ff3399"/>
                </a:solidFill>
                <a:latin typeface="Arial"/>
              </a:rPr>
              <a:t>по памяти и представлению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876920" y="1522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99"/>
                </a:solidFill>
                <a:latin typeface="Arial"/>
              </a:rPr>
              <a:t>Валентин Серов</a:t>
            </a:r>
            <a:br>
              <a:rPr sz="4000"/>
            </a:br>
            <a:r>
              <a:rPr b="0" i="1" lang="en-US" sz="4000" spc="-1" strike="noStrike">
                <a:solidFill>
                  <a:srgbClr val="ff3399"/>
                </a:solidFill>
                <a:latin typeface="Arial"/>
              </a:rPr>
              <a:t>Ворона в павлиньих перь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51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143160" y="3457440"/>
            <a:ext cx="6000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10T17:51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