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269-FA44-474B-90CF-F1A73A0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CD4-8B3A-4F1F-8C9E-E6E4A513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4813D-8133-46C8-B94B-F67D679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81C15-2D8C-432B-8793-A6BEB7F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5C391-3DBB-4908-832E-3DDD221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D548-5F86-431A-955C-4354E6F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B070A-CB2A-4640-BEF3-CAE71D92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0A3C-94B0-45B0-8AA4-C7C69D2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EF7AF-8A54-4CA6-BBE1-0ACAF030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FEE8-A2B8-46A9-A78C-820E3F03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235A-3D4C-4FD4-A7EC-568C74DF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079B-8CBB-4780-B086-47B6A180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B0B-3166-4E19-BE0D-6599A011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FCECF-B726-4431-8FF6-A712802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43BF0-5CF8-485C-B433-276CBCB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BD7B6-15A0-4323-81D8-4267EA9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4C422-2316-4F97-B576-D2FCE26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F1F22-78BC-4FB7-835C-F4E69894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A17AC-2216-43BA-B7D9-6D298E2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C114-5E2E-4F1A-A6F0-FEA8081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2154-3630-4011-BDC5-096E3F7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76A40-D47C-4DE0-A42E-9F02822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0BAF9-A6B9-4B21-B3DC-6562A5D4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898-B5F6-4156-8D6D-B02C5C21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03117-18AB-4C38-8DBD-1464245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2F320-A27B-44B0-A029-5FF701E1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56CA-0301-4D9C-8B28-809447A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FC167-B8F6-49F0-B1AF-93BD786A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C3ED-85CB-4A71-8F3D-E3E26E0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B0EF6-EA4D-4276-99FC-DBB9BF4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3A88A-279F-4E18-992F-FDC1D9D7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4152-8FFF-415C-AD50-CAB3E1E8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9674-772B-4221-A95B-F1C5246F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C8DFC-D0A6-40D4-90D1-DEEE5C4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D05C-51B7-4DD7-A0D4-1249E314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74B0D-6AF9-4F6F-8F2F-F24DD00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E586-4A48-4ADF-B0E7-FECF0750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244AE-7160-44D6-A96B-1666C801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8F67B-7FF5-4114-AEF9-EF2BF61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BD6CA-8E78-45F8-A5BE-62C5A9B8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84E90-C6BE-4C6A-ACBC-7DC8A5A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72B0D-9E48-4575-BA12-C78D6B15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6AE48-F85F-4C61-A679-DE36184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00940-AFAA-4C71-A83B-85F8553C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7A2D9-71BB-46E7-A07F-761CE00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243-BEBE-41E6-94DA-7085D41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3CD26-E141-4AB6-AC17-3EAD9D7E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4D186-5167-4287-824F-001430A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BE8CB-9C2C-4153-AAB2-3A6EA25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81C8A-F3AB-47C0-82F3-56B3481D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94964-3DB1-40BD-B7E5-F5FD488C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46819-F771-409D-83CA-80535E59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CD5EA-B81C-4B6A-94C6-DE0297F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74123-3B73-41C8-97D2-37439B64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F6BF2-1EF1-4DAC-836F-1B7E53C3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6E2D7-736B-4548-9BA5-26CFFD9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85D8-C097-43F8-9E9D-C3E52645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A65CA-C862-42F6-AD70-5B62675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25E5A-DE1C-46A8-9A6D-EB9059D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AEB18-1970-45E3-B574-83CE5D35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43E3B-F766-43CB-A109-05A4BE3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B59AB-5DE4-432E-A3AD-24A2C52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ACF83-26B6-48EB-AA05-FD30E612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F95A9-B6E8-4792-96E8-6A42376E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9A64D-17E2-4A3B-9D8C-1B2D7281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8EF8E-B258-4185-9DF7-266BD54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CCBD7-8B94-46FA-AD4A-5716EF4B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C82-0CE1-4CAA-95BB-62A08B8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2232A-E917-4EE3-A3F1-6D0CFA3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10323-4479-4B8C-88DC-D906018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82420-79B1-44C8-8815-DCD026D8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2929E-3E0A-4697-801D-8F3BCE9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FC194-1AD1-447D-B15C-70815B9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49AE6-3EDB-4E06-8EFB-D498CA6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4C672-6F48-434A-B8B5-9BC264E5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1440E-EEED-4996-ADA0-E1022B3D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3F0D3-762C-4324-B126-82811ABE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8C053-71AC-4D2B-9A04-FB34F0D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FB9-B54C-4037-AD45-A5E193E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BA106-7ED0-4F80-AAC1-A1C0FCEF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A698E-1E84-4B35-945D-F938388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2FC55-55E2-476A-B30B-1D4CF6B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A2F78-3F74-419F-BA66-7245826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AE8C5-6361-4178-BF10-4F4738A4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A5655-B244-4DAB-B8E6-D95538A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A19BC-97C4-42EC-AB4A-B68BD4F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9E467-98ED-40C6-AE0F-70386C3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3E242-93C5-484B-BDBE-F8B5AA5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3AB82-635D-4ED9-82DB-1278D66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856D-3A25-4D78-9FDB-8A8C6EF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8D4A5-DCFA-455C-A2C7-EA07A951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CAF23-4341-47DF-A025-F48DAADF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E259E-6ECE-4097-8E58-EFFDD63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25AED-99DC-4EFC-9C0E-FEF92E6C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DD262-0EF3-4759-84A4-29D9060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9781E-BB86-4FEA-9B73-9FA80C04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D148B-910C-464E-BD7F-75348A5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96F07-D511-4B05-B09A-DD5BBB1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1A9A7-86BC-4438-8542-5D6A063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C1056-A204-434D-8BE8-CEDD283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D956-F7DB-457B-852A-DF3ADD2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E5EF3-64AA-46F1-AD59-1A5CCD3D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AC564-33C3-47C4-A5F2-879B2A11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38D50-E76B-4F4D-A4CE-46FD44A4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DDA6A-454E-4E27-B22E-4D84CC3E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52494-12FD-4412-9E1F-0E0D773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13D23-3B13-4938-95B8-4EE09605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8C2F4-08FC-4F5C-B10F-CC4F1CB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10A49-6D84-49F8-870E-A3C48F7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B7C20-B7E6-490D-83E7-9F32F4B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D927E-BC85-4FA9-8925-6377DE3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C6B-9AA9-4E1B-BBE0-1962F56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E549-E806-4E49-B0C4-A3883AD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5FDB8-5FFF-4119-A229-4835932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70255-A47B-44F3-AC43-7EF2801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ACB00-D6AD-42F9-84F6-D03DE78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285F4-10D5-406B-9E96-C2F9E92D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B295C-B5B7-43C2-BF25-0318B671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9D26D-630B-4FB6-BF76-67968F52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4D064-B506-467B-8507-53D5643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863D5-4593-423A-A809-DACA387B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22C05-472C-45B2-89E1-9B9657B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F45F1-C348-4FC4-A49F-6E055D1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5EF-23DD-41F5-9E7D-F2A8A78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E84BA-C7F8-4E3A-8C99-CC40C58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09FE8-1237-470F-9801-8E07023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2049A-5F05-4362-B336-7735A1B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0C84E-B263-4C7E-9FAF-84230F1E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53BDE-8C1A-41C6-AB9C-E8C05D7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72E08-0BEA-47BC-A01D-5871C84C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BD4B5-5DE6-4BFB-ABC4-F257C86C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2F7-00B1-4E7B-B37B-041E976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49CE-D384-4173-B3A7-227F52D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BC03-53E6-4717-8D05-379ACDAC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47F8-F62B-40BE-9EE5-07314C0C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E3DE-12E5-463A-B024-D6AE08C3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404A-E488-440F-8424-57BC220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A995-CCF0-431A-BF81-05E1C49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C7B1-765F-4569-AC73-7BBBBC8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D43-9A7B-4F24-BB25-FBCAAE9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20DF-D26D-472E-A551-3CD3F75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8D09-F903-49D4-BB55-AFDB103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090B-7034-4FCC-A577-DA6693C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04BB-E66A-41C4-B63C-FAFCDFC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E3BF-A472-4169-826A-27DE61F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33AD-1D32-4257-A88C-C7229F33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AC56-D17B-4984-9637-642A03F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BB66-E2E6-4467-A426-86CAF304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CF1B-9C44-4387-8887-8C4F4882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9953-5587-4E73-B9AC-60FBECF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38F-DCD5-4E00-8FF6-6EF660DB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F6D9-B497-4112-90FD-42058603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7591-BE79-4605-B87A-DAC1F67D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F410-B77E-422E-B4BD-4F0CEC3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85BE-4707-4B71-B42A-FB52E6B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9092-5019-430F-BEB5-3476246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6C32-B1AE-4CBD-A601-F651D87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FFAB-2E1B-4970-81DB-A6517D1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A236-46EB-474B-9A30-2478FD9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920A-BF3D-415C-A9D3-CFAD3FB8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6D35-C618-49FC-BB3F-31C14449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028-8182-4F18-84A3-1D048BB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5B9B-E561-4046-A707-E743448B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B44B-28F1-41BE-AED2-EDD7B08A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826C-EF62-48C8-866E-8559403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72DE1-57D1-4B3B-862D-DAD9D589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92A8-CEB7-4814-9647-78275E1F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B949-1E4D-4140-A3C3-6D05594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5327-5530-4DC4-B95F-84F8AD1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23DD-EFF4-4F8C-8688-2D7B830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C763-4E6B-4962-8072-0214CC7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7347-C06D-4EC2-B410-B039D880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6E7-9CFB-4B91-8791-AB957AC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7C93-5614-4945-BD4F-36525394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0C54-9F84-43E8-9C65-950CA7F2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8667-FFF1-466E-8015-F229953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404C-3A4A-4E75-960A-277FFF3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A7FA-1A50-49D1-B686-0262C46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4564-CA81-4B49-8D99-B7BF53A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56EE-6FE4-4720-AF9F-4BCE8DC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713B-D1B9-41FC-BE1A-D9C2C71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4A03-BC86-4D94-BECC-6DB63B1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387E-B873-4D90-911C-BC1C484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705-8293-4212-ADB7-A47EBD9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1DCB-DE86-4BB2-94B6-ED9420F4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FCB7F-2A1A-4B47-8D00-066F0B9D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A2CF-280E-44CF-BA85-D658A207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7A61-FAF2-4200-B39F-AC174400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D295-6A83-4763-BE11-74535606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2A9E-0452-4885-B3E5-5E70BF9D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7039-A751-4A2F-B1A2-F48D1BB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7188-56C5-44C4-9164-AABF1B7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4D25-E747-44B6-808C-B4ACF23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FAB3-5489-4BF7-9016-A32CECB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306-5857-4D18-BDB0-0F5F47D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80BC-9494-41FA-8AC1-BC9CEE7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740B-C838-4204-8101-C9899DC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D8A9-4D9D-4733-8C74-6AC8F21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D8F9-2387-4301-B188-A3365648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CA31-1950-4938-9C64-97047C98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F666-307F-489B-B70A-9445883B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2626-2A56-489C-90B3-8A118C0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0604F-8206-4E17-AC0F-FFA3080C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72C9-0CE5-4FEB-A1D2-3F5A503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C0DB-5CBB-4D37-ADB0-6C834C1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552-77D6-4761-9F89-5D3EA9D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9D6F-322E-46C6-BBED-EFBF3BE3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6315D-5311-4E14-92BB-83C826E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533B-7068-4488-A631-0803C6A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BCB3-CDEE-492F-B5ED-E655AC8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3569-9EE1-48E8-9703-FD286DD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09FF-7E89-4C2C-B8CB-772EBEAD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E421-4C0C-45F5-A198-74CE153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D4CAC-03C9-4577-98F3-9DCDBBCF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A7A4-3545-4CBD-836A-C0F592CC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230A3-2C4C-48F5-933A-ADEC23D6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37D-A04B-4DE3-B41A-3568A826D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7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12D1-CB93-4D68-98ED-C12130A6BF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1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8FC3-84F4-4AF6-9CFD-20B729DB07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6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400-CB67-4270-A5D2-296E85FC43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0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3D45-DEC5-42B2-9E04-6BD224239D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5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95B-D8EB-4491-8C79-C972893B83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9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5BC-E504-4FCC-B38F-1C0D56CC3C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3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CEB-50B2-4B2A-8F7F-7A289333A7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4D7-52DC-45A4-B1F8-7BF4B4F69C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5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85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862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E2A-7138-41F9-B3A9-3ADA173F7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E08-EA03-4656-9146-D1FE91BE5B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CC8-94D8-4205-868B-AFF20D59C3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7C3-A44B-4F3D-9665-AEBAB2C9B2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1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1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1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0F2-9506-4D6A-A76D-E7E1E4BAF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178-68BD-4BEE-BF16-016042411B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4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8B5-2B5D-4152-8C92-AF76F6C613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8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8444-AD3E-47C9-AEF7-DC5DF1A624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63EF-DE35-4F5A-A8F9-31E8886193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4"/>
          <p:cNvSpPr/>
          <p:nvPr/>
        </p:nvSpPr>
        <p:spPr>
          <a:xfrm>
            <a:off x="324000" y="2205000"/>
            <a:ext cx="6840360" cy="93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1908000" y="3645000"/>
            <a:ext cx="5040360" cy="79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закова Марин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4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11280" y="3284640"/>
            <a:ext cx="7993080" cy="1439640"/>
          </a:xfrm>
          <a:prstGeom prst="rect">
            <a:avLst/>
          </a:prstGeom>
          <a:solidFill>
            <a:srgbClr val="4ef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ость - это незанят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дель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утствие полезного за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427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. Найти верное соответствие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-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250920" y="1773360"/>
          <a:ext cx="3771720" cy="3657600"/>
        </p:xfrm>
        <a:graphic>
          <a:graphicData uri="http://schemas.openxmlformats.org/drawingml/2006/table">
            <a:tbl>
              <a:tblPr/>
              <a:tblGrid>
                <a:gridCol w="37717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Эго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ежл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Бережл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Ще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Хи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356000" y="260280"/>
          <a:ext cx="4533840" cy="6407280"/>
        </p:xfrm>
        <a:graphic>
          <a:graphicData uri="http://schemas.openxmlformats.org/drawingml/2006/table">
            <a:tbl>
              <a:tblPr/>
              <a:tblGrid>
                <a:gridCol w="453384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еловек не тратит деньги по пустя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ебялюбие, предпочтение своих интересов интересам других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ятный в общении с другими людьми, соблюдение принятых правил прили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овкость, умение обманы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е скупой, не жадный, охотно делящийся с другими своими средствами, имуще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21"/>
          <p:cNvSpPr/>
          <p:nvPr/>
        </p:nvSpPr>
        <p:spPr>
          <a:xfrm>
            <a:off x="1835280" y="1700280"/>
            <a:ext cx="5832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 Б В Г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2  3 1 5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8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327480" cy="360072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9"/>
          <p:cNvSpPr/>
          <p:nvPr/>
        </p:nvSpPr>
        <p:spPr>
          <a:xfrm>
            <a:off x="395280" y="1700280"/>
            <a:ext cx="4608360" cy="482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 судить о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ервого взгля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ычно окутаны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ром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статки прикры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кой лицем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. Лабрюй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Д.Карн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сказывайте своё одобрение люд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5"/>
          <p:cNvSpPr/>
          <p:nvPr/>
        </p:nvSpPr>
        <p:spPr>
          <a:xfrm>
            <a:off x="97164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ЛЫБАЙ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971640" y="29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идерживайтесь дружелюбного 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7"/>
          <p:cNvSpPr/>
          <p:nvPr/>
        </p:nvSpPr>
        <p:spPr>
          <a:xfrm>
            <a:off x="971640" y="3716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учитесь себя ставить на место других, видеть мир глазами других, понимать его также ,как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8"/>
          <p:cNvSpPr/>
          <p:nvPr/>
        </p:nvSpPr>
        <p:spPr>
          <a:xfrm>
            <a:off x="971640" y="522936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 каждом умейте видеть его досто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9"/>
          <p:cNvSpPr/>
          <p:nvPr/>
        </p:nvSpPr>
        <p:spPr>
          <a:xfrm>
            <a:off x="1116000" y="602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 Ю Б И Т Е   Л Ю Д Е Й!!!!!!!!!!!!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4" descr="d181d0bed0b3d180d0b5d0b5d0bc-d0b4d0b5d182d181d0bad0b8d0b5-d181d0b5d180d0b4d186d0b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доброта, гуманность, отзывчивость бескорыстие, благожелательность,   благородие, вежливость, великодушие, внимательность, гостеприимность, щедрость доброжелательность, дружелюбие, искренность, ответственность, тактич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7" descr="heart-in-hands-000012745581_620x350"/>
          <p:cNvPicPr/>
          <p:nvPr/>
        </p:nvPicPr>
        <p:blipFill>
          <a:blip r:embed="rId1"/>
          <a:stretch/>
        </p:blipFill>
        <p:spPr>
          <a:xfrm>
            <a:off x="6516720" y="5300640"/>
            <a:ext cx="2401920" cy="1355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3"/>
          <p:cNvSpPr/>
          <p:nvPr/>
        </p:nvSpPr>
        <p:spPr>
          <a:xfrm>
            <a:off x="900000" y="3284640"/>
            <a:ext cx="77756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делай ничего посты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 в присутствии, ни в тайн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ифаго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69608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0 пословиц и поговорок о достоинствах и недостатках человек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Мини-сочинение (эссе) «Что бы случилось в обществе, если бы все нормы исчезли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3286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438280" y="83664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ь основные знания и закрепить навыки учащихся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представления детей о достоинствах и недостатках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одержание некоторых качеств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я сравнивать, анализировать, обобщ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навыка анализа собственных поступков и поступков друг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представление о естественном многообразии человеческого поведения в обществе, необходимости учиться жить сред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формированию личности ребенка как достойного гражданина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842920" y="228600"/>
            <a:ext cx="5995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Цель урока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смыслить нравственные категории   «достоинства» и «недостатки» человека, анализируя его положительные и отрицательные черты харак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пытаться дать оценку поведению окружающих и исследовать свою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8" name="Oval 3"/>
          <p:cNvSpPr/>
          <p:nvPr/>
        </p:nvSpPr>
        <p:spPr>
          <a:xfrm>
            <a:off x="1042920" y="1773360"/>
            <a:ext cx="7274160" cy="3527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WordArt 4"/>
          <p:cNvSpPr txBox="1"/>
          <p:nvPr/>
        </p:nvSpPr>
        <p:spPr>
          <a:xfrm>
            <a:off x="684360" y="1341360"/>
            <a:ext cx="7343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остоинства  и недостатк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0" name="WordArt 5"/>
          <p:cNvSpPr txBox="1"/>
          <p:nvPr/>
        </p:nvSpPr>
        <p:spPr>
          <a:xfrm>
            <a:off x="1619280" y="4076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ловек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5"/>
          <p:cNvSpPr/>
          <p:nvPr/>
        </p:nvSpPr>
        <p:spPr>
          <a:xfrm>
            <a:off x="1187280" y="3186000"/>
            <a:ext cx="72010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Достоинства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это положительные кач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овокупность  высо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моральных кач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а также ув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этих качеств в самом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6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7"/>
          <p:cNvSpPr/>
          <p:nvPr/>
        </p:nvSpPr>
        <p:spPr>
          <a:xfrm>
            <a:off x="7812000" y="2708280"/>
            <a:ext cx="1081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5"/>
          <p:cNvSpPr/>
          <p:nvPr/>
        </p:nvSpPr>
        <p:spPr>
          <a:xfrm>
            <a:off x="755640" y="3357720"/>
            <a:ext cx="7634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рицательные кач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положные достоинст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6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928" name="Rectangle 7"/>
          <p:cNvSpPr/>
          <p:nvPr/>
        </p:nvSpPr>
        <p:spPr>
          <a:xfrm>
            <a:off x="7812000" y="3068640"/>
            <a:ext cx="863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5" descr="268894_1"/>
          <p:cNvPicPr/>
          <p:nvPr/>
        </p:nvPicPr>
        <p:blipFill>
          <a:blip r:embed="rId2"/>
          <a:stretch/>
        </p:blipFill>
        <p:spPr>
          <a:xfrm>
            <a:off x="539640" y="333360"/>
            <a:ext cx="2230560" cy="2374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faf0d040e47e"/>
          <p:cNvPicPr/>
          <p:nvPr/>
        </p:nvPicPr>
        <p:blipFill>
          <a:blip r:embed="rId3"/>
          <a:stretch/>
        </p:blipFill>
        <p:spPr>
          <a:xfrm>
            <a:off x="324000" y="4149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8" descr="21"/>
          <p:cNvPicPr/>
          <p:nvPr/>
        </p:nvPicPr>
        <p:blipFill>
          <a:blip r:embed="rId4"/>
          <a:stretch/>
        </p:blipFill>
        <p:spPr>
          <a:xfrm>
            <a:off x="5651640" y="260280"/>
            <a:ext cx="3260520" cy="22827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9" descr="502fb4bd65fe"/>
          <p:cNvPicPr/>
          <p:nvPr/>
        </p:nvPicPr>
        <p:blipFill>
          <a:blip r:embed="rId5"/>
          <a:stretch/>
        </p:blipFill>
        <p:spPr>
          <a:xfrm>
            <a:off x="5580000" y="4508640"/>
            <a:ext cx="3313080" cy="20811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Rebenok_ne_hochet_v_shkolu_155417707"/>
          <p:cNvPicPr/>
          <p:nvPr/>
        </p:nvPicPr>
        <p:blipFill>
          <a:blip r:embed="rId6"/>
          <a:stretch/>
        </p:blipFill>
        <p:spPr>
          <a:xfrm>
            <a:off x="2556000" y="2205000"/>
            <a:ext cx="336204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7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689440" cy="314316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9"/>
          <p:cNvSpPr/>
          <p:nvPr/>
        </p:nvSpPr>
        <p:spPr>
          <a:xfrm>
            <a:off x="324000" y="3500280"/>
            <a:ext cx="8569080" cy="30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Человек  является тем, чем он станови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таваясь наедине с самим соб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тинная человеческая су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ражается в нем тог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 его поступками движет не кто-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его собственная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Сухомлинский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9"/>
          <p:cNvSpPr/>
          <p:nvPr/>
        </p:nvSpPr>
        <p:spPr>
          <a:xfrm>
            <a:off x="324000" y="4869000"/>
            <a:ext cx="8496000" cy="19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гоизм, зависть, жадность, злоб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стокость, трусость, доброта, лж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лосердие, вежливость, груб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дивость, щед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4:23:26Z</dcterms:created>
  <dc:creator>Постникова В.В.</dc:creator>
  <dc:description/>
  <dc:language>en-US</dc:language>
  <cp:lastModifiedBy>Антон</cp:lastModifiedBy>
  <dcterms:modified xsi:type="dcterms:W3CDTF">2012-01-18T15:55:38Z</dcterms:modified>
  <cp:revision>34</cp:revision>
  <dc:subject/>
  <dc:title>Слайд 1</dc:title>
</cp:coreProperties>
</file>