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3F3-0642-4150-BDB9-0CDE2099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022A-90A8-47BE-9785-F869E0B4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7435E-A137-49A4-B4B3-0F847DB4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4AD1D-8F00-4A70-92C9-63009270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BA310-F473-48CA-AC16-9B3B712D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46174-E7D0-4D6B-A73F-38B02000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AA554-9CEE-4962-B11B-EF8BEBA3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5A896-0BE9-49AF-ABC2-1C02F756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A8E7E-C27D-4629-85A2-D16BC47C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210F8-1DEA-429D-9832-48AFD847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FCB9F-FD44-4119-B056-50DF7D6A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1FDB9-F52B-4CA6-8B6A-B897C471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9B49-4EC2-4FDB-845A-50CFBE2D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A0592-835A-4EE3-A1E7-5701BE43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8EE5F-FE44-4F8C-8415-66AA394C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E072C-8665-4369-B87A-78489BA2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1B0FC-3E3B-4C40-B039-C06AE1EC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8AFA6-4142-4B3A-99CA-5729D8CA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36285-3A58-4B31-90CB-DF2593EC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33088-C31E-4EFD-A17E-71EF8DA9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F6743-9446-4975-B1FE-7464BD3B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9717C-EE83-4ED9-9A58-4402F41F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53266-3A1B-4684-9A3E-A18879E4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4EAA-6372-401F-B233-657AADAC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F3760-413E-4115-A911-6ED06624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1FB59-FE89-4CC1-8151-20B5E339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D37A1-B0A0-490E-8661-2FFC3823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1ECF1-3A6E-4B74-A2E3-73882FF6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BBA11-5914-4A1B-8D14-D45F1E9F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8F8EB-4AFE-42D5-AB01-271D0C0C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24074-E35B-4145-BA4D-9EC8551D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5F4E9-F435-4B28-AA84-A8D6EA10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03334-C307-43F5-91ED-000D40E4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D126F-B729-4B96-854A-CB55A26A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B86E-E965-470E-A619-09D9F813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155D1-64C7-481D-9FE8-90902165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AFA11-E9A4-4EAD-BEE6-9B430735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62DA2-A3B8-4282-AEB6-B3404D8F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585DA-28F2-4A02-AF9C-2B2077CF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AB450-3E03-4B09-957C-76F7E5BA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8341C-E03A-41B7-ACF6-5AB4B20D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6BD27-5A1D-4C7A-AFF6-03343451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8E40F-9C99-41D8-8DC6-B3C10B2B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C4026-A9F5-49AC-A511-978E0CD0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43690-4DC9-4C6B-9741-0020916D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3F59-D339-43A5-A771-D4891371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E778D-DED0-46D4-8849-9943DBA9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81320-F4F1-4129-B502-016B769B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0AFAB-0022-4CF6-A58E-6E13E539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46231-B17A-46F4-A372-B12A3228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58A6F-92B6-4C7D-96F3-FD832163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CA3375-80C1-40AC-B76B-790BD818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19154-2A7A-4D00-868A-2F0E493D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E93F7-5414-4394-954D-4D9C0FF3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8C3511-A349-4C15-A2DF-05709C01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E8EAE-B746-4A8A-A0AB-613AB844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04D7-DA67-4E45-A5B0-1F1966C5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95FDBD-D1B0-483A-AAE4-8BA3FF40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08001A-2E0C-4921-8CEA-A8E416A0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8FA8F0-49A2-4474-B2F2-10F1BBA9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9852F-38ED-4B41-BB28-F6E4E6C5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3C580-565B-4380-9D14-0CB52DBC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EB6010-A000-4B3E-AF80-705445C8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824E1-4580-4F98-B7B7-79FD1F74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2FDDA-954D-41A1-A385-56B14A1E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B5E65-97F4-420F-9DD4-FE938F03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16E26D-3ECB-4E9D-A5D9-05301AE7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3E0D-2FE0-48CC-A81B-345EC722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D6F3FE-6F6A-482B-A320-195C44FB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20C3C7-2F86-4FE1-BC0B-AC690C76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B45C03-F6AC-43AC-AD82-77697584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5D4C7-07C3-44F2-AEF0-DE3F9145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0107E0-8C7B-4B7C-B9BE-FB38A788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5B0C6D-CA06-4A88-961A-659FE82C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4F3B7B-C503-4C7F-88CA-7412A1DF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89D27-73B6-42D4-9F0F-3C8E8140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EA1057-9C43-49E2-9F61-BBFF632F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57A6E1-77C2-4EDD-B207-A42BAA19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D444-9135-4549-80E5-ADED714E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06AA9-2E2D-4D07-B11A-DB25CBC9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65187E-0C15-4DEB-8F05-3ECC09B3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093604-5472-4F2C-B7BC-8D34FD28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AAECBB-A796-487A-B59C-7D1802C8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0C71F0-6AF3-4472-9538-CCF97AC2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35EFCA-22F6-4791-81BA-5C9AEA98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982645-0BBA-47FA-93D8-1F8F2730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21DD4C-EB5F-44A7-B45F-772011AD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0C7327-B708-410D-8FE4-15D45670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BF2BED-B3CB-498B-81A4-C2359C44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C313-CE1B-42C2-AD45-4B21D86A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BA550C-61DF-4348-89A0-AE6429AB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8F8952-6374-400F-8A9B-2BCDF993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D76014-3AA3-4394-B979-D0041DE9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9CFBFC-4C87-4A18-8C96-1AE44B52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564E62-0C93-4B1A-BFC3-9F75222D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3ED4CA-9934-4C89-B135-D775A59F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0893CF-5926-4292-B481-AF09A78B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E0077E-1AB4-4F2E-88BF-4C3105B6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2831F6-D7CC-4860-93BF-8C9F16E2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9BA463-8C68-42D4-986A-0835A2F6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4DF9-3B33-430D-9205-3CDAF442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244313-B076-49F9-AB0E-80197DC5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A72B77-2806-42F1-BACB-0B38FC7E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C687C0-9AC0-4D52-9062-E52470A4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E6449F-5AD0-4D25-8949-0D282C92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C75C01-FC94-40A0-B03B-6B92D4AB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11DE30-AD04-4E45-8C59-99300169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04CE8A-891F-4363-972F-76DDE25C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65F3E4-5D75-4EC2-81F5-9E320195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455FD8-2455-4581-8FD4-FAEEACAE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E854D4-C085-48F2-9D46-19C6BCF9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F31-C81B-42E3-828F-686D4AD7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6064-338B-4A57-A881-E8B6A2CA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AEC05D-AAB9-4EEA-B474-5FE98854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9B9925-2090-4408-9EB2-C16D7432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911AE7-C1C5-4DDE-A552-35FA1D92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8E64BA-D534-4437-9815-D2A4E31B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2D25D9-43C8-44FD-B2AB-962E1205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1CEC89-A1A0-483E-B122-AFBAB1DD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EAC56C-1610-4291-A670-382112CD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ACD7A7-1E0B-41CB-8A89-5504AA21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E8316E-EB72-49C7-A239-7A8CF866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0326A5-45D0-4C6E-BBB9-2F648F53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FCB1-6379-428E-B0ED-245E4C6B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7DDE06-9610-4C7A-A0DD-4048D9BF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62C84B-8F36-4E46-8806-5D5FFAB0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E240A8-1889-4554-BDCF-B9CA427D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0FF088-CCA3-4BF0-B287-3E490FD3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5911B0-714B-4BE7-9B2E-F94AA4C0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7ED6B7-95FC-4C41-86B0-749C8C67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DEF05E-DFA7-4ED4-8098-7CC5BA32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7528-935C-45A3-A9A9-C62D669D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DC6C-D218-41B0-B79E-42CC9125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6719-234B-4A27-B593-54004243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35C49-E01E-4A44-9171-D48058BD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ECE0E-07BB-4699-A520-8CB1FB4C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FD72F-BBC0-4F26-9D49-3AF81BD7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854DA-3F54-4289-96A5-D393EBED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48C16-5C79-43FE-B876-F368A7C9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7D4B-4AA2-46CC-BF3B-4C3E4A20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F471A-D33D-4047-83EA-4B2C4872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40934-DB9E-4908-B584-A6AE8D3B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4DED5-4CE6-4C0E-9E5B-CD7B4AE2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9EDA8-598B-4821-A068-63B2406A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490DD-F90A-4224-8D44-DF8258CA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C2384-07E5-45A6-9EB8-6BDFEC04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5FDBA-662E-472D-830A-022F3A4A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B33EA-31B9-47FA-8E5E-832F1D9A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BF8D9-8621-420B-8DA2-E8095E79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46BB0-BB3F-4E3B-BCBD-06A3D46A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EF5-8208-4EBC-89D1-D8E93D36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CB47E-6FF2-4379-8870-D8C4E0B9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87DAA-8AD9-4FDA-BFEA-6CF31F16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2A1F2-75E6-4EB3-9B6B-052AA9AB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0F519-F6E0-4E96-946D-5AD07B1C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66B75-0892-48CB-B4AD-80483E7A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B58FB-3A33-4DA9-8BA7-8DE1BCDE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4A274-C838-488F-9B58-E596296E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101C9-1523-4120-AE0B-88EA8857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69974-F408-4B8D-97BE-826C71E9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C3FBD-A638-446F-96D6-A801367C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947-A431-4AE2-A92B-9F154B1B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CFA93-3257-4D59-BF85-20AEAB25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74976-D402-4315-8A89-69010E7A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0AC79-8B90-4F8E-A3E5-F133C403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A3660-1F1B-4499-8E67-16821609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A7968-D612-4462-ADE1-3D6E872D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52BC0-3ABD-42A1-8BD1-7280CD5D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FFFD4-C05B-47EB-A0E4-6FDB4869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7B2BC-224A-43D6-A0EF-00B742D0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90EE0-2D5A-414E-AEBB-6A2BB599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FBFE5-3729-4D17-9F4D-300CB0BD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7B1-1B33-41D7-ADB3-A63D46AD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9291E-9037-4328-B699-6EAF56DA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F259E-244A-4884-B619-69C13404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03681-A4DF-4EA9-997A-A154714E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B9159-6297-47BC-A0FE-112BF455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5C6F6-E9BE-4725-BBDA-50365FC7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2136D-0BA0-4E5B-94E9-6332F730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AB859-9967-4A26-85C1-58ACB7F5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5C664-FF97-44DC-9AF1-EFE6547F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2ED93-C63F-4D5E-ACB9-975249F1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7566C-8E6E-42A0-9B09-8D6595C2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27F8-DAE5-49B9-AC7D-556BDB62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708B2-C31D-4EE0-A458-CCFDF6E4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3392B-E661-4D92-B68D-B9453255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97794-8EEE-4BFC-9FDF-AE993BBF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75E6C-D037-4BE8-ACB2-C598D976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145C2-F31C-40C4-84B4-D3869A54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E6BAB-8A71-4409-BEFF-6BD73EBD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5BC51-A2F6-445A-908C-96E6960D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A2808-ED4A-46A9-8418-2607DE7C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E1790-097F-4763-81FD-E6A23AC4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E95A3-C25A-4CDB-87CE-7A4A0ECD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4C8-8369-4635-BC5E-4CE8C1AB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1F07E-FACC-4A76-A069-4D2AC29F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138A3-2C83-42C1-9AEC-D8C469B6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7C62F-985D-46CC-A7CB-9C5DD7C7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52A8D-0AE3-4D80-9B7F-A62C0969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45E42-59F6-47FA-87EA-77FA37E0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DE81F-E311-4D84-8B5F-FF7DDECA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BCA3E-7DB5-4743-BA4B-E7DF752F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A4901-6297-410B-A5AB-3B4F7F2F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FB0E4-2EBE-4BB4-B326-66CF4598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78328-EAD6-40A5-BD01-41DD3782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DFA-EB80-4622-A54F-2B7CFF9C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675EA-FEF5-4122-91C8-506330E2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0A35F-4F43-40BF-8755-41210974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4E621-CE23-40BA-92D1-7511A209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7C5DE-B2D7-4EB6-80A6-ABBA1030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D1B72-3D13-4E23-BCBD-417C39E6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88F7E-7EAC-4456-B0A3-4E7E95E4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C6AD1-7E64-4537-A84E-64E4497D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C930A-8BBB-47A5-95E0-3A8105E5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3E0FA-D3DE-4B6D-A57E-776DC0E4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534DB-14DF-49ED-814E-1CA38414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847D-DAA6-42AD-985F-3DD502FCDE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75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6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8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0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C54D-CA98-4157-AB4B-C143F1992AB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1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CBBA-74DC-49ED-89F5-F0D826CA40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63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8B78-132C-4D28-8D49-0C8F3D74B7D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607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3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CFA2-BA8E-46A5-8434-03342B88EC1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65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E4D7-EA09-497C-B0D0-56AE02A451F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695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4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33DF-90D9-4734-A232-9E357591514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73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4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B7AB-36A8-4946-9F63-D686CDBA5B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8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3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794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7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798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3F7F-01EB-43F5-9CFD-53F6C5A943C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48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5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7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858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1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862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15DF-4661-44C1-BB5F-5C2E1BD35A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2105-EBA8-4F4F-97F9-F8B34157988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235B-E8F5-4B85-800F-5B01FD665DD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24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2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127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0994-F28D-4F64-9D5A-31DDD50414F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211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21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21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C394-D81B-42DE-A0DC-2AF750B481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2AD1-77C6-4D12-9CE5-4CBD8C96D64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43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4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1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945F-1D98-486E-8DDC-5C81D50C56B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87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8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282E-B2E5-4768-9A1E-33741E6C5A1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3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1828-F23A-4D22-A692-DC8623106F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1" name="Rectangle 4"/>
          <p:cNvSpPr/>
          <p:nvPr/>
        </p:nvSpPr>
        <p:spPr>
          <a:xfrm>
            <a:off x="324000" y="2205000"/>
            <a:ext cx="6840360" cy="936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1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5"/>
          <p:cNvSpPr/>
          <p:nvPr/>
        </p:nvSpPr>
        <p:spPr>
          <a:xfrm>
            <a:off x="1908000" y="3645000"/>
            <a:ext cx="5040360" cy="79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закова Марина Анатолье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обществ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4" descr="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551640"/>
          </a:xfrm>
          <a:prstGeom prst="rect">
            <a:avLst/>
          </a:prstGeom>
          <a:ln w="0">
            <a:noFill/>
          </a:ln>
        </p:spPr>
      </p:pic>
      <p:sp>
        <p:nvSpPr>
          <p:cNvPr id="939" name="Rectangle 5"/>
          <p:cNvSpPr/>
          <p:nvPr/>
        </p:nvSpPr>
        <p:spPr>
          <a:xfrm>
            <a:off x="611280" y="3284640"/>
            <a:ext cx="7993080" cy="1439640"/>
          </a:xfrm>
          <a:prstGeom prst="rect">
            <a:avLst/>
          </a:prstGeom>
          <a:solidFill>
            <a:srgbClr val="4ef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здность - это незанят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дель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сутствие полезного занят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442764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дание. Найти верное соответствие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нятие - о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1" name=""/>
          <p:cNvGraphicFramePr/>
          <p:nvPr/>
        </p:nvGraphicFramePr>
        <p:xfrm>
          <a:off x="250920" y="1773360"/>
          <a:ext cx="3771720" cy="3657600"/>
        </p:xfrm>
        <a:graphic>
          <a:graphicData uri="http://schemas.openxmlformats.org/drawingml/2006/table">
            <a:tbl>
              <a:tblPr/>
              <a:tblGrid>
                <a:gridCol w="377172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Эгоиз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ежлив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Бережлив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Щед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Хит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2" name=""/>
          <p:cNvGraphicFramePr/>
          <p:nvPr/>
        </p:nvGraphicFramePr>
        <p:xfrm>
          <a:off x="4356000" y="260280"/>
          <a:ext cx="4533840" cy="6407280"/>
        </p:xfrm>
        <a:graphic>
          <a:graphicData uri="http://schemas.openxmlformats.org/drawingml/2006/table">
            <a:tbl>
              <a:tblPr/>
              <a:tblGrid>
                <a:gridCol w="4533840"/>
              </a:tblGrid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Человек не тратит деньги по пустяк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ебялюбие, предпочтение своих интересов интересам других люд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риятный в общении с другими людьми, соблюдение принятых правил прилич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Ловкость, умение обманы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Не скупой, не жадный, охотно делящийся с другими своими средствами, имуществ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Text Box 21"/>
          <p:cNvSpPr/>
          <p:nvPr/>
        </p:nvSpPr>
        <p:spPr>
          <a:xfrm>
            <a:off x="1835280" y="1700280"/>
            <a:ext cx="58323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А Б В Г 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2  3 1 5 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8" descr=""/>
          <p:cNvPicPr/>
          <p:nvPr/>
        </p:nvPicPr>
        <p:blipFill>
          <a:blip r:embed="rId2"/>
          <a:stretch/>
        </p:blipFill>
        <p:spPr>
          <a:xfrm>
            <a:off x="5364000" y="404640"/>
            <a:ext cx="3327480" cy="3600720"/>
          </a:xfrm>
          <a:prstGeom prst="rect">
            <a:avLst/>
          </a:prstGeom>
          <a:ln w="0">
            <a:noFill/>
          </a:ln>
        </p:spPr>
      </p:pic>
      <p:sp>
        <p:nvSpPr>
          <p:cNvPr id="947" name="Rectangle 9"/>
          <p:cNvSpPr/>
          <p:nvPr/>
        </p:nvSpPr>
        <p:spPr>
          <a:xfrm>
            <a:off x="395280" y="1700280"/>
            <a:ext cx="4608360" cy="4824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льзя судить о челове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первого взгля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сто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ычно окутаны покро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кром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достатки прикры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ской лицеме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. Лабрюй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Д.Карне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Высказывайте своё одобрение люд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5"/>
          <p:cNvSpPr/>
          <p:nvPr/>
        </p:nvSpPr>
        <p:spPr>
          <a:xfrm>
            <a:off x="971640" y="2276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УЛЫБАЙТЕ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6"/>
          <p:cNvSpPr/>
          <p:nvPr/>
        </p:nvSpPr>
        <p:spPr>
          <a:xfrm>
            <a:off x="971640" y="2997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Придерживайтесь дружелюбного т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7"/>
          <p:cNvSpPr/>
          <p:nvPr/>
        </p:nvSpPr>
        <p:spPr>
          <a:xfrm>
            <a:off x="971640" y="371628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Научитесь себя ставить на место других, видеть мир глазами других, понимать его также ,как о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8"/>
          <p:cNvSpPr/>
          <p:nvPr/>
        </p:nvSpPr>
        <p:spPr>
          <a:xfrm>
            <a:off x="971640" y="5229360"/>
            <a:ext cx="74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В каждом умейте видеть его достои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9"/>
          <p:cNvSpPr/>
          <p:nvPr/>
        </p:nvSpPr>
        <p:spPr>
          <a:xfrm>
            <a:off x="1116000" y="6021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 Ю Б И Т Е   Л Ю Д Е Й!!!!!!!!!!!!!!!!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4" descr="d181d0bed0b3d180d0b5d0b5d0bc-d0b4d0b5d182d181d0bad0b8d0b5-d181d0b5d180d0b4d186d0b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СТОИНСТВ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доброта, гуманность, отзывчивость бескорыстие, благожелательность,   благородие, вежливость, великодушие, внимательность, гостеприимность, щедрость доброжелательность, дружелюбие, искренность, ответственность, тактичнос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Picture 7" descr="heart-in-hands-000012745581_620x350"/>
          <p:cNvPicPr/>
          <p:nvPr/>
        </p:nvPicPr>
        <p:blipFill>
          <a:blip r:embed="rId1"/>
          <a:stretch/>
        </p:blipFill>
        <p:spPr>
          <a:xfrm>
            <a:off x="6516720" y="5300640"/>
            <a:ext cx="2401920" cy="1355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0" name="Rectangle 3"/>
          <p:cNvSpPr/>
          <p:nvPr/>
        </p:nvSpPr>
        <p:spPr>
          <a:xfrm>
            <a:off x="900000" y="3284640"/>
            <a:ext cx="777564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 делай ничего постыд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и в присутствии, ни в тайне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    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(Пифагор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696080" cy="29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10 пословиц и поговорок о достоинствах и недостатках человека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Мини-сочинение (эссе) «Что бы случилось в обществе, если бы все нормы исчезли?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32860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Задачи урока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2438280" y="836640"/>
            <a:ext cx="6400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уча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ить основные знания и закрепить навыки учащихся по те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ширить представления детей о достоинствах и недостатках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рыть содержание некоторых качеств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вива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 умения сравнивать, анализировать, обобщ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 логическое мыш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олжить работу по формированию навыка анализа собственных поступков и поступков других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 представление о естественном многообразии человеческого поведения в обществе, необходимости учиться жить среди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оспитательны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йствовать формированию личности ребенка как достойного гражданина общ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842920" y="228600"/>
            <a:ext cx="59958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Цель урока -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38280" y="1268280"/>
            <a:ext cx="6400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Осмыслить нравственные категории   «достоинства» и «недостатки» человека, анализируя его положительные и отрицательные черты характ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опытаться дать оценку поведению окружающих и исследовать свою индивидуа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8" name="Oval 3"/>
          <p:cNvSpPr/>
          <p:nvPr/>
        </p:nvSpPr>
        <p:spPr>
          <a:xfrm>
            <a:off x="1042920" y="1773360"/>
            <a:ext cx="7274160" cy="3527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WordArt 4"/>
          <p:cNvSpPr txBox="1"/>
          <p:nvPr/>
        </p:nvSpPr>
        <p:spPr>
          <a:xfrm>
            <a:off x="684360" y="1341360"/>
            <a:ext cx="734364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Достоинства  и недостатки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920" name="WordArt 5"/>
          <p:cNvSpPr txBox="1"/>
          <p:nvPr/>
        </p:nvSpPr>
        <p:spPr>
          <a:xfrm>
            <a:off x="1619280" y="4076640"/>
            <a:ext cx="60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еловек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2" name="Rectangle 5"/>
          <p:cNvSpPr/>
          <p:nvPr/>
        </p:nvSpPr>
        <p:spPr>
          <a:xfrm>
            <a:off x="1187280" y="3186000"/>
            <a:ext cx="720108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Достоинства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это положительные каче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овокупность  высо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моральных качес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а также ува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этих качеств в самом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Picture 6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2952720" cy="2214360"/>
          </a:xfrm>
          <a:prstGeom prst="rect">
            <a:avLst/>
          </a:prstGeom>
          <a:ln w="0">
            <a:noFill/>
          </a:ln>
        </p:spPr>
      </p:pic>
      <p:sp>
        <p:nvSpPr>
          <p:cNvPr id="924" name="Rectangle 7"/>
          <p:cNvSpPr/>
          <p:nvPr/>
        </p:nvSpPr>
        <p:spPr>
          <a:xfrm>
            <a:off x="7812000" y="2708280"/>
            <a:ext cx="1081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6" name="Rectangle 5"/>
          <p:cNvSpPr/>
          <p:nvPr/>
        </p:nvSpPr>
        <p:spPr>
          <a:xfrm>
            <a:off x="755640" y="3357720"/>
            <a:ext cx="7634160" cy="26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достатк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отрицательные кач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ло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положные достоинст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Picture 6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3097440" cy="2324160"/>
          </a:xfrm>
          <a:prstGeom prst="rect">
            <a:avLst/>
          </a:prstGeom>
          <a:ln w="0">
            <a:noFill/>
          </a:ln>
        </p:spPr>
      </p:pic>
      <p:sp>
        <p:nvSpPr>
          <p:cNvPr id="928" name="Rectangle 7"/>
          <p:cNvSpPr/>
          <p:nvPr/>
        </p:nvSpPr>
        <p:spPr>
          <a:xfrm>
            <a:off x="7812000" y="3068640"/>
            <a:ext cx="8636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Picture 5" descr="268894_1"/>
          <p:cNvPicPr/>
          <p:nvPr/>
        </p:nvPicPr>
        <p:blipFill>
          <a:blip r:embed="rId2"/>
          <a:stretch/>
        </p:blipFill>
        <p:spPr>
          <a:xfrm>
            <a:off x="539640" y="333360"/>
            <a:ext cx="2230560" cy="2374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6" descr="faf0d040e47e"/>
          <p:cNvPicPr/>
          <p:nvPr/>
        </p:nvPicPr>
        <p:blipFill>
          <a:blip r:embed="rId3"/>
          <a:stretch/>
        </p:blipFill>
        <p:spPr>
          <a:xfrm>
            <a:off x="324000" y="414972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8" descr="21"/>
          <p:cNvPicPr/>
          <p:nvPr/>
        </p:nvPicPr>
        <p:blipFill>
          <a:blip r:embed="rId4"/>
          <a:stretch/>
        </p:blipFill>
        <p:spPr>
          <a:xfrm>
            <a:off x="5651640" y="260280"/>
            <a:ext cx="3260520" cy="22827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9" descr="502fb4bd65fe"/>
          <p:cNvPicPr/>
          <p:nvPr/>
        </p:nvPicPr>
        <p:blipFill>
          <a:blip r:embed="rId5"/>
          <a:stretch/>
        </p:blipFill>
        <p:spPr>
          <a:xfrm>
            <a:off x="5580000" y="4508640"/>
            <a:ext cx="3313080" cy="20811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Rebenok_ne_hochet_v_shkolu_155417707"/>
          <p:cNvPicPr/>
          <p:nvPr/>
        </p:nvPicPr>
        <p:blipFill>
          <a:blip r:embed="rId6"/>
          <a:stretch/>
        </p:blipFill>
        <p:spPr>
          <a:xfrm>
            <a:off x="2556000" y="2205000"/>
            <a:ext cx="3362040" cy="2522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Picture 7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5689440" cy="3143160"/>
          </a:xfrm>
          <a:prstGeom prst="rect">
            <a:avLst/>
          </a:prstGeom>
          <a:ln w="0">
            <a:noFill/>
          </a:ln>
        </p:spPr>
      </p:pic>
      <p:sp>
        <p:nvSpPr>
          <p:cNvPr id="935" name="Rectangle 9"/>
          <p:cNvSpPr/>
          <p:nvPr/>
        </p:nvSpPr>
        <p:spPr>
          <a:xfrm>
            <a:off x="324000" y="3500280"/>
            <a:ext cx="8569080" cy="30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«Человек  является тем, чем он становит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таваясь наедине с самим соб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стинная человеческая сущ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ыражается в нем тог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огда его поступками движет не кто-т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а его собственная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…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.А.Сухомлинский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7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37" name="Rectangle 9"/>
          <p:cNvSpPr/>
          <p:nvPr/>
        </p:nvSpPr>
        <p:spPr>
          <a:xfrm>
            <a:off x="324000" y="4869000"/>
            <a:ext cx="8496000" cy="19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гоизм, зависть, жадность, злобн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стокость, трусость, доброта, лжив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лосердие, вежливость, груб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дивость, щед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04:23:26Z</dcterms:created>
  <dc:creator>Постникова В.В.</dc:creator>
  <dc:description/>
  <dc:language>en-US</dc:language>
  <cp:lastModifiedBy>Антон</cp:lastModifiedBy>
  <dcterms:modified xsi:type="dcterms:W3CDTF">2012-01-18T15:55:38Z</dcterms:modified>
  <cp:revision>34</cp:revision>
  <dc:subject/>
  <dc:title>Слайд 1</dc:title>
</cp:coreProperties>
</file>