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5170-0135-4940-BBFC-2107A5B0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32A-E7F0-401E-B4F4-964394E9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18EF-69EB-4697-AAD3-85308EB3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D5C5-3F90-4B82-A190-248DCA27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5EA8-4F59-46DD-912E-52C1E258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138E-E2BB-4FE3-AA6E-98D7BECF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160D-8043-4F5D-9337-A696E0D1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E479-31FC-41F6-8C75-F5A478F1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113B-9227-4ED9-B164-E8592570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E5BA-3DD6-4203-997D-E80B60D3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A7E-C33A-44E4-99E7-0A5486E0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1654-B931-44BC-BC90-09A98AB2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Times New Roman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Times New Roman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068E-5BCA-44C0-BFD4-AB6AB465C0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crazymama.ru/images/cartoon/prev/1003_4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g.ivi.ru/static/frames/33270/597602.2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anmedia.org.ua/uploads/posts/2010-03/1267551433_priklyucheniya-pingvinenka-lolo_1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39257"/>
              </a:solidFill>
              <a:latin typeface="Times New Roman"/>
            </a:endParaRPr>
          </a:p>
        </p:txBody>
      </p:sp>
      <p:pic>
        <p:nvPicPr>
          <p:cNvPr id="145" name="Picture 8" descr="0_23443_b72952db_L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1003_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4648320"/>
            <a:ext cx="3505320" cy="22096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15228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Степен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рилагательны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английск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язык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5791320" y="4648320"/>
            <a:ext cx="36576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хорошева Н.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ГОУ СОШ «Школа здоровья» № 9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г.Моск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Правило правописания суффикса</a:t>
            </a: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3.Если слово оканчивается на букву –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, а перед ней стоит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огласная буква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, то буква –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меняется на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u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u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er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-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bu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анятой – более занятый – самый занят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y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– 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-  the 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еселый –более  веселый – самый весел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9" descr="Картинка 29 из 124"/>
          <p:cNvPicPr/>
          <p:nvPr/>
        </p:nvPicPr>
        <p:blipFill>
          <a:blip r:embed="rId1"/>
          <a:stretch/>
        </p:blipFill>
        <p:spPr>
          <a:xfrm>
            <a:off x="5692680" y="1143000"/>
            <a:ext cx="34513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Исключения</a:t>
            </a:r>
            <a:endParaRPr b="0" lang="en-US" sz="88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Good –better – the b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Little – les – the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any – more –the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uch – more – the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Bad – worse – the wo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ld – older – the old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Старинный - древ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ld – elder – the eld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Старший- старейш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Far – farther –the  farth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Далекий - дальше- самый далекий ( о расстоян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Far –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further –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he  furth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Далекий - далее – дальнейший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о времени, работе и т.д.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4" descr="W7JYudVRjv"/>
          <p:cNvPicPr/>
          <p:nvPr/>
        </p:nvPicPr>
        <p:blipFill>
          <a:blip r:embed="rId1"/>
          <a:stretch/>
        </p:blipFill>
        <p:spPr>
          <a:xfrm>
            <a:off x="4343400" y="1600200"/>
            <a:ext cx="40971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228960" y="0"/>
            <a:ext cx="9372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Сравнительные конструкци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5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Мы можем сравнивать  два  предмета разными способами, не  меняя при этом смысл высказы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 dog  i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bigge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o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Собака  больше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чем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Ло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olo is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les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careful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an a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Лоло менее осторожный как соба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olo is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eautiful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Лоло такой же красивый как и соба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olo is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big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 dog.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Лоло не такой большой как соба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Картинка 101 из 124"/>
          <p:cNvPicPr/>
          <p:nvPr/>
        </p:nvPicPr>
        <p:blipFill>
          <a:blip r:embed="rId1"/>
          <a:stretch/>
        </p:blipFill>
        <p:spPr>
          <a:xfrm>
            <a:off x="6249960" y="1981080"/>
            <a:ext cx="289404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равнительные конструкци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При сравнении дву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предметов или ли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часто употребля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лово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ss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 значен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 меньше»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,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 менее»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которое ставится перед прилагательны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olo i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les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eful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an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Buch.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                                  Лоло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менее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осторожный,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чем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Бут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12" descr="3аним"/>
          <p:cNvPicPr/>
          <p:nvPr/>
        </p:nvPicPr>
        <p:blipFill>
          <a:blip r:embed="rId1"/>
          <a:stretch/>
        </p:blipFill>
        <p:spPr>
          <a:xfrm>
            <a:off x="5334120" y="1295280"/>
            <a:ext cx="33526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Конструкция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as…as</a:t>
            </a:r>
            <a:endParaRPr b="0" lang="en-US" sz="5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106668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ри сравнении двух предметов или лиц, обладающих одинаковыми качествами, часто употребляется конструкция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…as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( такой же…как). Прилагательное  ставится между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и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olo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nd Pepe ar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 big a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 berd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Лоло и Пепе  такие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же  больш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как  птиц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Картинка 31 из 124"/>
          <p:cNvPicPr/>
          <p:nvPr/>
        </p:nvPicPr>
        <p:blipFill>
          <a:blip r:embed="rId1"/>
          <a:stretch/>
        </p:blipFill>
        <p:spPr>
          <a:xfrm>
            <a:off x="5867280" y="4191120"/>
            <a:ext cx="312444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Конструкция 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not as…as</a:t>
            </a:r>
            <a:endParaRPr b="0" lang="en-US" sz="60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ри сравнении двух предметов или лиц, обладающих неодинаковыми качествами, часто употребляется конструкция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…as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( не такой же…как). Прилагательное  ставится между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t as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и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olo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nd Pepe ar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 big a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 dog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Лоло и Пепе 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не такие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большие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как  соба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10" descr="Приключения пингвинёнка Лоло. Скриншот 7"/>
          <p:cNvPicPr/>
          <p:nvPr/>
        </p:nvPicPr>
        <p:blipFill>
          <a:blip r:embed="rId1"/>
          <a:stretch/>
        </p:blipFill>
        <p:spPr>
          <a:xfrm>
            <a:off x="5791320" y="4497480"/>
            <a:ext cx="312408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05280" y="-36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Сравнительные конструкци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48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the…th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е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rther…o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neither…no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both…and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twice as long a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half as wide a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3 times as narrow a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2 years younger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tha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3 years elder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tha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85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м…тем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бо… либо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… ни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… и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2 раза длиннее, чем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оловину шире, чем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3 раза уже, чем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2 года моложе, чем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3 года старше, чем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4" descr="original"/>
          <p:cNvPicPr/>
          <p:nvPr/>
        </p:nvPicPr>
        <p:blipFill>
          <a:blip r:embed="rId1"/>
          <a:stretch/>
        </p:blipFill>
        <p:spPr>
          <a:xfrm>
            <a:off x="6727680" y="914400"/>
            <a:ext cx="2416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Сравнительные конструкци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48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uch more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ar more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oo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quite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 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ather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62160" y="914040"/>
            <a:ext cx="47242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горазд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младш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горазд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младш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слишко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мол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очен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мол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та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мол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совсе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мол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доволь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мол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1" descr="Картинка 28 из 124"/>
          <p:cNvPicPr/>
          <p:nvPr/>
        </p:nvPicPr>
        <p:blipFill>
          <a:blip r:embed="rId1"/>
          <a:stretch/>
        </p:blipFill>
        <p:spPr>
          <a:xfrm>
            <a:off x="914400" y="4670280"/>
            <a:ext cx="2835360" cy="2187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Приключения пингвинёнка Лоло. Скриншот 3"/>
          <p:cNvPicPr/>
          <p:nvPr/>
        </p:nvPicPr>
        <p:blipFill>
          <a:blip r:embed="rId2"/>
          <a:stretch/>
        </p:blipFill>
        <p:spPr>
          <a:xfrm>
            <a:off x="5257800" y="4672080"/>
            <a:ext cx="289404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Прилагательные</a:t>
            </a: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Имена прилагательные в английском языке не изменяются ни по лицам, ни по родам, ни по падежам.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Они имеют только степени сравн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12" descr="1280260082_00-12-32"/>
          <p:cNvPicPr/>
          <p:nvPr/>
        </p:nvPicPr>
        <p:blipFill>
          <a:blip r:embed="rId1"/>
          <a:stretch/>
        </p:blipFill>
        <p:spPr>
          <a:xfrm>
            <a:off x="5670720" y="4191120"/>
            <a:ext cx="3027240" cy="2340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Картинка 78 из 1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00200" y="4114800"/>
            <a:ext cx="32004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Прилагательные</a:t>
            </a:r>
            <a:endParaRPr b="0" lang="en-US" sz="5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В английском языке прилагательные делятся на две групп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дно и двухсложные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( слово состоит из одного или двух слогов)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mall, cle-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ногосложные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 (слово состоит из трех слогов и больше)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-te-res-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7" descr="3аним"/>
          <p:cNvPicPr/>
          <p:nvPr/>
        </p:nvPicPr>
        <p:blipFill>
          <a:blip r:embed="rId1"/>
          <a:stretch/>
        </p:blipFill>
        <p:spPr>
          <a:xfrm>
            <a:off x="6095880" y="228600"/>
            <a:ext cx="28195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Степени прилагательных</a:t>
            </a:r>
            <a:endParaRPr b="0" lang="en-US" sz="5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В английском языке прилагательные имеют три степен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Положительну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больш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Сравнительну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больш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Превосходну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самый больш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2" descr="1274798821_priklyucheniya_pingvinenka_lolo_k2"/>
          <p:cNvPicPr/>
          <p:nvPr/>
        </p:nvPicPr>
        <p:blipFill>
          <a:blip r:embed="rId1"/>
          <a:stretch/>
        </p:blipFill>
        <p:spPr>
          <a:xfrm>
            <a:off x="4419720" y="2970360"/>
            <a:ext cx="441936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Односложные прилагательные</a:t>
            </a:r>
            <a:endParaRPr b="0" lang="en-US" sz="48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            </a:t>
            </a:r>
            <a:r>
              <a:rPr b="0" lang="ru-RU" sz="3200" spc="-1" strike="noStrike" u="sng">
                <a:solidFill>
                  <a:srgbClr val="008000"/>
                </a:solidFill>
                <a:uFillTx/>
                <a:latin typeface="Times New Roman"/>
              </a:rPr>
              <a:t>Сравнительная степе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Образуется путем прибавления суффикса –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 +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большой - больш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rd +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= har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тяжелый – тяжеле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e +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e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храбрый - храбрее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Картинка 24 из 1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666880"/>
            <a:ext cx="3846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Односложные прилагательные</a:t>
            </a:r>
            <a:endParaRPr b="0" lang="en-US" sz="48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           </a:t>
            </a:r>
            <a:r>
              <a:rPr b="0" lang="ru-RU" sz="3200" spc="-1" strike="noStrike" u="sng">
                <a:solidFill>
                  <a:srgbClr val="008000"/>
                </a:solidFill>
                <a:uFillTx/>
                <a:latin typeface="Times New Roman"/>
              </a:rPr>
              <a:t>Превосходная  степе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Образуется: путем прибавления суффикса –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 [ ist]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и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артикля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перед слов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 +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большой – самый больш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rd +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ard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тяжелый –  самый тяжел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e +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es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храбрый -  самый храбрый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3" descr="original"/>
          <p:cNvPicPr/>
          <p:nvPr/>
        </p:nvPicPr>
        <p:blipFill>
          <a:blip r:embed="rId1"/>
          <a:stretch/>
        </p:blipFill>
        <p:spPr>
          <a:xfrm>
            <a:off x="6273720" y="3505320"/>
            <a:ext cx="287028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Многосложные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прилагательные</a:t>
            </a: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         </a:t>
            </a:r>
            <a:r>
              <a:rPr b="0" lang="ru-RU" sz="3200" spc="-1" strike="noStrike" u="sng">
                <a:solidFill>
                  <a:srgbClr val="008000"/>
                </a:solidFill>
                <a:uFillTx/>
                <a:latin typeface="Times New Roman"/>
              </a:rPr>
              <a:t>Сравнительная степе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Перед словом ставится слово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esting 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ore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интересный - интересне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008000"/>
                </a:solidFill>
                <a:uFillTx/>
                <a:latin typeface="Times New Roman"/>
              </a:rPr>
              <a:t>Превосходная  степе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Перед словом ставится сло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ost  [ moust]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и артикл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the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esting -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most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интересный - самый  интерес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666633"/>
              </a:buClr>
              <a:buSzPct val="80000"/>
              <a:buFont typeface="Times New Roman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12" descr="87bec58208d8"/>
          <p:cNvPicPr/>
          <p:nvPr/>
        </p:nvPicPr>
        <p:blipFill>
          <a:blip r:embed="rId1"/>
          <a:stretch/>
        </p:blipFill>
        <p:spPr>
          <a:xfrm>
            <a:off x="6248520" y="2743200"/>
            <a:ext cx="27352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Правило правописания суффикса</a:t>
            </a: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1.Если слово оканчивается на одну согласную букву, а перед ней стоит одна гласная буква ( закрытый слог), то согласная буква удваивае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 +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ig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o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ot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10" descr="G_Sokolskiy_-_Priklyucheniya_Pingvinyonka_Lolo_DVDRip_1986_-_4"/>
          <p:cNvPicPr/>
          <p:nvPr/>
        </p:nvPicPr>
        <p:blipFill>
          <a:blip r:embed="rId1"/>
          <a:stretch/>
        </p:blipFill>
        <p:spPr>
          <a:xfrm>
            <a:off x="4648320" y="3809880"/>
            <a:ext cx="358128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Правило правописания суффикса</a:t>
            </a:r>
            <a:endParaRPr b="0" lang="en-US" sz="4400" spc="-1" strike="noStrike">
              <a:solidFill>
                <a:srgbClr val="b39257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2.Если слово оканчивается на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букву 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то вторая буква 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не пишется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e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ra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0" descr="Картинка 60 из 124"/>
          <p:cNvPicPr/>
          <p:nvPr/>
        </p:nvPicPr>
        <p:blipFill>
          <a:blip r:embed="rId1"/>
          <a:stretch/>
        </p:blipFill>
        <p:spPr>
          <a:xfrm>
            <a:off x="2209680" y="3570120"/>
            <a:ext cx="434340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ия</cp:lastModifiedBy>
  <dcterms:modified xsi:type="dcterms:W3CDTF">2011-04-20T14:44:37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