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5FD-E5C5-4A87-A8D3-D2DA0F08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4D8-D62C-47EE-AC64-62A8D33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0C8-5476-4863-90EA-F1862179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168-B64D-41AB-A893-E99A0D00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EE0-C081-4D78-A54D-BA488A00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13E-933C-4759-935D-FD99243D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576-EFC6-43A2-A942-EC37292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421-49EF-4797-B336-3CC23E2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723-CB3F-4152-818B-A96E3D31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2D3-7C63-4742-AB90-8C5F6BC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961-8031-431A-8636-45870B3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D8E-48AF-4CBD-A2E5-49FDB18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595-7889-4024-86ED-19CC3A3BD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azymama.ru/images/cartoon/prev/1003_4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g.ivi.ru/static/frames/33270/597602.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media.org.ua/uploads/posts/2010-03/1267551433_priklyucheniya-pingvinenka-lolo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145" name="Picture 8" descr="0_23443_b72952db_L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3_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6483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15228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тепен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лагатель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английск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язы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791320" y="4648320"/>
            <a:ext cx="3657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хорошева Н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У СОШ «Школа здоровья» № 9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.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Если слово оканчивается на букву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а перед ней сто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гласная буква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 буква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нятой – более занятый – самый заня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–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  the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еселый –более  веселый – самый вес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Картинка 29 из 124"/>
          <p:cNvPicPr/>
          <p:nvPr/>
        </p:nvPicPr>
        <p:blipFill>
          <a:blip r:embed="rId1"/>
          <a:stretch/>
        </p:blipFill>
        <p:spPr>
          <a:xfrm>
            <a:off x="5692680" y="1143000"/>
            <a:ext cx="345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Исключения</a:t>
            </a:r>
            <a:endParaRPr b="0" lang="en-US" sz="8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od –better – the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ttle – les – the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any – more –the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uch – more – the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ad – worse – the w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ld – older – the ol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аринный - древ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ld – elder – the el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арший- старей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r – farther –the  fart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алекий - дальше- самый далекий ( о расстоян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r –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rther –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 furt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алекий - далее – дальнейший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 времени, работе и т.д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4" descr="W7JYudVRjv"/>
          <p:cNvPicPr/>
          <p:nvPr/>
        </p:nvPicPr>
        <p:blipFill>
          <a:blip r:embed="rId1"/>
          <a:stretch/>
        </p:blipFill>
        <p:spPr>
          <a:xfrm>
            <a:off x="4343400" y="1600200"/>
            <a:ext cx="409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Мы можем сравнивать  два  предмета разными способами, не  меняя при этом смысл высказ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  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igg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бака  больш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чем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carefu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an a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менее осторожный как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autiful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такой же красивый как и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i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.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не такой большой как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Картинка 101 из 124"/>
          <p:cNvPicPr/>
          <p:nvPr/>
        </p:nvPicPr>
        <p:blipFill>
          <a:blip r:embed="rId1"/>
          <a:stretch/>
        </p:blipFill>
        <p:spPr>
          <a:xfrm>
            <a:off x="6249960" y="1981080"/>
            <a:ext cx="2894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и сравнении дву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едметов или ли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часто употребл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лов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ss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 значе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еньше»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енее»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оторое ставится перед прилагатель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es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efu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a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ch.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                             Лол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енее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осторожный,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чем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ут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3аним"/>
          <p:cNvPicPr/>
          <p:nvPr/>
        </p:nvPicPr>
        <p:blipFill>
          <a:blip r:embed="rId1"/>
          <a:stretch/>
        </p:blipFill>
        <p:spPr>
          <a:xfrm>
            <a:off x="5334120" y="1295280"/>
            <a:ext cx="33526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Конструкция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сравнении двух предметов или лиц, обладающих одинаковыми качествами, часто употребляется конструкци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такой же…как). Прилагательное  ставится между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epe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big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ber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и Пепе  таки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же  больш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к  пт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Картинка 31 из 124"/>
          <p:cNvPicPr/>
          <p:nvPr/>
        </p:nvPicPr>
        <p:blipFill>
          <a:blip r:embed="rId1"/>
          <a:stretch/>
        </p:blipFill>
        <p:spPr>
          <a:xfrm>
            <a:off x="5867280" y="4191120"/>
            <a:ext cx="3124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Конструкция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not as…as</a:t>
            </a:r>
            <a:endParaRPr b="0" lang="en-US" sz="60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сравнении двух предметов или лиц, обладающих неодинаковыми качествами, часто употребляется конструкци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не такой же…как). Прилагательное  ставится между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epe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big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и Пепе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не такие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больши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к 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0" descr="Приключения пингвинёнка Лоло. Скриншот 7"/>
          <p:cNvPicPr/>
          <p:nvPr/>
        </p:nvPicPr>
        <p:blipFill>
          <a:blip r:embed="rId1"/>
          <a:stretch/>
        </p:blipFill>
        <p:spPr>
          <a:xfrm>
            <a:off x="5791320" y="4497480"/>
            <a:ext cx="3124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…th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rther…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either…n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oth…a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wice as long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half as wide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3 times as narrow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2 years younger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a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3 years elder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tha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…тем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бо… либо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… ни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… и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 раза длинне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ловину шир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3 раза уж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2 года молож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3 года старш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4" descr="original"/>
          <p:cNvPicPr/>
          <p:nvPr/>
        </p:nvPicPr>
        <p:blipFill>
          <a:blip r:embed="rId1"/>
          <a:stretch/>
        </p:blipFill>
        <p:spPr>
          <a:xfrm>
            <a:off x="6727680" y="914400"/>
            <a:ext cx="2416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uch more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r more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ite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ther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2160" y="914040"/>
            <a:ext cx="4724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гораз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лад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гораз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лад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слиш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оч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совс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доволь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1" descr="Картинка 28 из 124"/>
          <p:cNvPicPr/>
          <p:nvPr/>
        </p:nvPicPr>
        <p:blipFill>
          <a:blip r:embed="rId1"/>
          <a:stretch/>
        </p:blipFill>
        <p:spPr>
          <a:xfrm>
            <a:off x="914400" y="4670280"/>
            <a:ext cx="2835360" cy="218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Приключения пингвинёнка Лоло. Скриншот 3"/>
          <p:cNvPicPr/>
          <p:nvPr/>
        </p:nvPicPr>
        <p:blipFill>
          <a:blip r:embed="rId2"/>
          <a:stretch/>
        </p:blipFill>
        <p:spPr>
          <a:xfrm>
            <a:off x="5257800" y="4672080"/>
            <a:ext cx="2894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Имена прилагательные в английском языке не изменяются ни по лицам, ни по родам, ни по падежам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Они имеют только степени с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1280260082_00-12-32"/>
          <p:cNvPicPr/>
          <p:nvPr/>
        </p:nvPicPr>
        <p:blipFill>
          <a:blip r:embed="rId1"/>
          <a:stretch/>
        </p:blipFill>
        <p:spPr>
          <a:xfrm>
            <a:off x="5670720" y="4191120"/>
            <a:ext cx="3027240" cy="234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Картинка 78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41148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 и двухсложны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( слово состоит из одного или двух слогов)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, cle-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(слово состоит из трех слогов и больше)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-te-res-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3аним"/>
          <p:cNvPicPr/>
          <p:nvPr/>
        </p:nvPicPr>
        <p:blipFill>
          <a:blip r:embed="rId1"/>
          <a:stretch/>
        </p:blipFill>
        <p:spPr>
          <a:xfrm>
            <a:off x="6095880" y="228600"/>
            <a:ext cx="28195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Степени прилагательных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имеют три степе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Полож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Сравн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Превосход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2" descr="1274798821_priklyucheniya_pingvinenka_lolo_k2"/>
          <p:cNvPicPr/>
          <p:nvPr/>
        </p:nvPicPr>
        <p:blipFill>
          <a:blip r:embed="rId1"/>
          <a:stretch/>
        </p:blipFill>
        <p:spPr>
          <a:xfrm>
            <a:off x="4419720" y="2970360"/>
            <a:ext cx="44193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- 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тяжел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храбрее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Картинка 24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666880"/>
            <a:ext cx="384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: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[ i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ртикля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– 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 самый тяж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 самый храбры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original"/>
          <p:cNvPicPr/>
          <p:nvPr/>
        </p:nvPicPr>
        <p:blipFill>
          <a:blip r:embed="rId1"/>
          <a:stretch/>
        </p:blipFill>
        <p:spPr>
          <a:xfrm>
            <a:off x="6273720" y="3505320"/>
            <a:ext cx="28702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 ставится слов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нтересный - интересн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 ставится с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st  [ mou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артикл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 -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mos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нтересный - самый  интерес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2" descr="87bec58208d8"/>
          <p:cNvPicPr/>
          <p:nvPr/>
        </p:nvPicPr>
        <p:blipFill>
          <a:blip r:embed="rId1"/>
          <a:stretch/>
        </p:blipFill>
        <p:spPr>
          <a:xfrm>
            <a:off x="6248520" y="2743200"/>
            <a:ext cx="2735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Если слово оканчивается на одну согласную букву, а перед ней стоит одна гласная буква ( 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" descr="G_Sokolskiy_-_Priklyucheniya_Pingvinyonka_Lolo_DVDRip_1986_-_4"/>
          <p:cNvPicPr/>
          <p:nvPr/>
        </p:nvPicPr>
        <p:blipFill>
          <a:blip r:embed="rId1"/>
          <a:stretch/>
        </p:blipFill>
        <p:spPr>
          <a:xfrm>
            <a:off x="4648320" y="3809880"/>
            <a:ext cx="35812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Если слово оканчива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букву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о вторая буква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не пишется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Картинка 60 из 124"/>
          <p:cNvPicPr/>
          <p:nvPr/>
        </p:nvPicPr>
        <p:blipFill>
          <a:blip r:embed="rId1"/>
          <a:stretch/>
        </p:blipFill>
        <p:spPr>
          <a:xfrm>
            <a:off x="2209680" y="3570120"/>
            <a:ext cx="434340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11-04-20T14:44:3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