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CED-E371-44DC-8102-9442B84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12B-C3AA-41D8-BAC1-1D83C4B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B26-2736-4141-BB00-E3DDBCB7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352-6CF1-4556-928F-A651A967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FE8-91B5-49D2-891C-19FA30D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140-8BC3-4C4F-AADB-4E3720E1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86C-5D5A-4F84-BB65-56F45664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1C7-911F-4B72-B6A4-96AB0F6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309-4FB4-4FBD-A5AE-C9B7A03E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DC9-D79E-42F7-8CE8-5B408D4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EB3-1BEC-43A3-ACDF-D0223E6B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B93-1AB5-411E-B460-F815F59F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B5E0-E085-43A6-A80F-1A249D39839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6571800"/>
            <a:ext cx="685800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Calibri"/>
              </a:rPr>
              <a:t>Логопедический   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Calibri"/>
              </a:rPr>
              <a:t>и  </a:t>
            </a:r>
            <a:r>
              <a:rPr b="1" lang="ru-RU" sz="3200" spc="-1" strike="noStrike">
                <a:solidFill>
                  <a:srgbClr val="cc00ff"/>
                </a:solidFill>
                <a:latin typeface="Calibri"/>
              </a:rPr>
              <a:t> коррекция    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28880" y="1643040"/>
            <a:ext cx="5829120" cy="237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cc"/>
            </a:outerShdw>
          </a:effectLst>
        </p:spPr>
        <p:txBody>
          <a:bodyPr anchor="ctr">
            <a:noAutofit/>
          </a:bodyPr>
          <a:p>
            <a:pPr indent="0" algn="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Газет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000" spc="-1" strike="noStrike">
                <a:solidFill>
                  <a:srgbClr val="cc00cc"/>
                </a:solidFill>
                <a:latin typeface="Calibri"/>
              </a:rPr>
              <a:t>Логопедический </a:t>
            </a:r>
            <a:r>
              <a:rPr b="1" lang="ru-RU" sz="4000" spc="-1" strike="noStrike">
                <a:solidFill>
                  <a:srgbClr val="cc00cc"/>
                </a:solidFill>
                <a:latin typeface="Calibri"/>
              </a:rPr>
              <a:t>ЛИКБЕЗ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аснокаменск  ЦРР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ДОУ №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льфинч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тел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45 44663)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600"/>
            </a:br>
            <a:br>
              <a:rPr sz="36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71840" y="4643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0" y="0"/>
            <a:ext cx="3097080" cy="1622520"/>
            <a:chOff x="0" y="0"/>
            <a:chExt cx="3097080" cy="1622520"/>
          </a:xfrm>
        </p:grpSpPr>
        <p:sp>
          <p:nvSpPr>
            <p:cNvPr id="45" name="Rectangle 7" hidden="1"/>
            <p:cNvSpPr/>
            <p:nvPr/>
          </p:nvSpPr>
          <p:spPr>
            <a:xfrm>
              <a:off x="0" y="326520"/>
              <a:ext cx="3097080" cy="12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AutoShape 8"/>
            <p:cNvSpPr/>
            <p:nvPr/>
          </p:nvSpPr>
          <p:spPr>
            <a:xfrm>
              <a:off x="171360" y="0"/>
              <a:ext cx="2602800" cy="951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flipV="1">
              <a:off x="246960" y="669960"/>
              <a:ext cx="2602800" cy="951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8" name="Picture 10" descr="DD01630_"/>
            <p:cNvPicPr/>
            <p:nvPr/>
          </p:nvPicPr>
          <p:blipFill>
            <a:blip r:embed="rId1"/>
            <a:stretch/>
          </p:blipFill>
          <p:spPr>
            <a:xfrm>
              <a:off x="1240200" y="590040"/>
              <a:ext cx="6163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1"/>
            <p:cNvSpPr/>
            <p:nvPr/>
          </p:nvSpPr>
          <p:spPr>
            <a:xfrm>
              <a:off x="0" y="285480"/>
              <a:ext cx="3097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Black"/>
                </a:rPr>
                <a:t>Логопед </a:t>
              </a:r>
              <a:r>
                <a:rPr b="0" lang="ru-RU" sz="1800" spc="-1" strike="noStrike">
                  <a:solidFill>
                    <a:srgbClr val="c0504d"/>
                  </a:solidFill>
                  <a:latin typeface="Arial Black"/>
                </a:rPr>
                <a:t>Маркина Т.С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2" descr="C:\Documents and Settings\Дом\Мои документы\конкурс 150 лет дошкол. образовани\фото логоп. массаж\Фото Логопед. массаж\P1010017.JPG"/>
          <p:cNvPicPr/>
          <p:nvPr/>
        </p:nvPicPr>
        <p:blipFill>
          <a:blip r:embed="rId2"/>
          <a:stretch/>
        </p:blipFill>
        <p:spPr>
          <a:xfrm>
            <a:off x="857160" y="300024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ации  к проведению мас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14200" y="1785960"/>
            <a:ext cx="63579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лает  логопедический массаж  логопед (могут родители, овладевшие технико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комендуется 10 процедур (каждый день  или  через день.  Перерыв между массажем  от     2         недель  до 2 месяце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лжно быть разрешение от невролога (детского  педиатра) на выполнение логопедического  массаж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явление – расписка от родителей  в том,  что  желают сделать ребенку логопедический  массаж,  противопоказаний для этого 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ять массаж желательно  в положении    лежа, теплыми рук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лос логопеда  спокойный, доброжелательный –это как сеанс психотерап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ование релаксационной  музыки, если она нравится ребен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логопедического массажа, рекомендуемые  Томилиной 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642680"/>
            <a:ext cx="61722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ажаемые  мамы, папы! Прежде чем  начать разговор о разных видах массажа, давайте  кратко  рассмотрим  такое  понятие, как  «мышечный тонус».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рмальный мышечный тону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это та основа, благодаря которой формируются оптимальные движения для произнесения тех или иных звуков язы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выш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нуса (гипертонус) мышцы более плотные, могут быть ригидными, пассивные движения совершаются с трудом. Пр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ниженно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ышечном тонусе (гипотонус) мышцы на ощупь вялые и дряблые. Если приложить ладонь к передней части шеи, то можно ощутить напряжение мышц при отсутствии акта говорения, а при глотании гортань может не смещаться, как обыч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зависимости  от  мышечного тонуса  проводятся  следующие виды массаж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1 Расслабляющий массаж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одится при повышенном мышечном тонусе.  Желательно выполнять      перед сном.  Не менее 15 минут, 40% времени отводится поглаживанию., используются приемы растирания, вибрации, ударная техника, разминаний очень мал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 Активирующий массаж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оводится при  гипотонусе  (пониженный тонус). Выполнять желательно в первую половину дня.  Большая часть времени отводится растиранию, поглаживание  проводится  более  энергично, чем при расслабляющем массаже.  Используются  разные виды разминания (сдавливание, сжимания, перетирания, щипки и т.д),  времени на это  отводится больше, чем при расслабляющем массаж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172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асслабляющий масса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Дом\Мои документы\конкурс 150 лет дошкол. образовани\фото логоп. массаж\Фото Логопед. массаж\P1010001.JPG"/>
          <p:cNvPicPr/>
          <p:nvPr/>
        </p:nvPicPr>
        <p:blipFill>
          <a:blip r:embed="rId1"/>
          <a:stretch/>
        </p:blipFill>
        <p:spPr>
          <a:xfrm>
            <a:off x="2071800" y="785880"/>
            <a:ext cx="2711160" cy="1809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428760" y="27147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Массаж шейной воротниковой зон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8" descr="C:\Documents and Settings\Дом\Мои документы\конкурс 150 лет дошкол. образовани\фото логоп. массаж\Фото Логопед. массаж\P1010006.JPG"/>
          <p:cNvPicPr/>
          <p:nvPr/>
        </p:nvPicPr>
        <p:blipFill>
          <a:blip r:embed="rId2"/>
          <a:stretch/>
        </p:blipFill>
        <p:spPr>
          <a:xfrm>
            <a:off x="1928880" y="3554280"/>
            <a:ext cx="2571840" cy="1927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4143240" y="2714760"/>
            <a:ext cx="207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груди и шей с бо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357120" y="55720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лба, вокруг гла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3786120" y="557208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лица, подъязычной зон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42960" y="87742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ссаж  языка ( руками, зонд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15" descr="C:\Documents and Settings\Дом\Мои документы\конкурс 150 лет дошкол. образовани\фото логоп. массаж\Фото Логопед. массаж\P1010013.JPG"/>
          <p:cNvPicPr/>
          <p:nvPr/>
        </p:nvPicPr>
        <p:blipFill>
          <a:blip r:embed="rId3"/>
          <a:stretch/>
        </p:blipFill>
        <p:spPr>
          <a:xfrm>
            <a:off x="1665360" y="6394320"/>
            <a:ext cx="290664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ктивирующий 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Documents and Settings\Дом\Мои документы\конкурс 150 лет дошкол. образовани\фото логоп. массаж\Фото Логопед. массаж\P1010004.JPG"/>
          <p:cNvPicPr/>
          <p:nvPr/>
        </p:nvPicPr>
        <p:blipFill>
          <a:blip r:embed="rId1"/>
          <a:stretch/>
        </p:blipFill>
        <p:spPr>
          <a:xfrm>
            <a:off x="928800" y="928800"/>
            <a:ext cx="2189160" cy="16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Дом\Мои документы\конкурс 150 лет дошкол. образовани\фото логоп. массаж\Фото Логопед. массаж\P1010010.JPG"/>
          <p:cNvPicPr/>
          <p:nvPr/>
        </p:nvPicPr>
        <p:blipFill>
          <a:blip r:embed="rId2"/>
          <a:stretch/>
        </p:blipFill>
        <p:spPr>
          <a:xfrm>
            <a:off x="4214880" y="91116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Documents and Settings\Дом\Мои документы\конкурс 150 лет дошкол. образовани\фото логоп. массаж\Фото Логопед. массаж\P1010014.JPG"/>
          <p:cNvPicPr/>
          <p:nvPr/>
        </p:nvPicPr>
        <p:blipFill>
          <a:blip r:embed="rId3"/>
          <a:stretch/>
        </p:blipFill>
        <p:spPr>
          <a:xfrm>
            <a:off x="2500200" y="323208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Documents and Settings\Дом\Мои документы\конкурс 150 лет дошкол. образовани\фото логоп. массаж\Фото Логопед. массаж\P1010023.JPG"/>
          <p:cNvPicPr/>
          <p:nvPr/>
        </p:nvPicPr>
        <p:blipFill>
          <a:blip r:embed="rId4"/>
          <a:stretch/>
        </p:blipFill>
        <p:spPr>
          <a:xfrm>
            <a:off x="2928960" y="58230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1"/>
          <p:cNvSpPr/>
          <p:nvPr/>
        </p:nvSpPr>
        <p:spPr>
          <a:xfrm>
            <a:off x="357120" y="278604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груди и шей с бок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643200" y="2643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шейной воротниковой зон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352800" y="5000760"/>
            <a:ext cx="29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лица, включающ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тоды активного размин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4408560" y="507204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ротовой пол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3262680" y="7786800"/>
            <a:ext cx="29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ссаж  языка: поглаживание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тирание, покалывание и т.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-42876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овет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480" y="428400"/>
            <a:ext cx="6172200" cy="67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огопедический массаж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у из логопедических техник, которой при специальном обучении могут овладеть и родите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днако не спешите с использованием массажа в домашних условиях — его успешно применяют специалисты в своей работе, а от вас, мамы и  папы, требуется намного большая помощь в исправлении недостатков звукопроизношения ребенка в быту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 помощь заключается в своевременном обращении к специалистам и осуществлении лечения в случае необходимости, проведении артикуляционной гимнастики, автоматизации и дифференциации звуков в повседнев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важно, чтобы родители проводили упражнения, направленные на укрепление жевательно-артикуляторных мышц (предлагайте ребенку грызть твердые яблоки, морковку, избегайте перетертой пищи). Это укрепит артикуляционный аппарат, поможет ребенку лучше пережевывать пишу, что, в свою очередь, будет способствовать лучшему пищеварению и т.д. А ведь, как правило, дети с плохим звукопроизношением или быстро глотают непрожеванные куски, или долго и, если так можно выразиться, «некачественно» едят, последними выходят из-за стола, что может привести и к дополнительным переживаниям ребенка. И в этом случае логопедический массаж и гимнастика к исправленному звукопроизношению попутно добавят и решение подобных проблем с приемом пищ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6172200" cy="613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аемые родители! Надеемся, что материалы нашей газеты помогли Вам  получить нужную информацию о логопедическом массаж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у Вас есть возможность, примените данную технологию для речевого развития вашего ребенк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ем Вам конструктивного  сотрудничества  с вашими детьми.  Успехов!!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560" y="1285560"/>
            <a:ext cx="64580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ой газе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накомить  родителей со спецификой работы по развитию речи детей и коррекции их речевых нарушений с использованием логопедического массаж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массаж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методика исправления нарушений звукопроизношения у детей, обеспечивающая индивидуальный подход к каждому ребенку. Она позволяет значительно ускорить процесс коррекции речевых нарушений и эффективно упрочить навыки правильного звукопроизношения Логопедический массаж — это метод активного механического воздействия, который изменяет состояние мышц, нервов, кровеносных сосудов и тканей периферического речевого аппарата. Многочисленные исследования показывают, что под воздействием массажа повышается эластичность мышечных волокон, объем, сила и сократительная функция, работоспособность мышц, поэтому пренебрегать данным методом не след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61722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714240" y="509760"/>
            <a:ext cx="56437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сновные  задачи логопедического массаж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рмализация мышечного тонуса общей, мимической и артикуляционной мускулатур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уменьшение проявления мышечных синдром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снижение патологических двигательных проявлений мышц речевого аппарата (синкинезии, гиперкинезы, судороги и т.п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улучшение кровообращения, обменных процессов и нервной проводимости, стимуляция кинетических и кинестетических ощущ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) увеличение объема и амплитуды артикуляционных движ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4" descr="C:\Documents and Settings\Дом\Мои документы\Мои рисунки\Фото Логопед. массаж\На дыхание, массаж языка\100OLYMP\P1010007.JPG"/>
          <p:cNvPicPr/>
          <p:nvPr/>
        </p:nvPicPr>
        <p:blipFill>
          <a:blip r:embed="rId1"/>
          <a:stretch/>
        </p:blipFill>
        <p:spPr>
          <a:xfrm>
            <a:off x="1571760" y="5518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500400"/>
            <a:ext cx="6286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Логопедический массаж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аг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ассаж лицевых и артикуляционных мыш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й устраняет лишь некоторые мышечные синдромы, мешающие произнесению звуков, и подготавливает артикуляционный аппарат к произношению определенны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Рекомендуется проведение общего массаж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 логопедического массажа специалистом, имеющим медицинское образование.       (Усиливает в этом случае коррегирующий эффект и реализует  оздоравливающее воздействие на весь организ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Дом\Мои документы\конкурс 150 лет дошкол. образовани\фото логоп. массаж\Фото Логопед. массаж\P1010001.JPG"/>
          <p:cNvPicPr/>
          <p:nvPr/>
        </p:nvPicPr>
        <p:blipFill>
          <a:blip r:embed="rId1"/>
          <a:stretch/>
        </p:blipFill>
        <p:spPr>
          <a:xfrm>
            <a:off x="1285920" y="4572000"/>
            <a:ext cx="4000320" cy="2670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71680" y="7500960"/>
            <a:ext cx="571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на практике это не представляется возможным, тогд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логопеду следует предусмотреть возможность проведения тех приемов, которые позволят восстановить силы мышц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 активной трениров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азания                                   к   применению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760" y="12855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зартр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арушение звукопроизношения, вызванное органическим поражением речевых зон в коре головного моз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сла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нарушение звукопроизношения в связи с неготовностью артикуляционного аппарата к произношению звуков, неразвитым фонематическим слухом и т.п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ох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ведение звуков в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фантильны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п гло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держк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чев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торная алал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сутствие или недоразвитие речи у детей при нормальном слухе и первично сохранном интеллекте,  в основе моторной алалии лежит расстройство или недоразвитие аналитико-синтетической деятельности речедвигательного анализатора, выраженное, в частности, заменой тонких и сложных артикуляционных дифференцировок более грубыми и простыми; причина — поражение коркового конца речедвигательного анализатора (центр Брока) и его проводящих путей.)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ика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ротическое (начальный эта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инола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 нарушение тембра голоса и звукопроизношения, обусловленное анатомо-физиологическими дефектами речевого аппарата.)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рушение гол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фаз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лная/частичная потеря речевой функ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тивопоказания                           к логопедическому масса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500120"/>
            <a:ext cx="6172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о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фекционное заболевание в остром пери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ьюктивиты, гингивиты, герпес, стоматиты и др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болевания полости 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иозные зуб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аление лимфатических уз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иперчувстви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 прикоснов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олезни крови и капилляр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мбоз сосу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емато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массируемых учас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Эписинд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анамнезе (симптоматическая эпилепсия – следствие какого – либо заболевания, клинически схожее с эпилепсией. Приступы прекращаются как только вылечивается первоприч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жоги, травмы, царапин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лиц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териа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,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торый необходим для логопедического мас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200016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льк  (дет. присыпка без запаха)  или масло (детский крем жирный без запах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иновые стерильные перчатки (без запах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ы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каневые салфетки, широкий би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онды, зондозаменители для массажа (индивидуаль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лоргексидин или   6% раствор перекиси водорода  для обработки  зон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рилизатор для обработки зон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почка для в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тератур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 где можно познакомиться с данной тем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760" y="1143000"/>
            <a:ext cx="6172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хипова Е.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Коррекционно-логопедическая работа по преодолению стертой дизартрии у детей. М.: АСТ: Астрель,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ыскина И. 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Комплексный подход к коррекции речевой патологии у детей. Логопедический массаж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ическое пособие для педагогов  дошкольных образовательных  учреждений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б.: «ДЕТСТВО-ПРЕСС», 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евцева Е. 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ыт использования логопедического массажа в коррекции артикуляторных расстройств. «Издательство "Петрополис"», Санкт-Петербург,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ъякова  Е.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Логопедический массаж . М.: Издательский центр «Академия», 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кляева Ю. В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гопедический массаж и гимнастика. Работа над звукопроизношением. — М.: Айрис-пресс, 2010. — (Популярная логопед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ходьк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.Г. Логопедический массаж при коррекции  дизартрических нарушений речи у детей раннего и дошкольного возраста. СПб.: КАРО,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евцова Е.Е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икуляционный массаж при заикании.  Москва 2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му     вниманию  представлены      диски    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ий      массаж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Фильмы сняты     на   базе    речевого центра        «Логопед плюс».       Автор фильмов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илина Светлан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брести      диски      можно   в     интернет   магазине  для логопедов «Логопед – Лен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214200" y="3357720"/>
            <a:ext cx="635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их дисках фильмы, обучающие методике  выполнения основных массажных движений: поглаживания, растирания, разминания, вибрации и ударных приемов. Родители смогут познакомиться  с методикой проведения расслабляющего и активирующего (активизирующего) массажа, который поможет значительно быстрее подготовить органы артикуляции к постановке звуков у ребенка с дизартрией, или улучшить состояние речи ребенка с заикание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6:13:19Z</dcterms:created>
  <dc:creator>Admin</dc:creator>
  <dc:description/>
  <dc:language>en-US</dc:language>
  <cp:lastModifiedBy>дом</cp:lastModifiedBy>
  <dcterms:modified xsi:type="dcterms:W3CDTF">2015-01-29T09:53:33Z</dcterms:modified>
  <cp:revision>170</cp:revision>
  <dc:subject/>
  <dc:title>    Газета          Логопедический ЛИКБЕЗ  г.Краснокаменск  ЦРР  ДОУ №14  (тел. 830245 44663) тел  “Дельфинчик»    тел. (8 39 245) 44663     ликбез</dc:title>
</cp:coreProperties>
</file>