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4D5-F714-480C-A7CC-8BFFA3DE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C262-780E-4209-AFD2-EEA820BD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23F-C3A5-483A-A99A-11213141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69B-9124-4A47-87F4-652B8CB4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988-3166-4E2A-8EE6-554A5C4B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FC3-E402-4C36-ABE6-7BA73EC5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5C1-5FE2-454D-9264-2527448C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63A2-75BA-4CBD-B2A6-758538B5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2A7-20B3-4838-92CB-441C6BF0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5D9-A222-48C4-A51B-5F68C1D5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3C0-D48F-4AE8-9A71-BAEED7F1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40F-3ACE-4092-B025-B6844147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37C5-97D7-420F-89DB-C86FC432812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6571800"/>
            <a:ext cx="6858000" cy="14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ff"/>
                </a:solidFill>
                <a:latin typeface="Calibri"/>
              </a:rPr>
              <a:t>Логопедический   масс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ff"/>
                </a:solidFill>
                <a:latin typeface="Calibri"/>
              </a:rPr>
              <a:t>и  </a:t>
            </a:r>
            <a:r>
              <a:rPr b="1" lang="ru-RU" sz="3200" spc="-1" strike="noStrike">
                <a:solidFill>
                  <a:srgbClr val="cc00ff"/>
                </a:solidFill>
                <a:latin typeface="Calibri"/>
              </a:rPr>
              <a:t> коррекция    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28880" y="1643040"/>
            <a:ext cx="5829120" cy="2378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cccc"/>
            </a:outerShdw>
          </a:effectLst>
        </p:spPr>
        <p:txBody>
          <a:bodyPr anchor="ctr">
            <a:noAutofit/>
          </a:bodyPr>
          <a:p>
            <a:pPr indent="0" algn="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Газет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cc00cc"/>
                </a:solidFill>
                <a:latin typeface="Calibri"/>
              </a:rPr>
              <a:t>Логопедический </a:t>
            </a:r>
            <a:r>
              <a:rPr b="1" lang="ru-RU" sz="4000" spc="-1" strike="noStrike">
                <a:solidFill>
                  <a:srgbClr val="cc00cc"/>
                </a:solidFill>
                <a:latin typeface="Calibri"/>
              </a:rPr>
              <a:t>ЛИКБЕЗ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аснокаменск  ЦРР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ДОУ №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4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ельфинч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(тел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245 44663)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3600"/>
            </a:br>
            <a:br>
              <a:rPr sz="36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571840" y="4643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0" y="0"/>
            <a:ext cx="3097080" cy="1622520"/>
            <a:chOff x="0" y="0"/>
            <a:chExt cx="3097080" cy="1622520"/>
          </a:xfrm>
        </p:grpSpPr>
        <p:sp>
          <p:nvSpPr>
            <p:cNvPr id="45" name="Rectangle 7" hidden="1"/>
            <p:cNvSpPr/>
            <p:nvPr/>
          </p:nvSpPr>
          <p:spPr>
            <a:xfrm>
              <a:off x="0" y="326520"/>
              <a:ext cx="3097080" cy="129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AutoShape 8"/>
            <p:cNvSpPr/>
            <p:nvPr/>
          </p:nvSpPr>
          <p:spPr>
            <a:xfrm>
              <a:off x="171360" y="0"/>
              <a:ext cx="2602800" cy="9514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 flipV="1">
              <a:off x="246960" y="669960"/>
              <a:ext cx="2602800" cy="9514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8" name="Picture 10" descr="DD01630_"/>
            <p:cNvPicPr/>
            <p:nvPr/>
          </p:nvPicPr>
          <p:blipFill>
            <a:blip r:embed="rId1"/>
            <a:stretch/>
          </p:blipFill>
          <p:spPr>
            <a:xfrm>
              <a:off x="1240200" y="590040"/>
              <a:ext cx="616320" cy="3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1"/>
            <p:cNvSpPr/>
            <p:nvPr/>
          </p:nvSpPr>
          <p:spPr>
            <a:xfrm>
              <a:off x="0" y="285480"/>
              <a:ext cx="3097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Black"/>
                </a:rPr>
                <a:t>Логопед </a:t>
              </a:r>
              <a:r>
                <a:rPr b="0" lang="ru-RU" sz="1800" spc="-1" strike="noStrike">
                  <a:solidFill>
                    <a:srgbClr val="c0504d"/>
                  </a:solidFill>
                  <a:latin typeface="Arial Black"/>
                </a:rPr>
                <a:t>Маркина Т.С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" name="Picture 12" descr="C:\Documents and Settings\Дом\Мои документы\конкурс 150 лет дошкол. образовани\фото логоп. массаж\Фото Логопед. массаж\P1010017.JPG"/>
          <p:cNvPicPr/>
          <p:nvPr/>
        </p:nvPicPr>
        <p:blipFill>
          <a:blip r:embed="rId2"/>
          <a:stretch/>
        </p:blipFill>
        <p:spPr>
          <a:xfrm>
            <a:off x="857160" y="300024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комендации  к проведению мас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14200" y="1785960"/>
            <a:ext cx="63579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лает  логопедический массаж  логопед (могут родители, овладевшие техникой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комендуется 10 процедур (каждый день  или  через день.  Перерыв между массажем  от     2         недель  до 2 месяцев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лжно быть разрешение от невролога (детского  педиатра) на выполнение логопедического  массаж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явление – расписка от родителей  в том,  что  желают сделать ребенку логопедический  массаж,  противопоказаний для этого н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полнять массаж желательно  в положении    лежа, теплыми рук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лос логопеда  спокойный, доброжелательный –это как сеанс психотерап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пользование релаксационной  музыки, если она нравится ребен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логопедического массажа, рекомендуемые  Томилиной 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480" y="1642680"/>
            <a:ext cx="617220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важаемые  мамы, папы! Прежде чем  начать разговор о разных видах массажа, давайте  кратко  рассмотрим  такое  понятие, как  «мышечный тонус».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ормальный мышечный тонус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— это та основа, благодаря которой формируются оптимальные движения для произнесения тех или иных звуков язык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вышени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нуса (гипертонус) мышцы более плотные, могут быть ригидными, пассивные движения совершаются с трудом. При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ниженном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ышечном тонусе (гипотонус) мышцы на ощупь вялые и дряблые. Если приложить ладонь к передней части шеи, то можно ощутить напряжение мышц при отсутствии акта говорения, а при глотании гортань может не смещаться, как обыч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зависимости  от  мышечного тонуса  проводятся  следующие виды массаж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1 Расслабляющий массаж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одится при повышенном мышечном тонусе.  Желательно выполнять      перед сном.  Не менее 15 минут, 40% времени отводится поглаживанию., используются приемы растирания, вибрации, ударная техника, разминаний очень мал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2  Активирующий массаж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оводится при  гипотонусе  (пониженный тонус). Выполнять желательно в первую половину дня.  Большая часть времени отводится растиранию, поглаживание  проводится  более  энергично, чем при расслабляющем массаже.  Используются  разные виды разминания (сдавливание, сжимания, перетирания, щипки и т.д),  времени на это  отводится больше, чем при расслабляющем массаж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172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Расслабляющий масса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Documents and Settings\Дом\Мои документы\конкурс 150 лет дошкол. образовани\фото логоп. массаж\Фото Логопед. массаж\P1010001.JPG"/>
          <p:cNvPicPr/>
          <p:nvPr/>
        </p:nvPicPr>
        <p:blipFill>
          <a:blip r:embed="rId1"/>
          <a:stretch/>
        </p:blipFill>
        <p:spPr>
          <a:xfrm>
            <a:off x="2071800" y="785880"/>
            <a:ext cx="2711160" cy="1809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1"/>
          <p:cNvSpPr/>
          <p:nvPr/>
        </p:nvSpPr>
        <p:spPr>
          <a:xfrm>
            <a:off x="428760" y="271476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Массаж шейной воротниковой зон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8" descr="C:\Documents and Settings\Дом\Мои документы\конкурс 150 лет дошкол. образовани\фото логоп. массаж\Фото Логопед. массаж\P1010006.JPG"/>
          <p:cNvPicPr/>
          <p:nvPr/>
        </p:nvPicPr>
        <p:blipFill>
          <a:blip r:embed="rId2"/>
          <a:stretch/>
        </p:blipFill>
        <p:spPr>
          <a:xfrm>
            <a:off x="1928880" y="3554280"/>
            <a:ext cx="2571840" cy="1927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7"/>
          <p:cNvSpPr/>
          <p:nvPr/>
        </p:nvSpPr>
        <p:spPr>
          <a:xfrm>
            <a:off x="4143240" y="2714760"/>
            <a:ext cx="207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ссаж груди и шей с бо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Box 18"/>
          <p:cNvSpPr/>
          <p:nvPr/>
        </p:nvSpPr>
        <p:spPr>
          <a:xfrm>
            <a:off x="357120" y="55720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ссаж лба, вокруг глаз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3786120" y="5572080"/>
            <a:ext cx="285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ссаж лица, подъязычной зон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642960" y="877428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ссаж  языка ( руками, зондами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15" descr="C:\Documents and Settings\Дом\Мои документы\конкурс 150 лет дошкол. образовани\фото логоп. массаж\Фото Логопед. массаж\P1010013.JPG"/>
          <p:cNvPicPr/>
          <p:nvPr/>
        </p:nvPicPr>
        <p:blipFill>
          <a:blip r:embed="rId3"/>
          <a:stretch/>
        </p:blipFill>
        <p:spPr>
          <a:xfrm>
            <a:off x="1665360" y="6394320"/>
            <a:ext cx="2906640" cy="21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722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ктивирующий масс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C:\Documents and Settings\Дом\Мои документы\конкурс 150 лет дошкол. образовани\фото логоп. массаж\Фото Логопед. массаж\P1010004.JPG"/>
          <p:cNvPicPr/>
          <p:nvPr/>
        </p:nvPicPr>
        <p:blipFill>
          <a:blip r:embed="rId1"/>
          <a:stretch/>
        </p:blipFill>
        <p:spPr>
          <a:xfrm>
            <a:off x="928800" y="928800"/>
            <a:ext cx="2189160" cy="164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Дом\Мои документы\конкурс 150 лет дошкол. образовани\фото логоп. массаж\Фото Логопед. массаж\P1010010.JPG"/>
          <p:cNvPicPr/>
          <p:nvPr/>
        </p:nvPicPr>
        <p:blipFill>
          <a:blip r:embed="rId2"/>
          <a:stretch/>
        </p:blipFill>
        <p:spPr>
          <a:xfrm>
            <a:off x="4214880" y="911160"/>
            <a:ext cx="2214360" cy="166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C:\Documents and Settings\Дом\Мои документы\конкурс 150 лет дошкол. образовани\фото логоп. массаж\Фото Логопед. массаж\P1010014.JPG"/>
          <p:cNvPicPr/>
          <p:nvPr/>
        </p:nvPicPr>
        <p:blipFill>
          <a:blip r:embed="rId3"/>
          <a:stretch/>
        </p:blipFill>
        <p:spPr>
          <a:xfrm>
            <a:off x="2500200" y="3232080"/>
            <a:ext cx="2000520" cy="150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C:\Documents and Settings\Дом\Мои документы\конкурс 150 лет дошкол. образовани\фото логоп. массаж\Фото Логопед. массаж\P1010023.JPG"/>
          <p:cNvPicPr/>
          <p:nvPr/>
        </p:nvPicPr>
        <p:blipFill>
          <a:blip r:embed="rId4"/>
          <a:stretch/>
        </p:blipFill>
        <p:spPr>
          <a:xfrm>
            <a:off x="2928960" y="58230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1"/>
          <p:cNvSpPr/>
          <p:nvPr/>
        </p:nvSpPr>
        <p:spPr>
          <a:xfrm>
            <a:off x="357120" y="278604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ссаж груди и шей с бок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3643200" y="26431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ссаж шейной воротниковой зоны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Прямоугольник 13"/>
          <p:cNvSpPr/>
          <p:nvPr/>
        </p:nvSpPr>
        <p:spPr>
          <a:xfrm>
            <a:off x="352800" y="5000760"/>
            <a:ext cx="297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ссаж лица, включающ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тоды активного размин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Прямоугольник 14"/>
          <p:cNvSpPr/>
          <p:nvPr/>
        </p:nvSpPr>
        <p:spPr>
          <a:xfrm>
            <a:off x="4408560" y="507204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ссаж ротовой пол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Прямоугольник 15"/>
          <p:cNvSpPr/>
          <p:nvPr/>
        </p:nvSpPr>
        <p:spPr>
          <a:xfrm>
            <a:off x="3262680" y="7786800"/>
            <a:ext cx="293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ссаж  языка: поглаживание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стирание, покалывание и т.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6760" y="-42876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овет роди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85480" y="428400"/>
            <a:ext cx="617220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огопедический массаж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яет соб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у из логопедических техник, которой при специальном обучении могут овладеть и родите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днако не спешите с использованием массажа в домашних условиях — его успешно применяют специалисты в своей работе, а от вас, мамы и  папы, требуется намного большая помощь в исправлении недостатков звукопроизношения ребенка в быту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а помощь заключается в своевременном обращении к специалистам и осуществлении лечения в случае необходимости, проведении артикуляционной гимнастики, автоматизации и дифференциации звуков в повседневной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важно, чтобы родители проводили упражнения, направленные на укрепление жевательно-артикуляторных мышц (предлагайте ребенку грызть твердые яблоки, морковку, избегайте перетертой пищи). Это укрепит артикуляционный аппарат, поможет ребенку лучше пережевывать пишу, что, в свою очередь, будет способствовать лучшему пищеварению и т.д. А ведь, как правило, дети с плохим звукопроизношением или быстро глотают непрожеванные куски, или долго и, если так можно выразиться, «некачественно» едят, последними выходят из-за стола, что может привести и к дополнительным переживаниям ребенка. И в этом случае логопедический массаж и гимнастика к исправленному звукопроизношению попутно добавят и решение подобных проблем с приемом пищ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6172200" cy="613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ажаемые родители! Надеемся, что материалы нашей газеты помогли Вам  получить нужную информацию о логопедическом массаж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у Вас есть возможность, примените данную технологию для речевого развития вашего ребенк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аем Вам конструктивного  сотрудничества  с вашими детьми.  Успехов!!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2560" y="1285560"/>
            <a:ext cx="64580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этой газе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знакомить  родителей со спецификой работы по развитию речи детей и коррекции их речевых нарушений с использованием логопедического массаж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ий массаж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ая методика исправления нарушений звукопроизношения у детей, обеспечивающая индивидуальный подход к каждому ребенку. Она позволяет значительно ускорить процесс коррекции речевых нарушений и эффективно упрочить навыки правильного звукопроизношения Логопедический массаж — это метод активного механического воздействия, который изменяет состояние мышц, нервов, кровеносных сосудов и тканей периферического речевого аппарата. Многочисленные исследования показывают, что под воздействием массажа повышается эластичность мышечных волокон, объем, сила и сократительная функция, работоспособность мышц, поэтому пренебрегать данным методом не следу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1785600"/>
            <a:ext cx="61722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714240" y="509760"/>
            <a:ext cx="56437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Основные  задачи логопедического массаж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рмализация мышечного тонуса общей, мимической и артикуляционной мускулатур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уменьшение проявления мышечных синдром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снижение патологических двигательных проявлений мышц речевого аппарата (синкинезии, гиперкинезы, судороги и т.п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) улучшение кровообращения, обменных процессов и нервной проводимости, стимуляция кинетических и кинестетических ощущений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) увеличение объема и амплитуды артикуляционных движ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4" descr="C:\Documents and Settings\Дом\Мои документы\Мои рисунки\Фото Логопед. массаж\На дыхание, массаж языка\100OLYMP\P1010007.JPG"/>
          <p:cNvPicPr/>
          <p:nvPr/>
        </p:nvPicPr>
        <p:blipFill>
          <a:blip r:embed="rId1"/>
          <a:stretch/>
        </p:blipFill>
        <p:spPr>
          <a:xfrm>
            <a:off x="1571760" y="551808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360" y="-500400"/>
            <a:ext cx="6286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Логопедический массаж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олаг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ассаж лицевых и артикуляционных мыш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й устраняет лишь некоторые мышечные синдромы, мешающие произнесению звуков, и подготавливает артикуляционный аппарат к произношению определенных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Рекомендуется проведение общего массаж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сле логопедического массажа специалистом, имеющим медицинское образование.       (Усиливает в этом случае коррегирующий эффект и реализует  оздоравливающее воздействие на весь организ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Дом\Мои документы\конкурс 150 лет дошкол. образовани\фото логоп. массаж\Фото Логопед. массаж\P1010001.JPG"/>
          <p:cNvPicPr/>
          <p:nvPr/>
        </p:nvPicPr>
        <p:blipFill>
          <a:blip r:embed="rId1"/>
          <a:stretch/>
        </p:blipFill>
        <p:spPr>
          <a:xfrm>
            <a:off x="1285920" y="4572000"/>
            <a:ext cx="4000320" cy="2670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71680" y="7500960"/>
            <a:ext cx="571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на практике это не представляется возможным, тогд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логопеду следует предусмотреть возможность проведения тех приемов, которые позволят восстановить силы мышц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е активной трениров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азания                                   к   применению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6760" y="12855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Дизартр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нарушение звукопроизношения, вызванное органическим поражением речевых зон в коре головного мозг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Дислал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нарушение звукопроизношения в связи с неготовностью артикуляционного аппарата к произношению звуков, неразвитым фонематическим слухом и т.п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лохо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ведение звуков в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фантильны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ип гло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держка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чевого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оторная алал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тсутствие или недоразвитие речи у детей при нормальном слухе и первично сохранном интеллекте,  в основе моторной алалии лежит расстройство или недоразвитие аналитико-синтетической деятельности речедвигательного анализатора, выраженное, в частности, заменой тонких и сложных артикуляционных дифференцировок более грубыми и простыми; причина — поражение коркового конца речедвигательного анализатора (центр Брока) и его проводящих путей.)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икани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вротическое (начальный эта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инолал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 нарушение тембра голоса и звукопроизношения, обусловленное анатомо-физиологическими дефектами речевого аппарата.)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рушение голо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Афаз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олная/частичная потеря речевой функции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тивопоказания                           к логопедическому массаж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480" y="1500120"/>
            <a:ext cx="6172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о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матическо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нфекционное заболевание в остром пери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ьюктивиты, гингивиты, герпес, стоматиты и др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болевания полости 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иозные зуб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аление лимфатических уз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Гиперчувстви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 прикосновен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Болезни крови и капилляр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омбоз сосу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Гематом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массируемых участ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Эписиндр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анамнезе (симптоматическая эпилепсия – следствие какого – либо заболевания, клинически схожее с эпилепсией. Приступы прекращаются как только вылечивается первопричи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жоги, травмы, царапин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лиц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атериал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,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торый необходим для логопедического мас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400" y="2000160"/>
            <a:ext cx="61722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льк  (дет. присыпка без запаха)  или масло (детский крем жирный без запах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иновые стерильные перчатки (без запах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ы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каневые салфетки, широкий би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онды, зондозаменители для массажа (индивидуальны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лоргексидин или   6% раствор перекиси водорода  для обработки  зон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ерилизатор для обработки зон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почка для вол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Литератур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 где можно познакомиться с данной тем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6760" y="1143000"/>
            <a:ext cx="6172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хипова Е.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Коррекционно-логопедическая работа по преодолению стертой дизартрии у детей. М.: АСТ: Астрель,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ыскина И. 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Комплексный подход к коррекции речевой патологии у детей. Логопедический массаж: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етодическое пособие для педагогов  дошкольных образовательных  учреждений.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б.: «ДЕТСТВО-ПРЕСС», 200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евцева Е. В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ыт использования логопедического массажа в коррекции артикуляторных расстройств. «Издательство "Петрополис"», Санкт-Петербург, 200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ъякова  Е.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Логопедический массаж . М.: Издательский центр «Академия», 20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икляева Ю. В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огопедический массаж и гимнастика. Работа над звукопроизношением. — М.: Айрис-пресс, 2010. — (Популярная логопеди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ходько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.Г. Логопедический массаж при коррекции  дизартрических нарушений речи у детей раннего и дошкольного возраста. СПб.: КАРО,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евцова Е.Е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тикуляционный массаж при заикании.  Москва 20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61722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ему     вниманию  представлены      диски    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ий      массаж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Фильмы сняты     на   базе    речевого центра        «Логопед плюс».       Автор фильмов 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илина Светлана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обрести      диски      можно   в     интернет   магазине  для логопедов «Логопед – Ленд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214200" y="3357720"/>
            <a:ext cx="635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этих дисках фильмы, обучающие методике  выполнения основных массажных движений: поглаживания, растирания, разминания, вибрации и ударных приемов. Родители смогут познакомиться  с методикой проведения расслабляющего и активирующего (активизирующего) массажа, который поможет значительно быстрее подготовить органы артикуляции к постановке звуков у ребенка с дизартрией, или улучшить состояние речи ребенка с заикание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6:13:19Z</dcterms:created>
  <dc:creator>Admin</dc:creator>
  <dc:description/>
  <dc:language>en-US</dc:language>
  <cp:lastModifiedBy>дом</cp:lastModifiedBy>
  <dcterms:modified xsi:type="dcterms:W3CDTF">2015-01-29T09:53:33Z</dcterms:modified>
  <cp:revision>170</cp:revision>
  <dc:subject/>
  <dc:title>    Газета          Логопедический ЛИКБЕЗ  г.Краснокаменск  ЦРР  ДОУ №14  (тел. 830245 44663) тел  “Дельфинчик»    тел. (8 39 245) 44663     ликбез</dc:title>
</cp:coreProperties>
</file>