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media/image9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131C-A5AB-4649-9594-E832264F6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A60C-7A38-4A82-9D8F-48699F3B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FF5A-76C2-435D-8394-B7D834994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99B6-ADBD-416D-90BE-C27AE0591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1DD8-A32D-4293-BE3A-57FB5DAC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C4A3-13C6-4394-81BA-97AD0013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9BA4-0C02-46DB-98DC-2FC137A8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5667-8F4F-4D37-B589-4C0DB103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9D21-2394-4C81-9B31-44BE653D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8E08-B045-49A4-9270-B8765E05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A4F0-C287-4A84-A88D-D7DFFD99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1264-4A9A-4C31-80CB-1C35A4DE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0BBC-3335-4F46-9F10-FF90E95BC5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0"/>
                </a:solidFill>
                <a:latin typeface="Arial"/>
              </a:rPr>
              <a:t>Кружок 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981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ила :учитель сош №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льникова Елена Вита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58920" y="1052640"/>
            <a:ext cx="727236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cc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рифметическая</a:t>
            </a:r>
            <a:endParaRPr b="1" lang="en-US" sz="4800" spc="1" strike="noStrike">
              <a:ln w="9360">
                <a:solidFill>
                  <a:srgbClr val="ffcc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00000" y="3284640"/>
            <a:ext cx="770436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кунсткамера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20"/>
                            </p:stCondLst>
                            <p:childTnLst>
                              <p:par>
                                <p:cTn id="1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2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78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11280" y="4076280"/>
            <a:ext cx="763272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89604" dir="2700000" blurRad="0" rotWithShape="0">
              <a:srgbClr val="0000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ы видите, что дюжина имеет за собой длинную историю и что число 12 не без основания очутилось в галере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42920" y="220500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1440000" cy="1235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763640" y="1628640"/>
            <a:ext cx="69120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Д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еление суток на две дюжины часов, деление часа на 5 дюжин минут, деление минуты на столько же секунд, деление круга на 30 дюжин граду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611280" y="544500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</a:pathLst>
          </a:cu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cc"/>
                </a:solidFill>
                <a:latin typeface="Arial"/>
              </a:rPr>
              <a:t>Число 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26880" y="549360"/>
            <a:ext cx="2502000" cy="3527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627280" y="1557360"/>
            <a:ext cx="460872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3684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З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а то его соседка </a:t>
            </a:r>
            <a:r>
              <a:rPr b="1" lang="en-US" sz="2800" spc="-1" strike="noStrike">
                <a:solidFill>
                  <a:srgbClr val="990099"/>
                </a:solidFill>
                <a:latin typeface="Comic Sans MS"/>
              </a:rPr>
              <a:t>«чертова дюжина»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фигурирует здесь не потому, что чем-либо замечательно, а скорее именно потому, что ничем не замечательна, хотя и пользуется такой мрачной слав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948360" y="4211640"/>
            <a:ext cx="1862280" cy="264636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rId3" action="ppaction://hlinksldjump"/>
          </p:cNvPr>
          <p:cNvSpPr/>
          <p:nvPr/>
        </p:nvSpPr>
        <p:spPr>
          <a:xfrm>
            <a:off x="2627280" y="566100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cc"/>
                </a:solidFill>
                <a:latin typeface="Arial"/>
              </a:rPr>
              <a:t>Число 36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3909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Ч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то вы знаете о числе 365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О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но замечательно прежде всего тем, что определяет число дней в году.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Д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алее, при делении на 7 оно дает в остатке 1; эта несущественная, казалось бы, особенность числа имела большое значение для старого семидневного календар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Д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ругая особенность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65=10х10х11х11х12х12, т.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равна сумме квадратов трех последовательных чисел, начиная с 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П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роверьте так ли эт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+1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+1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=100+121+144=3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А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так же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+1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=169+196=36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932360" y="1413000"/>
          <a:ext cx="3760920" cy="50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413000"/>
                    <a:ext cx="3760920" cy="50004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43570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46836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</a:pathLst>
          </a:cu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cc"/>
                </a:solidFill>
                <a:latin typeface="Arial"/>
              </a:rPr>
              <a:t>Число 99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Comic Sans MS"/>
              </a:rPr>
              <a:t>Три девя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Л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юбопытная особенность числа 999 проявляется при умножении на его любое трехзначное число. Тогда получается шестизначное число; первые три цифры его есть умножаемое число, только уменьшенное на 1, а остальные три цифры- «дополнение» первых до 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5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573х999=</a:t>
            </a:r>
            <a:r>
              <a:rPr b="1" lang="en-US" sz="2000" spc="-1" strike="noStrike">
                <a:solidFill>
                  <a:srgbClr val="ff1775"/>
                </a:solidFill>
                <a:latin typeface="Comic Sans MS"/>
              </a:rPr>
              <a:t>572</a:t>
            </a:r>
            <a:r>
              <a:rPr b="1" lang="en-US" sz="2000" spc="-1" strike="noStrike" u="sng">
                <a:solidFill>
                  <a:srgbClr val="ff1775"/>
                </a:solidFill>
                <a:uFillTx/>
                <a:latin typeface="Comic Sans MS"/>
              </a:rPr>
              <a:t>4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П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роисхождение этой особенн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573х999=573(1000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З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ная эту особенность, мы можем мгновенно умножить любое трехзначное число на 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947х999=9460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509х999=5084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981х999=9800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З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ада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487х999=486513              806х999=8051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571х999=570429              900х999=899100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46836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</a:pathLst>
          </a:cu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cc"/>
                </a:solidFill>
                <a:latin typeface="Arial"/>
              </a:rPr>
              <a:t>Число 10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-число Шехерезады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Чем же замечательно число 100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-первых, 1001=7х11х13, где 7,11,13-три последовательных простых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о здесь нет ничего волшеб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З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мечательно то, что при умножении на него трехзначного числа получается результат, состоящий из самого умноженного числа, только написанного дваж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1775"/>
                </a:solidFill>
                <a:latin typeface="Arial"/>
              </a:rPr>
              <a:t>873х1001=8738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1775"/>
                </a:solidFill>
                <a:latin typeface="Arial"/>
              </a:rPr>
              <a:t>207х1001=2072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24720" y="1700280"/>
            <a:ext cx="1076400" cy="1428840"/>
          </a:xfrm>
          <a:prstGeom prst="rect">
            <a:avLst/>
          </a:prstGeom>
          <a:ln w="0">
            <a:noFill/>
          </a:ln>
        </p:spPr>
      </p:pic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468360" y="573408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35164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Н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 это еще не все . Сейчас 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 помощью в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родемонстрирую фоку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-й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пишет на бумаге (секретно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трехзначное число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-й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еще раз пишет это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-й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делит получившееся число на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-й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делит результат третьего на 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-й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делит результат четверт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а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Р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езультат-задуманное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651640" y="404640"/>
            <a:ext cx="2952720" cy="202752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324000" y="595008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cc"/>
                </a:solidFill>
                <a:latin typeface="Arial"/>
              </a:rPr>
              <a:t>Число 101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о так же, как и число 1001 дает удивительный результат при умножении, но не трехзначных чисел, а двухзначных. Каждое двухзначное число, умноженное на 10101, дает в результате само себя, написанное триж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cc99ff"/>
                </a:solidFill>
                <a:latin typeface="Comic Sans MS"/>
              </a:rPr>
              <a:t>73х10101=7373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cc99ff"/>
                </a:solidFill>
                <a:latin typeface="Comic Sans MS"/>
              </a:rPr>
              <a:t>21х10101=2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рич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73х10101=73(10000+100+1)=730000+7300+73=73737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468360" y="573408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362800" cy="579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этим числом тоже мо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роделывать фокусы. Например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-й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-пишет двухзначное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-й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-еще раз пиш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-й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-еще пиш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-й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-полученное шестизначное число  дел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а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-й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-результат четвертого делит на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-й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-результат пятого делит на 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-й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-результат шестого делит на 3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К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роме этих делителей можно использов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1х13х37; 7х39х37; 3х91х37; 7х13х111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468360" y="573408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cc"/>
                </a:solidFill>
                <a:latin typeface="Arial"/>
              </a:rPr>
              <a:t>Число 100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П</a:t>
            </a:r>
            <a:r>
              <a:rPr b="1" lang="en-US" sz="2400" spc="-1" strike="noStrike">
                <a:solidFill>
                  <a:srgbClr val="000090"/>
                </a:solidFill>
                <a:latin typeface="Comic Sans MS"/>
              </a:rPr>
              <a:t>опробуйте сами отгад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0"/>
                </a:solidFill>
                <a:latin typeface="Comic Sans MS"/>
              </a:rPr>
              <a:t>                    </a:t>
            </a:r>
            <a:r>
              <a:rPr b="1" lang="en-US" sz="2400" spc="-1" strike="noStrike">
                <a:solidFill>
                  <a:srgbClr val="000090"/>
                </a:solidFill>
                <a:latin typeface="Comic Sans MS"/>
              </a:rPr>
              <a:t>1254х10001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А </a:t>
            </a:r>
            <a:r>
              <a:rPr b="1" lang="en-US" sz="2400" spc="-1" strike="noStrike">
                <a:solidFill>
                  <a:srgbClr val="000090"/>
                </a:solidFill>
                <a:latin typeface="Comic Sans MS"/>
              </a:rPr>
              <a:t>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mic Sans MS"/>
              </a:rPr>
              <a:t>                    </a:t>
            </a:r>
            <a:r>
              <a:rPr b="1" lang="en-US" sz="2400" spc="-1" strike="noStrike">
                <a:solidFill>
                  <a:srgbClr val="d60093"/>
                </a:solidFill>
                <a:latin typeface="Comic Sans MS"/>
              </a:rPr>
              <a:t>10001=73х1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Т</a:t>
            </a:r>
            <a:r>
              <a:rPr b="1" lang="en-US" sz="2400" spc="-1" strike="noStrike">
                <a:solidFill>
                  <a:srgbClr val="000090"/>
                </a:solidFill>
                <a:latin typeface="Comic Sans MS"/>
              </a:rPr>
              <a:t>еперь давайте кто-то из вас побудет в роли фокус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573408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1483920"/>
            <a:ext cx="8229600" cy="1143000"/>
          </a:xfrm>
          <a:prstGeom prst="rect">
            <a:avLst/>
          </a:prstGeom>
          <a:solidFill>
            <a:srgbClr val="ffe8d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br>
              <a:rPr sz="5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данная разработка предназначена для проведения заседания математического кружка в 7-8 классах, либо для проведения урока занимательной математики в этих классах)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4920" y="2852640"/>
            <a:ext cx="33116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1" action="ppaction://hlinksldjump"/>
              </a:rPr>
              <a:t>Вступ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Число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Число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98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8"/>
                </a:solidFill>
                <a:latin typeface="Comic Sans MS"/>
              </a:rPr>
              <a:t>Число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98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8"/>
                </a:solidFill>
                <a:latin typeface="Comic Sans MS"/>
              </a:rPr>
              <a:t>Число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98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8"/>
                </a:solidFill>
                <a:latin typeface="Comic Sans MS"/>
              </a:rPr>
              <a:t>Число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967280" y="2781360"/>
            <a:ext cx="4176720" cy="33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98"/>
              </a:buClr>
              <a:buFont typeface="Comic Sans MS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8"/>
                </a:solidFill>
                <a:latin typeface="Comic Sans MS"/>
              </a:rPr>
              <a:t>Число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8"/>
              </a:buClr>
              <a:buFont typeface="Comic Sans MS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8"/>
                </a:solidFill>
                <a:latin typeface="Comic Sans MS"/>
              </a:rPr>
              <a:t>Число 3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8"/>
              </a:buClr>
              <a:buFont typeface="Comic Sans MS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8"/>
                </a:solidFill>
                <a:latin typeface="Comic Sans MS"/>
              </a:rPr>
              <a:t>Число 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8"/>
              </a:buClr>
              <a:buFont typeface="Comic Sans MS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8"/>
                </a:solidFill>
                <a:latin typeface="Comic Sans MS"/>
              </a:rPr>
              <a:t>Число 1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8"/>
              </a:buClr>
              <a:buFont typeface="Comic Sans MS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8"/>
                </a:solidFill>
                <a:latin typeface="Comic Sans MS"/>
              </a:rPr>
              <a:t>Число 101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8"/>
              </a:buClr>
              <a:buFont typeface="Comic Sans MS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8"/>
                </a:solidFill>
                <a:latin typeface="Comic Sans MS"/>
              </a:rPr>
              <a:t>Число 1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9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87280" y="692280"/>
            <a:ext cx="48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2" marL="1017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1775"/>
                </a:solidFill>
                <a:latin typeface="Comic Sans MS"/>
              </a:rPr>
              <a:t>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мире чисел, как и в мире живых существ, встречаются подлинные диковины, редкие экземпляры, обладающие исключительными свойствами. Из таких необыкновенных чисел можно составить своего рода музей числовых редкостей, настоящ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1775"/>
                </a:solidFill>
                <a:latin typeface="Comic Sans MS"/>
              </a:rPr>
              <a:t>«Арифметическую кунсткамеру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Некоторые из них уже по внешности привлекают к себе внимание; другие открывают свои диковинные особенности лишь при более близком знаком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2" action="ppaction://hlinksldjump"/>
          </p:cNvPr>
          <p:cNvSpPr/>
          <p:nvPr/>
        </p:nvSpPr>
        <p:spPr>
          <a:xfrm>
            <a:off x="32400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</a:pathLst>
          </a:cu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2880" y="0"/>
            <a:ext cx="590076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60093"/>
                </a:solidFill>
                <a:latin typeface="Arial"/>
              </a:rPr>
              <a:t>Число 2</a:t>
            </a:r>
            <a:r>
              <a:rPr b="0" lang="en-US" sz="96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1120" y="3141360"/>
            <a:ext cx="824724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П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очему же оно попало сю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П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отому, что оно - основание самой любопытной системы счисления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двоич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2695680" cy="2457360"/>
          </a:xfrm>
          <a:prstGeom prst="rect">
            <a:avLst/>
          </a:prstGeom>
          <a:ln w="0">
            <a:noFill/>
          </a:ln>
        </p:spPr>
      </p:pic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468360" y="6093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9280" y="1483920"/>
            <a:ext cx="81471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ложите цифры любого числа, кратного 3,  сумма всегда делится без остатка на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4400" spc="-1" strike="noStrike">
                <a:solidFill>
                  <a:srgbClr val="990099"/>
                </a:solidFill>
                <a:latin typeface="Arial"/>
              </a:rPr>
              <a:t>91815 : 3=3060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так  к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8"/>
                </a:solidFill>
                <a:latin typeface="Arial"/>
              </a:rPr>
              <a:t>                                 </a:t>
            </a:r>
            <a:r>
              <a:rPr b="0" lang="en-US" sz="3600" spc="-1" strike="noStrike">
                <a:solidFill>
                  <a:srgbClr val="000098"/>
                </a:solidFill>
                <a:latin typeface="Arial"/>
              </a:rPr>
              <a:t>9+1+8+1+5=24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4 делится на 3 без оста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cc"/>
                </a:solidFill>
                <a:latin typeface="Arial"/>
              </a:rPr>
              <a:t>Число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42920" y="3645000"/>
            <a:ext cx="2879640" cy="200160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rId2" action="ppaction://hlinksldjump"/>
          </p:cNvPr>
          <p:cNvSpPr/>
          <p:nvPr/>
        </p:nvSpPr>
        <p:spPr>
          <a:xfrm>
            <a:off x="53964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10800"/>
                </a:moveTo>
                <a:lnTo>
                  <a:pt x="17815" y="3794"/>
                </a:lnTo>
                <a:lnTo>
                  <a:pt x="17815" y="17806"/>
                </a:lnTo>
                <a:close/>
              </a:path>
            </a:pathLst>
          </a:cu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683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cc"/>
                </a:solidFill>
                <a:latin typeface="Arial"/>
              </a:rPr>
              <a:t>Число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2923920"/>
            <a:ext cx="8424720" cy="33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Н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е удивимся, встретив тут </a:t>
            </a:r>
            <a:r>
              <a:rPr b="1" lang="en-US" sz="2800" spc="-1" strike="noStrike">
                <a:solidFill>
                  <a:srgbClr val="ff33cc"/>
                </a:solidFill>
                <a:latin typeface="Comic Sans MS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–одно из наших любимейших чисел, играющих важную роль при всяких «округлениях»,  в том числе и при округлении цен, которое нам дорого обходилось (население прежней России переплачивало ежедневно 30 млн. рубле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0" y="260280"/>
            <a:ext cx="4245120" cy="223200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324000" y="580536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</a:pathLst>
          </a:cu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cc"/>
                </a:solidFill>
                <a:latin typeface="Arial"/>
              </a:rPr>
              <a:t>Число 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умма цифр числа , кратного 9, делится без остатка на 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576 : 9=64 ,т.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5+7+6=18 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8 делится на 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4103640" cy="3529080"/>
          </a:xfrm>
          <a:prstGeom prst="rect">
            <a:avLst/>
          </a:prstGeom>
          <a:ln w="0">
            <a:noFill/>
          </a:ln>
          <a:effectLst>
            <a:outerShdw dist="143570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7" name=""/>
          <p:cNvSpPr/>
          <p:nvPr/>
        </p:nvSpPr>
        <p:spPr>
          <a:xfrm>
            <a:off x="4932360" y="5229360"/>
            <a:ext cx="1584360" cy="1368360"/>
          </a:xfrm>
          <a:custGeom>
            <a:avLst/>
            <a:gdLst>
              <a:gd name="textAreaLeft" fmla="*/ 454680 w 1584360"/>
              <a:gd name="textAreaRight" fmla="*/ 1357200 w 1584360"/>
              <a:gd name="textAreaTop" fmla="*/ 788040 h 1368360"/>
              <a:gd name="textAreaBottom" fmla="*/ 11721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84d2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468360" y="573408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cc"/>
                </a:solidFill>
                <a:latin typeface="Arial"/>
              </a:rPr>
              <a:t>Число 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Ч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ем оно замечательн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14f"/>
                </a:solidFill>
                <a:latin typeface="Comic Sans MS"/>
              </a:rPr>
              <a:t>Это число месяцев в году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48320" y="1649520"/>
            <a:ext cx="4038480" cy="4427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627280" y="4365720"/>
            <a:ext cx="1871640" cy="576000"/>
          </a:xfrm>
          <a:prstGeom prst="rightArrow">
            <a:avLst>
              <a:gd name="adj1" fmla="val 50000"/>
              <a:gd name="adj2" fmla="val 81234"/>
            </a:avLst>
          </a:prstGeom>
          <a:solidFill>
            <a:srgbClr val="b28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468360" y="573408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8229600" cy="579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Э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о число единиц в дюжине. Но что, в сущности, особенного в дюжине? Немногим известно, что 12-старинный и едва не победивший соперник числа 10 в борьбе за почетный пост основания системы счисления. Культурнейший народ древнего Востока - вавилоняне и их предшественники, еще более древние первопоселенцы Двуречья, вели счет в двенадцатиричной системе счисления. И если бы не пересилившее влияние Индии, подарившей нам десятичную систему счисления, то мы, весьма вероятно, унаследовали бы от Вавилона двенадцатиричную систему счисления. Кое в чем мы до сих пор платим дань этой систем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468360" y="5877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8T12:50:45Z</dcterms:created>
  <dc:creator>Ученик</dc:creator>
  <dc:description/>
  <dc:language>en-US</dc:language>
  <cp:lastModifiedBy>Ученик</cp:lastModifiedBy>
  <dcterms:modified xsi:type="dcterms:W3CDTF">2003-12-23T10:59:11Z</dcterms:modified>
  <cp:revision>45</cp:revision>
  <dc:subject/>
  <dc:title>Кружок на тему: </dc:title>
</cp:coreProperties>
</file>