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7A3-7653-4F8C-80CD-B0ECF8D3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A56-387F-491A-A8FC-3556BB8C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EFD-33F7-413B-B86B-37B0EA85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112-40A7-49EF-A084-7983F37F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DD9-3E31-4349-B57B-8D98FDB3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242-124B-4908-A5BE-709D8C3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550-9425-4520-A189-ACD9689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51B-A369-4B9A-900E-6A599F03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CC1-5839-4C99-A3FA-0C09A32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817-5347-4200-96B0-78E11AA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257-B069-4AD3-9ACD-FDB6A75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955-A7E6-4BA7-8698-A12D8457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E3E2-1911-407D-A8ED-115B27174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0"/>
                </a:solidFill>
                <a:latin typeface="Arial"/>
              </a:rPr>
              <a:t>Кружок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:учитель сош №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ьникова Елен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052640"/>
            <a:ext cx="7272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рифметическая</a:t>
            </a:r>
            <a:endParaRPr b="1" lang="en-US" sz="4800" spc="1" strike="noStrike">
              <a:ln w="9360">
                <a:solidFill>
                  <a:srgbClr val="ff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3284640"/>
            <a:ext cx="7704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унсткамер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1280" y="4076280"/>
            <a:ext cx="76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0000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ы видите, что дюжина имеет за собой длинную историю и что число 12 не без основания очутилось в галер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2050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440000" cy="123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1628640"/>
            <a:ext cx="6912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ление суток на две дюжины часов, деление часа на 5 дюжин минут, деление минуты на столько же секунд, деление круга на 30 дюжин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11280" y="5445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6880" y="549360"/>
            <a:ext cx="2502000" cy="352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4608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368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то его соседка </a:t>
            </a: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«чертова дюжина»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фигурирует здесь не потому, что чем-либо замечательно, а скорее именно потому, что ничем не замечательна, хотя и пользуется такой мрачной сла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4211640"/>
            <a:ext cx="1862280" cy="26463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2627280" y="566100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3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3909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о вы знаете о числе 36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 замечательно прежде всего тем, что определяет число дней в году.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лее, при делении на 7 оно дает в остатке 1; эта несущественная, казалось бы, особенность числа имела большое значение для старого семидневного календа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гая особеннос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65=10х10х11х11х12х12, т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на сумме квадратов трех последовательных чисел, начиная с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оверьте так ли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1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100+121+144=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ак ж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+1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169+196=3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1413000"/>
          <a:ext cx="376092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413000"/>
                    <a:ext cx="3760920" cy="50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6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omic Sans MS"/>
              </a:rPr>
              <a:t>Три девя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Л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юбопытная особенность числа 999 проявляется при умножении на его любое трехзначное число. Тогда получается шестизначное число; первые три цифры его есть умножаемое число, только уменьшенное на 1, а остальные три цифры- «дополнение» первых до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73х999=</a:t>
            </a:r>
            <a:r>
              <a:rPr b="1" lang="en-US" sz="2000" spc="-1" strike="noStrike">
                <a:solidFill>
                  <a:srgbClr val="ff1775"/>
                </a:solidFill>
                <a:latin typeface="Comic Sans MS"/>
              </a:rPr>
              <a:t>572</a:t>
            </a:r>
            <a:r>
              <a:rPr b="1" lang="en-US" sz="2000" spc="-1" strike="noStrike" u="sng">
                <a:solidFill>
                  <a:srgbClr val="ff1775"/>
                </a:solidFill>
                <a:uFillTx/>
                <a:latin typeface="Comic Sans MS"/>
              </a:rPr>
              <a:t>4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роисхождение этой особен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73х999=573(1000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ая эту особенность, мы можем мгновенно умножить любое трехзначное число на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47х999=946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09х999=5084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81х999=980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87х999=486513              806х999=80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71х999=570429              900х999=899100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6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-число Шехерезад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ем же замечательно число 100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-первых, 1001=7х11х13, где 7,11,13-три последовательных простых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 здесь нет ничего волшеб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ечательно то, что при умножении на него трехзначного числа получается результат, состоящий из самого умноженного числа, только написанного дваж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1775"/>
                </a:solidFill>
                <a:latin typeface="Arial"/>
              </a:rPr>
              <a:t>873х1001=8738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1775"/>
                </a:solidFill>
                <a:latin typeface="Arial"/>
              </a:rPr>
              <a:t>207х1001=207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1700280"/>
            <a:ext cx="1076400" cy="1428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 это еще не все . Сейчас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 помощью в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демонстрирую фоку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пишет на бумаге (секрет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ехзначное числ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еще раз пишет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получившееся число н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результат третьего на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результат четвер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зультат-задуман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2952720" cy="20275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2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 так же, как и число 1001 дает удивительный результат при умножении, но не трехзначных чисел, а двухзначных. Каждое двухзначное число, умноженное на 10101, дает в результате само себя, написанное три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73х10101=7373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21х10101=2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3х10101=73(10000+100+1)=730000+7300+73=73737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этим числом тож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делывать фокусы.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пишет двухзнач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еще раз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еще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полученное шестизначное число  дел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четвертого делит н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пятого делит на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шестого делит на 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оме этих делителей можно исполь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1х13х37; 7х39х37; 3х91х37; 7х13х11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опробуйте сами отг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                    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1254х1000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А 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10001=73х1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Т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еперь давайте кто-то из вас побудет в роли фок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анная разработка предназначена для проведения заседания математического кружка в 7-8 классах, либо для проведения урока занимательной математики в этих классах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852640"/>
            <a:ext cx="331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Число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Число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7280" y="2781360"/>
            <a:ext cx="41767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9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69228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775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ире чисел, как и в мире живых существ, встречаются подлинные диковины, редкие экземпляры, обладающие исключительными свойствами. Из таких необыкновенных чисел можно составить своего рода музей числовых редкостей, настоящ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1775"/>
                </a:solidFill>
                <a:latin typeface="Comic Sans MS"/>
              </a:rPr>
              <a:t>«Арифметическую кунсткамер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которые из них уже по внешности привлекают к себе внимание; другие открывают свои диковинные особенности лишь при более близком знак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2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2880" y="0"/>
            <a:ext cx="59007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60093"/>
                </a:solidFill>
                <a:latin typeface="Arial"/>
              </a:rPr>
              <a:t>Число 2</a:t>
            </a:r>
            <a:r>
              <a:rPr b="0" lang="en-US" sz="9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1120" y="3141360"/>
            <a:ext cx="82472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чему же оно попало сю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ому, что оно - основание самой любопытной системы счисле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дво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695680" cy="24573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468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147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ложите цифры любого числа, кратного 3,  сумма всегда делится без остатка н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91815 : 3=306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ак 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98"/>
                </a:solidFill>
                <a:latin typeface="Arial"/>
              </a:rPr>
              <a:t>9+1+8+1+5=24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 делится на 3 без ост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Число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2879640" cy="20016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53964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683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42472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 удивимся, встретив тут </a:t>
            </a:r>
            <a:r>
              <a:rPr b="1" lang="en-US" sz="2800" spc="-1" strike="noStrike">
                <a:solidFill>
                  <a:srgbClr val="ff33cc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одно из наших любимейших чисел, играющих важную роль при всяких «округлениях»,  в том числе и при округлении цен, которое нам дорого обходилось (население прежней России переплачивало ежедневно 30 млн. рубл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245120" cy="223200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32400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мма цифр числа , кратного 9, делится без остатка на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76 : 9=64 ,т.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+7+6=18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8 делится на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03640" cy="35290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4932360" y="5229360"/>
            <a:ext cx="1584360" cy="1368360"/>
          </a:xfrm>
          <a:custGeom>
            <a:avLst/>
            <a:gdLst>
              <a:gd name="textAreaLeft" fmla="*/ 454680 w 1584360"/>
              <a:gd name="textAreaRight" fmla="*/ 1357200 w 1584360"/>
              <a:gd name="textAreaTop" fmla="*/ 7880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84d2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м оно замечатель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14f"/>
                </a:solidFill>
                <a:latin typeface="Comic Sans MS"/>
              </a:rPr>
              <a:t>Это число месяцев в году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49520"/>
            <a:ext cx="4038480" cy="442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2728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solidFill>
            <a:srgbClr val="b28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Э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 число единиц в дюжине. Но что, в сущности, особенного в дюжине? Немногим известно, что 12-старинный и едва не победивший соперник числа 10 в борьбе за почетный пост основания системы счисления. Культурнейший народ древнего Востока - вавилоняне и их предшественники, еще более древние первопоселенцы Двуречья, вели счет в двенадцатиричной системе счисления. И если бы не пересилившее влияние Индии, подарившей нам десятичную систему счисления, то мы, весьма вероятно, унаследовали бы от Вавилона двенадцатиричную систему счисления. Кое в чем мы до сих пор платим дань эт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2:50:45Z</dcterms:created>
  <dc:creator>Ученик</dc:creator>
  <dc:description/>
  <dc:language>en-US</dc:language>
  <cp:lastModifiedBy>Ученик</cp:lastModifiedBy>
  <dcterms:modified xsi:type="dcterms:W3CDTF">2003-12-23T10:59:11Z</dcterms:modified>
  <cp:revision>45</cp:revision>
  <dc:subject/>
  <dc:title>Кружок на тему: </dc:title>
</cp:coreProperties>
</file>