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723-8A2E-464B-A6F2-21800CA9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6B0-1F54-4449-A798-BBAAC7FB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F8B-3560-43A0-9F65-FD88AB47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47B-5CA0-43B9-B646-D82667F2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F24-A850-41E4-B05E-1704663F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CF3-42FA-4A10-B7EE-55C3AD57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B9B-5A56-49F4-B050-B111E7F7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17F-442E-4D84-956B-3F800645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8FF-6C29-4E74-A71F-F41F0694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956-3C5A-4553-A8A3-D8B9F0FD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5EE-44C4-4BBF-9FB7-B8B37516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249-A44F-4CC0-A074-F10DF25F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AD8B-CF11-4683-A4DF-8512BF6FFF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280" y="220500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Decorlz"/>
              </a:rPr>
              <a:t>Деревянная игрушка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группа №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1\Desktop\52816.jpg"/>
          <p:cNvPicPr/>
          <p:nvPr/>
        </p:nvPicPr>
        <p:blipFill>
          <a:blip r:embed="rId4"/>
          <a:stretch/>
        </p:blipFill>
        <p:spPr>
          <a:xfrm>
            <a:off x="2484360" y="3860640"/>
            <a:ext cx="145908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Цель проект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95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Всестороннее развитие и приобщение детей к традициям нашего на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организовать совместную деятельность родителей с деть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0" descr="C:\Users\1\Desktop\музей\DSC01960.JPG"/>
          <p:cNvPicPr/>
          <p:nvPr/>
        </p:nvPicPr>
        <p:blipFill>
          <a:blip r:embed="rId11"/>
          <a:stretch/>
        </p:blipFill>
        <p:spPr>
          <a:xfrm>
            <a:off x="4643280" y="2421000"/>
            <a:ext cx="337212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Monotype Corsiva"/>
              </a:rPr>
              <a:t>задач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95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Развитие мелкой и крупной моторики р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Способствовать социально- эмоциональному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 развит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  </a:t>
            </a: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Способствовать активной игровой деятельности </a:t>
            </a: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ребенка;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Способствовать познавательной активности ребенка, развитию творчества, исследования и экспериментирования с игрушк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C:\Users\1\Desktop\печатать музей\461.jpeg"/>
          <p:cNvPicPr/>
          <p:nvPr/>
        </p:nvPicPr>
        <p:blipFill>
          <a:blip r:embed="rId11"/>
          <a:stretch/>
        </p:blipFill>
        <p:spPr>
          <a:xfrm>
            <a:off x="4500720" y="4221000"/>
            <a:ext cx="3311280" cy="1838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9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Деревянная игруш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007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14" descr="DSC01964.JPG"/>
          <p:cNvPicPr/>
          <p:nvPr/>
        </p:nvPicPr>
        <p:blipFill>
          <a:blip r:embed="rId5"/>
          <a:stretch/>
        </p:blipFill>
        <p:spPr>
          <a:xfrm>
            <a:off x="3564000" y="2060640"/>
            <a:ext cx="4680000" cy="3672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7"/>
          <p:cNvSpPr/>
          <p:nvPr/>
        </p:nvSpPr>
        <p:spPr>
          <a:xfrm>
            <a:off x="1042920" y="1916280"/>
            <a:ext cx="35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Вид проекта- </a:t>
            </a:r>
            <a:r>
              <a:rPr b="0" lang="ru-RU" sz="3600" spc="-1" strike="noStrike">
                <a:solidFill>
                  <a:srgbClr val="0070c0"/>
                </a:solidFill>
                <a:latin typeface="Monotype Corsiva"/>
              </a:rPr>
              <a:t>долгосрочный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Участники проекта: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Monotype Corsiva"/>
              </a:rPr>
              <a:t>воспитатели группы, дети, родители 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Monotype Corsiva"/>
              </a:rPr>
              <a:t>воспитан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9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Подготовительный эта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007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675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00b050"/>
                </a:solidFill>
                <a:latin typeface="Monotype Corsiva"/>
              </a:rPr>
              <a:t>Предложить детям вместе с родителями выбрать дома для музея деревянные игрушки, иллюстрации, стихи, песенки, книги. </a:t>
            </a:r>
            <a:br>
              <a:rPr sz="2700"/>
            </a:br>
            <a:r>
              <a:rPr b="1" lang="ru-RU" sz="2700" spc="-1" strike="noStrike">
                <a:solidFill>
                  <a:srgbClr val="00b050"/>
                </a:solidFill>
                <a:latin typeface="Monotype Corsiva"/>
              </a:rPr>
              <a:t>Объявление для родителей об организации мини-музея. Беседа с родителями о целях и задачах мини-музея в группе.</a:t>
            </a:r>
            <a:br>
              <a:rPr sz="2700"/>
            </a:br>
            <a:r>
              <a:rPr b="1" lang="ru-RU" sz="2700" spc="-1" strike="noStrike">
                <a:solidFill>
                  <a:srgbClr val="00b050"/>
                </a:solidFill>
                <a:latin typeface="Monotype Corsiv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9" descr="DSC01970.JPG"/>
          <p:cNvPicPr/>
          <p:nvPr/>
        </p:nvPicPr>
        <p:blipFill>
          <a:blip r:embed="rId6"/>
          <a:stretch/>
        </p:blipFill>
        <p:spPr>
          <a:xfrm>
            <a:off x="971640" y="2060640"/>
            <a:ext cx="3887640" cy="3316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9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Практическая ча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Разучивание стихов, загадок об игруш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Раскрашивание шаблонов матрешек, тарелоч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Д/и «Собери бусы» , «Собери матрешку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Итоговое мероприятие НОД «Деревянная игруш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создание мини-муз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9" descr="DSC02028.JPG"/>
          <p:cNvPicPr/>
          <p:nvPr/>
        </p:nvPicPr>
        <p:blipFill>
          <a:blip r:embed="rId10"/>
          <a:stretch/>
        </p:blipFill>
        <p:spPr>
          <a:xfrm>
            <a:off x="826920" y="2347920"/>
            <a:ext cx="366876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9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Деревянная игруш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007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7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Интерактивный мини-музей – это новый элемент в предметно- развивающей среде группы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В обычном музее зрители только созерцают, а в нашем музее можно брать экспонаты в руки, переставлять их с места на место, играть с н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Users\1\Desktop\музей\DSC02008.JPG"/>
          <p:cNvPicPr/>
          <p:nvPr/>
        </p:nvPicPr>
        <p:blipFill>
          <a:blip r:embed="rId12"/>
          <a:stretch/>
        </p:blipFill>
        <p:spPr>
          <a:xfrm>
            <a:off x="4572000" y="1700280"/>
            <a:ext cx="3816360" cy="47260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9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Результативност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66920" y="1844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Дети активно  проявляют интерес к деревянным игрушкам, исследуя и экспериментируя с н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деревянные игрушки обогащают чувственный опыт детей в разных видах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Деревянные игрушки формируют интерес к эстетической стороне окружающей действи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9" descr="DSC02049.JPG"/>
          <p:cNvPicPr/>
          <p:nvPr/>
        </p:nvPicPr>
        <p:blipFill>
          <a:blip r:embed="rId8"/>
          <a:stretch/>
        </p:blipFill>
        <p:spPr>
          <a:xfrm>
            <a:off x="1042920" y="4005360"/>
            <a:ext cx="3024360" cy="208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1\Desktop\музей\DSC01956.JPG"/>
          <p:cNvPicPr/>
          <p:nvPr/>
        </p:nvPicPr>
        <p:blipFill>
          <a:blip r:embed="rId9"/>
          <a:stretch/>
        </p:blipFill>
        <p:spPr>
          <a:xfrm>
            <a:off x="1332000" y="1773360"/>
            <a:ext cx="2747880" cy="206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272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05" name="Picture 8" descr="C:\Users\1\Desktop\nevkolobok-800x800.jpg"/>
          <p:cNvPicPr/>
          <p:nvPr/>
        </p:nvPicPr>
        <p:blipFill>
          <a:blip r:embed="rId5"/>
          <a:stretch/>
        </p:blipFill>
        <p:spPr>
          <a:xfrm>
            <a:off x="1619280" y="1557360"/>
            <a:ext cx="597708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жанна</cp:lastModifiedBy>
  <dcterms:modified xsi:type="dcterms:W3CDTF">2014-12-05T18:38:24Z</dcterms:modified>
  <cp:revision>26</cp:revision>
  <dc:subject/>
  <dc:title>Слайд 1</dc:title>
</cp:coreProperties>
</file>