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22B-EDEA-40A4-85D5-87FA7F7F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32E-1244-43E8-BD2D-BA497A63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526-DFE1-4477-B645-4DA251C0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77E-4F42-4F22-9699-DA5F357B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BB2-ACC3-494A-B3E0-8524967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0E9-D650-4A89-AD67-DEA659AD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8E0-5D00-42BF-8F46-05239FE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91F-A2BD-401A-9A6D-E51D623F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55C-00A5-43F9-A4E0-1287EBEC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577-EADC-4918-A2A3-860B784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76C-26EB-4F3C-8CD7-AB27F2B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95F-CFFA-4E9F-95D0-55E09A0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624-89D2-476E-B479-F29972F93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Decorlz"/>
              </a:rPr>
              <a:t>Деревянная игрушка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группа №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1\Desktop\52816.jpg"/>
          <p:cNvPicPr/>
          <p:nvPr/>
        </p:nvPicPr>
        <p:blipFill>
          <a:blip r:embed="rId4"/>
          <a:stretch/>
        </p:blipFill>
        <p:spPr>
          <a:xfrm>
            <a:off x="2484360" y="3860640"/>
            <a:ext cx="14590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Цель проек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Всестороннее развитие и приобщение детей к традициям нашего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организовать совместную деятельность родителей с деть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C:\Users\1\Desktop\музей\DSC01960.JPG"/>
          <p:cNvPicPr/>
          <p:nvPr/>
        </p:nvPicPr>
        <p:blipFill>
          <a:blip r:embed="rId11"/>
          <a:stretch/>
        </p:blipFill>
        <p:spPr>
          <a:xfrm>
            <a:off x="4643280" y="2421000"/>
            <a:ext cx="33721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задач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Развитие мелкой и крупной моторики р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Способствовать социально- эмоциональному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 разви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Способствовать активной игровой деятельности </a:t>
            </a: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ребенка;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Способствовать познавательной активности ребенка, развитию творчества, исследования и экспериментирования с игруш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C:\Users\1\Desktop\печатать музей\461.jpeg"/>
          <p:cNvPicPr/>
          <p:nvPr/>
        </p:nvPicPr>
        <p:blipFill>
          <a:blip r:embed="rId11"/>
          <a:stretch/>
        </p:blipFill>
        <p:spPr>
          <a:xfrm>
            <a:off x="4500720" y="4221000"/>
            <a:ext cx="3311280" cy="183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Деревянная игр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14" descr="DSC01964.JPG"/>
          <p:cNvPicPr/>
          <p:nvPr/>
        </p:nvPicPr>
        <p:blipFill>
          <a:blip r:embed="rId5"/>
          <a:stretch/>
        </p:blipFill>
        <p:spPr>
          <a:xfrm>
            <a:off x="3564000" y="2060640"/>
            <a:ext cx="468000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7"/>
          <p:cNvSpPr/>
          <p:nvPr/>
        </p:nvSpPr>
        <p:spPr>
          <a:xfrm>
            <a:off x="1042920" y="191628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Вид проекта- </a:t>
            </a: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долгосрочный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Участники проекта: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воспитатели группы, дети, родители 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воспитан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Подготовительный эта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75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b050"/>
                </a:solidFill>
                <a:latin typeface="Monotype Corsiva"/>
              </a:rPr>
              <a:t>Предложить детям вместе с родителями выбрать дома для музея деревянные игрушки, иллюстрации, стихи, песенки, книги. </a:t>
            </a:r>
            <a:br>
              <a:rPr sz="2700"/>
            </a:br>
            <a:r>
              <a:rPr b="1" lang="ru-RU" sz="2700" spc="-1" strike="noStrike">
                <a:solidFill>
                  <a:srgbClr val="00b050"/>
                </a:solidFill>
                <a:latin typeface="Monotype Corsiva"/>
              </a:rPr>
              <a:t>Объявление для родителей об организации мини-музея. Беседа с родителями о целях и задачах мини-музея в группе.</a:t>
            </a:r>
            <a:br>
              <a:rPr sz="2700"/>
            </a:br>
            <a:r>
              <a:rPr b="1" lang="ru-RU" sz="27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9" descr="DSC01970.JPG"/>
          <p:cNvPicPr/>
          <p:nvPr/>
        </p:nvPicPr>
        <p:blipFill>
          <a:blip r:embed="rId6"/>
          <a:stretch/>
        </p:blipFill>
        <p:spPr>
          <a:xfrm>
            <a:off x="971640" y="2060640"/>
            <a:ext cx="3887640" cy="331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Практическая ч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Разучивание стихов, загадок об игруш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Раскрашивание шаблонов матрешек, тарел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Д/и «Собери бусы» , «Собери матреш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Итоговое мероприятие НОД «Деревянная игр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создание мини-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9" descr="DSC02028.JPG"/>
          <p:cNvPicPr/>
          <p:nvPr/>
        </p:nvPicPr>
        <p:blipFill>
          <a:blip r:embed="rId10"/>
          <a:stretch/>
        </p:blipFill>
        <p:spPr>
          <a:xfrm>
            <a:off x="826920" y="2347920"/>
            <a:ext cx="366876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Деревянная игр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Интерактивный мини-музей – это новый элемент в предметно- развивающей среде групп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обычном музее зрители только созерцают, а в нашем музее можно брать экспонаты в руки, переставлять их с места на место, играть с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1\Desktop\музей\DSC02008.JPG"/>
          <p:cNvPicPr/>
          <p:nvPr/>
        </p:nvPicPr>
        <p:blipFill>
          <a:blip r:embed="rId12"/>
          <a:stretch/>
        </p:blipFill>
        <p:spPr>
          <a:xfrm>
            <a:off x="4572000" y="1700280"/>
            <a:ext cx="3816360" cy="4726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9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Результатив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6920" y="1844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ети активно  проявляют интерес к деревянным игрушкам, исследуя и экспериментируя с н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еревянные игрушки обогащают чувственный опыт детей в разных видах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Деревянные игрушки формируют интерес к эстетической стороне окружающей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9" descr="DSC02049.JPG"/>
          <p:cNvPicPr/>
          <p:nvPr/>
        </p:nvPicPr>
        <p:blipFill>
          <a:blip r:embed="rId8"/>
          <a:stretch/>
        </p:blipFill>
        <p:spPr>
          <a:xfrm>
            <a:off x="1042920" y="4005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1\Desktop\музей\DSC01956.JPG"/>
          <p:cNvPicPr/>
          <p:nvPr/>
        </p:nvPicPr>
        <p:blipFill>
          <a:blip r:embed="rId9"/>
          <a:stretch/>
        </p:blipFill>
        <p:spPr>
          <a:xfrm>
            <a:off x="1332000" y="1773360"/>
            <a:ext cx="2747880" cy="206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272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05" name="Picture 8" descr="C:\Users\1\Desktop\nevkolobok-800x800.jpg"/>
          <p:cNvPicPr/>
          <p:nvPr/>
        </p:nvPicPr>
        <p:blipFill>
          <a:blip r:embed="rId5"/>
          <a:stretch/>
        </p:blipFill>
        <p:spPr>
          <a:xfrm>
            <a:off x="1619280" y="1557360"/>
            <a:ext cx="597708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жанна</cp:lastModifiedBy>
  <dcterms:modified xsi:type="dcterms:W3CDTF">2014-12-05T18:38:24Z</dcterms:modified>
  <cp:revision>26</cp:revision>
  <dc:subject/>
  <dc:title>Слайд 1</dc:title>
</cp:coreProperties>
</file>