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CC3-5FEF-4D9B-8BCA-422EC027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FDA-4CEE-48EC-9DD1-1F3C69C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E5B-0A60-4DD2-B529-C99C39D8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357-FE97-4602-9709-28A6F8FE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F2D-EE38-4726-9F7C-1D11BAE4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390-5EDB-4B54-82E6-BD3BA213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CB3-ACA9-48F4-99E9-B08982A9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4DC-A053-486E-BE96-48520385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81A-011F-4DB1-93EB-0113BA9C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446-221F-471E-9A84-9F5C08D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F1A-C55A-441A-92D9-34F56F76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555-697B-4F33-8B0F-02CCABCA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7CAB-B6CC-4A0D-9AD0-2B2C6D13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ССЕ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 ОБЩЕСТВОЗНАНИЮ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краткие рекомендаци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ещ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ветствуются следующие дополнительные аргу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ая информация об авторе высказывания (например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. Кант, родоначальник немецкой классической философ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на его предшественников, последователей или научных против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ания различных точек зрения на проблему или различных подходов к ее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ния на многозначность используемых понятий и терминов с обоснованием того значения, в каком они применяются в э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ния на альтернативные варианты решения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ишите эссе по одной из 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илософия. «Все то, чего коснется человек, приобретает нечто человечье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С. Маршак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оциальная психология. «Нас формируют те поступки, которые мы совершаем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Аристотель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Экономика. «Судить об эффективности той или иной хозяйственной системы следует, сопоставляя ее с альтернативными вариантами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А. Смит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оциология. «Свобода есть право на неравенство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Н.А. Бердяев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литология. «Политическая свобода является высшим развитием свободы личной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Б.Н. Чичерин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авоведение. «Для граждан право является разрешением делать все, что не запрещено»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Л.Н. Толстой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э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700280"/>
            <a:ext cx="1368720" cy="936720"/>
          </a:xfrm>
          <a:prstGeom prst="rect">
            <a:avLst/>
          </a:prstGeom>
          <a:solidFill>
            <a:srgbClr val="e1f2f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1844640"/>
            <a:ext cx="3996000" cy="792360"/>
          </a:xfrm>
          <a:prstGeom prst="leftArrow">
            <a:avLst>
              <a:gd name="adj1" fmla="val 50000"/>
              <a:gd name="adj2" fmla="val 126079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exagium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взвешивани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555280" y="1413000"/>
            <a:ext cx="2160360" cy="1584360"/>
          </a:xfrm>
          <a:custGeom>
            <a:avLst/>
            <a:gdLst>
              <a:gd name="textAreaLeft" fmla="*/ -360 w 2160360"/>
              <a:gd name="textAreaRight" fmla="*/ 2160360 w 2160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р.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essa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ыт, проба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пытка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бросок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чер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3284640"/>
            <a:ext cx="7848720" cy="1439640"/>
          </a:xfrm>
          <a:prstGeom prst="rect">
            <a:avLst/>
          </a:prstGeom>
          <a:solidFill>
            <a:srgbClr val="e1f2f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заическое сочинение небольшого объема и свободной компози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ктующее частную тему и представляющее попытку перед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уальные впечатления и соображения, так или ин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ю связ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Краткая литературная энциклопед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869000"/>
            <a:ext cx="7848720" cy="1441440"/>
          </a:xfrm>
          <a:prstGeom prst="rect">
            <a:avLst/>
          </a:prstGeom>
          <a:solidFill>
            <a:srgbClr val="e1f2f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нр философской, литературно-критической, истори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графической, публицистической прозы, сочетающий подчеркну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ую позицию автора с непринужденным, ча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доксальным изложением, ориентированным на разговорную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Большой энциклопедический словар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268280"/>
            <a:ext cx="7632720" cy="648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НАЛИЧИЕ КОНКРЕТНОЙ ТЕМЫ ИЛИ В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56536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НЕБОЛЬШОЙ ОБЪ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21300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СВОБОДНАЯ КОМ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860640"/>
            <a:ext cx="7632720" cy="648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НЕПРИНУЖДЕННОСТЬ ПОВ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450864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АРАДОКС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5805360"/>
            <a:ext cx="7632720" cy="648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ОТКРЫТ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15772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ВНУТРЕННЕЕ СМЫСЛОВОЕ ЕДИ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916280"/>
            <a:ext cx="7632720" cy="6476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УБЪЕ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108000"/>
            <a:ext cx="6551640" cy="296640"/>
          </a:xfrm>
          <a:prstGeom prst="wedgeRectCallout">
            <a:avLst>
              <a:gd name="adj1" fmla="val 11449"/>
              <a:gd name="adj2" fmla="val 163370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 ЧТО ТАКОЕ ЭССЕ, НИКОГДА В ТОЧНОСТИ НЕ БЫЛО ОПРЕДЕЛ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ссе по обществознанию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ваемые элементы (ЕГЭ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844640"/>
          <a:ext cx="8229600" cy="3848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84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е собственной точки зрения (позиции, отношения) при раскрытии проблемы;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аскрытие проблемы на теоретическом уровне (в связях и с обоснованиями) или на бытовом уровне, с корректным использованием или без использования обществоведческих понятий в контексте ответа;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24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ация своей позиции с опорой на факты общественной жизни или собственный опыт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выбрать тему э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708280"/>
            <a:ext cx="7632720" cy="86508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 какими основными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ознания связана данная 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77336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нятен ли мне смысл высказывания, что хо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зать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716280"/>
            <a:ext cx="7632720" cy="79236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огласен ли я с приведенным высказыва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выразить свое отношение к н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465300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акие обществоведческие термины нужны м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мотного обоснования своей точки з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558972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акие привести примеры из ист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ой жизни, своего жизненного опы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. «Не искусству приобретать следует учиться, а искусству расходовать» (И. Стоб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1628640"/>
            <a:ext cx="7632720" cy="1224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нятен ли мне смысл высказывания, что хо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зать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2852640"/>
            <a:ext cx="7632720" cy="8654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 какими основными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ознания связана данная 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3716280"/>
            <a:ext cx="7632720" cy="504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огласен ли я с приведенным высказыва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4221000"/>
            <a:ext cx="7632720" cy="115128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акие обществоведческие термины нужны м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мотного обоснования своей точки з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373720"/>
            <a:ext cx="7632720" cy="11509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акие привести примеры из ист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ой жизни, своего жизненного опы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628640"/>
            <a:ext cx="7632720" cy="1224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втор утверждает, что потребителю 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ться рационально расходовать свои дох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жде чем приобретать товары 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852640"/>
            <a:ext cx="7632720" cy="86544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Речь идет о вопросах, связанных с эконом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3716280"/>
            <a:ext cx="7632720" cy="504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Я полностью согласен с данным высказыв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4221000"/>
            <a:ext cx="7632720" cy="115128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Термины: доходы и расходы, огранич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урсы, семейный бюджет, потребитель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дение, структура потребле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5373720"/>
            <a:ext cx="7632720" cy="11509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римеры: русские дворя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чала ХХ вв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шие «не по средствам»; не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овые русские» 199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413000"/>
            <a:ext cx="7272360" cy="647640"/>
          </a:xfrm>
          <a:prstGeom prst="bevel">
            <a:avLst>
              <a:gd name="adj" fmla="val 12500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айте смысл следующи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21000"/>
            <a:ext cx="7345440" cy="936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Элементы искусства неутомимо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льзу научных теорий» (О. Мандельшт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3500280"/>
            <a:ext cx="7345440" cy="936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ймите место и положение, подоба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, и все признают это» (Р. Эмер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653000"/>
            <a:ext cx="7345440" cy="93672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огресс – отец проблем» (Г. Честер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ть в контексте задания!!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знач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77336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ответствовать базовой науке, к ко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несена выбранная проб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2781360"/>
            <a:ext cx="7632720" cy="792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мотно определить круг подлежа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ению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3860640"/>
            <a:ext cx="7632720" cy="79236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Ясно выражать и аргументировать соб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проблемы и отношение к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941720"/>
            <a:ext cx="7632720" cy="122400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Использовать те термины, понятия, обобщ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кты, примеры, которые относятся к выбра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л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онтексте ли автор э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413000"/>
            <a:ext cx="7272360" cy="936360"/>
          </a:xfrm>
          <a:prstGeom prst="bevel">
            <a:avLst>
              <a:gd name="adj" fmla="val 12500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номика. «Не искусству приобретать следует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искусству расходовать» (И. Стоб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2349360"/>
            <a:ext cx="7129440" cy="417528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юди по своей натуре стремятся продавать и покупать. Купл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а свойственна не всем и не всем она легко д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легко покупают, но продают с трудом, а друг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кажется, что искусство расходовать во мне преоблад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искусством покупать. Нередко что-нибудь купив, я задум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юсь: а не обманули ли меня, не подсунули ли мне деше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лку. И меня всю дорогу мучает этот вопрос. Но в той ме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я начинаю наслаждаться качеством товара, мне станов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кой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звестно, продается и покупается не все на свете. Но не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ые люди так не думают. Такое мнение бытует среди тех,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о много денег, и они ошибаются. В мире есть вещи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одаются и не покупаются: здоровье, жизнь. Последнюю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е время уже, наверное, можно прод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21:35:52Z</dcterms:created>
  <dc:creator>Свечников С.К.</dc:creator>
  <dc:description/>
  <dc:language>en-US</dc:language>
  <cp:lastModifiedBy>Name</cp:lastModifiedBy>
  <dcterms:modified xsi:type="dcterms:W3CDTF">2012-01-09T15:21:41Z</dcterms:modified>
  <cp:revision>13</cp:revision>
  <dc:subject/>
  <dc:title>Как написать эссе по обществознанию</dc:title>
</cp:coreProperties>
</file>