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014D-2431-45F8-88A3-EDB854D44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5449-2CAB-4D4E-BF5A-7ED51A58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2B58-2184-4DCA-A96E-B0F92A447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71F5-6759-4A4E-B4ED-10F2FE3FD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546E-BE87-492D-977A-1F96658C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62EB-B690-487D-A71D-1E39A1B5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3646-684A-4978-8433-7CE47E6E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8138-40F7-4164-96AB-AB0CB9A2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4A15-153E-4BA5-B9D0-395134CE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0147-3F82-461F-9A9B-A841CD01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B8EF-A64C-4E49-B1BC-4DE83203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A120-83F0-4715-9AB6-697B671F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ABF1-832C-4CE3-B3C8-2133AA7AF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ЭССЕ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О ОБЩЕСТВОЗНАНИЮ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(краткие рекомендации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 ещ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ветствуются следующие дополнительные аргумен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аткая информация об авторе высказывания (например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. Кант, родоначальник немецкой классической философ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мена его предшественников, последователей или научных против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исания различных точек зрения на проблему или различных подходов к ее ре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казания на многозначность используемых понятий и терминов с обоснованием того значения, в каком они применяются в э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казания на альтернативные варианты решения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дание №3</a:t>
            </a: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пишите эссе по одной из т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Философия. «Все то, чего коснется человек, приобретает нечто человечье».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(С. Маршак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Социальная психология. «Нас формируют те поступки, которые мы совершаем».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(Аристотель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Экономика. «Судить об эффективности той или иной хозяйственной системы следует, сопоставляя ее с альтернативными вариантами».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(А. Смит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Социология. «Свобода есть право на неравенство».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(Н.А. Бердяев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Политология. «Политическая свобода является высшим развитием свободы личной».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(Б.Н. Чичерин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Правоведение. «Для граждан право является разрешением делать все, что не запрещено».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(Л.Н. Толстой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такое эсс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1700280"/>
            <a:ext cx="1368720" cy="936720"/>
          </a:xfrm>
          <a:prstGeom prst="rect">
            <a:avLst/>
          </a:prstGeom>
          <a:solidFill>
            <a:srgbClr val="e1f2f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716360" y="1844640"/>
            <a:ext cx="3996000" cy="792360"/>
          </a:xfrm>
          <a:prstGeom prst="leftArrow">
            <a:avLst>
              <a:gd name="adj1" fmla="val 50000"/>
              <a:gd name="adj2" fmla="val 126079"/>
            </a:avLst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Лат. 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exagium</a:t>
            </a: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 взвешивание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2555280" y="1413000"/>
            <a:ext cx="2160360" cy="1584360"/>
          </a:xfrm>
          <a:custGeom>
            <a:avLst/>
            <a:gdLst>
              <a:gd name="textAreaLeft" fmla="*/ -360 w 2160360"/>
              <a:gd name="textAreaRight" fmla="*/ 2160360 w 216036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Фр. 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essa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пыт, проба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пытка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абросок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черк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3284640"/>
            <a:ext cx="7848720" cy="1439640"/>
          </a:xfrm>
          <a:prstGeom prst="rect">
            <a:avLst/>
          </a:prstGeom>
          <a:solidFill>
            <a:srgbClr val="e1f2f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заическое сочинение небольшого объема и свободной композиц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актующее частную тему и представляющее попытку перед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дивидуальные впечатления и соображения, так или инач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нею связан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Краткая литературная энциклопедия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4869000"/>
            <a:ext cx="7848720" cy="1441440"/>
          </a:xfrm>
          <a:prstGeom prst="rect">
            <a:avLst/>
          </a:prstGeom>
          <a:solidFill>
            <a:srgbClr val="e1f2f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анр философской, литературно-критической, историк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графической, публицистической прозы, сочетающий подчеркну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видуальную позицию автора с непринужденным, ча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доксальным изложением, ориентированным на разговорную реч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Большой энциклопедический словарь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знаки э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1268280"/>
            <a:ext cx="7632720" cy="648000"/>
          </a:xfrm>
          <a:prstGeom prst="rect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НАЛИЧИЕ КОНКРЕТНОЙ ТЕМЫ ИЛИ ВОПР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5640" y="2565360"/>
            <a:ext cx="7632720" cy="647640"/>
          </a:xfrm>
          <a:prstGeom prst="rect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НЕБОЛЬШОЙ ОБЪ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3213000"/>
            <a:ext cx="7632720" cy="647640"/>
          </a:xfrm>
          <a:prstGeom prst="rect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СВОБОДНАЯ КОМПОЗИ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3860640"/>
            <a:ext cx="7632720" cy="648000"/>
          </a:xfrm>
          <a:prstGeom prst="rect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НЕПРИНУЖДЕННОСТЬ ПОВЕСТВ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4508640"/>
            <a:ext cx="7632720" cy="647640"/>
          </a:xfrm>
          <a:prstGeom prst="rect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ПАРАДОКСА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5805360"/>
            <a:ext cx="7632720" cy="648000"/>
          </a:xfrm>
          <a:prstGeom prst="rect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ОТКРЫТ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5157720"/>
            <a:ext cx="7632720" cy="647640"/>
          </a:xfrm>
          <a:prstGeom prst="rect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ВНУТРЕННЕЕ СМЫСЛОВОЕ ЕДИ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916280"/>
            <a:ext cx="7632720" cy="647640"/>
          </a:xfrm>
          <a:prstGeom prst="rect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СУБЪЕКТИВ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76360" y="108000"/>
            <a:ext cx="6551640" cy="296640"/>
          </a:xfrm>
          <a:prstGeom prst="wedgeRectCallout">
            <a:avLst>
              <a:gd name="adj1" fmla="val 11449"/>
              <a:gd name="adj2" fmla="val 163370"/>
            </a:avLst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О ЧТО ТАКОЕ ЭССЕ, НИКОГДА В ТОЧНОСТИ НЕ БЫЛО ОПРЕДЕЛЕ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ссе по обществознанию: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цениваемые элементы (ЕГЭ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68360" y="1844640"/>
          <a:ext cx="8229600" cy="384804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84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ление собственной точки зрения (позиции, отношения) при раскрытии проблемы;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раскрытие проблемы на теоретическом уровне (в связях и с обоснованиями) или на бытовом уровне, с корректным использованием или без использования обществоведческих понятий в контексте ответа;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гументация своей позиции с опорой на факты общественной жизни или собственный опыт.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 выбрать тему эсс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5640" y="2708280"/>
            <a:ext cx="7632720" cy="865080"/>
          </a:xfrm>
          <a:prstGeom prst="rect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С какими основными проблем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ществознания связана данная те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1773360"/>
            <a:ext cx="7632720" cy="792000"/>
          </a:xfrm>
          <a:prstGeom prst="rect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Понятен ли мне смысл высказывания, что хот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азать авто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5640" y="3716280"/>
            <a:ext cx="7632720" cy="792360"/>
          </a:xfrm>
          <a:prstGeom prst="rect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Согласен ли я с приведенным высказывание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выразить свое отношение к н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4653000"/>
            <a:ext cx="7632720" cy="792000"/>
          </a:xfrm>
          <a:prstGeom prst="rect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Какие обществоведческие термины нужны м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грамотного обоснования своей точки зр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5640" y="5589720"/>
            <a:ext cx="7632720" cy="792000"/>
          </a:xfrm>
          <a:prstGeom prst="rect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Какие привести примеры из истор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щественной жизни, своего жизненного опы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р</a:t>
            </a:r>
            <a:br>
              <a:rPr sz="4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ка. «Не искусству приобретать следует учиться, а искусству расходовать» (И. Стоб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5640" y="1628640"/>
            <a:ext cx="7632720" cy="1224000"/>
          </a:xfrm>
          <a:prstGeom prst="rect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Понятен ли мне смысл высказывания, что хот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азать авто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2852640"/>
            <a:ext cx="7632720" cy="865440"/>
          </a:xfrm>
          <a:prstGeom prst="rect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С какими основными проблем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ществознания связана данная те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5640" y="3716280"/>
            <a:ext cx="7632720" cy="504720"/>
          </a:xfrm>
          <a:prstGeom prst="rect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Согласен ли я с приведенным высказывани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4221000"/>
            <a:ext cx="7632720" cy="1151280"/>
          </a:xfrm>
          <a:prstGeom prst="rect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Какие обществоведческие термины нужны м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грамотного обоснования своей точки зр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5373720"/>
            <a:ext cx="7632720" cy="1150920"/>
          </a:xfrm>
          <a:prstGeom prst="rect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Какие привести примеры из истор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щественной жизни, своего жизненного опы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5640" y="1628640"/>
            <a:ext cx="7632720" cy="1224000"/>
          </a:xfrm>
          <a:prstGeom prst="rect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Автор утверждает, что потребителю необходим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учиться рационально расходовать свои доход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жде чем приобретать товары и услу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5640" y="2852640"/>
            <a:ext cx="7632720" cy="865440"/>
          </a:xfrm>
          <a:prstGeom prst="rect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Речь идет о вопросах, связанных с экономи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треб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5640" y="3716280"/>
            <a:ext cx="7632720" cy="504720"/>
          </a:xfrm>
          <a:prstGeom prst="rect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Я полностью согласен с данным высказыва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5640" y="4221000"/>
            <a:ext cx="7632720" cy="1151280"/>
          </a:xfrm>
          <a:prstGeom prst="rect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Термины: доходы и расходы, огранич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сурсы, семейный бюджет, потребитель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едение, структура потреблени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55640" y="5373720"/>
            <a:ext cx="7632720" cy="1150920"/>
          </a:xfrm>
          <a:prstGeom prst="rect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Примеры: русские дворян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ачала ХХ вв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вшие «не по средствам»; некотор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овые русские» 1990-х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ние №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6920" y="1413000"/>
            <a:ext cx="7272360" cy="647640"/>
          </a:xfrm>
          <a:prstGeom prst="bevel">
            <a:avLst>
              <a:gd name="adj" fmla="val 12500"/>
            </a:avLst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дайте смысл следующих высказыва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2421000"/>
            <a:ext cx="7345440" cy="936720"/>
          </a:xfrm>
          <a:prstGeom prst="rect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Элементы искусства неутомимо работ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ользу научных теорий» (О. Мандельшта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26920" y="3500280"/>
            <a:ext cx="7345440" cy="936720"/>
          </a:xfrm>
          <a:prstGeom prst="rect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Займите место и положение, подоба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м, и все признают это» (Р. Эмерсо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4653000"/>
            <a:ext cx="7345440" cy="936720"/>
          </a:xfrm>
          <a:prstGeom prst="rect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Прогресс – отец проблем» (Г. Честерто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ыть в контексте задания!!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то значи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1773360"/>
            <a:ext cx="7632720" cy="792000"/>
          </a:xfrm>
          <a:prstGeom prst="rect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Соответствовать базовой науке, к кото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несена выбранная пробле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5640" y="2781360"/>
            <a:ext cx="7632720" cy="792000"/>
          </a:xfrm>
          <a:prstGeom prst="rect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Грамотно определить круг подлежащ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смотрению вопро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5640" y="3860640"/>
            <a:ext cx="7632720" cy="792360"/>
          </a:xfrm>
          <a:prstGeom prst="rect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Ясно выражать и аргументировать собстве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нимание проблемы и отношение к 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4941720"/>
            <a:ext cx="7632720" cy="1224000"/>
          </a:xfrm>
          <a:prstGeom prst="rect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Использовать те термины, понятия, обобще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акты, примеры, которые относятся к выбра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бл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дание №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контексте ли автор эсс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413000"/>
            <a:ext cx="7272360" cy="936360"/>
          </a:xfrm>
          <a:prstGeom prst="bevel">
            <a:avLst>
              <a:gd name="adj" fmla="val 12500"/>
            </a:avLst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ономика. «Не искусству приобретать следует учить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искусству расходовать» (И. Стоб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71640" y="2349360"/>
            <a:ext cx="7129440" cy="4175280"/>
          </a:xfrm>
          <a:prstGeom prst="rect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Люди по своей натуре стремятся продавать и покупать. Купля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ажа свойственна не всем и не всем она легко дае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которые легко покупают, но продают с трудом, а другие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обор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 кажется, что искусство расходовать во мне преоблад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 искусством покупать. Нередко что-нибудь купив, я задумы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юсь: а не обманули ли меня, не подсунули ли мне дешев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делку. И меня всю дорогу мучает этот вопрос. Но в той мер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я начинаю наслаждаться качеством товара, мне станови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койн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известно, продается и покупается не все на свете. Но нек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рые люди так не думают. Такое мнение бытует среди тех, 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о много денег, и они ошибаются. В мире есть вещи, котор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продаются и не покупаются: здоровье, жизнь. Последнюю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ше время уже, наверное, можно продат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21:35:52Z</dcterms:created>
  <dc:creator>Свечников С.К.</dc:creator>
  <dc:description/>
  <dc:language>en-US</dc:language>
  <cp:lastModifiedBy>Name</cp:lastModifiedBy>
  <dcterms:modified xsi:type="dcterms:W3CDTF">2012-01-09T15:21:41Z</dcterms:modified>
  <cp:revision>13</cp:revision>
  <dc:subject/>
  <dc:title>Как написать эссе по обществознанию</dc:title>
</cp:coreProperties>
</file>