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615-B96C-4FB5-93D6-5403AC13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CFA2-D704-4E32-BF23-39758D00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1A34-940C-4400-8C83-7DF5DED9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35C-E5AB-4071-9A43-F00484FB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22D-94D4-481F-A71D-9CFC11F1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B2B-3A58-47A4-AEFE-D5ECA62E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9F6F-A03C-4EC5-B1F7-BBE1898A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E6E8-22F1-4DE9-A355-DD545627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E3D-6974-44D4-8989-E95D878D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CF8-BA45-440D-9BF8-D3F2452B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06AD-8F9C-4156-8C56-108BBC34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5D43-ADBA-498E-AB1B-3EC56297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b9b8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1581-07FC-4E3C-AE8E-52587667692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00040" y="357120"/>
            <a:ext cx="81439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Физические величины. </a:t>
            </a:r>
            <a:br>
              <a:rPr sz="4800"/>
            </a:b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змерение физических величин. </a:t>
            </a:r>
            <a:br>
              <a:rPr sz="4800"/>
            </a:b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Нейман Татьяна Павлов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Учитель физики и математи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МБОУ «СОШ» пст.  Мадма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201</a:t>
            </a:r>
            <a:r>
              <a:rPr b="1" lang="en-US" sz="1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3</a:t>
            </a:r>
            <a:r>
              <a:rPr b="1" lang="ru-RU" sz="1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68360" y="333360"/>
            <a:ext cx="35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226800"/>
            <a:ext cx="82152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Физические велич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3840" y="980640"/>
            <a:ext cx="85726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Физические величины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это характеристики тел или процессов, которые могут быть измерены на опы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39640" y="3429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24000" y="422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84360" y="32846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39640" y="2781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дл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11280" y="3860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площад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484360" y="32846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объ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851280" y="4149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5148360" y="3645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6588000" y="28526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мас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13"/>
          <p:cNvSpPr/>
          <p:nvPr/>
        </p:nvSpPr>
        <p:spPr>
          <a:xfrm flipH="1">
            <a:off x="1258560" y="256536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14"/>
          <p:cNvSpPr/>
          <p:nvPr/>
        </p:nvSpPr>
        <p:spPr>
          <a:xfrm flipH="1">
            <a:off x="2124000" y="2565360"/>
            <a:ext cx="720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15"/>
          <p:cNvSpPr/>
          <p:nvPr/>
        </p:nvSpPr>
        <p:spPr>
          <a:xfrm flipH="1">
            <a:off x="3419640" y="2565360"/>
            <a:ext cx="1425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4356000" y="2637000"/>
            <a:ext cx="360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5435640" y="2708280"/>
            <a:ext cx="1008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6948360" y="256536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3286080" y="464328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357120" y="5057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Arial"/>
              </a:rPr>
              <a:t>Какие из приведенных ниже терминов обозначают физические величин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м, глубина озера, высота дома, объем воды, холод, скорость поезда, автомобиль, длинная линейк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0535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Единицы измер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191280" y="1196640"/>
            <a:ext cx="29527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В международной системе единиц (СИ – система интернациональная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Ед. длины –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етр</a:t>
            </a: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ед. времени –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екунда</a:t>
            </a: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ед. массы –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илограмм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{87CB5332-D3A3-48E3-AA0F-365167E6F970}"/>
          <p:cNvPicPr/>
          <p:nvPr/>
        </p:nvPicPr>
        <p:blipFill>
          <a:blip r:embed="rId1"/>
          <a:stretch/>
        </p:blipFill>
        <p:spPr>
          <a:xfrm>
            <a:off x="388800" y="1139760"/>
            <a:ext cx="5838840" cy="53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0" y="191628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572000" y="1844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4200" y="2857680"/>
          <a:ext cx="8720280" cy="3500280"/>
        </p:xfrm>
        <a:graphic>
          <a:graphicData uri="http://schemas.openxmlformats.org/drawingml/2006/table">
            <a:tbl>
              <a:tblPr/>
              <a:tblGrid>
                <a:gridCol w="1995840"/>
                <a:gridCol w="2232000"/>
                <a:gridCol w="216000"/>
                <a:gridCol w="2127600"/>
                <a:gridCol w="2148840"/>
              </a:tblGrid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Приставка</a:t>
                      </a: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Множитель</a:t>
                      </a:r>
                      <a:r>
                        <a:rPr b="0" lang="ru-RU" sz="24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Пристав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Множител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га (М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ило (к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екто (г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 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кро(м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лли (м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нти (с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0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64"/>
          <p:cNvSpPr/>
          <p:nvPr/>
        </p:nvSpPr>
        <p:spPr>
          <a:xfrm>
            <a:off x="500040" y="285840"/>
            <a:ext cx="8001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ля измерения различных величин намного больше принятой единицы измерения используют кратные приставки. Их названия взяты из греческого язы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ля обозначения величин намного меньше принятой единицы измерения используют дольные приставки. Их названия взяты из латинского язы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99800" y="2714400"/>
            <a:ext cx="5357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имеры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5280" y="1341360"/>
            <a:ext cx="803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ил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р = 1 км = 1000 м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ил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кунда=1 мс=0,001 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979640" y="4005360"/>
            <a:ext cx="201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кг = … 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гс = … 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003640" y="4005360"/>
            <a:ext cx="20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см = … 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мг = … 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5"/>
          <p:cNvSpPr/>
          <p:nvPr/>
        </p:nvSpPr>
        <p:spPr>
          <a:xfrm>
            <a:off x="285840" y="285840"/>
            <a:ext cx="85723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змерения физических величин и проведения опытов используются различные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ие прибор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ые устройства, которые предназначены для измерения физических величин и проведения опытов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и простыми и часто встречающимися измерительными приборами являются линейки и термометры. Для измерения объемов жидкостей и небольших твердых тел пользуются мензурк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6" descr="{6E1028B3-9430-4AE7-8148-ED94D03CA6BB}"/>
          <p:cNvPicPr/>
          <p:nvPr/>
        </p:nvPicPr>
        <p:blipFill>
          <a:blip r:embed="rId1"/>
          <a:stretch/>
        </p:blipFill>
        <p:spPr>
          <a:xfrm>
            <a:off x="1000080" y="2500200"/>
            <a:ext cx="7243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{144F2932-1C07-46EC-BCD1-AFEBD566FED6}"/>
          <p:cNvPicPr/>
          <p:nvPr/>
        </p:nvPicPr>
        <p:blipFill>
          <a:blip r:embed="rId1"/>
          <a:stretch/>
        </p:blipFill>
        <p:spPr>
          <a:xfrm>
            <a:off x="642960" y="1571760"/>
            <a:ext cx="7862760" cy="49291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285840" y="21420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ы, предназначенные для измерения одной и той же физической величины, например, объема, могут иметь различную цену дел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{6F4F0E34-98FA-42CB-8B04-1EE78FF0CE13}"/>
          <p:cNvPicPr/>
          <p:nvPr/>
        </p:nvPicPr>
        <p:blipFill>
          <a:blip r:embed="rId1"/>
          <a:stretch/>
        </p:blipFill>
        <p:spPr>
          <a:xfrm>
            <a:off x="714240" y="1500120"/>
            <a:ext cx="7786800" cy="4821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85840" y="21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змерения различных физических величин используют самые разнообразные приборы. Такие, например, как часы, весы, транспортиры, барометры и ампермет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Шкала приб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81000"/>
            <a:ext cx="87868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измерительных приборах нанесены при помощи штрихов деления и написаны значения величин, соответствующие делениям. Интервалы между штрихами, около которых написаны числовые значения, могут быть дополнительно разделены на несколько делений, не обозначенных числ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{6E1028B3-9430-4AE7-8148-ED94D03CA6BB}"/>
          <p:cNvPicPr/>
          <p:nvPr/>
        </p:nvPicPr>
        <p:blipFill>
          <a:blip r:embed="rId1"/>
          <a:stretch/>
        </p:blipFill>
        <p:spPr>
          <a:xfrm>
            <a:off x="500040" y="3357720"/>
            <a:ext cx="1247760" cy="876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12"/>
          <p:cNvPicPr/>
          <p:nvPr/>
        </p:nvPicPr>
        <p:blipFill>
          <a:blip r:embed="rId2"/>
          <a:stretch/>
        </p:blipFill>
        <p:spPr>
          <a:xfrm>
            <a:off x="2500200" y="3643200"/>
            <a:ext cx="1285920" cy="1133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13"/>
          <p:cNvPicPr/>
          <p:nvPr/>
        </p:nvPicPr>
        <p:blipFill>
          <a:blip r:embed="rId3"/>
          <a:stretch/>
        </p:blipFill>
        <p:spPr>
          <a:xfrm>
            <a:off x="4211640" y="3429000"/>
            <a:ext cx="1504800" cy="942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14"/>
          <p:cNvPicPr/>
          <p:nvPr/>
        </p:nvPicPr>
        <p:blipFill>
          <a:blip r:embed="rId4"/>
          <a:stretch/>
        </p:blipFill>
        <p:spPr>
          <a:xfrm>
            <a:off x="3429000" y="5143680"/>
            <a:ext cx="1704960" cy="923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15"/>
          <p:cNvPicPr/>
          <p:nvPr/>
        </p:nvPicPr>
        <p:blipFill>
          <a:blip r:embed="rId5"/>
          <a:stretch/>
        </p:blipFill>
        <p:spPr>
          <a:xfrm>
            <a:off x="857160" y="4857840"/>
            <a:ext cx="1128960" cy="1236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16"/>
          <p:cNvPicPr/>
          <p:nvPr/>
        </p:nvPicPr>
        <p:blipFill>
          <a:blip r:embed="rId6"/>
          <a:stretch/>
        </p:blipFill>
        <p:spPr>
          <a:xfrm>
            <a:off x="6429240" y="3214800"/>
            <a:ext cx="2086200" cy="1171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17"/>
          <p:cNvPicPr/>
          <p:nvPr/>
        </p:nvPicPr>
        <p:blipFill>
          <a:blip r:embed="rId7"/>
          <a:stretch/>
        </p:blipFill>
        <p:spPr>
          <a:xfrm>
            <a:off x="5786280" y="4643280"/>
            <a:ext cx="26006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6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214200" y="285840"/>
            <a:ext cx="3997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Задание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делений изображено на отрезк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214200" y="2205000"/>
            <a:ext cx="414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Задание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количество делений на отрезках «а» и «б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285840" y="4000680"/>
            <a:ext cx="3925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Задание 3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 счет чисел на отрезк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14" descr=""/>
          <p:cNvPicPr/>
          <p:nvPr/>
        </p:nvPicPr>
        <p:blipFill>
          <a:blip r:embed="rId1"/>
          <a:stretch/>
        </p:blipFill>
        <p:spPr>
          <a:xfrm>
            <a:off x="4572000" y="214200"/>
            <a:ext cx="4073400" cy="1992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"/>
          <p:cNvPicPr/>
          <p:nvPr/>
        </p:nvPicPr>
        <p:blipFill>
          <a:blip r:embed="rId2"/>
          <a:stretch/>
        </p:blipFill>
        <p:spPr>
          <a:xfrm>
            <a:off x="5724360" y="2565360"/>
            <a:ext cx="1633680" cy="1736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"/>
          <p:cNvPicPr/>
          <p:nvPr/>
        </p:nvPicPr>
        <p:blipFill>
          <a:blip r:embed="rId3"/>
          <a:stretch/>
        </p:blipFill>
        <p:spPr>
          <a:xfrm>
            <a:off x="285840" y="5429160"/>
            <a:ext cx="835812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ЦЕНА 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два ближайших штриха шкалы, около которых написаны числовые значе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большего значения вычесть меньше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ое число разделить на число делений, между этими числ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00040" y="981000"/>
            <a:ext cx="8143920" cy="49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7609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Какие из перечисленных явлений относятся к физически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ипела вода в чайнике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локо прокисло в стакане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ечи сгорели дрова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лавка притянулась к намагниченным ножницам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ьной нож заржавел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е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пустился подснежник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ж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звенел звонок на урок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5"/>
          <p:cNvSpPr/>
          <p:nvPr/>
        </p:nvSpPr>
        <p:spPr>
          <a:xfrm>
            <a:off x="324000" y="2133720"/>
            <a:ext cx="40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Цена деления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95280" y="29242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300 мл – 200м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395280" y="342900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547640" y="3573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708360" y="3141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= 10 м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10" descr="19}"/>
          <p:cNvPicPr/>
          <p:nvPr/>
        </p:nvPicPr>
        <p:blipFill>
          <a:blip r:embed="rId1"/>
          <a:stretch/>
        </p:blipFill>
        <p:spPr>
          <a:xfrm>
            <a:off x="5500800" y="642960"/>
            <a:ext cx="31431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пределите цену деления</a:t>
            </a:r>
            <a:r>
              <a:rPr b="0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8" descr="16"/>
          <p:cNvPicPr/>
          <p:nvPr/>
        </p:nvPicPr>
        <p:blipFill>
          <a:blip r:embed="rId1"/>
          <a:stretch/>
        </p:blipFill>
        <p:spPr>
          <a:xfrm>
            <a:off x="4643280" y="4000680"/>
            <a:ext cx="3956040" cy="2214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{6E1028B3-9430-4AE7-8148-ED94D03CA6BB}"/>
          <p:cNvPicPr/>
          <p:nvPr/>
        </p:nvPicPr>
        <p:blipFill>
          <a:blip r:embed="rId2"/>
          <a:stretch/>
        </p:blipFill>
        <p:spPr>
          <a:xfrm>
            <a:off x="398520" y="4005360"/>
            <a:ext cx="3813120" cy="2281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12"/>
          <p:cNvPicPr/>
          <p:nvPr/>
        </p:nvPicPr>
        <p:blipFill>
          <a:blip r:embed="rId3"/>
          <a:stretch/>
        </p:blipFill>
        <p:spPr>
          <a:xfrm>
            <a:off x="285840" y="907920"/>
            <a:ext cx="2630520" cy="2598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15"/>
          <p:cNvPicPr/>
          <p:nvPr/>
        </p:nvPicPr>
        <p:blipFill>
          <a:blip r:embed="rId4"/>
          <a:stretch/>
        </p:blipFill>
        <p:spPr>
          <a:xfrm>
            <a:off x="6448320" y="907920"/>
            <a:ext cx="2432160" cy="2664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13"/>
          <p:cNvPicPr/>
          <p:nvPr/>
        </p:nvPicPr>
        <p:blipFill>
          <a:blip r:embed="rId5"/>
          <a:stretch/>
        </p:blipFill>
        <p:spPr>
          <a:xfrm>
            <a:off x="3286080" y="907920"/>
            <a:ext cx="2933640" cy="27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19}"/>
          <p:cNvPicPr/>
          <p:nvPr/>
        </p:nvPicPr>
        <p:blipFill>
          <a:blip r:embed="rId1"/>
          <a:stretch/>
        </p:blipFill>
        <p:spPr>
          <a:xfrm>
            <a:off x="5688000" y="1123920"/>
            <a:ext cx="2955960" cy="49039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357120" y="1484280"/>
            <a:ext cx="478656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ъем жидкости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00 мл + 6 *10 мл = 160 м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14200" y="3284640"/>
            <a:ext cx="4718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Задание: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ите цену деления, какие значения показывают приборы? (стр. 135, </a:t>
            </a:r>
            <a:r>
              <a:rPr b="1" lang="en-US" sz="2400" spc="-1" strike="noStrike">
                <a:solidFill>
                  <a:srgbClr val="17375e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17375e"/>
                </a:solidFill>
                <a:latin typeface="Tahoma"/>
              </a:rPr>
              <a:t> 1, 3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3840" y="499680"/>
            <a:ext cx="2359080" cy="27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{8D182C98-BBB0-4555-8130-9DCC2AC437C7}"/>
          <p:cNvPicPr/>
          <p:nvPr/>
        </p:nvPicPr>
        <p:blipFill>
          <a:blip r:embed="rId1"/>
          <a:stretch/>
        </p:blipFill>
        <p:spPr>
          <a:xfrm>
            <a:off x="714240" y="1857240"/>
            <a:ext cx="7677360" cy="4546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700360" y="428760"/>
            <a:ext cx="56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е способ определения объема твердого тела, если в вашем распоряжении имеется мензурка с вод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5"/>
          <p:cNvSpPr/>
          <p:nvPr/>
        </p:nvSpPr>
        <p:spPr>
          <a:xfrm>
            <a:off x="714240" y="571680"/>
            <a:ext cx="774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объем твердого те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6" descr="Определение объема тела неправильной формы"/>
          <p:cNvPicPr/>
          <p:nvPr/>
        </p:nvPicPr>
        <p:blipFill>
          <a:blip r:embed="rId1"/>
          <a:stretch/>
        </p:blipFill>
        <p:spPr>
          <a:xfrm>
            <a:off x="1643040" y="1643040"/>
            <a:ext cx="5786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32523"/>
                </a:solidFill>
                <a:uFillTx/>
                <a:latin typeface="Times New Roman"/>
                <a:ea typeface="Times New Roman"/>
              </a:rPr>
              <a:t>ПОГРЕШ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42960" y="691920"/>
            <a:ext cx="785808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сточниками погрешностей при измерениях являю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неточность самих измерительных приборо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пособ снятия показаний с прибор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непостоянство измеряемой величи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{500A077C-5F2F-4C17-A5DB-5A5D85D14DF4}"/>
          <p:cNvPicPr/>
          <p:nvPr/>
        </p:nvPicPr>
        <p:blipFill>
          <a:blip r:embed="rId1"/>
          <a:stretch/>
        </p:blipFill>
        <p:spPr>
          <a:xfrm>
            <a:off x="4775040" y="3000240"/>
            <a:ext cx="3824280" cy="3056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SC01003"/>
          <p:cNvPicPr/>
          <p:nvPr/>
        </p:nvPicPr>
        <p:blipFill>
          <a:blip r:embed="rId2"/>
          <a:stretch/>
        </p:blipFill>
        <p:spPr>
          <a:xfrm>
            <a:off x="928800" y="2571840"/>
            <a:ext cx="3571920" cy="166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DSC01006"/>
          <p:cNvPicPr/>
          <p:nvPr/>
        </p:nvPicPr>
        <p:blipFill>
          <a:blip r:embed="rId3"/>
          <a:stretch/>
        </p:blipFill>
        <p:spPr>
          <a:xfrm>
            <a:off x="1000080" y="4429080"/>
            <a:ext cx="338940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250920" y="189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огрешность измерений равна половине цены деления шкалы измерительного прибора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rcRect l="7176" t="39174" r="3127" b="43102"/>
          <a:stretch/>
        </p:blipFill>
        <p:spPr>
          <a:xfrm>
            <a:off x="179280" y="1341360"/>
            <a:ext cx="8748720" cy="1297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2"/>
          <a:srcRect l="69190" t="39174" r="8808" b="43102"/>
          <a:stretch/>
        </p:blipFill>
        <p:spPr>
          <a:xfrm>
            <a:off x="4643280" y="2924280"/>
            <a:ext cx="4319640" cy="26114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285840" y="2852640"/>
            <a:ext cx="399888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Tahoma"/>
              </a:rPr>
              <a:t>Длина карандаша</a:t>
            </a:r>
            <a:r>
              <a:rPr b="1" lang="ru-RU" sz="2000" spc="-1" strike="noStrike">
                <a:solidFill>
                  <a:srgbClr val="632523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632523"/>
                </a:solidFill>
                <a:latin typeface="Tahoma"/>
              </a:rPr>
              <a:t>l</a:t>
            </a:r>
            <a:r>
              <a:rPr b="1" i="1" lang="ru-RU" sz="2000" spc="-1" strike="noStrike">
                <a:solidFill>
                  <a:srgbClr val="63252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632523"/>
                </a:solidFill>
                <a:latin typeface="Tahoma"/>
              </a:rPr>
              <a:t>=13,7 с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Tahoma"/>
              </a:rPr>
              <a:t>Погрешность измерения равна</a:t>
            </a:r>
            <a:r>
              <a:rPr b="1" lang="ru-RU" sz="2000" spc="-1" strike="noStrike">
                <a:solidFill>
                  <a:srgbClr val="63252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632523"/>
                </a:solidFill>
                <a:latin typeface="Tahoma"/>
                <a:ea typeface="Tahoma"/>
              </a:rPr>
              <a:t>∆</a:t>
            </a:r>
            <a:r>
              <a:rPr b="1" i="1" lang="en-US" sz="2000" spc="-1" strike="noStrike">
                <a:solidFill>
                  <a:srgbClr val="632523"/>
                </a:solidFill>
                <a:latin typeface="Tahoma"/>
                <a:ea typeface="Tahoma"/>
              </a:rPr>
              <a:t>l=</a:t>
            </a:r>
            <a:r>
              <a:rPr b="1" lang="ru-RU" sz="2000" spc="-1" strike="noStrike">
                <a:solidFill>
                  <a:srgbClr val="632523"/>
                </a:solidFill>
                <a:latin typeface="Tahoma"/>
              </a:rPr>
              <a:t>0,5 мм</a:t>
            </a:r>
            <a:r>
              <a:rPr b="1" lang="en-US" sz="2000" spc="-1" strike="noStrike">
                <a:solidFill>
                  <a:srgbClr val="632523"/>
                </a:solidFill>
                <a:latin typeface="Tahoma"/>
              </a:rPr>
              <a:t>=</a:t>
            </a:r>
            <a:r>
              <a:rPr b="1" lang="ru-RU" sz="2000" spc="-1" strike="noStrike">
                <a:solidFill>
                  <a:srgbClr val="632523"/>
                </a:solidFill>
                <a:latin typeface="Tahoma"/>
              </a:rPr>
              <a:t>0,05 с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Tahoma"/>
              </a:rPr>
              <a:t>Длину карандаша можно записа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32523"/>
                </a:solidFill>
                <a:latin typeface="Tahoma"/>
              </a:rPr>
              <a:t>              </a:t>
            </a:r>
            <a:r>
              <a:rPr b="1" i="1" lang="en-US" sz="2400" spc="-1" strike="noStrike">
                <a:solidFill>
                  <a:srgbClr val="632523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632523"/>
                </a:solidFill>
                <a:latin typeface="Tahoma"/>
              </a:rPr>
              <a:t>=(</a:t>
            </a:r>
            <a:r>
              <a:rPr b="1" i="1" lang="en-US" sz="2400" spc="-1" strike="noStrike">
                <a:solidFill>
                  <a:srgbClr val="632523"/>
                </a:solidFill>
                <a:latin typeface="Tahoma"/>
              </a:rPr>
              <a:t>l </a:t>
            </a:r>
            <a:r>
              <a:rPr b="1" lang="en-US" sz="2400" spc="-1" strike="noStrike">
                <a:solidFill>
                  <a:srgbClr val="632523"/>
                </a:solidFill>
                <a:latin typeface="Tahoma"/>
                <a:ea typeface="Tahoma"/>
              </a:rPr>
              <a:t>± ∆</a:t>
            </a:r>
            <a:r>
              <a:rPr b="1" i="1" lang="en-US" sz="2400" spc="-1" strike="noStrike">
                <a:solidFill>
                  <a:srgbClr val="632523"/>
                </a:solidFill>
                <a:latin typeface="Tahoma"/>
                <a:ea typeface="Tahoma"/>
              </a:rPr>
              <a:t>l</a:t>
            </a:r>
            <a:r>
              <a:rPr b="1" lang="en-US" sz="2400" spc="-1" strike="noStrike">
                <a:solidFill>
                  <a:srgbClr val="632523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357120" y="5715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ahoma"/>
              </a:rPr>
              <a:t>L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=(13,7 ± 0,05)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4772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крепл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85840" y="1214280"/>
            <a:ext cx="850104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ведите примеры физических велич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ьте по рис. 6 – 9 (стр. 8) учебника смысловые пары по принципу «название прибора – измеряемая величин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ясните словами, что такое шкала приб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нужно сделать, чтобы определить цену деления измерительного прибор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4, 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.1 стр.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.1 стр.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ть на вопросы после параграф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9280" y="5018040"/>
          <a:ext cx="8785440" cy="1004760"/>
        </p:xfrm>
        <a:graphic>
          <a:graphicData uri="http://schemas.openxmlformats.org/drawingml/2006/table">
            <a:tbl>
              <a:tblPr/>
              <a:tblGrid>
                <a:gridCol w="2109960"/>
                <a:gridCol w="1522440"/>
                <a:gridCol w="1452600"/>
                <a:gridCol w="2212920"/>
                <a:gridCol w="14875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еханическ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еплов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вуков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лектрическ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ветов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3"/>
          <p:cNvSpPr/>
          <p:nvPr/>
        </p:nvSpPr>
        <p:spPr>
          <a:xfrm>
            <a:off x="285840" y="907920"/>
            <a:ext cx="8572320" cy="56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76092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 таблицу впишите номера словосочетаний, относящихся к … явлениям:</a:t>
            </a:r>
            <a:r>
              <a:rPr b="0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ар катится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инец плавится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ае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ышны раскаты грома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ятник часов колеблется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6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езды мерцаю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7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а кипи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8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тупает рассве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9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хо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0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ывет бревно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1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тае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2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лака движутся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3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оза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4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тит голубь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5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еркает молния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6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елестит трава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7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рит электрическая лампа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0040" y="907920"/>
            <a:ext cx="78580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749"/>
              </a:spcBef>
              <a:buClr>
                <a:srgbClr val="37609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ачертите таблицу и распределите в ней номера следующих слов:</a:t>
            </a:r>
            <a:r>
              <a:rPr b="0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 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инец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ом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льсы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уна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астмасса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6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люминий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7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актор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8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ипение,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9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0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кета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1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ран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2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воднение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3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толе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4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сфаль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5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л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6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ребр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476360" y="3500280"/>
          <a:ext cx="6095880" cy="18018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е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ещ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я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28"/>
          <p:cNvSpPr/>
          <p:nvPr/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42600" y="1413000"/>
            <a:ext cx="764388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етним утром на траве обнаружили капельки росы. На наружной стороне специально охлаждаемого металлического сосуда получены капельки влаги. В каком случае явление образования росы изучалось путем наблюдения, а в каком – путем постановки опы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468360" y="28908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оверя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71680" y="981000"/>
            <a:ext cx="792936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437"/>
              </a:spcBef>
              <a:buClr>
                <a:srgbClr val="37609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Какие из перечисленных явлений относятся к физическим: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а)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ипела вода в чайнике;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б)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локо прокисло в стакане;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в)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ечи сгорели дрова;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)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лавка притянулась к намагниченным ножницам;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)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ьной нож заржавел;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е)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пустился подснежник;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ж)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звенел звонок на урок?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ая соединительная линия 7"/>
          <p:cNvSpPr/>
          <p:nvPr/>
        </p:nvSpPr>
        <p:spPr>
          <a:xfrm>
            <a:off x="642960" y="2000160"/>
            <a:ext cx="3429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570960" y="3061440"/>
            <a:ext cx="3143160" cy="9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ая соединительная линия 11"/>
          <p:cNvSpPr/>
          <p:nvPr/>
        </p:nvSpPr>
        <p:spPr>
          <a:xfrm>
            <a:off x="642960" y="3643200"/>
            <a:ext cx="66438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Прямая соединительная линия 13"/>
          <p:cNvSpPr/>
          <p:nvPr/>
        </p:nvSpPr>
        <p:spPr>
          <a:xfrm>
            <a:off x="642960" y="5214960"/>
            <a:ext cx="3786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оверя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9280" y="4869000"/>
          <a:ext cx="8785440" cy="1442880"/>
        </p:xfrm>
        <a:graphic>
          <a:graphicData uri="http://schemas.openxmlformats.org/drawingml/2006/table">
            <a:tbl>
              <a:tblPr/>
              <a:tblGrid>
                <a:gridCol w="2109960"/>
                <a:gridCol w="1522440"/>
                <a:gridCol w="1452600"/>
                <a:gridCol w="2214360"/>
                <a:gridCol w="1486080"/>
              </a:tblGrid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еханическ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еплов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вуков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лектрическ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ветов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3"/>
          <p:cNvSpPr/>
          <p:nvPr/>
        </p:nvSpPr>
        <p:spPr>
          <a:xfrm>
            <a:off x="500040" y="907920"/>
            <a:ext cx="8143920" cy="56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76092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 таблицу впишите номера словосочетаний, относящихся к … явлениям:</a:t>
            </a:r>
            <a:r>
              <a:rPr b="0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ар катится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инец плавится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ае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ышны раскаты грома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ятник часов колеблется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6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езды мерцаю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7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а кипи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8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тупает рассве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9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хо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0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ывет бревно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1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тает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2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лака движутся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3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оза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4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тит голубь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5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еркает молния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6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елестит трава, </a:t>
            </a:r>
            <a:r>
              <a:rPr b="0" lang="ru-RU" sz="2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7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рит электрическая лампа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 Box 71"/>
          <p:cNvSpPr/>
          <p:nvPr/>
        </p:nvSpPr>
        <p:spPr>
          <a:xfrm>
            <a:off x="17928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 Box 72"/>
          <p:cNvSpPr/>
          <p:nvPr/>
        </p:nvSpPr>
        <p:spPr>
          <a:xfrm>
            <a:off x="53964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 Box 73"/>
          <p:cNvSpPr/>
          <p:nvPr/>
        </p:nvSpPr>
        <p:spPr>
          <a:xfrm>
            <a:off x="826920" y="53737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 Box 74"/>
          <p:cNvSpPr/>
          <p:nvPr/>
        </p:nvSpPr>
        <p:spPr>
          <a:xfrm>
            <a:off x="179280" y="580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 Box 75"/>
          <p:cNvSpPr/>
          <p:nvPr/>
        </p:nvSpPr>
        <p:spPr>
          <a:xfrm>
            <a:off x="1258920" y="537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Text Box 76"/>
          <p:cNvSpPr/>
          <p:nvPr/>
        </p:nvSpPr>
        <p:spPr>
          <a:xfrm>
            <a:off x="226836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Text Box 77"/>
          <p:cNvSpPr/>
          <p:nvPr/>
        </p:nvSpPr>
        <p:spPr>
          <a:xfrm>
            <a:off x="262728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Text Box 78"/>
          <p:cNvSpPr/>
          <p:nvPr/>
        </p:nvSpPr>
        <p:spPr>
          <a:xfrm>
            <a:off x="2989440" y="53737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 Box 79"/>
          <p:cNvSpPr/>
          <p:nvPr/>
        </p:nvSpPr>
        <p:spPr>
          <a:xfrm>
            <a:off x="3274920" y="537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 Box 80"/>
          <p:cNvSpPr/>
          <p:nvPr/>
        </p:nvSpPr>
        <p:spPr>
          <a:xfrm>
            <a:off x="3780000" y="53737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 Box 81"/>
          <p:cNvSpPr/>
          <p:nvPr/>
        </p:nvSpPr>
        <p:spPr>
          <a:xfrm>
            <a:off x="4140360" y="53737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82"/>
          <p:cNvSpPr/>
          <p:nvPr/>
        </p:nvSpPr>
        <p:spPr>
          <a:xfrm>
            <a:off x="4502160" y="537372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3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 Box 83"/>
          <p:cNvSpPr/>
          <p:nvPr/>
        </p:nvSpPr>
        <p:spPr>
          <a:xfrm>
            <a:off x="3781440" y="580536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 Box 84"/>
          <p:cNvSpPr/>
          <p:nvPr/>
        </p:nvSpPr>
        <p:spPr>
          <a:xfrm>
            <a:off x="5219640" y="537372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 Box 85"/>
          <p:cNvSpPr/>
          <p:nvPr/>
        </p:nvSpPr>
        <p:spPr>
          <a:xfrm>
            <a:off x="5724360" y="537372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 Box 86"/>
          <p:cNvSpPr/>
          <p:nvPr/>
        </p:nvSpPr>
        <p:spPr>
          <a:xfrm>
            <a:off x="745164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 Box 87"/>
          <p:cNvSpPr/>
          <p:nvPr/>
        </p:nvSpPr>
        <p:spPr>
          <a:xfrm>
            <a:off x="781200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88"/>
          <p:cNvSpPr/>
          <p:nvPr/>
        </p:nvSpPr>
        <p:spPr>
          <a:xfrm>
            <a:off x="8102520" y="537372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89"/>
          <p:cNvSpPr/>
          <p:nvPr/>
        </p:nvSpPr>
        <p:spPr>
          <a:xfrm>
            <a:off x="7454880" y="580536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99680" y="907920"/>
            <a:ext cx="79297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37609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ачертите таблицу и распределите в ней номера следующих слов:</a:t>
            </a:r>
            <a:r>
              <a:rPr b="0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инец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ом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льсы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уна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астмасса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6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люминий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7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актор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8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ипение,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9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0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кета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ран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воднение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3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толет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4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сфальт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5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л,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6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ребр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57120" y="3718080"/>
          <a:ext cx="8391600" cy="2400120"/>
        </p:xfrm>
        <a:graphic>
          <a:graphicData uri="http://schemas.openxmlformats.org/drawingml/2006/table">
            <a:tbl>
              <a:tblPr/>
              <a:tblGrid>
                <a:gridCol w="2797200"/>
                <a:gridCol w="2797200"/>
                <a:gridCol w="2797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е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ещ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я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Picture 17" descr="VANYA"/>
          <p:cNvPicPr/>
          <p:nvPr/>
        </p:nvPicPr>
        <p:blipFill>
          <a:blip r:embed="rId1"/>
          <a:stretch/>
        </p:blipFill>
        <p:spPr>
          <a:xfrm>
            <a:off x="7451640" y="5294160"/>
            <a:ext cx="1692360" cy="1563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8"/>
          <p:cNvSpPr/>
          <p:nvPr/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оверяй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324000" y="4292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1619280" y="429264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2125800" y="4292640"/>
            <a:ext cx="6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3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1258920" y="429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27"/>
          <p:cNvSpPr/>
          <p:nvPr/>
        </p:nvSpPr>
        <p:spPr>
          <a:xfrm>
            <a:off x="2987640" y="429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3419640" y="4292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4284720" y="429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3851280" y="429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4645080" y="429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5148360" y="4292640"/>
            <a:ext cx="6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5940360" y="4294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6732720" y="429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7237440" y="429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36"/>
          <p:cNvSpPr/>
          <p:nvPr/>
        </p:nvSpPr>
        <p:spPr>
          <a:xfrm>
            <a:off x="6373800" y="4294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37"/>
          <p:cNvSpPr/>
          <p:nvPr/>
        </p:nvSpPr>
        <p:spPr>
          <a:xfrm>
            <a:off x="828720" y="429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38"/>
          <p:cNvSpPr/>
          <p:nvPr/>
        </p:nvSpPr>
        <p:spPr>
          <a:xfrm>
            <a:off x="325440" y="479736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42600" y="1413000"/>
            <a:ext cx="792972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Летним утром на траве обнаружили капельки росы. На наружной стороне специально охлаждаемого металлического сосуда получены капельки влаги. В каком случае явление образования росы изучалось путем наблюдения, а в каком – путем постановки опы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28908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оверяй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857160" y="573408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ое –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аблюд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второе –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опы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0:59:50Z</dcterms:created>
  <dc:creator>Панов С. В.</dc:creator>
  <dc:description/>
  <dc:language>en-US</dc:language>
  <cp:lastModifiedBy>павел</cp:lastModifiedBy>
  <dcterms:modified xsi:type="dcterms:W3CDTF">2014-12-03T08:26:42Z</dcterms:modified>
  <cp:revision>67</cp:revision>
  <dc:subject>Физика и физические методы изучения природы</dc:subject>
  <dc:title>Физические величины</dc:title>
</cp:coreProperties>
</file>