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5D88-4388-40AF-B84E-44B4D92AFD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C87-00A4-46D7-806A-FA390B60E9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79F-66A7-4E4F-8651-E3AC8E145B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347-1377-4533-A13A-2713AA8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912-9863-4434-966B-23FF2B2D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95D-C7BC-48D0-AC3C-2F9EECD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E21-107D-4438-99EF-A747A78D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EA7-9762-41E3-9333-B74CC5E0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0FC-FE80-4942-879B-18918C87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9A9D-34D7-419F-8283-43041420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AE18-417A-4D4C-A121-EACC3F0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36B6-0614-4777-B8E5-A6E6E0A8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A358-2061-4018-9665-0D08FCC2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B1B-FBDF-426F-ABBA-7E037BA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DB9-C6EB-410F-855D-D70FB05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91A-78C8-4ACC-B2A4-65C448A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198-CDBE-4D41-9AC5-7C4B424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D4D6-5EEF-4D56-BBDD-94D15E51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021D-962D-4FA2-8D0B-7FE825F9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DBC-3130-4A9E-AF3C-E0D00336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E669-21C2-4E7D-9686-197F9402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5AB4-8284-4234-A901-B669495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459F-4837-4B96-82DE-6379B0E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885B-BD2B-4533-A822-9265C1CA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DFC7-C70F-448C-9041-C9D58F31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BD0-1B70-497F-84E9-72114300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2E7C-B325-435F-87EE-214C3B78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06C4-14D1-43A5-B8BC-0455A90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63AE-121E-4390-BF1C-EC2F28C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4D3D-7AE9-43E1-BF4C-E6FF458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6233-3074-40D6-A0E1-22ACAB6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6C91-485C-4902-8E62-84403583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C363-09A2-4241-9459-C7A431B0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B9A7-DC90-4A39-B4DC-70195825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8296-DAE8-4E0E-B2C3-6BFC2B00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997E-BDE3-4592-B8A4-2756BA4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95B-DC3C-44D5-B953-ADDD3CF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5542-ED5E-4646-A8B1-4BBF9DD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A1AB-3019-42C9-B0BA-D59A088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A4A9-EE0D-4FCE-8EB7-5E58F68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A794-DFE1-4199-A798-BA480D5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F4C7-A832-47A5-8BD9-F7BDBCB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3AE4-404A-4534-BC91-F67E37F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04EB-6530-48F0-8FF7-768E3E0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B2D0-9950-452A-898E-928228FC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B92E-559E-4DA7-8E67-362BDF29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3B52-AB6F-45B2-8A86-64679A95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9D4-7406-4509-94D8-CC49A804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26BF-FFEF-4AB9-9B95-4579550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4153-45FB-4D25-9A71-CABB437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CB23-61C3-4037-B98D-475F71F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930F-FCCC-43C0-8F61-51A7FC67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297C-CFCB-4643-BCB5-F0C8B6A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DAC7-94F8-4909-B160-C07AD48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1D99C-0A0C-4CAC-A06B-24B70DA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7D12-B2EB-434A-B9F1-E6AACF6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2BB2-E588-48F1-929B-7D95179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EE65-59F1-4E6C-99E6-61B5BB28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A66-5F34-4BD4-8882-92EEA2D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3326-3F72-4979-A8D4-C2A5BA5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AE63F-C8A9-4E17-9BC1-99C25927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65DB-1489-46B9-B2CA-BF663202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C340-F76D-4AB5-A4EF-434D35E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36C4-439B-4F12-B3C5-BF2A470D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D15A8-8702-4709-BAC4-0D2EF0D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8AA3-8412-4F52-BBA1-556A5BD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ACC6-86FF-48BB-A999-0CDBD63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362B-D833-4924-9F33-D312408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BFFA3-C73C-4005-9F58-CD7D089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D35-A13F-412D-BE1D-A4DC3CC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5AD1-E2BF-4452-B0B7-58208834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96B30-24D1-443D-AB92-38E344AC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49B7-09D8-40D2-B43E-252F0DFC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9BD-FB43-4C72-903D-B132519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677-499A-4127-B2C6-2F6FB422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437D-0380-43E4-B32F-A0C9F249179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10C-B914-4B4A-ACA7-344C979297A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8BAD-E886-4B14-9767-A4D2DF631E6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169-35CA-47E7-AF37-F6F1108F24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783-0811-4B3F-B238-127523A1123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37F-FC89-463B-B5AB-0CFA6723516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7815240" cy="4084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84360" y="4724280"/>
            <a:ext cx="50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МБОУ  Гимна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Г. Наваши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2d14"/>
                </a:solidFill>
                <a:latin typeface="Arial"/>
                <a:ea typeface="Arial"/>
              </a:rPr>
              <a:t>Марушева Е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Home task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Make the cluster about newspapers in your country (your local newspaper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Franklin Gothic Book"/>
              </a:rPr>
              <a:t>Words to remember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Advertisement                Photograp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Article                             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Comic strip                     Del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Editor                              Week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Interview                          Cho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Journalist                        Corr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Local                               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National                           Pri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"/>
              </a:rPr>
              <a:t>Newsagent’s                   On s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Franklin Gothic Book"/>
              </a:rPr>
              <a:t>I.N.S.E.R.T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^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Мне уже извес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Противоречит  моим представл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 Интересно, неожидан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    Хочу узнать подробне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Franklin Gothic Book"/>
              </a:rPr>
              <a:t>The newspaper office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’s the name of the newspap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do you think “staff” mea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Franklin Gothic Book"/>
              </a:rPr>
              <a:t>Who works for the newspaper?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o are the people on the photograph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How is the newspaper mad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does the editor d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kind of things go in newspap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happens last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The newspaper is ready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Tell three more things that happen to the news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What signs have you marked in this p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Users\асер\Downloads\прир.jpg"/>
          <p:cNvPicPr/>
          <p:nvPr/>
        </p:nvPicPr>
        <p:blipFill>
          <a:blip r:embed="rId2"/>
          <a:stretch/>
        </p:blipFill>
        <p:spPr>
          <a:xfrm>
            <a:off x="5076720" y="260280"/>
            <a:ext cx="3598920" cy="266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C:\Users\асер\Downloads\прир1.jpg"/>
          <p:cNvPicPr/>
          <p:nvPr/>
        </p:nvPicPr>
        <p:blipFill>
          <a:blip r:embed="rId3"/>
          <a:stretch/>
        </p:blipFill>
        <p:spPr>
          <a:xfrm>
            <a:off x="468360" y="3933720"/>
            <a:ext cx="2951280" cy="1865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Users\асер\Downloads\прир2.jpg"/>
          <p:cNvPicPr/>
          <p:nvPr/>
        </p:nvPicPr>
        <p:blipFill>
          <a:blip r:embed="rId4"/>
          <a:stretch/>
        </p:blipFill>
        <p:spPr>
          <a:xfrm>
            <a:off x="3708360" y="3357720"/>
            <a:ext cx="499284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94920" y="333000"/>
            <a:ext cx="8497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prints the newspapers?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writes the  articles?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reads all the articles and checks them?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takes pictures?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arranges all the things on the page?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Who sells the newspaper?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otographer        Journa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signer                Newsag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nter                    Edi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26:16Z</dcterms:created>
  <dc:creator>Марушев</dc:creator>
  <dc:description/>
  <dc:language>en-US</dc:language>
  <cp:lastModifiedBy>Марушев</cp:lastModifiedBy>
  <dcterms:modified xsi:type="dcterms:W3CDTF">2012-04-26T16:15:14Z</dcterms:modified>
  <cp:revision>6</cp:revision>
  <dc:subject/>
  <dc:title>Слайд 1</dc:title>
</cp:coreProperties>
</file>