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49E3-2D6D-44D1-88CD-58EECCAF7F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2648-7557-4A70-AEA8-B725850C22D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36D1-FB6A-4AF7-972B-B8E01559804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A4B1-2D7B-4BDA-9009-620BD13F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FE26-949E-45D8-AF13-BB5FB9D5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E549-CCC3-41FB-9EDC-83350C5A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2873-7518-4B92-9681-1F3D954A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32EE-01A8-4BB6-B9CD-C33CED71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E040-AEB8-41B9-B009-F34681FB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AA2E-E802-44DD-81A4-54A2B197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AC94-16C8-4314-935F-CD9EDCFC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F118-EAB7-4414-BFB0-EFE46A3B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7583-D1DE-4C03-8DEE-98A5AC19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EA89-7916-4FEF-AEBE-8643D210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BA14-98D3-4028-9E35-0B79F64E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2D59-D4BF-4CAB-B6AF-FB744F02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9938-6565-4FC6-8B52-078953D2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454C-C6DE-4FAC-9B2B-75F829F0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7424-0EAB-40A5-8B1F-E15A09BA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6932-9FFA-43F3-9A4E-72602507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B3E7B-64DD-48D4-A213-9A8176B1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F7E01-D48F-49C0-996B-5B2733D5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365F0-E53E-498F-89BB-C0D9D74A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57537-E6E6-453C-A527-D23F25AB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A5A96-3F89-44C7-B08A-1579417B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4177-292F-4BE3-B46C-41BAD8E8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050B9-9897-49F4-9E0B-86F4DE72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BDAD1-E6BC-475A-8757-1E80E28C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7F45A-834C-4002-9279-C26B97FB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84FDD-3336-412B-9970-BA9F6CF8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FE4FF-C9AA-48BF-BF0F-0DCDB3E8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CB940-4CF8-4692-8B80-D7A18145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1CEF1-4539-4592-B789-913D74AC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67DDD-C193-4D32-9952-E8302617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E560F-E66E-412A-BDA6-8EBB3674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8BC4D-9848-45BD-B0E2-96C6083E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B953-B83C-4C12-90C1-AE7EFE87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8C424-2DBD-4EE8-8D31-B82658D5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8F483-4F87-4AEA-9A36-ADFC2F49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1C5CF-CE91-467B-8489-22801AA0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2195C-50EF-4E5A-9C3F-3DAD6A79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655D3-8FC8-42A0-B0BB-2E7ACA26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A3424-9BB9-4F2E-B431-C3EE242E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1827B-1A97-4EAF-9F1C-35E74873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3428F-8733-45EC-9B5F-D7267508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7DA79-1ED8-410F-A924-94F64C12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AB8E1-18B2-4C49-9CBA-AAD993C6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1A5C-B5A5-48FF-87F0-6FB1D0D8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11540-08D8-46E5-8EC1-472E57C5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9D304-A8CD-4DA3-99B4-B34E4AB8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FDE1B-ED0A-4E82-8B08-BE879F62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BD671-EB53-484C-9509-155216B2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A60A7-715D-4703-96EE-2A4532F7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45593-DAE5-4D6F-9283-EA9B7A6D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3F87D-0D90-4FB2-8AAD-1A8B7496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7F894-041A-4B48-B845-3171B617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B7C99-CF99-461A-830D-A628D309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73289-325C-427F-B2B7-C9F6B288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1FA0-A132-42FC-96A2-A543E81A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06F2E-8B22-4923-BFDC-4386EA9F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F0C0C-D564-4059-B425-1C55E897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E3D7C-EE75-46F8-9BA9-DA6AEF57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42E66-537F-4B09-9536-81FDC7C2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213E2-4236-4CD3-A232-F43F218A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09E9E-1274-4F8A-B171-8ECF9353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6B0EB-A85B-4EFB-8369-C1C27D51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845AF-2A6D-4AEE-8144-ED47A8CA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C21B1-E4DB-476F-98A4-C1A9DCA4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9B1B6-2AA4-41AC-8921-E0001E74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1CBD-DDEE-4F53-8474-25DBB7A2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6DABF-00A3-4898-B4A8-655453DC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4F378-6ECA-4480-BF86-699F4B2E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7DCD7-87F2-4E6B-B039-A36F7132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39B2-BF8D-4FF3-A4BE-1D18CC3A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DADE-EC77-4727-B92A-E7716A39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CB0E-50D8-4E8D-92D8-353304238D5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04C4-5A32-48CE-9643-D12D16FBD2F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60FF-5420-44B4-9F25-70C47810A33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727F-A8C0-4D90-BF63-D81C21A0E2A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059D-3C12-4414-962E-5118268712B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BB83-D659-4217-B261-1031A2E71CD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Прямоугольник 3" descr=""/>
          <p:cNvPicPr/>
          <p:nvPr/>
        </p:nvPicPr>
        <p:blipFill>
          <a:blip r:embed="rId1"/>
          <a:stretch/>
        </p:blipFill>
        <p:spPr>
          <a:xfrm>
            <a:off x="249120" y="487440"/>
            <a:ext cx="7815240" cy="40845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484360" y="4724280"/>
            <a:ext cx="50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2d14"/>
                </a:solidFill>
                <a:latin typeface="Arial"/>
                <a:ea typeface="Arial"/>
              </a:rPr>
              <a:t>МБОУ  Гимназ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2d14"/>
                </a:solidFill>
                <a:latin typeface="Arial"/>
                <a:ea typeface="Arial"/>
              </a:rPr>
              <a:t>Г. Наваши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2d14"/>
                </a:solidFill>
                <a:latin typeface="Arial"/>
                <a:ea typeface="Arial"/>
              </a:rPr>
              <a:t>Марушева Е.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7529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Home task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Make the cluster about newspapers in your country (your local newspaper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Franklin Gothic Book"/>
              </a:rPr>
              <a:t>Words to remember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000"/>
                </a:solidFill>
                <a:latin typeface="Arial"/>
              </a:rPr>
              <a:t>Advertisement                Photograp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000"/>
                </a:solidFill>
                <a:latin typeface="Arial"/>
              </a:rPr>
              <a:t>Article                              Staf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000"/>
                </a:solidFill>
                <a:latin typeface="Arial"/>
              </a:rPr>
              <a:t>Comic strip                     Deli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000"/>
                </a:solidFill>
                <a:latin typeface="Arial"/>
              </a:rPr>
              <a:t>Editor                              Week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000"/>
                </a:solidFill>
                <a:latin typeface="Arial"/>
              </a:rPr>
              <a:t>Interview                          Choo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000"/>
                </a:solidFill>
                <a:latin typeface="Arial"/>
              </a:rPr>
              <a:t>Journalist                        Correc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000"/>
                </a:solidFill>
                <a:latin typeface="Arial"/>
              </a:rPr>
              <a:t>Local                               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000"/>
                </a:solidFill>
                <a:latin typeface="Arial"/>
              </a:rPr>
              <a:t>National                           Pri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000"/>
                </a:solidFill>
                <a:latin typeface="Arial"/>
              </a:rPr>
              <a:t>Newsagent’s                   On sa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00"/>
                </a:solidFill>
                <a:latin typeface="Franklin Gothic Book"/>
              </a:rPr>
              <a:t>I.N.S.E.R.T</a:t>
            </a:r>
            <a:endParaRPr b="0" lang="en-US" sz="8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^</a:t>
            </a: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            </a:t>
            </a: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Мне уже извест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     Противоречит  моим представления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      Интересно, неожидан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? </a:t>
            </a: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     Хочу узнать подробне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Franklin Gothic Book"/>
              </a:rPr>
              <a:t>The newspaper office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What’s the name of the newspaper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What do you think “staff” mean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What signs have you marked in this pa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7529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1" lang="en-US" sz="4100" spc="-1" strike="noStrike">
                <a:solidFill>
                  <a:srgbClr val="ff0000"/>
                </a:solidFill>
                <a:latin typeface="Franklin Gothic Book"/>
              </a:rPr>
              <a:t>Who works for the newspaper?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Who are the people on the photograph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What signs have you marked in this pa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1" lang="en-US" sz="4400" spc="-1" strike="noStrike">
                <a:solidFill>
                  <a:srgbClr val="ff0000"/>
                </a:solidFill>
                <a:latin typeface="Franklin Gothic Book"/>
              </a:rPr>
              <a:t>How is the newspaper made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What does the editor do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What kind of things go in newspaper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What happens last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What signs have you marked in this pa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The newspaper is ready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Tell three more things that happen to the newspap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What signs have you marked in this pa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535280" cy="3402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C:\Users\асер\Downloads\прир.jpg"/>
          <p:cNvPicPr/>
          <p:nvPr/>
        </p:nvPicPr>
        <p:blipFill>
          <a:blip r:embed="rId2"/>
          <a:stretch/>
        </p:blipFill>
        <p:spPr>
          <a:xfrm>
            <a:off x="5076720" y="260280"/>
            <a:ext cx="3598920" cy="2664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C:\Users\асер\Downloads\прир1.jpg"/>
          <p:cNvPicPr/>
          <p:nvPr/>
        </p:nvPicPr>
        <p:blipFill>
          <a:blip r:embed="rId3"/>
          <a:stretch/>
        </p:blipFill>
        <p:spPr>
          <a:xfrm>
            <a:off x="468360" y="3933720"/>
            <a:ext cx="2951280" cy="1865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C:\Users\асер\Downloads\прир2.jpg"/>
          <p:cNvPicPr/>
          <p:nvPr/>
        </p:nvPicPr>
        <p:blipFill>
          <a:blip r:embed="rId4"/>
          <a:stretch/>
        </p:blipFill>
        <p:spPr>
          <a:xfrm>
            <a:off x="3708360" y="3357720"/>
            <a:ext cx="4992840" cy="31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94920" y="333000"/>
            <a:ext cx="8497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305640" indent="-2790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Who prints the newspapers?                   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Who writes the  articles?                         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Who reads all the articles and checks them?                           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Who takes pictures?                                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Who arranges all the things on the page?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Who sells the newspaper?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hotographer        Journali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Designer                Newsag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rinter                    Edit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6:26:16Z</dcterms:created>
  <dc:creator>Марушев</dc:creator>
  <dc:description/>
  <dc:language>en-US</dc:language>
  <cp:lastModifiedBy>Марушев</cp:lastModifiedBy>
  <dcterms:modified xsi:type="dcterms:W3CDTF">2012-04-26T16:15:14Z</dcterms:modified>
  <cp:revision>6</cp:revision>
  <dc:subject/>
  <dc:title>Слайд 1</dc:title>
</cp:coreProperties>
</file>