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95E3-34A4-4316-ACA7-ECF2F9A6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1536-EC7D-4D0C-810E-6AECF74C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C1FA-6B3A-466E-A331-A647E524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0CD0-C93D-46EA-B78D-A2973777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3B6A-6F68-46EE-9DB9-F2390175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39F-2B54-4AFF-B4A6-FCDB82A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6DB-6D77-490D-BB41-2A7E366C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23E-F674-46E1-977B-7C51BF0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62A-5B74-4FF3-A099-60BA14A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403D-46E9-4C99-AA22-608734D6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4B2-10BD-49A0-AC60-6405263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1D51-ADC2-4673-8496-3512F33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C6D2-0CF4-4D02-9CD6-5494AC63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565-124B-4FA9-BDA9-F462AF3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81B2-68D5-49FB-A1F7-58FDBD6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7A3-4FA5-4224-BB46-0EA0A937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5DA-DA2C-4DBD-83EE-50153031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3983-7D55-4EB3-BC86-F24B54E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636C-0AC6-47EA-A6D6-6355FC75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2B27-1127-4F9C-B9FF-AAF7BAE2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6A4A-B005-491F-99A5-4222BDFB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A198-616A-4104-8750-4560021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5066-4388-435F-82EF-B18985E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FA01-E70E-47C3-AA05-C69AF37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3B6-50F8-4EF6-92EC-FD987DB57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695F-2669-4F67-AB36-D4FA24584E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4571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Garamond"/>
              </a:rPr>
              <a:t>Приготовила УЧИТЕЛЬ НЕМЕЦКОГО ЯЗЫКА</a:t>
            </a: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Garamond"/>
              </a:rPr>
              <a:t>МБОУ СОШ п. Нивенское Колесниченко О.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Глагол-связка «</a:t>
            </a:r>
            <a:r>
              <a:rPr b="0" lang="de-DE" sz="54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2 класс, УМК И.Л.Би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Garamond"/>
              </a:rPr>
              <a:t>Wie sind die Lehrbuchfiguren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uratino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rau Holle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ierrot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issa und Basilio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äumelinchen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schenputtel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Nussknacker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umm und bö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ehr kle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mmer lusti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trauri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ehr schö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lt und gu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tapf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Найди противоположные по смыслу слова!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gut  -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gro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alt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chön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lustig –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chwarz 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428920" y="1571760"/>
            <a:ext cx="12859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ö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428920" y="2286000"/>
            <a:ext cx="12859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428920" y="3071880"/>
            <a:ext cx="1214280" cy="5000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j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428920" y="3714840"/>
            <a:ext cx="1428840" cy="5000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ässl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428920" y="4357800"/>
            <a:ext cx="142884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traur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2643120" y="5143680"/>
            <a:ext cx="1357560" cy="5713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wei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5e5ff"/>
                </a:solidFill>
                <a:latin typeface="Garamond"/>
              </a:rPr>
              <a:t>Hören  wir uns einen Reim an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Ich bin Peter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Du bist Paul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Ich bin fleißig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Du bist faul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Garamond"/>
              </a:rPr>
              <a:t>Hier ist noch ein Reim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bin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gro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                     Wir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sind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lusti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b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lein.                    Ihr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seid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net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e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schön.                     Alle mögen Inter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s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fe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785960" y="4429080"/>
            <a:ext cx="5500800" cy="14288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Глагол-связка «</a:t>
            </a:r>
            <a:r>
              <a:rPr b="0" lang="de-DE" sz="2800" spc="-1" strike="noStrike">
                <a:solidFill>
                  <a:srgbClr val="002060"/>
                </a:solidFill>
                <a:latin typeface="Garamond"/>
              </a:rPr>
              <a:t>sein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»</a:t>
            </a:r>
            <a:r>
              <a:rPr b="0" lang="de-DE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 («быть»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меняется по лицам: изменяется и  глагол-связ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глагол-связка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229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ch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я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bin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Wi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мы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sin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Du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ты)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bist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h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вы)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ei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E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)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(он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а) 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st …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(вы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sin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Es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о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>
            <a:off x="6000840" y="2357280"/>
            <a:ext cx="857160" cy="5004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 flipV="1">
            <a:off x="6000840" y="2857680"/>
            <a:ext cx="857160" cy="7128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>
            <a:off x="2000160" y="2286000"/>
            <a:ext cx="1000080" cy="5000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Прямая соединительная линия 10"/>
          <p:cNvSpPr/>
          <p:nvPr/>
        </p:nvSpPr>
        <p:spPr>
          <a:xfrm flipV="1">
            <a:off x="2286000" y="2785680"/>
            <a:ext cx="714240" cy="14292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2286000" y="2786040"/>
            <a:ext cx="714240" cy="6429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428760" y="4000680"/>
            <a:ext cx="8286480" cy="24285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      </a:t>
            </a: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lustig          klein            schön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   </a:t>
            </a: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nett            faul              fleißig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ставь глагол-связку «</a:t>
            </a:r>
            <a:r>
              <a:rPr b="1" lang="de-DE" sz="44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 правильную форму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Paul … lustig und klu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Anna … klein, aber net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Wir … lusti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Pixi … flei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ig, aber fau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Er … 8 Jahre al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ie … freundlich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Garamond"/>
              </a:rPr>
              <a:t>Переведите на немец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Злой, весёлый, большой, печальный, симпатичный, хороший, красивый, молодой, прилежный, ленивы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Красный, синий, зелёный, желтый, белый, серый, чёрны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0000"/>
                </a:solidFill>
                <a:latin typeface="Garamond"/>
              </a:rPr>
              <a:t>Danke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4:20:15Z</dcterms:created>
  <dc:creator>дом</dc:creator>
  <dc:description/>
  <dc:language>en-US</dc:language>
  <cp:lastModifiedBy>Учитель</cp:lastModifiedBy>
  <dcterms:modified xsi:type="dcterms:W3CDTF">2015-01-27T07:58:13Z</dcterms:modified>
  <cp:revision>24</cp:revision>
  <dc:subject/>
  <dc:title>Слайд 1</dc:title>
</cp:coreProperties>
</file>