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A5271-04FA-41B3-9918-2A2F2846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C54F-D853-496B-B080-B44F497A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3C88-5DBB-43CC-9DC0-42F769EC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9ADA-C73A-4104-BF7D-E2ED5512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7542-E216-447E-AEA8-D1E1E406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ADD1-E724-409E-A7EB-5719DA0E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C553-DBFC-4DC6-B439-4E745B8D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D4B5-63BB-4A1F-AF7D-AAA3EB21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FC93-5C62-40B0-A9F6-CA4F414C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41F5-675B-4720-99F3-062A7D0C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4B6A-C930-4D3C-A6D7-09723AD5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C284-DA48-4397-8138-C198E2C6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E591-80F2-4E7A-BB52-7E9B2F62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C950-C2A7-4DFF-BCB8-33238C5A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86C3-59D8-474A-BCA9-28288784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A244-F2EB-4474-AEF0-44EA4147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B3A5-A260-48DA-A7D4-AB5460B6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BD615-CAC4-4237-B5CD-9EFB77DE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E7A24-4625-418D-909A-828DAE8D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2F3AE-4085-40C6-8025-E087FCB4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7BB06-F593-492C-A455-FDD08A9A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9A92-2E74-4116-AF2F-947A891A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9E93-8947-4BA7-BF8E-549EF150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A763C-5CDD-4E2D-A129-D738E7DE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DE26-AFEE-4CF5-87DB-DCB8F8A173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34E6-4780-44D3-A194-AFC65B505B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45716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Garamond"/>
              </a:rPr>
              <a:t>Приготовила УЧИТЕЛЬ НЕМЕЦКОГО ЯЗЫКА</a:t>
            </a:r>
            <a:br>
              <a:rPr sz="2000"/>
            </a:br>
            <a:r>
              <a:rPr b="1" lang="ru-RU" sz="2000" spc="-1" strike="noStrike">
                <a:solidFill>
                  <a:srgbClr val="92d050"/>
                </a:solidFill>
                <a:latin typeface="Garamond"/>
              </a:rPr>
              <a:t>МБОУ СОШ п. Нивенское Колесниченко О.А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Глагол-связка «</a:t>
            </a:r>
            <a:r>
              <a:rPr b="0" lang="de-DE" sz="5400" spc="-1" strike="noStrike">
                <a:solidFill>
                  <a:srgbClr val="ff0000"/>
                </a:solidFill>
                <a:latin typeface="Garamond"/>
              </a:rPr>
              <a:t>sein</a:t>
            </a: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»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2 класс, УМК И.Л.Бим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Garamond"/>
              </a:rPr>
              <a:t>Wie sind die Lehrbuchfiguren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Buratino 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Frau Holle 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Pierrot 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lissa und Basilio si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Däumelinchen 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schenputtel 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Nussknacker 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dumm und bö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sehr kle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immer lusti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trauri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sehr schö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alt und gu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tapf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Найди противоположные по смыслу слова!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gut  -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gro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β</a:t>
            </a: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alt –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schön –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lustig –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schwarz 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2428920" y="1571760"/>
            <a:ext cx="1285920" cy="6429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bö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428920" y="2286000"/>
            <a:ext cx="1285920" cy="6429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kle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2428920" y="3071880"/>
            <a:ext cx="1214280" cy="5000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j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2428920" y="3714840"/>
            <a:ext cx="1428840" cy="5000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hässli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2428920" y="4357800"/>
            <a:ext cx="1428840" cy="6429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traur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2643120" y="5143680"/>
            <a:ext cx="1357560" cy="57132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wei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5e5ff"/>
                </a:solidFill>
                <a:latin typeface="Garamond"/>
              </a:rPr>
              <a:t>Hören  wir uns einen Reim an!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de-DE" sz="4800" spc="-1" strike="noStrike">
                <a:solidFill>
                  <a:srgbClr val="ff0000"/>
                </a:solidFill>
                <a:latin typeface="Andalus"/>
                <a:ea typeface="Andalus"/>
              </a:rPr>
              <a:t>Ich bin Peter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0000"/>
                </a:solidFill>
                <a:latin typeface="Andalus"/>
                <a:ea typeface="Andalus"/>
              </a:rPr>
              <a:t>Du bist Paul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0000"/>
                </a:solidFill>
                <a:latin typeface="Andalus"/>
                <a:ea typeface="Andalus"/>
              </a:rPr>
              <a:t>   </a:t>
            </a:r>
            <a:r>
              <a:rPr b="0" lang="de-DE" sz="4800" spc="-1" strike="noStrike">
                <a:solidFill>
                  <a:srgbClr val="ff0000"/>
                </a:solidFill>
                <a:latin typeface="Andalus"/>
                <a:ea typeface="Andalus"/>
              </a:rPr>
              <a:t>Ich bin fleißig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0000"/>
                </a:solidFill>
                <a:latin typeface="Andalus"/>
                <a:ea typeface="Andalus"/>
              </a:rPr>
              <a:t>Du bist faul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Garamond"/>
              </a:rPr>
              <a:t>Hier ist noch ein Reim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Ich </a:t>
            </a:r>
            <a:r>
              <a:rPr b="0" lang="de-DE" sz="3200" spc="-1" strike="noStrike">
                <a:solidFill>
                  <a:srgbClr val="ff0000"/>
                </a:solidFill>
                <a:latin typeface="Garamond"/>
              </a:rPr>
              <a:t>bin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gro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β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.                     Wir </a:t>
            </a:r>
            <a:r>
              <a:rPr b="0" lang="de-DE" sz="3200" spc="-1" strike="noStrike">
                <a:solidFill>
                  <a:srgbClr val="ff0000"/>
                </a:solidFill>
                <a:latin typeface="Garamond"/>
              </a:rPr>
              <a:t>sind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lusti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Du </a:t>
            </a:r>
            <a:r>
              <a:rPr b="0" lang="de-DE" sz="3200" spc="-1" strike="noStrike">
                <a:solidFill>
                  <a:srgbClr val="ff0000"/>
                </a:solidFill>
                <a:latin typeface="Garamond"/>
              </a:rPr>
              <a:t>bist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klein.                    Ihr </a:t>
            </a:r>
            <a:r>
              <a:rPr b="0" lang="de-DE" sz="3200" spc="-1" strike="noStrike">
                <a:solidFill>
                  <a:srgbClr val="ff0000"/>
                </a:solidFill>
                <a:latin typeface="Garamond"/>
              </a:rPr>
              <a:t>seid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net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Sie </a:t>
            </a:r>
            <a:r>
              <a:rPr b="0" lang="de-DE" sz="3200" spc="-1" strike="noStrike">
                <a:solidFill>
                  <a:srgbClr val="ff0000"/>
                </a:solidFill>
                <a:latin typeface="Garamond"/>
              </a:rPr>
              <a:t>ist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schön.                     Alle mögen Interne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Es </a:t>
            </a:r>
            <a:r>
              <a:rPr b="0" lang="de-DE" sz="3200" spc="-1" strike="noStrike">
                <a:solidFill>
                  <a:srgbClr val="ff0000"/>
                </a:solidFill>
                <a:latin typeface="Garamond"/>
              </a:rPr>
              <a:t>ist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fei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1785960" y="4429080"/>
            <a:ext cx="5500800" cy="14288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aramond"/>
              </a:rPr>
              <a:t>Глагол-связка «</a:t>
            </a:r>
            <a:r>
              <a:rPr b="0" lang="de-DE" sz="2800" spc="-1" strike="noStrike">
                <a:solidFill>
                  <a:srgbClr val="002060"/>
                </a:solidFill>
                <a:latin typeface="Garamond"/>
              </a:rPr>
              <a:t>sein</a:t>
            </a:r>
            <a:r>
              <a:rPr b="0" lang="ru-RU" sz="2800" spc="-1" strike="noStrike">
                <a:solidFill>
                  <a:srgbClr val="002060"/>
                </a:solidFill>
                <a:latin typeface="Garamond"/>
              </a:rPr>
              <a:t>»</a:t>
            </a:r>
            <a:r>
              <a:rPr b="0" lang="de-DE" sz="28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Garamond"/>
              </a:rPr>
              <a:t> («быть»)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меняется по лицам: изменяется и  глагол-связ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Garamond"/>
              </a:rPr>
              <a:t>Sein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(</a:t>
            </a:r>
            <a:r>
              <a:rPr b="0" i="1" lang="ru-RU" sz="3200" spc="-1" strike="noStrike">
                <a:solidFill>
                  <a:srgbClr val="ff0000"/>
                </a:solidFill>
                <a:latin typeface="Garamond"/>
              </a:rPr>
              <a:t>глагол-связка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71360"/>
            <a:ext cx="82296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Ich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(я)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 bin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…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             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Wir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(мы)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 sind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Du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(ты) 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bist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…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       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       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Ihr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(вы) 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seid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Er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(он)      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            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          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sie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(он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Sie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(она)          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ist …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        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Sie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(вы)</a:t>
            </a: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           sind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Garamond"/>
              </a:rPr>
              <a:t>Es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(оно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Прямая соединительная линия 4"/>
          <p:cNvSpPr/>
          <p:nvPr/>
        </p:nvSpPr>
        <p:spPr>
          <a:xfrm>
            <a:off x="6000840" y="2357280"/>
            <a:ext cx="857160" cy="50040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Прямая соединительная линия 6"/>
          <p:cNvSpPr/>
          <p:nvPr/>
        </p:nvSpPr>
        <p:spPr>
          <a:xfrm flipV="1">
            <a:off x="6000840" y="2857680"/>
            <a:ext cx="857160" cy="7128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Прямая соединительная линия 8"/>
          <p:cNvSpPr/>
          <p:nvPr/>
        </p:nvSpPr>
        <p:spPr>
          <a:xfrm>
            <a:off x="2000160" y="2286000"/>
            <a:ext cx="1000080" cy="50004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Прямая соединительная линия 10"/>
          <p:cNvSpPr/>
          <p:nvPr/>
        </p:nvSpPr>
        <p:spPr>
          <a:xfrm flipV="1">
            <a:off x="2286000" y="2785680"/>
            <a:ext cx="714240" cy="14292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Прямая соединительная линия 12"/>
          <p:cNvSpPr/>
          <p:nvPr/>
        </p:nvSpPr>
        <p:spPr>
          <a:xfrm flipV="1">
            <a:off x="2286000" y="2786040"/>
            <a:ext cx="714240" cy="642960"/>
          </a:xfrm>
          <a:prstGeom prst="line">
            <a:avLst/>
          </a:prstGeom>
          <a:ln w="9360">
            <a:solidFill>
              <a:srgbClr val="00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Прямоугольник 13"/>
          <p:cNvSpPr/>
          <p:nvPr/>
        </p:nvSpPr>
        <p:spPr>
          <a:xfrm>
            <a:off x="428760" y="4000680"/>
            <a:ext cx="8286480" cy="24285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      </a:t>
            </a:r>
            <a:r>
              <a:rPr b="1" lang="de-DE" sz="4000" spc="-1" strike="noStrike">
                <a:solidFill>
                  <a:srgbClr val="92d050"/>
                </a:solidFill>
                <a:latin typeface="Garamond"/>
              </a:rPr>
              <a:t>lustig          klein            schön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2d050"/>
                </a:solidFill>
                <a:latin typeface="Garamond"/>
              </a:rPr>
              <a:t>   </a:t>
            </a:r>
            <a:r>
              <a:rPr b="1" lang="de-DE" sz="4000" spc="-1" strike="noStrike">
                <a:solidFill>
                  <a:srgbClr val="92d050"/>
                </a:solidFill>
                <a:latin typeface="Garamond"/>
              </a:rPr>
              <a:t>nett            faul              fleißig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Вставь глагол-связку «</a:t>
            </a:r>
            <a:r>
              <a:rPr b="1" lang="de-DE" sz="4400" spc="-1" strike="noStrike">
                <a:solidFill>
                  <a:srgbClr val="ff0000"/>
                </a:solidFill>
                <a:latin typeface="Garamond"/>
              </a:rPr>
              <a:t>sein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»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в правильную форму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Paul … lustig und klug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Anna … klein, aber net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Wir … lustig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Pixi … flei</a:t>
            </a:r>
            <a:r>
              <a:rPr b="0" lang="el-GR" sz="3600" spc="-1" strike="noStrike">
                <a:solidFill>
                  <a:srgbClr val="ffffff"/>
                </a:solidFill>
                <a:latin typeface="Garamond"/>
              </a:rPr>
              <a:t>β</a:t>
            </a: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ig, aber fau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Er … 8 Jahre al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Garamond"/>
              </a:rPr>
              <a:t>Sie … freundlich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cc"/>
                </a:solidFill>
                <a:latin typeface="Garamond"/>
              </a:rPr>
              <a:t>Переведите на немецк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Злой, весёлый, большой, печальный, симпатичный, хороший, красивый, молодой, прилежный, ленивы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Красный, синий, зелёный, желтый, белый, серый, чёрны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800" spc="-1" strike="noStrike">
                <a:solidFill>
                  <a:srgbClr val="ff0000"/>
                </a:solidFill>
                <a:latin typeface="Garamond"/>
              </a:rPr>
              <a:t>Danke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4:20:15Z</dcterms:created>
  <dc:creator>дом</dc:creator>
  <dc:description/>
  <dc:language>en-US</dc:language>
  <cp:lastModifiedBy>Учитель</cp:lastModifiedBy>
  <dcterms:modified xsi:type="dcterms:W3CDTF">2015-01-27T07:58:13Z</dcterms:modified>
  <cp:revision>24</cp:revision>
  <dc:subject/>
  <dc:title>Слайд 1</dc:title>
</cp:coreProperties>
</file>