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E68B-81A4-4C53-B601-0744B4E46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A70C-1060-49EC-921F-EE2AC5DD3E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0F3-4002-4907-AFC9-D5ACAFD5C4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240-D3D2-415D-A9DF-4BCAE57A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200-3D88-4FCA-BDBF-F349026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D85-3623-483E-AB9C-C5885053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7AB-895D-4E13-A2C0-15CCF4EA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E9EB-996E-4372-8EAF-86E57091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8124-5D90-4A5F-8BEF-C35B29CB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24A-C52B-4CF0-83C0-4D1C9297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0802-E4A3-4FC7-9D46-32E61510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ABAA-82BB-4788-83B6-9BF10D79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5AB-F056-481A-BB53-175257B2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5953-92CA-472B-9EA8-80AF52D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4D6-55CD-4C4B-B4D5-742187A4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B595-6727-444C-A813-EEA255FB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212-6E5E-4B96-AC84-FFB330F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8610-AD71-4A0C-B24E-B8CD2ADF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6484-03BC-422D-948F-894825A1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5984-ACAD-4393-B5CB-7204376F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7000-8282-417C-81FE-6C685670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E39C-A1C6-4096-9A5D-42ACA342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1D1C-B895-41AB-BAB0-90DA0996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19C2F-D448-4E35-879C-3527EE08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2003-C82A-43EF-87A8-2C15A731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85C-4DCC-4196-81C8-3C80737D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D8C2-88BA-492F-BAB4-060654A1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13D7-23A2-4E34-8C92-32BC275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1FC8-090D-460B-956D-3B3CFE3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94221-AF04-47C5-8DC0-F93BE4DC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2D04-F288-4996-B3FF-1E7699DE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769D-014F-48B1-85DE-31B6B5CB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32F1-3D1C-4F1D-B6E0-27FFE9FA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5A6-8B8C-4660-95EB-2498AE85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057-B589-4C84-9CCF-E2895B4B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D5B-3A44-4B7A-8032-C728E839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F0C-DD41-421A-BD61-3B256188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379-2085-474B-8AF9-140DA32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29A-73A5-4ECD-B2F5-8A23453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8AB-391B-4D68-8EBA-FAB8B193D44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E101-64E3-475D-8B8A-9A52B91DA8C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8FE0-1B57-4185-81A7-C4E5C4B0EE4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-457200" y="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151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-455400" y="316080"/>
            <a:ext cx="18072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Rectangle 35"/>
          <p:cNvGrpSpPr/>
          <p:nvPr/>
        </p:nvGrpSpPr>
        <p:grpSpPr>
          <a:xfrm>
            <a:off x="-19080" y="85680"/>
            <a:ext cx="9266400" cy="858960"/>
            <a:chOff x="-19080" y="85680"/>
            <a:chExt cx="9266400" cy="858960"/>
          </a:xfrm>
        </p:grpSpPr>
        <p:pic>
          <p:nvPicPr>
            <p:cNvPr id="133" name="Rectangle 35" descr=""/>
            <p:cNvPicPr/>
            <p:nvPr/>
          </p:nvPicPr>
          <p:blipFill>
            <a:blip r:embed="rId1"/>
            <a:stretch/>
          </p:blipFill>
          <p:spPr>
            <a:xfrm>
              <a:off x="-19080" y="85680"/>
              <a:ext cx="92664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189000"/>
              <a:ext cx="9144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eeece1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36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рганизационная  структура  ЦЛП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Схема 8" descr=""/>
          <p:cNvPicPr/>
          <p:nvPr/>
        </p:nvPicPr>
        <p:blipFill>
          <a:blip r:embed="rId2"/>
          <a:stretch/>
        </p:blipFill>
        <p:spPr>
          <a:xfrm>
            <a:off x="-12600" y="969840"/>
            <a:ext cx="8955000" cy="5029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с двумя скругленными соседними углами 9"/>
          <p:cNvSpPr/>
          <p:nvPr/>
        </p:nvSpPr>
        <p:spPr>
          <a:xfrm>
            <a:off x="857160" y="5643720"/>
            <a:ext cx="7929720" cy="928440"/>
          </a:xfrm>
          <a:prstGeom prst="pie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1c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но-методическое отде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Группа 13"/>
          <p:cNvGrpSpPr/>
          <p:nvPr/>
        </p:nvGrpSpPr>
        <p:grpSpPr>
          <a:xfrm>
            <a:off x="0" y="5786280"/>
            <a:ext cx="714240" cy="1071720"/>
            <a:chOff x="0" y="5786280"/>
            <a:chExt cx="714240" cy="1071720"/>
          </a:xfrm>
        </p:grpSpPr>
        <p:sp>
          <p:nvSpPr>
            <p:cNvPr id="139" name="Нашивка 14"/>
            <p:cNvSpPr/>
            <p:nvPr/>
          </p:nvSpPr>
          <p:spPr>
            <a:xfrm rot="5400000">
              <a:off x="-178560" y="5964840"/>
              <a:ext cx="1071720" cy="71424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1c4924"/>
            </a:solidFill>
            <a:ln w="25560">
              <a:solidFill>
                <a:srgbClr val="1c49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Нашивка 4"/>
            <p:cNvSpPr/>
            <p:nvPr/>
          </p:nvSpPr>
          <p:spPr>
            <a:xfrm>
              <a:off x="0" y="6161040"/>
              <a:ext cx="714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352080" cy="198576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8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9280" y="31680"/>
            <a:ext cx="8713800" cy="6826320"/>
          </a:xfrm>
          <a:prstGeom prst="rect">
            <a:avLst/>
          </a:prstGeom>
          <a:ln w="0">
            <a:noFill/>
          </a:ln>
        </p:spPr>
      </p:pic>
      <p:grpSp>
        <p:nvGrpSpPr>
          <p:cNvPr id="144" name="Rectangle 4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5" name="Rectangle 4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В  Центре лечебной педагогики и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дифференцированного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обучения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основным   механизмом  осуществления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реабилитации ребенка-инвалида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является  индивидуальная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программа развития ребенка, 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разработанная  с  учетом возможностей,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особенностей  и  физического состояния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каждого ребёнка</a:t>
              </a:r>
              <a:br>
                <a:rPr sz="3600"/>
              </a:b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0" y="0"/>
            <a:ext cx="9144000" cy="1152360"/>
            <a:chOff x="0" y="0"/>
            <a:chExt cx="9144000" cy="1152360"/>
          </a:xfrm>
        </p:grpSpPr>
        <p:grpSp>
          <p:nvGrpSpPr>
            <p:cNvPr id="148" name="Rectangle 7"/>
            <p:cNvGrpSpPr/>
            <p:nvPr/>
          </p:nvGrpSpPr>
          <p:grpSpPr>
            <a:xfrm>
              <a:off x="0" y="0"/>
              <a:ext cx="9144000" cy="1152360"/>
              <a:chOff x="0" y="0"/>
              <a:chExt cx="9144000" cy="1152360"/>
            </a:xfrm>
          </p:grpSpPr>
          <p:pic>
            <p:nvPicPr>
              <p:cNvPr id="149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760" y="5760"/>
                <a:ext cx="913212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Text Box 8"/>
            <p:cNvSpPr/>
            <p:nvPr/>
          </p:nvSpPr>
          <p:spPr>
            <a:xfrm>
              <a:off x="616680" y="263880"/>
              <a:ext cx="776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Программа развития ребёнк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2072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3" descr=""/>
          <p:cNvPicPr/>
          <p:nvPr/>
        </p:nvPicPr>
        <p:blipFill>
          <a:blip r:embed="rId2"/>
          <a:stretch/>
        </p:blipFill>
        <p:spPr>
          <a:xfrm>
            <a:off x="426960" y="1603440"/>
            <a:ext cx="8259840" cy="4718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7"/>
          <p:cNvSpPr/>
          <p:nvPr/>
        </p:nvSpPr>
        <p:spPr>
          <a:xfrm>
            <a:off x="2928960" y="357120"/>
            <a:ext cx="5072040" cy="714600"/>
          </a:xfrm>
          <a:prstGeom prst="rect">
            <a:avLst/>
          </a:prstGeom>
          <a:solidFill>
            <a:srgbClr val="1d4925"/>
          </a:solidFill>
          <a:ln w="25560">
            <a:solidFill>
              <a:srgbClr val="153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МПК (врач-психиатр,  учитель-дефектолог, педагог – психолог,  учитель-логопе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трелка вправо 8"/>
          <p:cNvSpPr/>
          <p:nvPr/>
        </p:nvSpPr>
        <p:spPr>
          <a:xfrm>
            <a:off x="2357280" y="57168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357120" y="357120"/>
            <a:ext cx="1785960" cy="71460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прос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Стрелка вниз 10"/>
          <p:cNvSpPr/>
          <p:nvPr/>
        </p:nvSpPr>
        <p:spPr>
          <a:xfrm>
            <a:off x="5143680" y="1143000"/>
            <a:ext cx="500040" cy="7142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1"/>
          <p:cNvSpPr/>
          <p:nvPr/>
        </p:nvSpPr>
        <p:spPr>
          <a:xfrm>
            <a:off x="2643120" y="1928880"/>
            <a:ext cx="5214960" cy="100008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АЯ ПРОГРАММА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Стрелка вниз 13"/>
          <p:cNvSpPr/>
          <p:nvPr/>
        </p:nvSpPr>
        <p:spPr>
          <a:xfrm rot="19871400">
            <a:off x="8028000" y="2432160"/>
            <a:ext cx="285840" cy="10731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Стрелка вниз 15"/>
          <p:cNvSpPr/>
          <p:nvPr/>
        </p:nvSpPr>
        <p:spPr>
          <a:xfrm>
            <a:off x="5643720" y="2928960"/>
            <a:ext cx="285480" cy="5713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трелка вниз 16"/>
          <p:cNvSpPr/>
          <p:nvPr/>
        </p:nvSpPr>
        <p:spPr>
          <a:xfrm>
            <a:off x="3500280" y="2928960"/>
            <a:ext cx="285840" cy="57132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трелка вниз 17"/>
          <p:cNvSpPr/>
          <p:nvPr/>
        </p:nvSpPr>
        <p:spPr>
          <a:xfrm rot="1638000">
            <a:off x="2106720" y="2361960"/>
            <a:ext cx="285480" cy="10922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18"/>
          <p:cNvSpPr/>
          <p:nvPr/>
        </p:nvSpPr>
        <p:spPr>
          <a:xfrm>
            <a:off x="6858000" y="3500280"/>
            <a:ext cx="2071800" cy="857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ИЗАЦИЯ И ИНТЕГРАЦИЯ В ОБЩ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19"/>
          <p:cNvSpPr/>
          <p:nvPr/>
        </p:nvSpPr>
        <p:spPr>
          <a:xfrm>
            <a:off x="4643280" y="3500280"/>
            <a:ext cx="2071800" cy="857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ЗДОРОВЛЕНИЕ И ФИЗИЧЕСК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20"/>
          <p:cNvSpPr/>
          <p:nvPr/>
        </p:nvSpPr>
        <p:spPr>
          <a:xfrm>
            <a:off x="2500200" y="3500280"/>
            <a:ext cx="2071800" cy="857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РЕКЦИЯ  И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1"/>
          <p:cNvSpPr/>
          <p:nvPr/>
        </p:nvSpPr>
        <p:spPr>
          <a:xfrm>
            <a:off x="214200" y="3500280"/>
            <a:ext cx="2071800" cy="857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Стрелка вниз 22"/>
          <p:cNvSpPr/>
          <p:nvPr/>
        </p:nvSpPr>
        <p:spPr>
          <a:xfrm>
            <a:off x="1143000" y="442908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3"/>
          <p:cNvSpPr/>
          <p:nvPr/>
        </p:nvSpPr>
        <p:spPr>
          <a:xfrm>
            <a:off x="214200" y="4786200"/>
            <a:ext cx="2071800" cy="785880"/>
          </a:xfrm>
          <a:prstGeom prst="rect">
            <a:avLst/>
          </a:prstGeom>
          <a:solidFill>
            <a:srgbClr val="1d4925"/>
          </a:solidFill>
          <a:ln w="25560">
            <a:solidFill>
              <a:srgbClr val="1d4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КОЛЬНОЕ ОТ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24"/>
          <p:cNvSpPr/>
          <p:nvPr/>
        </p:nvSpPr>
        <p:spPr>
          <a:xfrm>
            <a:off x="1285920" y="5857920"/>
            <a:ext cx="1214280" cy="71424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ШКОЛА НАДОМНОГО ОБУ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5"/>
          <p:cNvSpPr/>
          <p:nvPr/>
        </p:nvSpPr>
        <p:spPr>
          <a:xfrm>
            <a:off x="142920" y="5857920"/>
            <a:ext cx="1071360" cy="71424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ЛАССЫ КРО 1-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трелка вниз 26"/>
          <p:cNvSpPr/>
          <p:nvPr/>
        </p:nvSpPr>
        <p:spPr>
          <a:xfrm>
            <a:off x="500040" y="5643720"/>
            <a:ext cx="2858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трелка вниз 27"/>
          <p:cNvSpPr/>
          <p:nvPr/>
        </p:nvSpPr>
        <p:spPr>
          <a:xfrm>
            <a:off x="1643040" y="5643720"/>
            <a:ext cx="2858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28"/>
          <p:cNvSpPr/>
          <p:nvPr/>
        </p:nvSpPr>
        <p:spPr>
          <a:xfrm>
            <a:off x="2571840" y="4786200"/>
            <a:ext cx="2071440" cy="1785960"/>
          </a:xfrm>
          <a:prstGeom prst="rect">
            <a:avLst/>
          </a:prstGeom>
          <a:solidFill>
            <a:srgbClr val="1d4925"/>
          </a:solidFill>
          <a:ln w="25560">
            <a:solidFill>
              <a:srgbClr val="1d4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ДАГОГ – ПСИХОЛОГ УЧИТЕЛЬ-ДЕФЕКТОЛОГ УЧИТЕЛЬ-ЛОГОПЕ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трелка вниз 30"/>
          <p:cNvSpPr/>
          <p:nvPr/>
        </p:nvSpPr>
        <p:spPr>
          <a:xfrm>
            <a:off x="342900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1"/>
          <p:cNvSpPr/>
          <p:nvPr/>
        </p:nvSpPr>
        <p:spPr>
          <a:xfrm>
            <a:off x="4714920" y="4786200"/>
            <a:ext cx="2071800" cy="1785960"/>
          </a:xfrm>
          <a:prstGeom prst="rect">
            <a:avLst/>
          </a:prstGeom>
          <a:solidFill>
            <a:srgbClr val="1d4925"/>
          </a:solidFill>
          <a:ln w="25560">
            <a:solidFill>
              <a:srgbClr val="1d4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ФК, МАССАЖ, ФИЗИОТЕРАПЕВТИЧЕС-КИЕ ПРОЦЕД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Стрелка вниз 32"/>
          <p:cNvSpPr/>
          <p:nvPr/>
        </p:nvSpPr>
        <p:spPr>
          <a:xfrm>
            <a:off x="564372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трелка вниз 33"/>
          <p:cNvSpPr/>
          <p:nvPr/>
        </p:nvSpPr>
        <p:spPr>
          <a:xfrm>
            <a:off x="7143840" y="4429080"/>
            <a:ext cx="214200" cy="12859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35"/>
          <p:cNvSpPr/>
          <p:nvPr/>
        </p:nvSpPr>
        <p:spPr>
          <a:xfrm>
            <a:off x="6929280" y="5786280"/>
            <a:ext cx="2071800" cy="785880"/>
          </a:xfrm>
          <a:prstGeom prst="rect">
            <a:avLst/>
          </a:prstGeom>
          <a:solidFill>
            <a:srgbClr val="1d4925"/>
          </a:solidFill>
          <a:ln w="25560">
            <a:solidFill>
              <a:srgbClr val="1d4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УДИИ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Стрелка вниз 36"/>
          <p:cNvSpPr/>
          <p:nvPr/>
        </p:nvSpPr>
        <p:spPr>
          <a:xfrm>
            <a:off x="800100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38"/>
          <p:cNvSpPr/>
          <p:nvPr/>
        </p:nvSpPr>
        <p:spPr>
          <a:xfrm>
            <a:off x="7500960" y="4714920"/>
            <a:ext cx="1500120" cy="78588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 ДОСУГА ДЕ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240840" cy="1500120"/>
          </a:xfrm>
          <a:prstGeom prst="rect">
            <a:avLst/>
          </a:prstGeom>
          <a:ln w="0">
            <a:noFill/>
          </a:ln>
        </p:spPr>
      </p:pic>
      <p:pic>
        <p:nvPicPr>
          <p:cNvPr id="182" name="Схема 8" descr=""/>
          <p:cNvPicPr/>
          <p:nvPr/>
        </p:nvPicPr>
        <p:blipFill>
          <a:blip r:embed="rId2"/>
          <a:stretch/>
        </p:blipFill>
        <p:spPr>
          <a:xfrm>
            <a:off x="128520" y="1212840"/>
            <a:ext cx="9028080" cy="23590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1"/>
          <p:cNvSpPr/>
          <p:nvPr/>
        </p:nvSpPr>
        <p:spPr>
          <a:xfrm>
            <a:off x="500040" y="207180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гностический 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Блок-схема: альтернативный процесс 12"/>
          <p:cNvSpPr/>
          <p:nvPr/>
        </p:nvSpPr>
        <p:spPr>
          <a:xfrm>
            <a:off x="214200" y="3786120"/>
            <a:ext cx="3942000" cy="92880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рекционный 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Группа 13"/>
          <p:cNvGrpSpPr/>
          <p:nvPr/>
        </p:nvGrpSpPr>
        <p:grpSpPr>
          <a:xfrm>
            <a:off x="4740120" y="3643200"/>
            <a:ext cx="4403880" cy="711360"/>
            <a:chOff x="4740120" y="3643200"/>
            <a:chExt cx="4403880" cy="711360"/>
          </a:xfrm>
        </p:grpSpPr>
        <p:sp>
          <p:nvSpPr>
            <p:cNvPr id="186" name="Блок-схема: сохраненные данные 14"/>
            <p:cNvSpPr/>
            <p:nvPr/>
          </p:nvSpPr>
          <p:spPr>
            <a:xfrm>
              <a:off x="4740120" y="3643200"/>
              <a:ext cx="4403880" cy="711360"/>
            </a:xfrm>
            <a:prstGeom prst="flowChartOnlineStorage">
              <a:avLst/>
            </a:prstGeom>
            <a:solidFill>
              <a:srgbClr val="1c492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Блок-схема: сохраненные данные 4"/>
            <p:cNvSpPr/>
            <p:nvPr/>
          </p:nvSpPr>
          <p:spPr>
            <a:xfrm>
              <a:off x="5473440" y="3643200"/>
              <a:ext cx="293688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оставление ИП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Группа 16"/>
          <p:cNvGrpSpPr/>
          <p:nvPr/>
        </p:nvGrpSpPr>
        <p:grpSpPr>
          <a:xfrm>
            <a:off x="4775040" y="4357800"/>
            <a:ext cx="4368960" cy="785880"/>
            <a:chOff x="4775040" y="4357800"/>
            <a:chExt cx="4368960" cy="785880"/>
          </a:xfrm>
        </p:grpSpPr>
        <p:sp>
          <p:nvSpPr>
            <p:cNvPr id="189" name="Блок-схема: сохраненные данные 17"/>
            <p:cNvSpPr/>
            <p:nvPr/>
          </p:nvSpPr>
          <p:spPr>
            <a:xfrm>
              <a:off x="4775040" y="4357800"/>
              <a:ext cx="4368960" cy="785880"/>
            </a:xfrm>
            <a:prstGeom prst="flowChartOnlineStorage">
              <a:avLst/>
            </a:prstGeom>
            <a:solidFill>
              <a:srgbClr val="1c492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Блок-схема: сохраненные данные 4"/>
            <p:cNvSpPr/>
            <p:nvPr/>
          </p:nvSpPr>
          <p:spPr>
            <a:xfrm>
              <a:off x="5503680" y="4357800"/>
              <a:ext cx="29116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40" rIns="1584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Реализация ИПР в ходе групповых и индивидуальных занят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Группа 19"/>
          <p:cNvGrpSpPr/>
          <p:nvPr/>
        </p:nvGrpSpPr>
        <p:grpSpPr>
          <a:xfrm>
            <a:off x="4775040" y="5429160"/>
            <a:ext cx="4368960" cy="590760"/>
            <a:chOff x="4775040" y="5429160"/>
            <a:chExt cx="4368960" cy="590760"/>
          </a:xfrm>
        </p:grpSpPr>
        <p:sp>
          <p:nvSpPr>
            <p:cNvPr id="192" name="Блок-схема: сохраненные данные 20"/>
            <p:cNvSpPr/>
            <p:nvPr/>
          </p:nvSpPr>
          <p:spPr>
            <a:xfrm>
              <a:off x="4775040" y="5429160"/>
              <a:ext cx="4368960" cy="590760"/>
            </a:xfrm>
            <a:prstGeom prst="flowChartOnlineStorage">
              <a:avLst/>
            </a:prstGeom>
            <a:solidFill>
              <a:srgbClr val="1c492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Блок-схема: сохраненные данные 4"/>
            <p:cNvSpPr/>
            <p:nvPr/>
          </p:nvSpPr>
          <p:spPr>
            <a:xfrm>
              <a:off x="5503680" y="5429160"/>
              <a:ext cx="29116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40" rIns="1584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Times New Roman"/>
                </a:rPr>
                <a:t>Мониторинг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Группа 22"/>
          <p:cNvGrpSpPr/>
          <p:nvPr/>
        </p:nvGrpSpPr>
        <p:grpSpPr>
          <a:xfrm>
            <a:off x="4775040" y="6072120"/>
            <a:ext cx="4368960" cy="785880"/>
            <a:chOff x="4775040" y="6072120"/>
            <a:chExt cx="4368960" cy="785880"/>
          </a:xfrm>
        </p:grpSpPr>
        <p:sp>
          <p:nvSpPr>
            <p:cNvPr id="195" name="Блок-схема: сохраненные данные 23"/>
            <p:cNvSpPr/>
            <p:nvPr/>
          </p:nvSpPr>
          <p:spPr>
            <a:xfrm>
              <a:off x="4775040" y="6072120"/>
              <a:ext cx="4368960" cy="785880"/>
            </a:xfrm>
            <a:prstGeom prst="flowChartOnlineStorage">
              <a:avLst/>
            </a:prstGeom>
            <a:solidFill>
              <a:srgbClr val="1c492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Блок-схема: сохраненные данные 4"/>
            <p:cNvSpPr/>
            <p:nvPr/>
          </p:nvSpPr>
          <p:spPr>
            <a:xfrm>
              <a:off x="5503680" y="6072120"/>
              <a:ext cx="285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40" rIns="1584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Times New Roman"/>
                </a:rPr>
                <a:t>Консультативная поддержк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Блок-схема: альтернативный процесс 28"/>
          <p:cNvSpPr/>
          <p:nvPr/>
        </p:nvSpPr>
        <p:spPr>
          <a:xfrm>
            <a:off x="285840" y="5500800"/>
            <a:ext cx="3941640" cy="91116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 перехода в другое учре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Левая фигурная скобка 29"/>
          <p:cNvSpPr/>
          <p:nvPr/>
        </p:nvSpPr>
        <p:spPr>
          <a:xfrm>
            <a:off x="4214880" y="3857760"/>
            <a:ext cx="500040" cy="92844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928440"/>
              <a:gd name="textAreaBottom" fmla="*/ 91548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5400" y="10800"/>
                  <a:pt x="0" y="10800"/>
                </a:cubicBezTo>
                <a:cubicBezTo>
                  <a:pt x="54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Левая фигурная скобка 30"/>
          <p:cNvSpPr/>
          <p:nvPr/>
        </p:nvSpPr>
        <p:spPr>
          <a:xfrm>
            <a:off x="4143240" y="5572080"/>
            <a:ext cx="617760" cy="1000080"/>
          </a:xfrm>
          <a:custGeom>
            <a:avLst/>
            <a:gdLst>
              <a:gd name="textAreaLeft" fmla="*/ 394560 w 617760"/>
              <a:gd name="textAreaRight" fmla="*/ 618120 w 617760"/>
              <a:gd name="textAreaTop" fmla="*/ 15840 h 1000080"/>
              <a:gd name="textAreaBottom" fmla="*/ 98424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6"/>
                  <a:pt x="10800" y="1111"/>
                </a:cubicBezTo>
                <a:lnTo>
                  <a:pt x="10800" y="9689"/>
                </a:lnTo>
                <a:cubicBezTo>
                  <a:pt x="10800" y="10245"/>
                  <a:pt x="5400" y="10800"/>
                  <a:pt x="0" y="10800"/>
                </a:cubicBezTo>
                <a:cubicBezTo>
                  <a:pt x="5400" y="10800"/>
                  <a:pt x="10800" y="11356"/>
                  <a:pt x="10800" y="11911"/>
                </a:cubicBezTo>
                <a:lnTo>
                  <a:pt x="10800" y="20489"/>
                </a:lnTo>
                <a:cubicBezTo>
                  <a:pt x="10800" y="21045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Левая фигурная скобка 31"/>
          <p:cNvSpPr/>
          <p:nvPr/>
        </p:nvSpPr>
        <p:spPr>
          <a:xfrm>
            <a:off x="4143240" y="1643040"/>
            <a:ext cx="571680" cy="142884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1428840"/>
              <a:gd name="textAreaBottom" fmla="*/ 141408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71280" y="1643040"/>
            <a:ext cx="4286520" cy="171468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ДИВИДУАЛЬН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142920" y="4643280"/>
            <a:ext cx="4286160" cy="114300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ШРУТНЫЙ Л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6143760" y="1428840"/>
            <a:ext cx="2786040" cy="71424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ИЕ СВЕДЕНИЯ  О РЕБЕ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6143760" y="2214720"/>
            <a:ext cx="2857320" cy="785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КОЛ  ПМ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6143760" y="3071880"/>
            <a:ext cx="2857320" cy="157140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АГНОСТИКА И МОНИТОРИНГ УСПЕШНОСТИ ОБУЧЕНИЯ СПЕЦИАЛИСТОВ ОТДЕЛЕНИЯ (ЛОГОПЕД, ДЕФЕКТОЛОГ, ПСИХОЛО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6143760" y="4714920"/>
            <a:ext cx="2857320" cy="85716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ИТОРИНГ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6143760" y="5643720"/>
            <a:ext cx="2857320" cy="107136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АЯ ПРОГРАММА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трелка вниз 8"/>
          <p:cNvSpPr/>
          <p:nvPr/>
        </p:nvSpPr>
        <p:spPr>
          <a:xfrm>
            <a:off x="2286000" y="3429000"/>
            <a:ext cx="357120" cy="11430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Стрелка вправо 15"/>
          <p:cNvSpPr/>
          <p:nvPr/>
        </p:nvSpPr>
        <p:spPr>
          <a:xfrm>
            <a:off x="4429080" y="2286000"/>
            <a:ext cx="1214640" cy="7142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Левая фигурная скобка 16"/>
          <p:cNvSpPr/>
          <p:nvPr/>
        </p:nvSpPr>
        <p:spPr>
          <a:xfrm>
            <a:off x="5500800" y="1714680"/>
            <a:ext cx="571320" cy="47862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4786200"/>
              <a:gd name="textAreaBottom" fmla="*/ 4771440 h 47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5"/>
                </a:cubicBezTo>
                <a:lnTo>
                  <a:pt x="10800" y="10634"/>
                </a:lnTo>
                <a:cubicBezTo>
                  <a:pt x="10800" y="10742"/>
                  <a:pt x="5400" y="10849"/>
                  <a:pt x="0" y="10849"/>
                </a:cubicBezTo>
                <a:cubicBezTo>
                  <a:pt x="5400" y="10849"/>
                  <a:pt x="10800" y="10957"/>
                  <a:pt x="10800" y="11064"/>
                </a:cubicBezTo>
                <a:lnTo>
                  <a:pt x="10800" y="21385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Заголовок 1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Содержание индивидуальной карты учащегося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723160" cy="1262160"/>
          </a:xfrm>
          <a:prstGeom prst="rect">
            <a:avLst/>
          </a:prstGeom>
          <a:ln w="0">
            <a:noFill/>
          </a:ln>
        </p:spPr>
      </p:pic>
      <p:sp>
        <p:nvSpPr>
          <p:cNvPr id="213" name="Скругленный прямоугольник 2"/>
          <p:cNvSpPr/>
          <p:nvPr/>
        </p:nvSpPr>
        <p:spPr>
          <a:xfrm>
            <a:off x="357120" y="1571760"/>
            <a:ext cx="3571920" cy="2071440"/>
          </a:xfrm>
          <a:prstGeom prst="roundRect">
            <a:avLst>
              <a:gd name="adj" fmla="val 16667"/>
            </a:avLst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агностически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протоколы ПМПК  Центра, ОПМПК, ГПМП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Скругленный прямоугольник 3"/>
          <p:cNvSpPr/>
          <p:nvPr/>
        </p:nvSpPr>
        <p:spPr>
          <a:xfrm>
            <a:off x="5214960" y="2000160"/>
            <a:ext cx="3429000" cy="1928880"/>
          </a:xfrm>
          <a:prstGeom prst="roundRect">
            <a:avLst>
              <a:gd name="adj" fmla="val 16667"/>
            </a:avLst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видуальная програм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его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4"/>
          <p:cNvSpPr/>
          <p:nvPr/>
        </p:nvSpPr>
        <p:spPr>
          <a:xfrm>
            <a:off x="2286000" y="4572000"/>
            <a:ext cx="3786120" cy="1928880"/>
          </a:xfrm>
          <a:prstGeom prst="roundRect">
            <a:avLst>
              <a:gd name="adj" fmla="val 16667"/>
            </a:avLst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ниторинг успешности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Выгнутая вправо стрелка 6"/>
          <p:cNvSpPr/>
          <p:nvPr/>
        </p:nvSpPr>
        <p:spPr>
          <a:xfrm>
            <a:off x="6215040" y="4000680"/>
            <a:ext cx="1000080" cy="192852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388440 h 1928520"/>
              <a:gd name="textAreaBottom" fmla="*/ 141516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00" stAng="-5400000" swAng="5400000"/>
                <a:lnTo>
                  <a:pt x="21600" y="11500"/>
                </a:lnTo>
                <a:arcTo wR="21600" hR="8700" stAng="0" swAng="3440297"/>
                <a:lnTo>
                  <a:pt x="5400" y="21324"/>
                </a:lnTo>
                <a:lnTo>
                  <a:pt x="0" y="18800"/>
                </a:lnTo>
                <a:lnTo>
                  <a:pt x="5400" y="15724"/>
                </a:lnTo>
                <a:lnTo>
                  <a:pt x="5400" y="17124"/>
                </a:lnTo>
                <a:arcTo wR="21600" hR="8700" stAng="3440297" swAng="-3214861"/>
                <a:lnTo>
                  <a:pt x="21318" y="10100"/>
                </a:lnTo>
                <a:arcTo wR="21600" hR="8700" stAng="-225435" swAng="-5174565"/>
                <a:close/>
              </a:path>
              <a:path fill="darkenLess" w="21600" h="21600">
                <a:moveTo>
                  <a:pt x="0" y="0"/>
                </a:moveTo>
                <a:arcTo wR="21600" hR="8700" stAng="-5400000" swAng="5400000"/>
                <a:lnTo>
                  <a:pt x="21600" y="11500"/>
                </a:lnTo>
                <a:arcTo wR="21600" hR="8700" stAng="0" swAng="-225435"/>
                <a:lnTo>
                  <a:pt x="21318" y="10100"/>
                </a:lnTo>
                <a:arcTo wR="21600" hR="8700" stAng="-225435" swAng="-5174565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Выгнутая вверх стрелка 7"/>
          <p:cNvSpPr/>
          <p:nvPr/>
        </p:nvSpPr>
        <p:spPr>
          <a:xfrm>
            <a:off x="4000680" y="1928880"/>
            <a:ext cx="1214280" cy="714240"/>
          </a:xfrm>
          <a:custGeom>
            <a:avLst/>
            <a:gdLst>
              <a:gd name="textAreaLeft" fmla="*/ 236520 w 1214280"/>
              <a:gd name="textAreaRight" fmla="*/ 888480 w 121428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18" hR="21600" stAng="10800000" swAng="5400000"/>
                <a:lnTo>
                  <a:pt x="11595" y="0"/>
                </a:lnTo>
                <a:arcTo wR="8418" hR="21600" stAng="-5400000" swAng="3388389"/>
                <a:lnTo>
                  <a:pt x="21333" y="16200"/>
                </a:lnTo>
                <a:lnTo>
                  <a:pt x="18424" y="21600"/>
                </a:lnTo>
                <a:lnTo>
                  <a:pt x="14980" y="16200"/>
                </a:lnTo>
                <a:lnTo>
                  <a:pt x="16568" y="16200"/>
                </a:lnTo>
                <a:arcTo wR="8418" hR="21600" stAng="-2011611" swAng="-3131425"/>
                <a:lnTo>
                  <a:pt x="10006" y="388"/>
                </a:lnTo>
                <a:arcTo wR="8418" hR="21600" stAng="-5656964" swAng="-5143036"/>
                <a:close/>
              </a:path>
              <a:path fill="darkenLess" w="21600" h="21600">
                <a:moveTo>
                  <a:pt x="0" y="21600"/>
                </a:moveTo>
                <a:arcTo wR="8418" hR="21600" stAng="10800000" swAng="5400000"/>
                <a:lnTo>
                  <a:pt x="8418" y="0"/>
                </a:lnTo>
                <a:arcTo wR="8418" hR="21600" stAng="-5400000" swAng="256964"/>
                <a:lnTo>
                  <a:pt x="10006" y="388"/>
                </a:lnTo>
                <a:arcTo wR="8418" hR="21600" stAng="-5656964" swAng="-5143036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Выгнутая влево стрелка 10"/>
          <p:cNvSpPr/>
          <p:nvPr/>
        </p:nvSpPr>
        <p:spPr>
          <a:xfrm flipV="1">
            <a:off x="928800" y="3714840"/>
            <a:ext cx="1143000" cy="22860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464400 h 2286000"/>
              <a:gd name="textAreaBottom" fmla="*/ 1679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3453680"/>
                <a:lnTo>
                  <a:pt x="16200" y="21321"/>
                </a:lnTo>
                <a:lnTo>
                  <a:pt x="21600" y="18900"/>
                </a:lnTo>
                <a:lnTo>
                  <a:pt x="16200" y="15921"/>
                </a:lnTo>
                <a:lnTo>
                  <a:pt x="16200" y="17271"/>
                </a:lnTo>
                <a:arcTo wR="21600" hR="8775" stAng="7346320" swAng="3236521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321760" cy="1719360"/>
          </a:xfrm>
          <a:prstGeom prst="rect">
            <a:avLst/>
          </a:prstGeom>
          <a:ln w="0">
            <a:noFill/>
          </a:ln>
        </p:spPr>
      </p:pic>
      <p:sp>
        <p:nvSpPr>
          <p:cNvPr id="220" name="Блок-схема: альтернативный процесс 2"/>
          <p:cNvSpPr/>
          <p:nvPr/>
        </p:nvSpPr>
        <p:spPr>
          <a:xfrm>
            <a:off x="571680" y="1500120"/>
            <a:ext cx="8215200" cy="100008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сная  взаимосвязь лечебного и педагогического проце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Блок-схема: альтернативный процесс 3"/>
          <p:cNvSpPr/>
          <p:nvPr/>
        </p:nvSpPr>
        <p:spPr>
          <a:xfrm>
            <a:off x="571680" y="2714760"/>
            <a:ext cx="8215200" cy="100008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обходимость индивидуального подхода к каждому ребе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Блок-схема: альтернативный процесс 4"/>
          <p:cNvSpPr/>
          <p:nvPr/>
        </p:nvSpPr>
        <p:spPr>
          <a:xfrm>
            <a:off x="571680" y="3929040"/>
            <a:ext cx="8286480" cy="92880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нцип  соответствия» требований и нагрузок предъявляемых ребенку с ОВ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Блок-схема: альтернативный процесс 5"/>
          <p:cNvSpPr/>
          <p:nvPr/>
        </p:nvSpPr>
        <p:spPr>
          <a:xfrm>
            <a:off x="500040" y="5000760"/>
            <a:ext cx="8358120" cy="164304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ализация адресных медико-педагогических и психолого-социальных образовательных программ, основанных на принципах дифференцированного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Выгнутая влево стрелка 6"/>
          <p:cNvSpPr/>
          <p:nvPr/>
        </p:nvSpPr>
        <p:spPr>
          <a:xfrm>
            <a:off x="214200" y="3357720"/>
            <a:ext cx="357480" cy="1285560"/>
          </a:xfrm>
          <a:custGeom>
            <a:avLst/>
            <a:gdLst>
              <a:gd name="textAreaLeft" fmla="*/ 47880 w 357480"/>
              <a:gd name="textAreaRight" fmla="*/ 309600 w 357480"/>
              <a:gd name="textAreaTop" fmla="*/ 287640 h 1285560"/>
              <a:gd name="textAreaBottom" fmla="*/ 95292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75" stAng="-5400000" swAng="-5400000"/>
                <a:lnTo>
                  <a:pt x="0" y="11175"/>
                </a:lnTo>
                <a:arcTo wR="21600" hR="9675" stAng="10800000" swAng="-3602337"/>
                <a:lnTo>
                  <a:pt x="16200" y="21293"/>
                </a:lnTo>
                <a:lnTo>
                  <a:pt x="21600" y="20100"/>
                </a:lnTo>
                <a:lnTo>
                  <a:pt x="16200" y="18293"/>
                </a:lnTo>
                <a:lnTo>
                  <a:pt x="16200" y="19043"/>
                </a:lnTo>
                <a:arcTo wR="21600" hR="9675" stAng="7197663" swAng="3482659"/>
                <a:lnTo>
                  <a:pt x="65" y="10425"/>
                </a:lnTo>
                <a:arcTo wR="21600" hR="9675" stAng="-10680322" swAng="5280322"/>
                <a:close/>
              </a:path>
              <a:path fill="darkenLess" w="21600" h="21600">
                <a:moveTo>
                  <a:pt x="21600" y="0"/>
                </a:moveTo>
                <a:arcTo wR="21600" hR="9675" stAng="-5400000" swAng="-5400000"/>
                <a:lnTo>
                  <a:pt x="0" y="9675"/>
                </a:lnTo>
                <a:arcTo wR="21600" hR="9675" stAng="10800000" swAng="-119678"/>
                <a:lnTo>
                  <a:pt x="65" y="10425"/>
                </a:lnTo>
                <a:arcTo wR="21600" hR="9675" stAng="-10680322" swAng="5280322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Выгнутая влево стрелка 7"/>
          <p:cNvSpPr/>
          <p:nvPr/>
        </p:nvSpPr>
        <p:spPr>
          <a:xfrm>
            <a:off x="214200" y="4643280"/>
            <a:ext cx="357480" cy="1285920"/>
          </a:xfrm>
          <a:custGeom>
            <a:avLst/>
            <a:gdLst>
              <a:gd name="textAreaLeft" fmla="*/ 47880 w 357480"/>
              <a:gd name="textAreaRight" fmla="*/ 309600 w 357480"/>
              <a:gd name="textAreaTop" fmla="*/ 288000 h 1285920"/>
              <a:gd name="textAreaBottom" fmla="*/ 95328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75" stAng="-5400000" swAng="-5400000"/>
                <a:lnTo>
                  <a:pt x="0" y="11175"/>
                </a:lnTo>
                <a:arcTo wR="21600" hR="9675" stAng="10800000" swAng="-3602337"/>
                <a:lnTo>
                  <a:pt x="16200" y="21293"/>
                </a:lnTo>
                <a:lnTo>
                  <a:pt x="21600" y="20100"/>
                </a:lnTo>
                <a:lnTo>
                  <a:pt x="16200" y="18293"/>
                </a:lnTo>
                <a:lnTo>
                  <a:pt x="16200" y="19043"/>
                </a:lnTo>
                <a:arcTo wR="21600" hR="9675" stAng="7197663" swAng="3482659"/>
                <a:lnTo>
                  <a:pt x="65" y="10425"/>
                </a:lnTo>
                <a:arcTo wR="21600" hR="9675" stAng="-10680322" swAng="5280322"/>
                <a:close/>
              </a:path>
              <a:path fill="darkenLess" w="21600" h="21600">
                <a:moveTo>
                  <a:pt x="21600" y="0"/>
                </a:moveTo>
                <a:arcTo wR="21600" hR="9675" stAng="-5400000" swAng="-5400000"/>
                <a:lnTo>
                  <a:pt x="0" y="9675"/>
                </a:lnTo>
                <a:arcTo wR="21600" hR="9675" stAng="10800000" swAng="-119678"/>
                <a:lnTo>
                  <a:pt x="65" y="10425"/>
                </a:lnTo>
                <a:arcTo wR="21600" hR="9675" stAng="-10680322" swAng="5280322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Выгнутая влево стрелка 8"/>
          <p:cNvSpPr/>
          <p:nvPr/>
        </p:nvSpPr>
        <p:spPr>
          <a:xfrm>
            <a:off x="285840" y="2143080"/>
            <a:ext cx="357120" cy="1285920"/>
          </a:xfrm>
          <a:custGeom>
            <a:avLst/>
            <a:gdLst>
              <a:gd name="textAreaLeft" fmla="*/ 47880 w 357120"/>
              <a:gd name="textAreaRight" fmla="*/ 309240 w 357120"/>
              <a:gd name="textAreaTop" fmla="*/ 288000 h 1285920"/>
              <a:gd name="textAreaBottom" fmla="*/ 95328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75" stAng="-5400000" swAng="-5400000"/>
                <a:lnTo>
                  <a:pt x="0" y="11175"/>
                </a:lnTo>
                <a:arcTo wR="21600" hR="9675" stAng="10800000" swAng="-3602337"/>
                <a:lnTo>
                  <a:pt x="16200" y="21293"/>
                </a:lnTo>
                <a:lnTo>
                  <a:pt x="21600" y="20100"/>
                </a:lnTo>
                <a:lnTo>
                  <a:pt x="16200" y="18293"/>
                </a:lnTo>
                <a:lnTo>
                  <a:pt x="16200" y="19043"/>
                </a:lnTo>
                <a:arcTo wR="21600" hR="9675" stAng="7197663" swAng="3482659"/>
                <a:lnTo>
                  <a:pt x="65" y="10425"/>
                </a:lnTo>
                <a:arcTo wR="21600" hR="9675" stAng="-10680322" swAng="5280322"/>
                <a:close/>
              </a:path>
              <a:path fill="darkenLess" w="21600" h="21600">
                <a:moveTo>
                  <a:pt x="21600" y="0"/>
                </a:moveTo>
                <a:arcTo wR="21600" hR="9675" stAng="-5400000" swAng="-5400000"/>
                <a:lnTo>
                  <a:pt x="0" y="9675"/>
                </a:lnTo>
                <a:arcTo wR="21600" hR="9675" stAng="10800000" swAng="-119678"/>
                <a:lnTo>
                  <a:pt x="65" y="10425"/>
                </a:lnTo>
                <a:arcTo wR="21600" hR="9675" stAng="-10680322" swAng="5280322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01-29T09:51:54Z</dcterms:modified>
  <cp:revision>62</cp:revision>
  <dc:subject/>
  <dc:title>Отделение диагностики, коррекции и развития</dc:title>
</cp:coreProperties>
</file>