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291-A3A5-4EFD-B16A-DB93E7CC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E0A-EDDA-4CAE-9D5F-A8B19F7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1E6-4E63-4273-B0B7-671E7AD8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50D-E9E7-4C19-ADCA-3D317714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DD90-0948-4BE5-978A-EB8FC552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9E3-B864-40F0-9A74-242B16E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3237-BCD5-45E4-8F5E-BBE2D951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1B1-EEE4-4E0A-8AF2-BB43A30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04AF-401E-4ADE-BAF4-E2289E1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9293-9B30-4AE9-9333-E4D19B17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225-B297-4FEA-A106-98ECDB5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415-BCE1-4B52-BCDD-817E452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B0BF-28C8-4D0F-B6B7-14B790F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5C25-0EC8-4CDA-A025-270EFB1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79DD-6CEA-43EB-BA41-AFCD8C2B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68F1-53BB-44FC-8955-E639AD3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62AC-83AC-426E-91AA-17DBBC5F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FBC-8EEF-4246-B0E6-C076C2A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840-334C-49BB-8779-51D0D22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6B9-094E-4526-A09A-1D658287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2F3-FE30-4730-83F2-A9BEC5A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748-00AD-4773-9AF8-B38C4F82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22E-990E-4CAF-995A-E6DF3C34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F3D-A19D-4147-871C-B114DDF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687856 (1)"/>
          <p:cNvPicPr/>
          <p:nvPr/>
        </p:nvPicPr>
        <p:blipFill>
          <a:blip r:embed="rId2"/>
          <a:srcRect l="0" t="0" r="0" b="78183"/>
          <a:stretch/>
        </p:blipFill>
        <p:spPr>
          <a:xfrm>
            <a:off x="0" y="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E948-3129-4AB4-9B2E-A2988A0306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7687856 (1)"/>
          <p:cNvPicPr/>
          <p:nvPr/>
        </p:nvPicPr>
        <p:blipFill>
          <a:blip r:embed="rId2"/>
          <a:stretch/>
        </p:blipFill>
        <p:spPr>
          <a:xfrm>
            <a:off x="-36360" y="-27000"/>
            <a:ext cx="9188280" cy="6892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115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6208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925-C53A-435C-B331-D9A923C8F3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203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зменение цвета              листьев у растений</a:t>
            </a:r>
            <a:endParaRPr b="1" lang="en-US" sz="6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392720" y="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айкальская краевая гимназия-интерн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975280" y="4365720"/>
            <a:ext cx="31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учениц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ласса 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икова Алл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637080" y="6165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851280" y="1594800"/>
            <a:ext cx="49705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69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6000" spc="-1" strike="noStrike" u="sng">
                <a:solidFill>
                  <a:srgbClr val="009900"/>
                </a:solidFill>
                <a:uFillTx/>
                <a:latin typeface="Arial"/>
              </a:rPr>
              <a:t>Спасибо за внимани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79280" y="474120"/>
            <a:ext cx="835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узнать, почему листья меняют цв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узнать от чего зависит цвет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изучить влияние света на окраску листв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едположим, что цвет листвы зависит от количества света и теп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 исследования: листь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исследования: окраска листь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Теоретическ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литературы по проблем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сети Интерн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Эмпирическ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людения за растениями в природ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эксперим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чего зависит цвет листьев</a:t>
            </a: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058120"/>
            <a:ext cx="848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канях любого растения присутствует несколько пигментов. Главным из них является зеленый хлорофилл, но есть антоциан – красный пигмент, ксантозин – жёлтый, каротин – оранжевый,  известен и бетулин, который окрашивает ткани в белый цв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B1jOXKToPPEl5ANBNPgnQyy-eDQE8qg2tstihOf95Fj0OGoyBLxbI8mi1"/>
          <p:cNvPicPr/>
          <p:nvPr/>
        </p:nvPicPr>
        <p:blipFill>
          <a:blip r:embed="rId1"/>
          <a:stretch/>
        </p:blipFill>
        <p:spPr>
          <a:xfrm>
            <a:off x="2340000" y="443700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egYSgvHyL786Xnw-tf_8AF0FQX3T36G8Ug2DJvPCpwb8tJrsvNixb5g"/>
          <p:cNvPicPr/>
          <p:nvPr/>
        </p:nvPicPr>
        <p:blipFill>
          <a:blip r:embed="rId2"/>
          <a:stretch/>
        </p:blipFill>
        <p:spPr>
          <a:xfrm>
            <a:off x="5076720" y="443700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RvnUZl1wUIRAxtH8L5qsp0KpMd5FZ3jIvq_aZ0lyqBdHe9Y-iLfXzy30fZ"/>
          <p:cNvPicPr/>
          <p:nvPr/>
        </p:nvPicPr>
        <p:blipFill>
          <a:blip r:embed="rId3"/>
          <a:stretch/>
        </p:blipFill>
        <p:spPr>
          <a:xfrm>
            <a:off x="0" y="4437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ANd9GcSgwzX14iFzmW3iicmGbtB2qOafGK2bMhE9HYwUFwAmAJc52TmLamd81SEc"/>
          <p:cNvPicPr/>
          <p:nvPr/>
        </p:nvPicPr>
        <p:blipFill>
          <a:blip r:embed="rId4"/>
          <a:stretch/>
        </p:blipFill>
        <p:spPr>
          <a:xfrm>
            <a:off x="7164360" y="443700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ена окраски листьев</a:t>
            </a:r>
            <a:endParaRPr b="1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4360" y="1261080"/>
            <a:ext cx="8459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роде бесконечно и постоянно сменяется окраска растений. Общий колорит пейзажей меняется не 3 раза (в зависимости от времени года), а не менее 9 раз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ранней весной серовато-черные оттенки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позже желто-зеленые тона слабой насыщенности и светлоты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в конце весны появляются нежные зеленые тона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начало лета характеризуется насыщенными зелеными тонами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затем преобладает темно-зеленый колорит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осенью больше желтых, красных тонов разной насыщенности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поздней осенью  растения имеют слабую желтую окраску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 после мы наблюдаем тусклые серые тона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9.а затем перед нами темно-серый колорит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20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вета на окраску листвы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06560" y="270288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нью листья растений теряют свой яркий зеленый цвет В листьях начинаются  химические превращения. Питательные вещества медленно перемещаются из листьев в ветви, ствол, корень и запасаются там, на время суровых холодов. С наступлением весны растения используют запасенную энергию для выращивания новых зеленых листьев. Когда энергия запасенных питательных веществ исчерпывается, выработка хлорофилла прекращается. Оставшийся в листьях хлорофилл частично распадае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20108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 №1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909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одтверждения гипотезы о том, что на цвет листвы влияют свет и тепло мы провели эксперимент, вернее мы наблюдали за тем, как изменяется цвет иголочки у сосны, Когда папа принёс сосенку перед Новым годом, цвет её иголок был желтовато-зелёным. Мы установили дерево в подставку с водой. Через два дня иглы стали ярко-зелеными, блестящими. В прошлом году мы после праздников вынесли сосну во двор, Постепенно ярко-зелёные иглы без влаги стали жёлтыми и тусклыми, а затем облетели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, мы можем сделать вывод о том, что на окраску листвы влияют не только солнечный свет ,но и  вода, питательные вещест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лы сосны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ёлто-зелёная                          Ярко-зелёная                               Жёлтая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1081080" cy="208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7164360" y="4292640"/>
            <a:ext cx="115272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108108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20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 №2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5280" y="163836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 драцены имеет ярко-зелёную окраску с красной полоской по кра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 ,чтобы проверить гипотезу о том, что на цвет листвы влияет свет мы закрыли часть листика драцены непрозрачным скотчем. После снятия скотча окраска листа осталась без измене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, на окраску и закрытой части листа влияет хлорофилл, вырабатывающийся во всём растен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0" y="3933720"/>
            <a:ext cx="3368520" cy="252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 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90560" y="1413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наблюдали мы и за изменением оттенка зеленого у перышек лука. В темном прохладном месте окраска была бедно-зеленая, почти белая. После того, как мы поставили луковицу в банку с водой на подоконник, цвет  стал  ярким ,а со временем становился все более темным. Мы можем сделать вывод о том, что яркость окраски зависит от освещ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1512720" cy="3527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41444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1471680" cy="35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01480" y="1626120"/>
            <a:ext cx="864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69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снове проведенного исследования, мы можем сделать вывод о том, что на окраску листьев влияет хлорофилл, который вырабатывается под воздействием солнечного света. Недостаток или отсутствие света приводит к изменению или утрате зеленой окраски листье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0:37:27Z</dcterms:created>
  <dc:creator>User</dc:creator>
  <dc:description/>
  <dc:language>en-US</dc:language>
  <cp:lastModifiedBy>Владимир Владимирович Стуков</cp:lastModifiedBy>
  <dcterms:modified xsi:type="dcterms:W3CDTF">2015-01-29T07:26:20Z</dcterms:modified>
  <cp:revision>12</cp:revision>
  <dc:subject/>
  <dc:title>«Изменение цвета              листьев у растений» </dc:title>
</cp:coreProperties>
</file>