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CB2-44E1-4798-8839-E0665B87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476-1BB3-48F0-8514-AA326AA8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423-216E-45DA-8E0F-5A0F7214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6B5-DC51-4879-9B7F-86926CD2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A413-8454-4987-ABAB-152527B8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6D2E-20A0-4F84-AC6E-F90F480B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CFB6-B11C-4818-9C92-328CF14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B027-DC65-44A5-A97E-6F9FEEBB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9FDE-6B7E-4E79-BE3B-E82D9F36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7A99-9808-43D9-9D1D-8B6EB4D3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2C2A-6FC7-4E7C-8B33-BD86E8E2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C75-5516-4F78-A64A-3F8C2C80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520C-773C-4C07-8C8D-E573250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7BF1-B5D2-4C81-9AB8-6CBF20D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B451-BDB4-43C7-8F11-AE7B2013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82F6-F861-41D5-BF9E-645A6394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D209-8326-4170-A83C-58E71B77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269-0E35-471E-91A7-CBEEE37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19B-8464-4BF0-8712-5CC8CA2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BEF-2F21-43DA-B795-618513AE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49A-4CDA-41AC-905A-867FB56B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0CA-F313-4FD9-9728-F08EF5D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83B-8189-4993-B654-E7E0F31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75C-E2E7-49D7-AA16-BBCE52CF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687856 (1)"/>
          <p:cNvPicPr/>
          <p:nvPr/>
        </p:nvPicPr>
        <p:blipFill>
          <a:blip r:embed="rId2"/>
          <a:srcRect l="0" t="0" r="0" b="78183"/>
          <a:stretch/>
        </p:blipFill>
        <p:spPr>
          <a:xfrm>
            <a:off x="0" y="0"/>
            <a:ext cx="9144000" cy="1498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3B7B-8BF0-4A06-B3D7-9D322DE2FC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7687856 (1)"/>
          <p:cNvPicPr/>
          <p:nvPr/>
        </p:nvPicPr>
        <p:blipFill>
          <a:blip r:embed="rId2"/>
          <a:stretch/>
        </p:blipFill>
        <p:spPr>
          <a:xfrm>
            <a:off x="-36360" y="-27000"/>
            <a:ext cx="9188280" cy="6892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115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62088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8E08-7629-4E37-8A06-CA6D114239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9203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зменение цвета              листьев у растений</a:t>
            </a:r>
            <a:endParaRPr b="1" lang="en-US" sz="6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392720" y="0"/>
            <a:ext cx="47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айкальская краевая гимназия-интерн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975280" y="4365720"/>
            <a:ext cx="31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учениц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класса 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никова Алл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637080" y="6165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851280" y="1594800"/>
            <a:ext cx="49705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69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6000" spc="-1" strike="noStrike" u="sng">
                <a:solidFill>
                  <a:srgbClr val="009900"/>
                </a:solidFill>
                <a:uFillTx/>
                <a:latin typeface="Arial"/>
              </a:rPr>
              <a:t>Спасибо за внимани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79280" y="474120"/>
            <a:ext cx="835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узнать, почему листья меняют цв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узнать от чего зависит цвет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изучить влияние света на окраску листв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предположим, что цвет листвы зависит от количества света и теп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 исследования: листь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исследования: окраска листь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Теоретическ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литературы по проблем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в сети Интерн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Эмпирическ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людения за растениями в природ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эксперимен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 чего зависит цвет листьев</a:t>
            </a: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058120"/>
            <a:ext cx="848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канях любого растения присутствует несколько пигментов. Главным из них является зеленый хлорофилл, но есть антоциан – красный пигмент, ксантозин – жёлтый, каротин – оранжевый,  известен и бетулин, который окрашивает ткани в белый цв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B1jOXKToPPEl5ANBNPgnQyy-eDQE8qg2tstihOf95Fj0OGoyBLxbI8mi1"/>
          <p:cNvPicPr/>
          <p:nvPr/>
        </p:nvPicPr>
        <p:blipFill>
          <a:blip r:embed="rId1"/>
          <a:stretch/>
        </p:blipFill>
        <p:spPr>
          <a:xfrm>
            <a:off x="2340000" y="4437000"/>
            <a:ext cx="2305080" cy="17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egYSgvHyL786Xnw-tf_8AF0FQX3T36G8Ug2DJvPCpwb8tJrsvNixb5g"/>
          <p:cNvPicPr/>
          <p:nvPr/>
        </p:nvPicPr>
        <p:blipFill>
          <a:blip r:embed="rId2"/>
          <a:stretch/>
        </p:blipFill>
        <p:spPr>
          <a:xfrm>
            <a:off x="5076720" y="4437000"/>
            <a:ext cx="1873440" cy="17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RvnUZl1wUIRAxtH8L5qsp0KpMd5FZ3jIvq_aZ0lyqBdHe9Y-iLfXzy30fZ"/>
          <p:cNvPicPr/>
          <p:nvPr/>
        </p:nvPicPr>
        <p:blipFill>
          <a:blip r:embed="rId3"/>
          <a:stretch/>
        </p:blipFill>
        <p:spPr>
          <a:xfrm>
            <a:off x="0" y="4437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ANd9GcSgwzX14iFzmW3iicmGbtB2qOafGK2bMhE9HYwUFwAmAJc52TmLamd81SEc"/>
          <p:cNvPicPr/>
          <p:nvPr/>
        </p:nvPicPr>
        <p:blipFill>
          <a:blip r:embed="rId4"/>
          <a:stretch/>
        </p:blipFill>
        <p:spPr>
          <a:xfrm>
            <a:off x="7164360" y="4437000"/>
            <a:ext cx="180036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мена окраски листьев</a:t>
            </a:r>
            <a:endParaRPr b="1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4360" y="1261080"/>
            <a:ext cx="8459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роде бесконечно и постоянно сменяется окраска растений. Общий колорит пейзажей меняется не 3 раза (в зависимости от времени года), а не менее 9 раз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ранней весной серовато-черные оттенки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позже желто-зеленые тона слабой насыщенности и светлоты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в конце весны появляются нежные зеленые тона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начало лета характеризуется насыщенными зелеными тонами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 затем преобладает темно-зеленый колорит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осенью больше желтых, красных тонов разной насыщенности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.поздней осенью  растения имеют слабую желтую окраску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. после мы наблюдаем тусклые серые тона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9.а затем перед нами темно-серый колорит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920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ияние света на окраску листвы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006560" y="270288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нью листья растений теряют свой яркий зеленый цвет В листьях начинаются  химические превращения. Питательные вещества медленно перемещаются из листьев в ветви, ствол, корень и запасаются там, на время суровых холодов. С наступлением весны растения используют запасенную энергию для выращивания новых зеленых листьев. Когда энергия запасенных питательных веществ исчерпывается, выработка хлорофилла прекращается. Оставшийся в листьях хлорофилл частично распадае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20108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сперимент №1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90900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одтверждения гипотезы о том, что на цвет листвы влияют свет и тепло мы провели эксперимент, вернее мы наблюдали за тем, как изменяется цвет иголочки у сосны, Когда папа принёс сосенку перед Новым годом, цвет её иголок был желтовато-зелёным. Мы установили дерево в подставку с водой. Через два дня иглы стали ярко-зелеными, блестящими. В прошлом году мы после праздников вынесли сосну во двор, Постепенно ярко-зелёные иглы без влаги стали жёлтыми и тусклыми, а затем облетели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ит, мы можем сделать вывод о том, что на окраску листвы влияют не только солнечный свет ,но и  вода, питательные веществ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лы сосны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ёлто-зелёная                          Ярко-зелёная                               Жёлтая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1081080" cy="208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7164360" y="4292640"/>
            <a:ext cx="1152720" cy="208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3"/>
          <a:stretch/>
        </p:blipFill>
        <p:spPr>
          <a:xfrm>
            <a:off x="3995640" y="4292640"/>
            <a:ext cx="1081080" cy="20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20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сперимент №2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95280" y="163836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 драцены имеет ярко-зелёную окраску с красной полоской по краю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 ,чтобы проверить гипотезу о том, что на цвет листвы влияет свет мы закрыли часть листика драцены непрозрачным скотчем. После снятия скотча окраска листа осталась без изменени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вательно, на окраску и закрытой части листа влияет хлорофилл, вырабатывающийся во всём растен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0" y="3933720"/>
            <a:ext cx="3368520" cy="252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3240000" cy="25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920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сперимент 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90560" y="1413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наблюдали мы и за изменением оттенка зеленого у перышек лука. В темном прохладном месте окраска была бедно-зеленая, почти белая. После того, как мы поставили луковицу в банку с водой на подоконник, цвет  стал  ярким ,а со временем становился все более темным. Мы можем сделать вывод о том, что яркость окраски зависит от освещ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1512720" cy="3527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141444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1471680" cy="35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20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635280" y="616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01480" y="1626120"/>
            <a:ext cx="864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69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основе проведенного исследования, мы можем сделать вывод о том, что на окраску листьев влияет хлорофилл, который вырабатывается под воздействием солнечного света. Недостаток или отсутствие света приводит к изменению или утрате зеленой окраски листье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0:37:27Z</dcterms:created>
  <dc:creator>User</dc:creator>
  <dc:description/>
  <dc:language>en-US</dc:language>
  <cp:lastModifiedBy>Владимир Владимирович Стуков</cp:lastModifiedBy>
  <dcterms:modified xsi:type="dcterms:W3CDTF">2015-01-29T07:26:20Z</dcterms:modified>
  <cp:revision>12</cp:revision>
  <dc:subject/>
  <dc:title>«Изменение цвета              листьев у растений» </dc:title>
</cp:coreProperties>
</file>