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C86C-000E-4AF5-B756-955D74C3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99A9-6C5E-4FD6-AFFE-BD29734B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874E-AFE8-4A5F-928A-CC155B9E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FB4-4812-4B69-B9A9-3D6717DD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D12E-E391-4BA6-A83B-0EF8CE22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D561-4963-4C68-907F-ACDCF64D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FAD8-BD01-4570-9DCE-B0852CB0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BFFB-0C49-4A7F-B219-CCE160E2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F146-AF96-4684-9551-CC308F65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358F-0B02-4176-969D-0CB38CB6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2FFE-EF1A-485C-B7DB-BBB452ED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D491-F91F-4094-A75E-589CFCB8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9CD8-C1EE-40FC-8720-79B8C156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4784-CC95-4E84-82EC-4DA7B884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7288-8661-493E-93D0-A70BCAB9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4061-AD3E-4CAA-B05E-2D52F6C6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F49D-B52C-4E75-BA8F-2E74AE98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B92-5189-41F0-8A78-F4CB96C8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0B0-8781-4522-A959-DEE34B3F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ED04-5E89-490F-843A-FE6803BD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A2E-981D-466A-8F72-60626288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BF2-ADB6-48F2-9314-FCF0E179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17F-AC3A-45BF-BA86-EBB5FBEC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DE5-FF51-4705-B109-2CFC3DDF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669900"/>
            </a:solidFill>
            <a:ln w="57240">
              <a:solidFill>
                <a:srgbClr val="932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669900"/>
              </a:solidFill>
              <a:ln w="57240">
                <a:solidFill>
                  <a:srgbClr val="9329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57240">
                <a:solidFill>
                  <a:srgbClr val="9329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76d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296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eb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eb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A361-724E-4E5F-9214-6E766717D2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f5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21" descr="з"/>
          <p:cNvPicPr/>
          <p:nvPr/>
        </p:nvPicPr>
        <p:blipFill>
          <a:blip r:embed="rId2"/>
          <a:stretch/>
        </p:blipFill>
        <p:spPr>
          <a:xfrm>
            <a:off x="0" y="5033880"/>
            <a:ext cx="9144000" cy="182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669900"/>
            </a:solidFill>
            <a:ln w="57240">
              <a:solidFill>
                <a:srgbClr val="932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669900"/>
              </a:solidFill>
              <a:ln w="57240">
                <a:solidFill>
                  <a:srgbClr val="9329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57240">
                <a:solidFill>
                  <a:srgbClr val="9329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f5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1" descr="з"/>
          <p:cNvPicPr/>
          <p:nvPr/>
        </p:nvPicPr>
        <p:blipFill>
          <a:blip r:embed="rId2"/>
          <a:stretch/>
        </p:blipFill>
        <p:spPr>
          <a:xfrm>
            <a:off x="0" y="5033880"/>
            <a:ext cx="91440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137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c9c2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1377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c9c2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книги"/>
          <p:cNvPicPr/>
          <p:nvPr/>
        </p:nvPicPr>
        <p:blipFill>
          <a:blip r:embed="rId3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76d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296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eb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eb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A7CC-24EA-4FD4-A006-0A7C82724F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ptt.ru/" TargetMode="External"/><Relationship Id="rId2" Type="http://schemas.openxmlformats.org/officeDocument/2006/relationships/hyperlink" Target="http://www.tptt.ru/" TargetMode="External"/><Relationship Id="rId3" Type="http://schemas.openxmlformats.org/officeDocument/2006/relationships/hyperlink" Target="http://www.tptt.ru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Как оформить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методическую разработку</a:t>
            </a:r>
            <a:endParaRPr b="1" lang="en-US" sz="36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857240" y="3214800"/>
            <a:ext cx="6858000" cy="27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Трофимова О.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учитель изобразительного искусства               и черчения МАОУ «СОШ №140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Аннотация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нот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краткая характеристика методической разработки, раскрывающая ее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одержание, новизну, назна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нотация содержит опис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а темы в содержании программ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ых форм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й, методов и приёмов, применяемых на уроке, внеклассном мероприят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мого результат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Технологическая карта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1599840"/>
            <a:ext cx="77724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, ФИО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менование ОУ,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, место урока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(мероприят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истеме уроков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(мероприят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урока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(мероприят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 урока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(мероприят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и методы работы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орные понятия, терм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уемый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Технологическая карта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040" y="1599840"/>
            <a:ext cx="808668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785880" y="1600200"/>
          <a:ext cx="8215200" cy="3400560"/>
        </p:xfrm>
        <a:graphic>
          <a:graphicData uri="http://schemas.openxmlformats.org/drawingml/2006/table">
            <a:tbl>
              <a:tblPr/>
              <a:tblGrid>
                <a:gridCol w="2143080"/>
                <a:gridCol w="1857240"/>
                <a:gridCol w="1928880"/>
                <a:gridCol w="2286000"/>
              </a:tblGrid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Этапы урок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Деятельность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ргмо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Целеполаг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ка готовности к уро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рабочего м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улятивные 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Список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  <a:ea typeface="Arial"/>
              </a:rPr>
              <a:t>использованных  источников 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анова С.В. Обучение изобразительному искусству. Интеграция художественного  и логического – СПб.: КАРО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пнова Е.Е. Рекомендации по оформлению методических разработок. -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410082"/>
                </a:solidFill>
                <a:uFillTx/>
                <a:latin typeface="Arial"/>
                <a:hlinkClick r:id="rId2"/>
              </a:rPr>
              <a:t>www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Arial"/>
                <a:hlinkClick r:id="rId3"/>
              </a:rPr>
              <a:t>.tptt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нский Б.М. Изобразительное искусство. Рабочие программы. 5-9 классы – М.: Просвещение, 20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Приложения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«Линия и её выразительные возможнос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 с выбором ответа для индивидуальной работы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по теме «Виды изобразительного искусст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аточный материал для выполнения упражнения №2 в па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аточный материал для выполнения упражнения №3 в групп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ковой файл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П.И. Чайковский «Времена года.  Октябр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Требования к оформлению методической разработки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й объем не менее … листов комп.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и объем разделов не лимитиру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ения должны соответствовать текст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сылки на них в тексте обязатель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 составляется в алфавитном порядке и должен содержать 10 -15 наз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 Times New Roman №12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вал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я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рху, снизу – 2.0см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ва - 3см, справа -1.5см. 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внивание текста по ширине стра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повышение мастерства учителя при    </a:t>
            </a:r>
            <a:br>
              <a:rPr sz="2400"/>
            </a:b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оформлении методической разработки урока в</a:t>
            </a:r>
            <a:br>
              <a:rPr sz="2400"/>
            </a:b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свете новых требований ФГОС.</a:t>
            </a:r>
            <a:br>
              <a:rPr sz="3200"/>
            </a:br>
            <a:endParaRPr b="1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особенности методической разработки урока и внеклассного мероприя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ся с содержанием методической разрабо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еть основные требования к оформлению методической разработки урока и внеклассного меропри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Понятие «Методическая разработка»</a:t>
            </a: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Методическая разработ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пособие, раскрывающее формы, средства, методы обучения, современные педагогические технологии обучения и воспитания применительно к конкретной теме урока, теме учебной программы, преподаванию курса в ц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ая разработка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направле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профессионально-педагогическое совершенствование учителя, может быть как индивидуальной, так и коллективной раб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Актуальность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ение педагогического опыта. Портфоли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конкурсах педагогического масте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бликации в методических сборн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подходов к методической разработке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ттестуемый у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ерий в стимулирующей части з\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  <a:ea typeface="Arial"/>
              </a:rPr>
              <a:t>Виды методических разработок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разработка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урока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серии занятий по теме кур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рограм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авторской методики препода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разработка внеклассного мероприя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у новых форм, методов или средств обучения и воспит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Подготовительная работа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щательно подойти к выбору темы разрабо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должна быть актуальной, известной педагогу, по данной теме у педагога должен быть накоплен определенный оп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Определить ц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ой разрабо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мательно изучить литературу, методические пособия, положительный педагогический опыт по выбр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план и определить структуру методической разрабо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Формулировка целей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форм и методо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ения содержания тем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крытие </a:t>
            </a: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опыта проведения заняти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изучению той или иной тем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описание видов деятельност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дагога и учащих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описание методи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пользования современных технических и информационных средств обуч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использование современн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дагогических </a:t>
            </a: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технологи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и их элементов на занятиях и т.д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труктура методической разработки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нотаци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акой проблеме посвящается методическая разработка, какие вопросы раскрывает, кому может быть полез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ема, цели, тип урока, основные понятия, технологическая кар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 использованных  источников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писок литературы и интернет ресурс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ени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риложения  структурируются, озаглавливаются и нумеруются в соответствии с последовательностью их упоминания в основном текст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Титульный лист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1599840"/>
            <a:ext cx="7872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именование вышестоящей организации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(Министерство общего и профессионального образования РФ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именование учреждения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(Муниципальное автономное общеобразовательное учреждение «Средняя общеобразовательная школа № 140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ная обла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 методической разработки.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(Методическая разработка уро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уро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.И.О, дол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од, год раз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09:36:56Z</dcterms:created>
  <dc:creator>Shpak</dc:creator>
  <dc:description/>
  <dc:language>en-US</dc:language>
  <cp:lastModifiedBy>trofimova</cp:lastModifiedBy>
  <dcterms:modified xsi:type="dcterms:W3CDTF">2014-11-18T06:43:10Z</dcterms:modified>
  <cp:revision>325</cp:revision>
  <dc:subject/>
  <dc:title>Слайд 1</dc:title>
</cp:coreProperties>
</file>