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BD0-D262-4026-9087-EE6BF606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748-6F95-4443-B04E-B53E26E6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E21-0798-4C1E-8386-F097F978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746A-FD6B-400E-8F02-ACE9FDF1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8C2E-7FFE-47CE-88C6-9B147B5F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78C4-22DE-4592-8DB2-18AE3191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6E74-F1F6-4CC1-B802-6CF25905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4F01-0828-49D4-AE23-5E52A9C8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505-0BA5-4254-9F0F-EF2F814B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821D-77C0-4A45-9858-C1467EDD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9A9E-CB59-435A-A04D-E7CA1D7C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FDD7-CD7A-4819-A695-71ACF777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0D56-E980-4D5C-AB55-0243781B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9E9D-F3FF-42FE-AC1C-E30F8BCC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1954-586D-44EC-9E81-55EDDE11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22AD-71A5-4EE9-9EE7-0ACB5EDA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5473-40CD-4564-A1DA-C6857471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437-5262-4C93-A43C-EF113BE7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2AB-0609-4650-872F-6299DD73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B430-EDF7-45D3-9A9B-829707D4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7503-2061-47A9-AC4C-C6EB15A0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57A-F3F6-4E32-8A0F-87ACFE5B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0CA-8AAE-4C4C-A517-6F91FFF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A40-C51F-4585-9B29-25B6A2B6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932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296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21A-9EF7-4DEB-90E3-F85EF21DEC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932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93296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5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137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c9c2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c9c2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137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c9c2d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книги"/>
          <p:cNvPicPr/>
          <p:nvPr/>
        </p:nvPicPr>
        <p:blipFill>
          <a:blip r:embed="rId3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eb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2968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eb9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9EB-ACFF-4EE7-B196-E598662ED93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ptt.ru/" TargetMode="External"/><Relationship Id="rId2" Type="http://schemas.openxmlformats.org/officeDocument/2006/relationships/hyperlink" Target="http://www.tptt.ru/" TargetMode="External"/><Relationship Id="rId3" Type="http://schemas.openxmlformats.org/officeDocument/2006/relationships/hyperlink" Target="http://www.tptt.ru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Как оформить </a:t>
            </a:r>
            <a:br>
              <a:rPr sz="3600"/>
            </a:b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етодическую разработку</a:t>
            </a:r>
            <a:endParaRPr b="1" lang="en-US" sz="36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57240" y="3214800"/>
            <a:ext cx="6858000" cy="27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Трофим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учитель изобразительного искусства               и черчения МАОУ «СОШ №140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Аннотация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краткая характеристика методической разработки, раскрывающая ее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одержание, новизну, назна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нотация содержит опис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а темы в содержании програм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вных фор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ологий, методов и приёмов, применяемых на уроке, внеклассном мероприят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мого результат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нологическая кар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14400" y="1599840"/>
            <a:ext cx="77724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мет, ФИО уч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менование ОУ,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, место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истеме уроков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урока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роприят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и методы работы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орные понятия, тер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ы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уемы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ехнологическая кар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808668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85880" y="1600200"/>
          <a:ext cx="8215200" cy="3400560"/>
        </p:xfrm>
        <a:graphic>
          <a:graphicData uri="http://schemas.openxmlformats.org/drawingml/2006/table">
            <a:tbl>
              <a:tblPr/>
              <a:tblGrid>
                <a:gridCol w="2143080"/>
                <a:gridCol w="1857240"/>
                <a:gridCol w="1928880"/>
                <a:gridCol w="2286000"/>
              </a:tblGrid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Этапы урок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Деятельность учи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Деятельность 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6600"/>
                          </a:solidFill>
                          <a:latin typeface="Arial"/>
                        </a:rPr>
                        <a:t>Предполагаемый 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ргмо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Целеполаг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ерка готовности к урок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 рабочего ме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улятивные  УУ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исок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  <a:ea typeface="Arial"/>
              </a:rPr>
              <a:t>использованных  источников 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анова С.В. Обучение изобразительному искусству. Интеграция художественного  и логического – СПб.: КАРО,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упнова Е.Е. Рекомендации по оформлению методических разработок. - 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410082"/>
                </a:solidFill>
                <a:uFillTx/>
                <a:latin typeface="Arial"/>
                <a:hlinkClick r:id="rId3"/>
              </a:rPr>
              <a:t>.tpt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нский Б.М. Изобразительное искусство. Рабочие программы. 5-9 классы – М.: Просвещение, 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риложения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зентация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«Линия и её выразительные возможност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с выбором ответа для индивидуальной работы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о теме «Виды изобразительного искусст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аточный материал для выполнения упражнения №2 в па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аточный материал для выполнения упражнения №3 в групп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овой файл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П.И. Чайковский «Времена года.  Октябр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Требования к оформлению методической разработки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й объем не менее … листов комп.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и объем разделов не лимитиру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я должны соответствовать текст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сылки на них в тексте обязатель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 составляется в алфавитном порядке и должен содержать 10 -15 наз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 Times New Roman №12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в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ху, снизу – 2.0см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ва - 3см, справа -1.5см. 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внивание текста по ширине стра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повышение мастерства учителя при    </a:t>
            </a:r>
            <a:br>
              <a:rPr sz="2400"/>
            </a:b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оформлении методической разработки урока в</a:t>
            </a:r>
            <a:br>
              <a:rPr sz="2400"/>
            </a:b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    свете новых требований ФГОС.</a:t>
            </a:r>
            <a:br>
              <a:rPr sz="3200"/>
            </a:br>
            <a:endParaRPr b="1" lang="en-US" sz="2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особенности методической разработки урока и внеклассного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накомиться с содержанием методической разработ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мотреть основные требования к оформлению методической разработки урока и внеклассного меропри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онятие «Методическая разработка»</a:t>
            </a:r>
            <a:endParaRPr b="1" lang="en-US" sz="28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Методическая разрабо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пособие, раскрывающее формы, средства, методы обучения, современные педагогические технологии обучения и воспитания применительно к конкретной теме урока, теме учебной программы, преподаванию курса в ц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ая разработка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направле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профессионально-педагогическое совершенствование учителя, может быть как индивидуальной, так и коллективной рабо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Актуальность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ение педагогического опыта. Портфол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стие в конкурсах педагогического масте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бликации в методических сборни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подходов к методической разработке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ттестуемый у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терий в стимулирующей части з\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  <a:ea typeface="Arial"/>
              </a:rPr>
              <a:t>Виды методических разработок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зработка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урока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серии занятий по теме кур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авторской методики препода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разработка внеклассного меро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у новых форм, методов или средств обучения и воспит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Подготовительная работа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щательно подойти к выбору темы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должна быть актуальной, известной педагогу, по данной теме у педагога должен быть накоплен определенный опы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Определить ц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ой раз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имательно изучить литературу, методические пособия, положительный педагогический опыт по выбр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ить план и определить структуру методической разрабо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ормулировка целей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форм и метод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учения содержания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скрытие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ыта проведения заняти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 изучению той или иной тем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исание видов деятельност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а и учащихс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описание метод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спользования современных технических и информационных средств обуч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использование современных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ческих </a:t>
            </a:r>
            <a:r>
              <a:rPr b="0" i="1" lang="ru-RU" sz="2400" spc="-1" strike="noStrike">
                <a:solidFill>
                  <a:srgbClr val="990000"/>
                </a:solidFill>
                <a:latin typeface="Arial"/>
              </a:rPr>
              <a:t>технологий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 их элементов на занятиях и т.д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Структура методической разработки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тульный л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нотац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акой проблеме посвящается методическая разработка, какие вопросы раскрывает, кому может быть полез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ма, цели, тип урока, основные понятия, технологическая кар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 использованных  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список литературы и интернет ресурс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ен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риложения  структурируются, озаглавливаются и нумеруются в соответствии с последовательностью их упоминания в основном текст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Титульный лист</a:t>
            </a:r>
            <a:endParaRPr b="1" lang="en-US" sz="32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14400" y="1599840"/>
            <a:ext cx="7872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менование вышестоящей организации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инистерство общего и профессионального образования РФ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именование учреждения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униципальное автономное общеобразовательное учреждение «Средняя общеобразовательная школа № 14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метная обла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методической разработки. 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(Методическая разработка уро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.И.О, дол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32968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, год раз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9:36:56Z</dcterms:created>
  <dc:creator>Shpak</dc:creator>
  <dc:description/>
  <dc:language>en-US</dc:language>
  <cp:lastModifiedBy>trofimova</cp:lastModifiedBy>
  <dcterms:modified xsi:type="dcterms:W3CDTF">2014-11-18T06:43:10Z</dcterms:modified>
  <cp:revision>325</cp:revision>
  <dc:subject/>
  <dc:title>Слайд 1</dc:title>
</cp:coreProperties>
</file>