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6.png" ContentType="image/pn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361-1B52-46D2-8E70-03F7752A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B83-E699-4F0F-8B4C-A62C0CE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2FCDF-6C4A-4557-8454-F6707D89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0DCD4-C9A3-4089-9ECD-81A63C22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4077E4-B550-46C7-ACE9-E9DE5DBF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E368A-2000-44C9-B16B-C5CACEB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7075D-9D8B-419B-9BA4-85DC4D81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34E7D-6584-4A6B-A860-0C10011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A7A74A-1593-491A-91A4-87BDD714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7EA5E-6C39-4786-B3BC-9237A33D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C24C34-E2E1-4BF2-90A0-4E35846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56D-1B90-4FC4-9C27-5552E97D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29B-7B21-4AEA-996C-8273CBB0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EFA7E-6B9C-47D9-A90B-EA13CAFA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9FDD-2D12-45E7-8DFE-4D4CF55F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E5ED-3ABE-45A6-BDF3-0F841DC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12F0-3DE4-42A5-A698-DDA73A95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1B33-EA9E-4F4B-BB6C-34A08466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8AFEA-9D48-4CF2-A7DD-33D56CD8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882B-9EF4-4B56-816B-501CC84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AE0-FC25-484F-8F4C-ED6F8F86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52A1F-0521-4501-8C5E-017FDC5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5FACE-94FC-497F-98C5-0981B3B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9152-5023-4EFA-8ACC-385534E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A68E-C302-48B3-8F38-E93370D3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87BC0-963E-4BD3-9797-EE18F33A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93C9-AD7D-4E75-871A-6A5ADD9A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FD05-9CDF-4990-8798-32D203D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FC2B-ED17-4265-966C-758562E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4B45-A854-416D-A778-CAF3A6B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3C45-D33D-4C16-9077-8D311D36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D7A-A19A-4478-8750-58FC9A01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5235-C876-4A2B-A49D-7470FEA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7DA0-5736-46FA-B72E-791B6B5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A11F-47B9-49AB-B299-39EF1BF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7E11-59F7-4EFE-9E36-260286F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852D-3156-467C-B5A9-47E3B2C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D2FE-66C5-4A13-9EE2-5C901815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336F-417D-4ED5-9447-F80F10C2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0769C-16D8-4BD6-9AED-9DB03276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02A8B-FB3A-4E59-A47C-ADB26F4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A28E2-E7F7-41FB-B069-2C07922E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A66-3E70-49CF-BF7E-23C545F3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0DA00-084F-470F-A5DE-61C9BB4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A01E0-0BF6-46ED-A834-D74D059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65F20-0BD1-483B-A5C7-EB9B387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88919-E85F-4A62-9156-8B62BB0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6BAB3-9337-45C6-B34A-86EE8C5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DD404-1B8F-46A6-B0A7-58FEB81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24D1E-B9E8-41DF-BC75-0C2330C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8D4C1-87D8-45B7-BC39-EB1EF907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62899-50CE-4915-B542-628C0FDA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6B16-1AD9-4527-BB77-B07B9A80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62B-DE84-41E7-837C-64B3EFF7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864C-F41E-4A93-BBC1-3711CE2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7869-7C0E-4C76-A029-0AF26D19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2E8E-F94E-4ADF-A1BE-57C1825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7BA8-4BD0-48CC-8840-2D47F68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57B9-4D4F-4DCF-8573-34358CB2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4906-A95A-4684-8FA0-2E05991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CF78-83AB-4A57-A368-D868AC5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6FEA-B4E3-4CA5-B789-B7FEE17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A576-87D0-42CD-A9DF-8C8B04D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628F-B4A5-44CB-887E-0F2C7292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EC2-CEB5-496A-83DB-9E288F8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AD47-EF3A-466A-B095-F9D65066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5E3A-195F-40CF-A20D-97183DC9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0D40-0624-445B-AB3E-E83287E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B313-6119-4EA4-9949-7D1C215B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91F0-1FF1-4248-87D4-FEFC10A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CF80-A7B7-4CD0-912A-283BB08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7DBF3-CADA-457A-8E25-9DFDAF5F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B9B6D-C0E2-45C1-84D7-B1A4CB9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9A84-B3E5-4993-A178-2722956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A3AD3-97B0-4164-BBD8-7AC19F17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568-97A3-4382-9BFD-8D56BF9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4FFE-7E95-4D65-BC78-1CA3672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441D-3758-4117-B70E-B1AE991C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7A12A-32B0-425D-9FB6-4B221720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574F-A54D-4B7A-93D4-0A067A6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317B-50CE-4F35-9D57-94F48323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07A9-79B3-4B21-813F-B70B8CB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5150-6597-4EA1-850F-9F0CD1FA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CA92-3E09-41F4-94AF-BA2026A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E1D2-FC88-4907-84AB-E4D9F88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2EA4-80AF-4D2B-B2C7-A7E6CA8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E63-EEBB-469C-A0CA-02A3E9F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3A3CD-3595-404A-9043-27734C9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EBF6-EDE7-4265-A10D-665E3438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AA53B-D97B-4F2C-BE1F-1F2E518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840E-A75A-40D2-A4AF-F69E9E21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6AF48-801D-4CE3-B35C-46B0D706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9F4B9-41E5-4D0C-BBB4-C1BE8AC0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EBFF1-3058-483F-9D5F-A63B6B6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0374FE-2AD5-4837-B207-EF3F864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6B36F-CFE3-4806-BFAF-AE9B1AE5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076AC-3CDF-494E-9002-47FB56A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FF2-B04D-40A5-BE3B-1D382D5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22207-538F-4180-9590-F581B56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06796-CEF8-4872-838A-FEC4C5C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712FED-6C67-4F0F-B8C3-4F01251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A9C67-975D-4287-9A67-AEDC312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987D3-8B52-4CAC-BA43-3511988C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A715D-4BCA-4535-84C1-66835EA6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4F4A56-CA3E-454C-B5BF-D0362AE1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3C7D6-1E53-4FE0-9DDD-C3965ED9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03CBA-E1B1-4179-811C-E465E572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8E2C3-31DF-42E6-81FE-12FE730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C5E-01A7-4D4B-AAB1-424DAA79ED05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1AD-77E2-4117-AF06-DD30398DE300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3BC-BE0F-40F7-9125-B3B97FBFE014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9B5D-2B89-49F7-8868-62BC12FF9925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23EC-96A3-4735-A5F5-7DB65188AE92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DCBC-87E0-4848-912D-3B0BC0021908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F64A-DED4-45DA-81A4-9FF87F7B0A3C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31B-A21D-4470-9EAE-ACBE7932F37D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6afc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6afc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3e1d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C34-15E3-4A54-AB88-5427C6044FB6}" type="slidenum">
              <a:rPr b="0" lang="ru-RU" sz="1600" spc="-1" strike="noStrike">
                <a:solidFill>
                  <a:srgbClr val="e3e1d7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de8cd"/>
              </a:solidFill>
              <a:latin typeface="Cambria"/>
            </a:endParaRPr>
          </a:p>
        </p:txBody>
      </p:sp>
      <p:pic>
        <p:nvPicPr>
          <p:cNvPr id="395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60480"/>
            <a:ext cx="8290080" cy="197640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4" descr=""/>
          <p:cNvPicPr/>
          <p:nvPr/>
        </p:nvPicPr>
        <p:blipFill>
          <a:blip r:embed="rId2"/>
          <a:stretch/>
        </p:blipFill>
        <p:spPr>
          <a:xfrm>
            <a:off x="689040" y="4022640"/>
            <a:ext cx="7491240" cy="1976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1729080" cy="1301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4"/>
          <a:stretch/>
        </p:blipFill>
        <p:spPr>
          <a:xfrm>
            <a:off x="6516720" y="2349360"/>
            <a:ext cx="181908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5"/>
          <a:stretch/>
        </p:blipFill>
        <p:spPr>
          <a:xfrm>
            <a:off x="3857760" y="2719440"/>
            <a:ext cx="14284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-225360"/>
            <a:ext cx="8369280" cy="2230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2" descr="E:\001.JPG"/>
          <p:cNvPicPr/>
          <p:nvPr/>
        </p:nvPicPr>
        <p:blipFill>
          <a:blip r:embed="rId2"/>
          <a:stretch/>
        </p:blipFill>
        <p:spPr>
          <a:xfrm>
            <a:off x="1403280" y="2536920"/>
            <a:ext cx="6340680" cy="41338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"/>
          <p:cNvSpPr/>
          <p:nvPr/>
        </p:nvSpPr>
        <p:spPr>
          <a:xfrm>
            <a:off x="515304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2" descr="E:\002.JPG"/>
          <p:cNvPicPr/>
          <p:nvPr/>
        </p:nvPicPr>
        <p:blipFill>
          <a:blip r:embed="rId2"/>
          <a:stretch/>
        </p:blipFill>
        <p:spPr>
          <a:xfrm>
            <a:off x="1258920" y="1484280"/>
            <a:ext cx="60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78920" cy="1165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E:\003.JPG"/>
          <p:cNvPicPr/>
          <p:nvPr/>
        </p:nvPicPr>
        <p:blipFill>
          <a:blip r:embed="rId2"/>
          <a:stretch/>
        </p:blipFill>
        <p:spPr>
          <a:xfrm>
            <a:off x="140328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E:\005.JPG"/>
          <p:cNvPicPr/>
          <p:nvPr/>
        </p:nvPicPr>
        <p:blipFill>
          <a:blip r:embed="rId2"/>
          <a:stretch/>
        </p:blipFill>
        <p:spPr>
          <a:xfrm>
            <a:off x="125892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E:\009.JPG"/>
          <p:cNvPicPr/>
          <p:nvPr/>
        </p:nvPicPr>
        <p:blipFill>
          <a:blip r:embed="rId2"/>
          <a:stretch/>
        </p:blipFill>
        <p:spPr>
          <a:xfrm>
            <a:off x="1619280" y="1700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65040" y="249120"/>
            <a:ext cx="8589960" cy="1165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E:\011.JPG"/>
          <p:cNvPicPr/>
          <p:nvPr/>
        </p:nvPicPr>
        <p:blipFill>
          <a:blip r:embed="rId2"/>
          <a:stretch/>
        </p:blipFill>
        <p:spPr>
          <a:xfrm>
            <a:off x="1258920" y="1628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E:\012.JPG"/>
          <p:cNvPicPr/>
          <p:nvPr/>
        </p:nvPicPr>
        <p:blipFill>
          <a:blip r:embed="rId2"/>
          <a:stretch/>
        </p:blipFill>
        <p:spPr>
          <a:xfrm>
            <a:off x="1332000" y="16286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65040" y="-73080"/>
            <a:ext cx="84549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E:\007.JPG"/>
          <p:cNvPicPr/>
          <p:nvPr/>
        </p:nvPicPr>
        <p:blipFill>
          <a:blip r:embed="rId2"/>
          <a:stretch/>
        </p:blipFill>
        <p:spPr>
          <a:xfrm>
            <a:off x="1258920" y="1646280"/>
            <a:ext cx="63309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55:22Z</dcterms:created>
  <dc:creator>WIN7XP</dc:creator>
  <dc:description/>
  <dc:language>en-US</dc:language>
  <cp:lastModifiedBy>WIN7XP</cp:lastModifiedBy>
  <dcterms:modified xsi:type="dcterms:W3CDTF">2015-01-29T18:46:17Z</dcterms:modified>
  <cp:revision>6</cp:revision>
  <dc:subject/>
  <dc:title>Слайд 1</dc:title>
</cp:coreProperties>
</file>