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3.png" ContentType="image/png"/>
  <Override PartName="/ppt/media/image6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188-FBA3-4811-942B-BD7CAAD9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BF8-C028-4F8A-A3A7-BF3BB8B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F4F7D-D141-47AA-BC61-7C617EA9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C90EF-602E-4F52-A099-F0E9E3E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F13A53-B7F2-426A-82F1-60F5C76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34F66-4E8A-4CA1-AC98-4337046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ACA0B-945B-4340-8700-F07E1EC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A888B-CB35-4C58-B092-79DE21B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635EA-72CE-45EE-9AFF-0D59B19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8323E-85E0-49C0-9CA9-0EB26905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D14AA-8C28-48E8-8D83-E644E7D4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0C9-FC3B-475B-A6E7-114E8BC3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EB2-4712-4ECE-9203-E8600977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9CB3C-E9E9-4CFB-968C-BB746E45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3CBBA-6388-4FCF-9967-40DC04A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7EF7D-C2AD-4E5B-81B4-4323F75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04299-AB36-435D-93FD-916750FC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26CAD-18DD-4B88-970A-D08A034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A9DD9-8128-4EEF-81C1-F400DFD0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0420-CFBD-4086-BE7E-4E86EF7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608-EFA6-4B20-B27B-6303873C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7FC5B-42D5-43AB-BDDA-BFD1CE0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91569-1F75-497E-BF48-B40AF8E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B2082-3024-4081-A78A-252F3A23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66029-451D-453F-BE20-23FAAC2B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0292-4B5F-429E-A7CC-093A3A4A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0907-8786-4FE3-B1CC-65619A61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6C15-2478-47FD-A051-9CC52EB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C29A-372F-4C06-93CD-3E08106F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70FD-BCF3-4CEE-B6D3-14C4A550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3153-B10D-42F2-9B2B-58FBBE61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2CB-AA30-41F9-8451-525CCE3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A0F8-C7A2-4080-9279-C0FC596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E26A-CEE6-41C3-B5FF-0D74E4B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BDBE-F893-4D89-88C6-BB0A0D3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B02C-CFCB-4EDA-8FFF-C43BD958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2684-F15D-4E8D-9A3F-7EE1683D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C2DB-12D3-418D-9112-881ED357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6017-85F1-4AEB-B74B-1149C4BF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A01F7-EA9C-4A86-B549-813CBEC3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1E85D-A841-422F-82E5-5A72917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D6941-4D5D-4A2E-991F-7709B9B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3D1-3A91-40A9-8C04-A4CE0ED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28D17-9E45-403D-AA17-F2B403F3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638BE-E8ED-4200-866E-02D127E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A7DAD-2406-4C17-A877-21752C8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0B587-3A7D-4473-8D40-99DAA7E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098B1-64AC-4ADE-BEF2-97714BA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26128-1192-45B6-B7EF-468DC36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7267C-738F-4F4E-BF55-3156941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585BD-BF8D-428B-9BA2-0C0377C4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D3E00-16DE-446F-87B9-BF906D99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8D88-0D20-483E-8621-C23406DD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C39-4B90-401C-BF04-C35D253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5CE7D-C2C8-457F-BD5D-248AA83D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10CE-31AB-4FE2-8142-0D94CA53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C6A2-840E-4A92-8688-EDF1D1FA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EFF1-9B52-4318-A1BD-50D3E29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3A2F-C077-4796-A02A-7A25DAB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5CAB-78C2-4B2B-8EBC-3B37F1D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092A-1BD7-4DCB-BE66-A248A0B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DCB1-9AA5-49B3-B7C1-58C07B5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39F8-F5A0-49F7-A27F-4AF2C43F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5A825-5195-46D4-882C-E322BBAD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51C-12F6-44B5-B445-7A89005A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1431-FE5A-4AC3-8B51-ACB94D26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0AB7-FAD1-4AF4-A387-2694FC4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8E9A-6799-4581-98C1-6A54CA5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D7E5-2514-4CAE-B77A-F3ADDB6F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764AA-F3E7-443C-9E62-C7CDFA9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5844-8C7D-4A64-A4FB-EE9FE24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2847-B0EF-45C2-B399-8CF6E26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967A1-38B7-46D6-9FB1-C997F23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686CE-20C1-4AFD-BF2F-6CE105E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EB6B-3A01-426B-9F60-6A39F479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DF9-69AD-4FE9-947B-317B818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61BF2-E73F-41C7-812D-10068029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BC5D-3FC4-4FF0-AFFF-606CD676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27C2-24F2-4D5A-A805-F310310E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228E-5CA0-4E87-A1F1-8F844F23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1BD6B-5B92-4843-A01B-6814256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1D4A-7563-47C0-B050-7F62F342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38FA-F573-40F5-836F-74F3F268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F04C-3BA1-4826-BBF1-E62B3510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32759-7CCC-48F3-BAAC-B525726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30DF-E4BF-4226-8029-DE1BC2E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B8D-AA5D-45A3-9904-5A1D2FD0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C38F9-2DD2-42EB-90DA-B8FCA30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044BB-1C7D-4E93-95CF-D180851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298E-7365-44DD-89E8-6E0B92A5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BBED-805B-403C-8F81-CBBE4714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3074-1998-4BE4-85CD-D7D3DF8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03353B-1427-42E0-8884-507538E2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9F9BC-A87B-4E06-84AB-3B7C2D3B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1439C9-39CC-4B34-98E4-0DC874F7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0813D-64FF-431D-9481-5C542FA4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DB66B-7189-46B4-804E-C9F61C3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5DC-EA0D-49E9-936F-F922FF0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1CAD1-85B6-4D0F-BC9C-9F0243D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F1FB7-FBAD-4B31-93CE-C74791F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A011E3-B8D8-47E1-ACF9-4FF8D3B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70C72-4139-43C8-A0C7-D1CEC96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D53C7-C69D-4E98-AAEF-DB25045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6954B-4601-430E-A96A-E76BCB43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C89C9-012A-4509-A29B-EA2236F1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3C739-8578-4DAC-877C-3BD85A67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94744-B781-4D61-8BCA-63DC443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AD2320-FC8A-4C5B-B04E-9916E82A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4DE-9318-4A18-A6FF-C833A0D9333E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CA0-DA92-4074-87A0-A6B694E1C363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A42-6620-46E7-851F-555DDC8622B8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B0A0-5375-4D37-B2E7-B67D4BA28938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94B-552B-44F4-BCC0-F09576B745B2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1C3-7A42-4ED0-A858-1D6F9AA973F4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DDF-BD91-443A-AA41-E159DC8C36BD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528-9FCE-4111-85DA-E89386DC816F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6B9-BDF0-4E20-9AFE-24A558A02137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de8cd"/>
              </a:solidFill>
              <a:latin typeface="Cambria"/>
            </a:endParaRPr>
          </a:p>
        </p:txBody>
      </p:sp>
      <p:pic>
        <p:nvPicPr>
          <p:cNvPr id="395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60480"/>
            <a:ext cx="8290080" cy="197640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4" descr=""/>
          <p:cNvPicPr/>
          <p:nvPr/>
        </p:nvPicPr>
        <p:blipFill>
          <a:blip r:embed="rId2"/>
          <a:stretch/>
        </p:blipFill>
        <p:spPr>
          <a:xfrm>
            <a:off x="689040" y="4022640"/>
            <a:ext cx="7491240" cy="1976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1729080" cy="1301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4"/>
          <a:stretch/>
        </p:blipFill>
        <p:spPr>
          <a:xfrm>
            <a:off x="6516720" y="2349360"/>
            <a:ext cx="181908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5"/>
          <a:stretch/>
        </p:blipFill>
        <p:spPr>
          <a:xfrm>
            <a:off x="3857760" y="2719440"/>
            <a:ext cx="14284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-225360"/>
            <a:ext cx="8369280" cy="2230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2" descr="E:\001.JPG"/>
          <p:cNvPicPr/>
          <p:nvPr/>
        </p:nvPicPr>
        <p:blipFill>
          <a:blip r:embed="rId2"/>
          <a:stretch/>
        </p:blipFill>
        <p:spPr>
          <a:xfrm>
            <a:off x="1403280" y="2536920"/>
            <a:ext cx="6340680" cy="41338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"/>
          <p:cNvSpPr/>
          <p:nvPr/>
        </p:nvSpPr>
        <p:spPr>
          <a:xfrm>
            <a:off x="515304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Picture 2" descr="E:\002.JPG"/>
          <p:cNvPicPr/>
          <p:nvPr/>
        </p:nvPicPr>
        <p:blipFill>
          <a:blip r:embed="rId2"/>
          <a:stretch/>
        </p:blipFill>
        <p:spPr>
          <a:xfrm>
            <a:off x="1258920" y="1484280"/>
            <a:ext cx="60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78920" cy="1165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E:\003.JPG"/>
          <p:cNvPicPr/>
          <p:nvPr/>
        </p:nvPicPr>
        <p:blipFill>
          <a:blip r:embed="rId2"/>
          <a:stretch/>
        </p:blipFill>
        <p:spPr>
          <a:xfrm>
            <a:off x="1403280" y="1628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E:\005.JPG"/>
          <p:cNvPicPr/>
          <p:nvPr/>
        </p:nvPicPr>
        <p:blipFill>
          <a:blip r:embed="rId2"/>
          <a:stretch/>
        </p:blipFill>
        <p:spPr>
          <a:xfrm>
            <a:off x="1258920" y="1628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E:\009.JPG"/>
          <p:cNvPicPr/>
          <p:nvPr/>
        </p:nvPicPr>
        <p:blipFill>
          <a:blip r:embed="rId2"/>
          <a:stretch/>
        </p:blipFill>
        <p:spPr>
          <a:xfrm>
            <a:off x="1619280" y="1700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65040" y="249120"/>
            <a:ext cx="8589960" cy="1165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E:\011.JPG"/>
          <p:cNvPicPr/>
          <p:nvPr/>
        </p:nvPicPr>
        <p:blipFill>
          <a:blip r:embed="rId2"/>
          <a:stretch/>
        </p:blipFill>
        <p:spPr>
          <a:xfrm>
            <a:off x="1258920" y="1628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E:\012.JPG"/>
          <p:cNvPicPr/>
          <p:nvPr/>
        </p:nvPicPr>
        <p:blipFill>
          <a:blip r:embed="rId2"/>
          <a:stretch/>
        </p:blipFill>
        <p:spPr>
          <a:xfrm>
            <a:off x="1332000" y="16286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65040" y="-73080"/>
            <a:ext cx="84549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E:\007.JPG"/>
          <p:cNvPicPr/>
          <p:nvPr/>
        </p:nvPicPr>
        <p:blipFill>
          <a:blip r:embed="rId2"/>
          <a:stretch/>
        </p:blipFill>
        <p:spPr>
          <a:xfrm>
            <a:off x="1258920" y="1646280"/>
            <a:ext cx="63309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55:22Z</dcterms:created>
  <dc:creator>WIN7XP</dc:creator>
  <dc:description/>
  <dc:language>en-US</dc:language>
  <cp:lastModifiedBy>WIN7XP</cp:lastModifiedBy>
  <dcterms:modified xsi:type="dcterms:W3CDTF">2015-01-29T18:46:17Z</dcterms:modified>
  <cp:revision>6</cp:revision>
  <dc:subject/>
  <dc:title>Слайд 1</dc:title>
</cp:coreProperties>
</file>