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8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chimes.wav" ContentType="audio/x-wav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F160-9340-41A7-8F15-9C2D54C868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215F-9AD4-4072-A65D-356D113449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973-1D8F-409F-B1A1-C862D8B2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A6A-0ACE-44FC-B7F2-AB4D9052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14E-6191-4A5B-955B-B20CFACB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2E1-FCFC-420F-9845-79848380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D77E-00BA-49C9-96AC-E50BB9C7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DD6F-7FAD-4C76-A36B-D81E540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AB25-7B94-42FB-9107-2979E58A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79AF-847A-4BC6-B8DF-7C8356A2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D808-EE40-40B6-86B2-C3C3B38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4CEF-2159-4427-906D-342FBA8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A623-2A9B-4FBE-9172-ED83318E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576-627B-40C7-A672-07D805C1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9165-EEAB-49CC-A6D0-F3AC02BF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1086-16F0-4534-BAEF-C8C05B1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0AAF-ABA1-44D4-AFF4-0D0C0D2E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A2C6-AB86-45D2-86CF-49BC736F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4EDA-9AFB-449A-9004-E1C28510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F0B5-AEAB-4B8D-A288-6E48D5F7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B620-3331-4B9A-92B7-A7DB02E8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0FB27-D5BD-4895-9615-03052E9C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AA31-F254-4373-96A3-2A4118F7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1445-4F25-4CAB-8AC7-23B40798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CF4-596F-408A-A69C-4E5AF9EB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EA2B-79C3-473B-A1B7-44F3771B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9F04-F726-454C-B28C-1EBDBCF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A354-C7B0-42F5-80EB-A6E9F47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AD06-4245-4620-AEAE-C9770067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832B-1448-45F0-A0F2-D96E4AB7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8172-58D1-4E62-A259-B416DB7D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F6F9-A2CC-4FC0-B497-3D6768F2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6E5F-F505-4CD6-BACF-B6641D8A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383D-E83D-4DCA-8920-57B4215A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B0F7-A2EB-482C-BB54-9A240860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F34-A802-46C4-80DA-1793B0AE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8C3B-D53D-48D5-88CF-53FBC10F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A4C5-370D-4A3A-8093-D48D5681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EFB8-882E-47E1-950E-9C477EF8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DD7E-AC05-4CF4-B0DA-DCC00628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583E-C4DF-40D1-A0D5-8F8198B9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8C2C5-6E67-4C38-9DD6-6E7058E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C9B8-03D3-4E34-9DD1-C8550474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F275-0ACD-43CF-8F9F-CE812826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855C-DB93-48B8-AF98-8A73EBB6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3649-E658-4601-82D4-39B37B17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3FC-A39B-462F-87AA-350C3AEC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7A3FF-C926-4800-A224-E9DDB94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FEE49-83A8-4693-B348-CFBA9DE0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47B35-0C9A-4203-B046-48C38E45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17D2-D08D-418B-8751-7D749C3E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9D4DD-F2DB-4ECB-AA11-5D26DAF1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C9819-AC3A-4ED2-B218-AC04653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DAF6E-34F2-445F-9FDF-2A0A692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E1560-E169-4BFE-B97B-21988A3F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0DCFA-3DE0-4DAF-82FD-3F390714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67CE-5E17-4E97-BB4D-A1153659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96D-5867-4029-91E2-4B8CA00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2875C-1B7F-43DE-8952-8EE2433F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478-B298-4FE1-A2D4-9005826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26A-C56A-44DF-A839-64B605E5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FFB-F5DA-4893-BE1D-14DB1451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b1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7000" y="12996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2DA1-8E4B-4B53-9814-5B7C82D1AA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EB8C-A258-400E-8DC5-57AC864A6A6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A8FA-A268-459F-8704-D65E8CC65B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EF8E-6029-4FF9-ADCC-D4A577E8B03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2F61-E14E-4B3E-B9A1-7AB9DE227A5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-12600" y="244440"/>
            <a:ext cx="10912320" cy="6332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&amp;Fcy;&amp;icy;&amp;lcy;&amp;softcy;&amp;tcy;&amp;rcy; &amp;rcy;&amp;iecy;&amp;kcy;&amp;lcy;&amp;acy;&amp;mcy;&amp;ycy; adguard - &amp;pcy;&amp;rcy;&amp;ocy;&amp;gcy;&amp;rcy;&amp;acy;&amp;mcy;&amp;mcy;&amp;acy; &amp;bcy;&amp;lcy;&amp;ocy;&amp;kcy;&amp;icy;&amp;rcy;&amp;ucy;&amp;yucy;&amp;shchcy;&amp;acy;&amp;yacy; &amp;rcy;&amp;iecy;&amp;kcy;&amp;lcy;&amp;acy;&amp;mcy;&amp;ucy;! &amp;Bcy;&amp;iecy;&amp;zcy;&amp;ocy;&amp;pcy;&amp;acy;&amp;scy;&amp;ncy;&amp;ocy;&amp;scy;&amp;tcy;&amp;softcy; &amp;icy; &amp;zcy;&amp;acy;&amp;shchcy;&amp;icy;&amp;tcy;&amp;acy;"/>
          <p:cNvPicPr/>
          <p:nvPr/>
        </p:nvPicPr>
        <p:blipFill>
          <a:blip r:embed="rId2"/>
          <a:stretch/>
        </p:blipFill>
        <p:spPr>
          <a:xfrm>
            <a:off x="5457960" y="3573360"/>
            <a:ext cx="30636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E1D9-0465-4B51-88CA-5B554A72EC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835200" y="-23760"/>
            <a:ext cx="8059680" cy="1376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539640" y="2204640"/>
            <a:ext cx="7056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1. Заболевания позвоночник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2. Заболевания органов дых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3. Синдром запястного канал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4. Стресс, депрессия и другие нервные расстройств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42960" y="1213920"/>
            <a:ext cx="23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братите внимание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8" name="Picture 6" descr="Рисунок2"/>
          <p:cNvPicPr/>
          <p:nvPr/>
        </p:nvPicPr>
        <p:blipFill>
          <a:blip r:embed="rId2"/>
          <a:stretch/>
        </p:blipFill>
        <p:spPr>
          <a:xfrm>
            <a:off x="6997680" y="3718080"/>
            <a:ext cx="196704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609480" y="262080"/>
            <a:ext cx="8064720" cy="13111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67c8"/>
                </a:solidFill>
                <a:latin typeface="Trebuchet MS"/>
              </a:rPr>
              <a:t>«Компьютерные игры приносят только вред»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1" i="1" lang="ru-RU" sz="2000" spc="-1" strike="noStrike">
                <a:solidFill>
                  <a:srgbClr val="c00000"/>
                </a:solidFill>
                <a:latin typeface="Trebuchet MS"/>
              </a:rPr>
              <a:t>Ещё профессор Преображенский, герой замечательной книги Булгакова «Собачье сердце», говорил: «На человека можно воздействовать только внушением». </a:t>
            </a: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Осваивая с ребёнком компьютер, вы</a:t>
            </a:r>
            <a:r>
              <a:rPr b="1" i="1" lang="ru-RU" sz="2000" spc="-1" strike="noStrike">
                <a:solidFill>
                  <a:srgbClr val="c00000"/>
                </a:solidFill>
                <a:latin typeface="Trebuchet MS"/>
              </a:rPr>
              <a:t> формируете развитую, социально адаптированную личность, а запреты и наказания ничего кроме ответной агрессии не вызову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67c8"/>
                </a:solidFill>
                <a:latin typeface="Trebuchet MS"/>
              </a:rPr>
              <a:t>Соблюдение несложных правил работы на компьютере позволит вам сохранить здоровье вашего малыша и одновременно открыть ребёнку мир огромных возможностей, доступный сегодня маленькому пользователю</a:t>
            </a:r>
            <a:r>
              <a:rPr b="1" i="1" lang="ru-RU" sz="2000" spc="-1" strike="noStrike">
                <a:solidFill>
                  <a:srgbClr val="c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E9B7-EF01-4764-8D9B-C6C36B20FF6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96720" y="12600"/>
            <a:ext cx="8423280" cy="2333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4e67c8"/>
                </a:solidFill>
                <a:uFillTx/>
                <a:latin typeface="Segoe UI"/>
                <a:ea typeface="Segoe UI"/>
              </a:rPr>
              <a:t>Адвентурные</a:t>
            </a:r>
            <a:r>
              <a:rPr b="1" lang="ru-RU" sz="1700" spc="-1" strike="noStrike">
                <a:solidFill>
                  <a:srgbClr val="4e67c8"/>
                </a:solidFill>
                <a:latin typeface="Segoe UI"/>
                <a:ea typeface="Segoe UI"/>
              </a:rPr>
              <a:t> (приключенчески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67c8"/>
                </a:solidFill>
                <a:latin typeface="Segoe UI"/>
                <a:ea typeface="Segoe UI"/>
              </a:rPr>
              <a:t>Визуально подобные игры  оформлены как мультипликационный фильм, но с интерактивными свойствами – возможностью управления ходом событий. Главным подспорьем в этих играх служат находки – различные предметы, которые встречает персонаж, путешествуя в игровом пространстве многочисленных уровней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4e67c8"/>
                </a:solidFill>
                <a:uFillTx/>
                <a:latin typeface="Segoe UI"/>
                <a:ea typeface="Segoe UI"/>
              </a:rPr>
              <a:t>Стратеги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67c8"/>
                </a:solidFill>
                <a:latin typeface="Segoe UI"/>
                <a:ea typeface="Segoe UI"/>
              </a:rPr>
              <a:t>Основная цель стратегических игр – управление войсками, энергией, полезными ископаемыми или другими подобными ресурсами. Эти игры достаточно сложны, но именно они развивают в ребёнке усидчивость и  способность к планированию своих действий, а также тренируют многофакторное мышление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4e67c8"/>
                </a:solidFill>
                <a:uFillTx/>
                <a:latin typeface="Segoe UI"/>
                <a:ea typeface="Segoe UI"/>
              </a:rPr>
              <a:t>Аркадны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67c8"/>
                </a:solidFill>
                <a:latin typeface="Segoe UI"/>
                <a:ea typeface="Segoe UI"/>
              </a:rPr>
              <a:t>Характерной особенностью аркадных игр является поуровневое дробление игры, когда наградой и целью является право перехода к следующему эпизоду или миссии. Аркадные игры тренируют глазомер, внимание, скорость реакции, но для детей дошкольного возраста рекомендуются ограничения по времени игры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e67c8"/>
                </a:solidFill>
                <a:uFillTx/>
                <a:latin typeface="Segoe UI"/>
                <a:ea typeface="Segoe UI"/>
              </a:rPr>
              <a:t>Роле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67c8"/>
                </a:solidFill>
                <a:latin typeface="Segoe UI"/>
                <a:ea typeface="Segoe UI"/>
              </a:rPr>
              <a:t>В играх этого жанра в распоряжении игрока имеется небольшой отряд персонажей, каждый из которых выполняет свою отдельную роль или функцию. </a:t>
            </a:r>
            <a:br>
              <a:rPr sz="1500"/>
            </a:b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5535-4ECF-4F7E-9E56-C7CE9741C74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5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5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25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69800" y="237960"/>
            <a:ext cx="8277480" cy="1225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67c8"/>
                </a:solidFill>
                <a:latin typeface="Trebuchet MS"/>
              </a:rPr>
              <a:t>«Компьютер – только для игр и развлечений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55FD-442F-4321-94CA-BB67C5C7FB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2" descr="http://static.best-woman.ru/s3/assets/00000136-bff2-cb59-6ff0-ad3fe3ca53cc.jpg"/>
          <p:cNvPicPr/>
          <p:nvPr/>
        </p:nvPicPr>
        <p:blipFill>
          <a:blip r:embed="rId2"/>
          <a:stretch/>
        </p:blipFill>
        <p:spPr>
          <a:xfrm>
            <a:off x="2484360" y="2492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98160" cy="1408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При слабом зрении садиться за компьютер можно только в очк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Соблюдать расстояние от глаз до экрана (50-70 см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Делать перерывы в работе и гимнастику для глаз через        каждые 15-25 минут работы перед монитор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Соблюдать правильную рабочую поз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Не работать на компьютере в темно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Следить за содержательной стороной игр и програм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После занятий  умыться прохладной водо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7D57-0609-44A2-BF44-511F302DC4A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4DAA-05A9-4A01-8DE7-E9DC37DABD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42960" y="499680"/>
            <a:ext cx="76960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rebuchet MS"/>
              </a:rPr>
              <a:t>Цель собрания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: расширить информационное поле родителей о пользе и вреде занятий детей за компьютеро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rebuchet MS"/>
              </a:rPr>
              <a:t>Форма проведения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: собрание – практику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6" name="Picture 4" descr="nnm_muzon"/>
          <p:cNvPicPr/>
          <p:nvPr/>
        </p:nvPicPr>
        <p:blipFill>
          <a:blip r:embed="rId1"/>
          <a:stretch/>
        </p:blipFill>
        <p:spPr>
          <a:xfrm>
            <a:off x="3857760" y="3286080"/>
            <a:ext cx="4643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5BD2-6324-4729-B63C-BEFC6775AF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500040" y="12240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900000" y="1125000"/>
            <a:ext cx="77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Есть ли у вас дома компьютер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95%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2. Кто больше общается с компьютеро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60% - родители, 40% - дет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3. Сколько времени Ваш ребёнок проводит у компьютер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 63% - 30 минут – 1час, 37% - сколько захотят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4. Как вы относитесь к увлечению компьютерными играм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90% положительно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5. Вызывает ли это у вас тревог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90% - нет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3BB9-99A1-4437-B5CD-115ED912DA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39720" y="195120"/>
            <a:ext cx="7699320" cy="1511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79280" y="1285920"/>
            <a:ext cx="87854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3" name="Рисунок 6" descr="&amp;Scy;&amp;ocy;&amp;zcy;&amp;dcy;&amp;acy;&amp;tcy;&amp;softcy; &amp;zcy;&amp;acy;&amp;pcy;&amp;rcy;&amp;ocy;&amp;scy; &amp;Bcy;&amp;acy;&amp;zcy;&amp;iecy;&amp;dcy;&amp;ycy;"/>
          <p:cNvPicPr/>
          <p:nvPr/>
        </p:nvPicPr>
        <p:blipFill>
          <a:blip r:embed="rId2"/>
          <a:stretch/>
        </p:blipFill>
        <p:spPr>
          <a:xfrm>
            <a:off x="1835280" y="1628640"/>
            <a:ext cx="511308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F57E-6228-4695-9A5F-C798997604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109440" y="-12600"/>
            <a:ext cx="8785440" cy="1287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6"/>
          <p:cNvSpPr/>
          <p:nvPr/>
        </p:nvSpPr>
        <p:spPr>
          <a:xfrm>
            <a:off x="324000" y="5302080"/>
            <a:ext cx="88200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Прямоугольник 1"/>
          <p:cNvSpPr/>
          <p:nvPr/>
        </p:nvSpPr>
        <p:spPr>
          <a:xfrm>
            <a:off x="681120" y="1320840"/>
            <a:ext cx="77058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1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1489f"/>
                </a:solidFill>
                <a:latin typeface="Segoe UI"/>
                <a:ea typeface="Segoe UI"/>
              </a:rPr>
              <a:t>«Общение с компьютером портит детское здоровье»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Segoe UI"/>
                <a:ea typeface="Segoe UI"/>
              </a:rPr>
              <a:t>Отчасти это правда, и нам необходимо вооружиться специальными знаниями в этом вопросе, чтобы компьютерные игры отныне приносили к нам в дом только положительные эмоции. Самое главное – знать как влияет компьютер на детский организм и сколько времени ребёнок может проводить за монитором без вреда для здоровь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1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1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611280" y="4602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Существуют четыре основных вредных фактора: </a:t>
            </a:r>
            <a:r>
              <a:rPr b="1" i="1" lang="ru-RU" sz="2400" spc="-1" strike="noStrike">
                <a:solidFill>
                  <a:srgbClr val="ff0000"/>
                </a:solidFill>
                <a:latin typeface="Segoe UI"/>
                <a:ea typeface="Segoe UI"/>
              </a:rPr>
              <a:t>нагрузка на зрение, стеснённая поза, нагрузка на психику, излу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FA8D-FC82-46C9-B8EB-77BF556DF1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-249120" y="79200"/>
            <a:ext cx="9144000" cy="1621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68360" y="1699920"/>
            <a:ext cx="7989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бёнок старшего дошкольного возраста может проводить за компьютером не более 10-25 минут, после чего необходимо сделать перерыв и небольшую гимнастику для глаз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 разрешайте ребёнку работать за компьютером в темнот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тояние от детских глаз до экрана составляло 50-70 с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При грамотном подходе и организации рабочег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места ребёнка, его зрению ничего не угрожает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2" name="Picture 7" descr="Computers : Vocabulary - English"/>
          <p:cNvPicPr/>
          <p:nvPr/>
        </p:nvPicPr>
        <p:blipFill>
          <a:blip r:embed="rId2"/>
          <a:stretch/>
        </p:blipFill>
        <p:spPr>
          <a:xfrm>
            <a:off x="6470640" y="4365720"/>
            <a:ext cx="21733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4000" y="1483920"/>
            <a:ext cx="7848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кисти рук малыша находились на уровне локтей, а запястья – на опорной планк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необходимо сохранять прямой угол (90 градусов) в области сустав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между компьютерными играми ребёнок должен играть в подвижные игры, гулять, заниматься спорто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11E9-DE3E-4644-B6DD-CE4FEB4EBE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1189080" y="49320"/>
            <a:ext cx="7173720" cy="1931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2"/>
          <a:stretch/>
        </p:blipFill>
        <p:spPr>
          <a:xfrm>
            <a:off x="2556000" y="4005360"/>
            <a:ext cx="42606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26D4-E545-4964-B68D-D4BFB8EF62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-249120" y="-165240"/>
            <a:ext cx="9144000" cy="150660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1"/>
          <p:cNvSpPr/>
          <p:nvPr/>
        </p:nvSpPr>
        <p:spPr>
          <a:xfrm>
            <a:off x="684360" y="1125360"/>
            <a:ext cx="77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Во-первых, в работе (повторимся ещё и ещё раз) следует делать переры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Во-вторых, необходимо следить за содержательной стороной иг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Поиск информации в Интернете нужно дозир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Минимизировать игры, содержащие движущееся на высокой скорости изображение и мелкие элемент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Script"/>
                <a:ea typeface="Segoe UI"/>
              </a:rPr>
              <a:t>Переутомление и напряжение детского организма после длительных игр снять очень нелегк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25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25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1000" autoRev="1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10920" y="1844640"/>
            <a:ext cx="77770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 </a:t>
            </a:r>
            <a:r>
              <a:rPr b="1" lang="ru-RU" sz="2200" spc="-1" strike="noStrike">
                <a:solidFill>
                  <a:srgbClr val="212745"/>
                </a:solidFill>
                <a:latin typeface="Segoe Script"/>
              </a:rPr>
              <a:t>В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2200" spc="-1" strike="noStrike">
                <a:solidFill>
                  <a:srgbClr val="212745"/>
                </a:solidFill>
                <a:latin typeface="Segoe Script"/>
              </a:rPr>
              <a:t>Современных мониторах предусмотрены все меры   безопасности: в частности, собственно то, что называется радиацией (гамма-лучи и нейтроны), </a:t>
            </a:r>
            <a:r>
              <a:rPr b="1" lang="ru-RU" sz="2800" spc="-1" strike="noStrike">
                <a:solidFill>
                  <a:srgbClr val="ff0000"/>
                </a:solidFill>
                <a:latin typeface="Segoe Script"/>
              </a:rPr>
              <a:t>монитор вообще не производит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C168-5855-4F6C-8FA6-A8D6C1700F8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Заголовок 3" descr=""/>
          <p:cNvPicPr/>
          <p:nvPr/>
        </p:nvPicPr>
        <p:blipFill>
          <a:blip r:embed="rId1"/>
          <a:stretch/>
        </p:blipFill>
        <p:spPr>
          <a:xfrm>
            <a:off x="1116000" y="304920"/>
            <a:ext cx="7174080" cy="1554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http://ckc-ok.ru/wp-content/uploads/2012/08/25.jpg"/>
          <p:cNvPicPr/>
          <p:nvPr/>
        </p:nvPicPr>
        <p:blipFill>
          <a:blip r:embed="rId2"/>
          <a:stretch/>
        </p:blipFill>
        <p:spPr>
          <a:xfrm>
            <a:off x="5519880" y="3429000"/>
            <a:ext cx="302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0:08:54Z</dcterms:created>
  <dc:creator>Юрасик</dc:creator>
  <dc:description/>
  <dc:language>en-US</dc:language>
  <cp:lastModifiedBy>Натали</cp:lastModifiedBy>
  <dcterms:modified xsi:type="dcterms:W3CDTF">2015-01-29T08:14:42Z</dcterms:modified>
  <cp:revision>10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49</vt:lpwstr>
  </property>
</Properties>
</file>