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8.png" ContentType="image/png"/>
  <Override PartName="/ppt/media/image29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chimes.wav" ContentType="audio/x-wav"/>
  <Override PartName="/ppt/media/image16.png" ContentType="image/pn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F40B-0862-4A97-843F-B5EC6B1CB4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E6DD-6511-4107-8245-F4DAE94D548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51F6-265E-42E9-AD16-873C74C3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1E31-4DDF-4CB7-BE9B-6F10DD74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A139-E2EF-4E1A-B7A7-9DC09EEA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F077-0283-4B09-B982-4686465E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A6EE-2DA9-48B0-9994-47EDFB88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EE2B-0AC8-4F91-BDA1-4FA8DD49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C935-3FB0-43B4-9696-3A7DDCFB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C2C5-7B5D-4111-8590-4E0AE016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4365-B8F6-4A9E-B0F6-32D02779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0E5D-D8C7-4A30-BD33-D3BFC126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257D-E780-4FC3-99B2-63655CBB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50F6-5E2B-48FE-B722-FAAF8DE0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C487-5398-4C60-B6D7-55FD9FFB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8CF1-3F32-43B6-8D51-EF89F0DB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AE0E-35E8-4DF7-8964-DA2B7D37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4042-DCA7-4B0C-8F46-C0F9623E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784F-63C9-4F77-AABD-011A7632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C0A6D-4CDF-4CC6-A493-1EC02630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07321-0ED2-4F81-B8DB-B14F1DBA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063E8-2E6D-42AE-A27C-7AEA33C7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22E7F-007F-47D4-BB3D-35E0C63B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AC95A-4775-4D36-A81C-C06C5C6B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B2FE-6A8F-41F9-8852-E077C5CC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3B5C2-104D-4671-BEE6-268A91B2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15583-F2C1-4301-B1F0-C0E91959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D85E9-CE95-4688-AA94-548E4944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5F191-E8F7-4665-975F-A9691C34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C8355-C93D-4E4B-A126-86895757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7D7E0-FB78-46EB-9BC4-5C636C5F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CAF3F-E1FD-4BD2-8CAF-9ECDACE8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271E5-9FBF-4D4E-892F-DFA4CBE9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E3DA6-DD54-4CDD-86AC-59953F23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3F5B6-057C-4123-8FA0-4867C287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EA80-1AA7-4A4A-95C3-0E54D76D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CB34F-4206-4FEC-AC55-EDCC6260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F91FC-5850-40ED-B539-02981C53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43D36-107C-4185-BF5E-9105D71A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CA753-2046-4077-826A-9CB31236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09A8C-A106-462A-A822-1C229561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09B89-1B1C-43BD-9A8B-DC510D5C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CA5C6-450B-43DF-8286-01EF40EC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FB787-3C59-4FD9-87D1-D01ABDDB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28BF8-F15B-48F4-B96C-C4317551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0C43A-A7B2-4477-B779-BF23BC5F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03F-39EC-46F5-935B-60C5189A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5EC97-8B58-4C4A-B135-56EA910E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15FC0-5EEB-4759-BC5A-C4A48726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FBFA9-BD14-475C-8B56-5F843C33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56FEF-9425-40FF-9994-D89C0A5F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E3E7F-BD79-4805-8BC2-B700FC5F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60A03-E2E2-4F36-A648-7CE2F8CA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22D66-0673-4862-9F9A-B05C30B1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58D71-8C8A-457C-AF92-A6DA3644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A72C1-4586-49AD-B34C-F191D805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53A48-0899-4C02-8632-36BAE51A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3AA7-DC4E-47F7-B8DB-798E55EB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A9E02-5355-4283-A82B-E503CF38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C091-486F-427A-879C-724ED187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6BE9-EC6E-4624-B6AC-9DCB284E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C545-EFF5-4A0A-920C-77E4F842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b1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97000" y="12996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0A65-C668-4894-A863-AD6DE10712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4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019A-1FE3-4CDB-9B4F-45F93386CD6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93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96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00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84CE-D2D9-43C1-92F8-FD7ECED0EF9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4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4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4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7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61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27F5-A685-4AAA-9D74-88DD9E803E5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0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08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2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7A68-B5DC-4A7A-BDEC-C4BFC17D3D8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-12600" y="244440"/>
            <a:ext cx="10912320" cy="6332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&amp;Fcy;&amp;icy;&amp;lcy;&amp;softcy;&amp;tcy;&amp;rcy; &amp;rcy;&amp;iecy;&amp;kcy;&amp;lcy;&amp;acy;&amp;mcy;&amp;ycy; adguard - &amp;pcy;&amp;rcy;&amp;ocy;&amp;gcy;&amp;rcy;&amp;acy;&amp;mcy;&amp;mcy;&amp;acy; &amp;bcy;&amp;lcy;&amp;ocy;&amp;kcy;&amp;icy;&amp;rcy;&amp;ucy;&amp;yucy;&amp;shchcy;&amp;acy;&amp;yacy; &amp;rcy;&amp;iecy;&amp;kcy;&amp;lcy;&amp;acy;&amp;mcy;&amp;ucy;! &amp;Bcy;&amp;iecy;&amp;zcy;&amp;ocy;&amp;pcy;&amp;acy;&amp;scy;&amp;ncy;&amp;ocy;&amp;scy;&amp;tcy;&amp;softcy; &amp;icy; &amp;zcy;&amp;acy;&amp;shchcy;&amp;icy;&amp;tcy;&amp;acy;"/>
          <p:cNvPicPr/>
          <p:nvPr/>
        </p:nvPicPr>
        <p:blipFill>
          <a:blip r:embed="rId2"/>
          <a:stretch/>
        </p:blipFill>
        <p:spPr>
          <a:xfrm>
            <a:off x="5457960" y="3573360"/>
            <a:ext cx="30636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3554-063B-40B0-ADB3-57C5805F9B0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835200" y="-23760"/>
            <a:ext cx="8059680" cy="13762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539640" y="2204640"/>
            <a:ext cx="7056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1. Заболевания позвоночника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2. Заболевания органов дыхани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3. Синдром запястного канала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4. Стресс, депрессия и другие нервные расстройства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42960" y="1213920"/>
            <a:ext cx="2340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Обратите внимание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8" name="Picture 6" descr="Рисунок2"/>
          <p:cNvPicPr/>
          <p:nvPr/>
        </p:nvPicPr>
        <p:blipFill>
          <a:blip r:embed="rId2"/>
          <a:stretch/>
        </p:blipFill>
        <p:spPr>
          <a:xfrm>
            <a:off x="6997680" y="3718080"/>
            <a:ext cx="1967040" cy="29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5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5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4" nodeType="afterEffect" fill="hold" presetClass="entr" presetID="5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1" descr=""/>
          <p:cNvPicPr/>
          <p:nvPr/>
        </p:nvPicPr>
        <p:blipFill>
          <a:blip r:embed="rId1"/>
          <a:stretch/>
        </p:blipFill>
        <p:spPr>
          <a:xfrm>
            <a:off x="609480" y="262080"/>
            <a:ext cx="8064720" cy="13111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10920" y="1484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4e67c8"/>
                </a:solidFill>
                <a:latin typeface="Trebuchet MS"/>
              </a:rPr>
              <a:t>«Компьютерные игры приносят только вред»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rebuchet MS"/>
              </a:rPr>
              <a:t>  </a:t>
            </a:r>
            <a:r>
              <a:rPr b="1" i="1" lang="ru-RU" sz="2000" spc="-1" strike="noStrike">
                <a:solidFill>
                  <a:srgbClr val="c00000"/>
                </a:solidFill>
                <a:latin typeface="Trebuchet MS"/>
              </a:rPr>
              <a:t>Ещё профессор Преображенский, герой замечательной книги Булгакова «Собачье сердце», говорил: «На человека можно воздействовать только внушением». </a:t>
            </a: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Осваивая с ребёнком компьютер, вы</a:t>
            </a:r>
            <a:r>
              <a:rPr b="1" i="1" lang="ru-RU" sz="2000" spc="-1" strike="noStrike">
                <a:solidFill>
                  <a:srgbClr val="c00000"/>
                </a:solidFill>
                <a:latin typeface="Trebuchet MS"/>
              </a:rPr>
              <a:t> формируете развитую, социально адаптированную личность, а запреты и наказания ничего кроме ответной агрессии не вызовут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67c8"/>
                </a:solidFill>
                <a:latin typeface="Trebuchet MS"/>
              </a:rPr>
              <a:t>Соблюдение несложных правил работы на компьютере позволит вам сохранить здоровье вашего малыша и одновременно открыть ребёнку мир огромных возможностей, доступный сегодня маленькому пользователю</a:t>
            </a:r>
            <a:r>
              <a:rPr b="1" i="1" lang="ru-RU" sz="2000" spc="-1" strike="noStrike">
                <a:solidFill>
                  <a:srgbClr val="c00000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C912-C112-4A0F-AE25-0F93F6F1B00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2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396720" y="12600"/>
            <a:ext cx="8423280" cy="23338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4e67c8"/>
                </a:solidFill>
                <a:uFillTx/>
                <a:latin typeface="Segoe UI"/>
                <a:ea typeface="Segoe UI"/>
              </a:rPr>
              <a:t>Адвентурные</a:t>
            </a:r>
            <a:r>
              <a:rPr b="1" lang="ru-RU" sz="1700" spc="-1" strike="noStrike">
                <a:solidFill>
                  <a:srgbClr val="4e67c8"/>
                </a:solidFill>
                <a:latin typeface="Segoe UI"/>
                <a:ea typeface="Segoe UI"/>
              </a:rPr>
              <a:t> (приключенчески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e67c8"/>
                </a:solidFill>
                <a:latin typeface="Segoe UI"/>
                <a:ea typeface="Segoe UI"/>
              </a:rPr>
              <a:t>Визуально подобные игры  оформлены как мультипликационный фильм, но с интерактивными свойствами – возможностью управления ходом событий. Главным подспорьем в этих играх служат находки – различные предметы, которые встречает персонаж, путешествуя в игровом пространстве многочисленных уровней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4e67c8"/>
                </a:solidFill>
                <a:uFillTx/>
                <a:latin typeface="Segoe UI"/>
                <a:ea typeface="Segoe UI"/>
              </a:rPr>
              <a:t>Стратегии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e67c8"/>
                </a:solidFill>
                <a:latin typeface="Segoe UI"/>
                <a:ea typeface="Segoe UI"/>
              </a:rPr>
              <a:t>Основная цель стратегических игр – управление войсками, энергией, полезными ископаемыми или другими подобными ресурсами. Эти игры достаточно сложны, но именно они развивают в ребёнке усидчивость и  способность к планированию своих действий, а также тренируют многофакторное мышление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4e67c8"/>
                </a:solidFill>
                <a:uFillTx/>
                <a:latin typeface="Segoe UI"/>
                <a:ea typeface="Segoe UI"/>
              </a:rPr>
              <a:t>Аркадные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e67c8"/>
                </a:solidFill>
                <a:latin typeface="Segoe UI"/>
                <a:ea typeface="Segoe UI"/>
              </a:rPr>
              <a:t>Характерной особенностью аркадных игр является поуровневое дробление игры, когда наградой и целью является право перехода к следующему эпизоду или миссии. Аркадные игры тренируют глазомер, внимание, скорость реакции, но для детей дошкольного возраста рекомендуются ограничения по времени игры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e67c8"/>
                </a:solidFill>
                <a:uFillTx/>
                <a:latin typeface="Segoe UI"/>
                <a:ea typeface="Segoe UI"/>
              </a:rPr>
              <a:t>Ролевы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e67c8"/>
                </a:solidFill>
                <a:latin typeface="Segoe UI"/>
                <a:ea typeface="Segoe UI"/>
              </a:rPr>
              <a:t>В играх этого жанра в распоряжении игрока имеется небольшой отряд персонажей, каждый из которых выполняет свою отдельную роль или функцию. </a:t>
            </a:r>
            <a:br>
              <a:rPr sz="1500"/>
            </a:b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3C5E-D85B-4719-B63E-A2C44B0094D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25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25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25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469800" y="237960"/>
            <a:ext cx="8277480" cy="1225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848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67c8"/>
                </a:solidFill>
                <a:latin typeface="Trebuchet MS"/>
              </a:rPr>
              <a:t>«Компьютер – только для игр и развлечений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FB02-ACD6-42CC-AB8F-EECCEAE2A0D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Picture 2" descr="http://static.best-woman.ru/s3/assets/00000136-bff2-cb59-6ff0-ad3fe3ca53cc.jpg"/>
          <p:cNvPicPr/>
          <p:nvPr/>
        </p:nvPicPr>
        <p:blipFill>
          <a:blip r:embed="rId2"/>
          <a:stretch/>
        </p:blipFill>
        <p:spPr>
          <a:xfrm>
            <a:off x="2484360" y="24922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98160" cy="14083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 </a:t>
            </a: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При слабом зрении садиться за компьютер можно только в очках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 </a:t>
            </a: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Соблюдать расстояние от глаз до экрана (50-70 см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 </a:t>
            </a: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Делать перерывы в работе и гимнастику для глаз через        каждые 15-25 минут работы перед мониторо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 </a:t>
            </a: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Соблюдать правильную рабочую поз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 </a:t>
            </a: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Не работать на компьютере в темнот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 </a:t>
            </a: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Следить за содержательной стороной игр и програм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 </a:t>
            </a:r>
            <a:r>
              <a:rPr b="1" lang="ru-RU" sz="2000" spc="-1" strike="noStrike">
                <a:solidFill>
                  <a:srgbClr val="4e67c8"/>
                </a:solidFill>
                <a:latin typeface="Segoe UI"/>
                <a:ea typeface="Segoe UI"/>
              </a:rPr>
              <a:t>После занятий  умыться прохладной водо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5CC8-3781-4792-B360-3F1E9D2F529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4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E4AB-EE92-4880-8572-1D969A4D63A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42960" y="499680"/>
            <a:ext cx="769608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rebuchet MS"/>
              </a:rPr>
              <a:t>Цель собрания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: расширить информационное поле родителей о пользе и вреде занятий детей за компьютером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rebuchet MS"/>
              </a:rPr>
              <a:t>Форма проведения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: собрание – практикум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6" name="Picture 4" descr="nnm_muzon"/>
          <p:cNvPicPr/>
          <p:nvPr/>
        </p:nvPicPr>
        <p:blipFill>
          <a:blip r:embed="rId1"/>
          <a:stretch/>
        </p:blipFill>
        <p:spPr>
          <a:xfrm>
            <a:off x="3857760" y="3286080"/>
            <a:ext cx="46432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5806-3006-4244-8B9F-9825A7D8105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500040" y="122400"/>
            <a:ext cx="8229600" cy="1011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900000" y="1125000"/>
            <a:ext cx="7786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Есть ли у вас дома компьютер?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           </a:t>
            </a: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(95%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2. Кто больше общается с компьютером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        </a:t>
            </a: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(60% - родители, 40% - дети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3. Сколько времени Ваш ребёнок проводит у компьютера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        </a:t>
            </a: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( 63% - 30 минут – 1час, 37% - сколько захотят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4. Как вы относитесь к увлечению компьютерными играми?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         </a:t>
            </a: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(90% положительно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5. Вызывает ли это у вас тревогу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         </a:t>
            </a:r>
            <a:r>
              <a:rPr b="1" lang="ru-RU" sz="2400" spc="-1" strike="noStrike">
                <a:solidFill>
                  <a:srgbClr val="0d79ca"/>
                </a:solidFill>
                <a:latin typeface="Bookman Old Style"/>
              </a:rPr>
              <a:t>(90% - нет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786E-7FFC-41DF-851D-2D9DCD8ADC8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639720" y="195120"/>
            <a:ext cx="7699320" cy="1511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179280" y="1285920"/>
            <a:ext cx="878544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                 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3" name="Рисунок 6" descr="&amp;Scy;&amp;ocy;&amp;zcy;&amp;dcy;&amp;acy;&amp;tcy;&amp;softcy; &amp;zcy;&amp;acy;&amp;pcy;&amp;rcy;&amp;ocy;&amp;scy; &amp;Bcy;&amp;acy;&amp;zcy;&amp;iecy;&amp;dcy;&amp;ycy;"/>
          <p:cNvPicPr/>
          <p:nvPr/>
        </p:nvPicPr>
        <p:blipFill>
          <a:blip r:embed="rId2"/>
          <a:stretch/>
        </p:blipFill>
        <p:spPr>
          <a:xfrm>
            <a:off x="1835280" y="1628640"/>
            <a:ext cx="5113080" cy="44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2FF0-7021-4DF5-8B07-7B2909868E7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Rectangle 2" descr=""/>
          <p:cNvPicPr/>
          <p:nvPr/>
        </p:nvPicPr>
        <p:blipFill>
          <a:blip r:embed="rId1"/>
          <a:stretch/>
        </p:blipFill>
        <p:spPr>
          <a:xfrm>
            <a:off x="109440" y="-12600"/>
            <a:ext cx="8785440" cy="12873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6"/>
          <p:cNvSpPr/>
          <p:nvPr/>
        </p:nvSpPr>
        <p:spPr>
          <a:xfrm>
            <a:off x="324000" y="5302080"/>
            <a:ext cx="882000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Прямоугольник 1"/>
          <p:cNvSpPr/>
          <p:nvPr/>
        </p:nvSpPr>
        <p:spPr>
          <a:xfrm>
            <a:off x="681120" y="1320840"/>
            <a:ext cx="77058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1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1489f"/>
                </a:solidFill>
                <a:latin typeface="Segoe UI"/>
                <a:ea typeface="Segoe UI"/>
              </a:rPr>
              <a:t>«Общение с компьютером портит детское здоровье»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Segoe UI"/>
                <a:ea typeface="Segoe UI"/>
              </a:rPr>
              <a:t>Отчасти это правда, и нам необходимо вооружиться специальными знаниями в этом вопросе, чтобы компьютерные игры отныне приносили к нам в дом только положительные эмоции. Самое главное – знать как влияет компьютер на детский организм и сколько времени ребёнок может проводить за монитором без вреда для здоровь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1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148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Прямоугольник 2"/>
          <p:cNvSpPr/>
          <p:nvPr/>
        </p:nvSpPr>
        <p:spPr>
          <a:xfrm>
            <a:off x="611280" y="46022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67c8"/>
                </a:solidFill>
                <a:latin typeface="Segoe UI"/>
                <a:ea typeface="Segoe UI"/>
              </a:rPr>
              <a:t>Существуют четыре основных вредных фактора: </a:t>
            </a:r>
            <a:r>
              <a:rPr b="1" i="1" lang="ru-RU" sz="2400" spc="-1" strike="noStrike">
                <a:solidFill>
                  <a:srgbClr val="ff0000"/>
                </a:solidFill>
                <a:latin typeface="Segoe UI"/>
                <a:ea typeface="Segoe UI"/>
              </a:rPr>
              <a:t>нагрузка на зрение, стеснённая поза, нагрузка на психику, излуч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2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Номер слайда 4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D018-7FC8-4148-8211-0802E8137C9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Rectangle 2" descr=""/>
          <p:cNvPicPr/>
          <p:nvPr/>
        </p:nvPicPr>
        <p:blipFill>
          <a:blip r:embed="rId1"/>
          <a:stretch/>
        </p:blipFill>
        <p:spPr>
          <a:xfrm>
            <a:off x="-249120" y="79200"/>
            <a:ext cx="9144000" cy="16210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468360" y="1699920"/>
            <a:ext cx="79898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ебёнок старшего дошкольного возраста может проводить за компьютером не более 10-25 минут, после чего необходимо сделать перерыв и небольшую гимнастику для глаз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не разрешайте ребёнку работать за компьютером в темноте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асстояние от детских глаз до экрана составляло 50-70 см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При грамотном подходе и организации рабочег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места ребёнка, его зрению ничего не угрожает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2" name="Picture 7" descr="Computers : Vocabulary - English"/>
          <p:cNvPicPr/>
          <p:nvPr/>
        </p:nvPicPr>
        <p:blipFill>
          <a:blip r:embed="rId2"/>
          <a:stretch/>
        </p:blipFill>
        <p:spPr>
          <a:xfrm>
            <a:off x="6470640" y="4365720"/>
            <a:ext cx="2173320" cy="21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84000" y="1483920"/>
            <a:ext cx="7848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кисти рук малыша находились на уровне локтей, а запястья – на опорной планке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необходимо сохранять прямой угол (90 градусов) в области суставо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между компьютерными играми ребёнок должен играть в подвижные игры, гулять, заниматься спортом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CBC0-1324-469D-8F13-6BC38FFAD03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Rectangle 2" descr=""/>
          <p:cNvPicPr/>
          <p:nvPr/>
        </p:nvPicPr>
        <p:blipFill>
          <a:blip r:embed="rId1"/>
          <a:stretch/>
        </p:blipFill>
        <p:spPr>
          <a:xfrm>
            <a:off x="1189080" y="49320"/>
            <a:ext cx="7173720" cy="19317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"/>
          <p:cNvPicPr/>
          <p:nvPr/>
        </p:nvPicPr>
        <p:blipFill>
          <a:blip r:embed="rId2"/>
          <a:stretch/>
        </p:blipFill>
        <p:spPr>
          <a:xfrm>
            <a:off x="2556000" y="4005360"/>
            <a:ext cx="426060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1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Номер слайда 4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E064-FE8B-4A2C-885C-E57CB83B03C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Rectangle 2" descr=""/>
          <p:cNvPicPr/>
          <p:nvPr/>
        </p:nvPicPr>
        <p:blipFill>
          <a:blip r:embed="rId1"/>
          <a:stretch/>
        </p:blipFill>
        <p:spPr>
          <a:xfrm>
            <a:off x="-249120" y="-165240"/>
            <a:ext cx="9144000" cy="1506600"/>
          </a:xfrm>
          <a:prstGeom prst="rect">
            <a:avLst/>
          </a:prstGeom>
          <a:ln w="0">
            <a:noFill/>
          </a:ln>
        </p:spPr>
      </p:pic>
      <p:sp>
        <p:nvSpPr>
          <p:cNvPr id="289" name="Прямоугольник 1"/>
          <p:cNvSpPr/>
          <p:nvPr/>
        </p:nvSpPr>
        <p:spPr>
          <a:xfrm>
            <a:off x="684360" y="1125360"/>
            <a:ext cx="770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e67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67c8"/>
                </a:solidFill>
                <a:latin typeface="Segoe UI"/>
                <a:ea typeface="Segoe UI"/>
              </a:rPr>
              <a:t>Во-первых, в работе (повторимся ещё и ещё раз) следует делать перерыв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4e67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67c8"/>
                </a:solidFill>
                <a:latin typeface="Segoe UI"/>
                <a:ea typeface="Segoe UI"/>
              </a:rPr>
              <a:t>Во-вторых, необходимо следить за содержательной стороной иг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4e67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67c8"/>
                </a:solidFill>
                <a:latin typeface="Segoe UI"/>
                <a:ea typeface="Segoe UI"/>
              </a:rPr>
              <a:t>Поиск информации в Интернете нужно дозиров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4e67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67c8"/>
                </a:solidFill>
                <a:latin typeface="Segoe UI"/>
                <a:ea typeface="Segoe UI"/>
              </a:rPr>
              <a:t>Минимизировать игры, содержащие движущееся на высокой скорости изображение и мелкие элемент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4e67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Script"/>
                <a:ea typeface="Segoe UI"/>
              </a:rPr>
              <a:t>Переутомление и напряжение детского организма после длительных игр снять очень нелегк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25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25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25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1000" autoRev="1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10920" y="1844640"/>
            <a:ext cx="777708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  </a:t>
            </a:r>
            <a:r>
              <a:rPr b="1" lang="ru-RU" sz="2200" spc="-1" strike="noStrike">
                <a:solidFill>
                  <a:srgbClr val="212745"/>
                </a:solidFill>
                <a:latin typeface="Segoe Script"/>
              </a:rPr>
              <a:t>В</a:t>
            </a: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1" lang="ru-RU" sz="2200" spc="-1" strike="noStrike">
                <a:solidFill>
                  <a:srgbClr val="212745"/>
                </a:solidFill>
                <a:latin typeface="Segoe Script"/>
              </a:rPr>
              <a:t>Современных мониторах предусмотрены все меры   безопасности: в частности, собственно то, что называется радиацией (гамма-лучи и нейтроны), </a:t>
            </a:r>
            <a:r>
              <a:rPr b="1" lang="ru-RU" sz="2800" spc="-1" strike="noStrike">
                <a:solidFill>
                  <a:srgbClr val="ff0000"/>
                </a:solidFill>
                <a:latin typeface="Segoe Script"/>
              </a:rPr>
              <a:t>монитор вообще не производит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Номер слайда 2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909E-EB6C-4D29-98A5-21F2B49E9E6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Заголовок 3" descr=""/>
          <p:cNvPicPr/>
          <p:nvPr/>
        </p:nvPicPr>
        <p:blipFill>
          <a:blip r:embed="rId1"/>
          <a:stretch/>
        </p:blipFill>
        <p:spPr>
          <a:xfrm>
            <a:off x="1116000" y="304920"/>
            <a:ext cx="7174080" cy="1554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http://ckc-ok.ru/wp-content/uploads/2012/08/25.jpg"/>
          <p:cNvPicPr/>
          <p:nvPr/>
        </p:nvPicPr>
        <p:blipFill>
          <a:blip r:embed="rId2"/>
          <a:stretch/>
        </p:blipFill>
        <p:spPr>
          <a:xfrm>
            <a:off x="5519880" y="3429000"/>
            <a:ext cx="3024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10:08:54Z</dcterms:created>
  <dc:creator>Юрасик</dc:creator>
  <dc:description/>
  <dc:language>en-US</dc:language>
  <cp:lastModifiedBy>Натали</cp:lastModifiedBy>
  <dcterms:modified xsi:type="dcterms:W3CDTF">2015-01-29T08:14:42Z</dcterms:modified>
  <cp:revision>10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49</vt:lpwstr>
  </property>
</Properties>
</file>