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A1AA-1D91-4789-918E-B4F5F196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F6C1-0933-42DA-8800-5F2FC8DA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C57D-93B1-435F-AC32-B08A94655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C192-A795-45FE-81E1-1EB789B6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12FA-19B2-447C-9886-BA51D548F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B989-0870-435D-A836-2A920813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DD86-AC19-41A9-89F1-45D73163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D2E1-5A38-4D3B-8AA7-E1308115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F76C-BBE9-49BB-8325-F8E392C0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C8FE-5819-4943-BC6C-E1B6996C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62C2-80B5-446B-8AC4-04C8EE54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24E3-A0CB-446F-9C3C-30829352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2F16-3833-4467-B79F-BD8F5C1D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2D08-5332-4B5A-BE66-6F00B603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E8D6-D83A-42F3-BA76-226C5981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A4AA-0115-4F95-B02D-6EAE9FE9E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BB55-6685-42A6-8111-87CECE9F8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5B12-9D7F-4E24-866B-28E952BF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2C6C-8577-465D-BCCD-3F932387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4B46-B82E-4B2D-B591-B54E8C22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F50E-7D3C-43FA-82ED-3DD08AD0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F39F-9698-401A-85CE-1740BBFA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EA73-E9B8-4C45-B834-06885AE1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707A-BD5C-402B-A42F-0FBF83FA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8874-9AD1-4657-99EA-97DA5FA8D68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E3EA-8990-4277-813E-41F84C09B85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истема работы отделения диагностики, развития и коррекции в структуре Центр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160" y="2971440"/>
            <a:ext cx="4241880" cy="17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276560" y="1200240"/>
            <a:ext cx="7199640" cy="498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Дефектологи Центра определяют причины трудностей в обучении и с помощью различных методик, заданий, упражнений, игр стремятся данные причины по возможности устранить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Трудности в усвоении таблиц сложения, умножения, делен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лабый интерес к изучению математики, обусловленный пробелами в знаниях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достаточный  объем кратковременной памят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достаточный уровень развития логического мышления и пространственного воображе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едность словарного запас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изкий уровень развития общей осведомленност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68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68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6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6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241640" y="2613600"/>
            <a:ext cx="7422120" cy="345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Коррекционно-развивающая работа – достаточно длительный и сложный процесс, требующий взаимодействия не только специалистов отделения диагностики, развития и коррекции, педагогов, но и родителей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Отделение </a:t>
            </a:r>
            <a:br>
              <a:rPr sz="3200"/>
            </a:b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диагностики, развития и коррекции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Психологическая служб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Дефектологическая служб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Логопедическая служб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Направления работы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1148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Arial"/>
              </a:rPr>
              <a:t>диагностическая деятель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Arial"/>
              </a:rPr>
              <a:t>коррекционно-развивающая деятель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0516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Arial"/>
              </a:rPr>
              <a:t>консультативная деятель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Arial"/>
              </a:rPr>
              <a:t>научно-методическая деятель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ВЗАИМОДЕЙСТВИЕ  МЕЖДУ СПЕЦИАЛИСТАМИ 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66"/>
                </a:solidFill>
                <a:latin typeface="Arial"/>
              </a:rPr>
              <a:t>ПЕДАГОГАМИ ШКОЛЬНОГО ОТДЕЛЕНИ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66"/>
                </a:solidFill>
                <a:latin typeface="Arial"/>
              </a:rPr>
              <a:t>ПЕДАГОГАМИ ШКОЛЬНО-НАДОМНОГО ОТДЕЛЕНИ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Diagram 5"/>
          <p:cNvGrpSpPr/>
          <p:nvPr/>
        </p:nvGrpSpPr>
        <p:grpSpPr>
          <a:xfrm>
            <a:off x="1091160" y="2068200"/>
            <a:ext cx="7423920" cy="5170680"/>
            <a:chOff x="1091160" y="2068200"/>
            <a:chExt cx="7423920" cy="5170680"/>
          </a:xfrm>
        </p:grpSpPr>
        <p:sp>
          <p:nvSpPr>
            <p:cNvPr id="105" name="_s1028"/>
            <p:cNvSpPr/>
            <p:nvPr/>
          </p:nvSpPr>
          <p:spPr>
            <a:xfrm>
              <a:off x="2192040" y="2476440"/>
              <a:ext cx="5218560" cy="2954520"/>
            </a:xfrm>
            <a:custGeom>
              <a:avLst/>
              <a:gdLst>
                <a:gd name="textAreaLeft" fmla="*/ 0 w 5218560"/>
                <a:gd name="textAreaRight" fmla="*/ 5218920 w 5218560"/>
                <a:gd name="textAreaTop" fmla="*/ 0 h 2954520"/>
                <a:gd name="textAreaBottom" fmla="*/ 2954880 h 295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_s1029"/>
            <p:cNvSpPr/>
            <p:nvPr/>
          </p:nvSpPr>
          <p:spPr>
            <a:xfrm rot="7200000">
              <a:off x="4039200" y="2042280"/>
              <a:ext cx="2954160" cy="5219280"/>
            </a:xfrm>
            <a:custGeom>
              <a:avLst/>
              <a:gdLst>
                <a:gd name="textAreaLeft" fmla="*/ 0 w 2954160"/>
                <a:gd name="textAreaRight" fmla="*/ 2954520 w 2954160"/>
                <a:gd name="textAreaTop" fmla="*/ 0 h 5219280"/>
                <a:gd name="textAreaBottom" fmla="*/ 5219640 h 521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_s1030"/>
            <p:cNvSpPr/>
            <p:nvPr/>
          </p:nvSpPr>
          <p:spPr>
            <a:xfrm rot="14400000">
              <a:off x="2611800" y="2045520"/>
              <a:ext cx="2954520" cy="5218560"/>
            </a:xfrm>
            <a:custGeom>
              <a:avLst/>
              <a:gdLst>
                <a:gd name="textAreaLeft" fmla="*/ 0 w 2954520"/>
                <a:gd name="textAreaRight" fmla="*/ 2954880 w 2954520"/>
                <a:gd name="textAreaTop" fmla="*/ 0 h 5218560"/>
                <a:gd name="textAreaBottom" fmla="*/ 5218920 h 521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8" name="_s1031"/>
            <p:cNvSpPr/>
            <p:nvPr/>
          </p:nvSpPr>
          <p:spPr>
            <a:xfrm>
              <a:off x="6230520" y="3017880"/>
              <a:ext cx="20948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ЛОГОПЕДЫ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_s1032"/>
            <p:cNvSpPr/>
            <p:nvPr/>
          </p:nvSpPr>
          <p:spPr>
            <a:xfrm>
              <a:off x="3754080" y="5445360"/>
              <a:ext cx="20948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ДЕФЕКТОЛОГИ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_s1033"/>
            <p:cNvSpPr/>
            <p:nvPr/>
          </p:nvSpPr>
          <p:spPr>
            <a:xfrm>
              <a:off x="1277640" y="3017880"/>
              <a:ext cx="20948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ПСИХОЛОГИ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ВНУТРЕННЕЕ ВЗАИМОДЕЙСТВИ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ЦЕЛЬ 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коррекционно-развивающих занятий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выяснение и коррекция причин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неуспеваемости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в школе</a:t>
            </a:r>
            <a:r>
              <a:rPr b="0" i="1" lang="ru-RU" sz="4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УРОВЕНЬ ПСИХОЛОГИЧЕСКОЙ ГОТОВНОСТИ К ОБУЧЕНИЮ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Должна быть сформирована устойчивая учебная мотивац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Должна присутствовать познавательная активность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Должна быть сформирована готовность к коррекции своей деятельности, т.е. произвольная саморегуляц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68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68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138680" y="1139040"/>
            <a:ext cx="7170840" cy="518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еятельность психологической службы Центра заключается в том, чтобы помочь ребенку сформировать и развить все вышеперечисленные компоненты психологической готовности к обучению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Развитие позитивного самовосприятия включает в себя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повышение у ребенка уверенности в себе и в своих сила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снятие тревож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сглаживание эмоционального фона, т. е. контроль над силой своих эмоций и поведения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68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68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68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68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5-01-29T09:52:42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