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A3E-DA34-4C79-B553-2DE6A217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75ED-EEC6-43C9-86FD-94F8959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858-F373-45C5-BCD2-89C2C270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DAB4-7E78-4AC5-8138-0D6083431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6921-5F59-4A2E-8D1A-5B04FF4E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4C6E-E31C-4980-9DC9-60468A0B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5168-DE1B-442B-AF5F-F5C3699C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589-ABAA-4283-ACEF-650B32A5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AF81-7E94-4EC7-BE18-821B2403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5995-DFA8-4B47-89FD-2EBE1461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13BB-4544-4549-8A0E-187D1FAE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0EF-0A6F-494D-8DB2-8A4D92CE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ACEE6-D2C3-43FD-9839-112A7ACF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98E0-0F67-4692-A601-BBD66CCB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82592-00D6-4853-9824-FE0E5704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FF66-3808-4CB0-9212-FE1BBF62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E068-1EBA-418F-870A-26A20638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4314-9D52-4B93-A21E-D14047BE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A72B-A57D-4E44-A1F9-3E9F79D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AEFE-3552-42B7-A09C-DC7E9813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FBE-5937-4A60-AF3F-E956B8ED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886-4CD4-495A-B2EC-7A4EB567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7849-7B6A-49A1-B706-EF59E46E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07DB-E2C3-4311-96F2-44C4E8B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3171-D457-4A28-B30B-53933BA6F1A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55AD-66BA-4020-A70C-F25BE373B50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истема работы отделения диагностики, развития и коррекции в структуре Центр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160" y="2971440"/>
            <a:ext cx="4241880" cy="17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276560" y="1200240"/>
            <a:ext cx="7199640" cy="498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Дефектологи Центра определяют причины трудностей в обучении и с помощью различных методик, заданий, упражнений, игр стремятся данные причины по возможности устранить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рудности в усвоении таблиц сложения, умножения, делен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абый интерес к изучению математики, обусловленный пробелами в знаниях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очный  объем кратковременной памя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достаточный уровень развития логического мышления и пространственного воображ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едность словарного запас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изкий уровень развития общей осведомл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68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68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6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41640" y="2613600"/>
            <a:ext cx="7422120" cy="345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Коррекционно-развивающая работа – достаточно длительный и сложный процесс, требующий взаимодействия не только специалистов отделения диагностики, развития и коррекции, педагогов, но и родителей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Отделение </a:t>
            </a: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иагностики, развития и коррекци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Психологическая служ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Дефектологическая служ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Логопедическая служб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Arial"/>
              </a:rPr>
              <a:t>Направления работ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диагностическ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коррекционно-развивающ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0516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консультативн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Arial"/>
              </a:rPr>
              <a:t>научно-методическая дея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ЗАИМОДЕЙСТВИЕ  МЕЖДУ СПЕЦИАЛИСТАМИ 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ПЕДАГОГАМИ ШКОЛЬНОГО ОТДЕЛ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ПЕДАГОГАМИ ШКОЛЬНО-НАДОМНОГО ОТДЕЛ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Diagram 5"/>
          <p:cNvGrpSpPr/>
          <p:nvPr/>
        </p:nvGrpSpPr>
        <p:grpSpPr>
          <a:xfrm>
            <a:off x="1091160" y="2068200"/>
            <a:ext cx="7423920" cy="5170680"/>
            <a:chOff x="1091160" y="2068200"/>
            <a:chExt cx="7423920" cy="5170680"/>
          </a:xfrm>
        </p:grpSpPr>
        <p:sp>
          <p:nvSpPr>
            <p:cNvPr id="105" name="_s1028"/>
            <p:cNvSpPr/>
            <p:nvPr/>
          </p:nvSpPr>
          <p:spPr>
            <a:xfrm>
              <a:off x="2192040" y="2476440"/>
              <a:ext cx="5218560" cy="2954520"/>
            </a:xfrm>
            <a:custGeom>
              <a:avLst/>
              <a:gdLst>
                <a:gd name="textAreaLeft" fmla="*/ 0 w 5218560"/>
                <a:gd name="textAreaRight" fmla="*/ 5218920 w 5218560"/>
                <a:gd name="textAreaTop" fmla="*/ 0 h 2954520"/>
                <a:gd name="textAreaBottom" fmla="*/ 2954880 h 295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_s1029"/>
            <p:cNvSpPr/>
            <p:nvPr/>
          </p:nvSpPr>
          <p:spPr>
            <a:xfrm rot="7200000">
              <a:off x="4039200" y="2042280"/>
              <a:ext cx="2954160" cy="5219280"/>
            </a:xfrm>
            <a:custGeom>
              <a:avLst/>
              <a:gdLst>
                <a:gd name="textAreaLeft" fmla="*/ 0 w 2954160"/>
                <a:gd name="textAreaRight" fmla="*/ 2954520 w 2954160"/>
                <a:gd name="textAreaTop" fmla="*/ 0 h 5219280"/>
                <a:gd name="textAreaBottom" fmla="*/ 5219640 h 521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1030"/>
            <p:cNvSpPr/>
            <p:nvPr/>
          </p:nvSpPr>
          <p:spPr>
            <a:xfrm rot="14400000">
              <a:off x="2611800" y="2045520"/>
              <a:ext cx="2954520" cy="5218560"/>
            </a:xfrm>
            <a:custGeom>
              <a:avLst/>
              <a:gdLst>
                <a:gd name="textAreaLeft" fmla="*/ 0 w 2954520"/>
                <a:gd name="textAreaRight" fmla="*/ 2954880 w 2954520"/>
                <a:gd name="textAreaTop" fmla="*/ 0 h 5218560"/>
                <a:gd name="textAreaBottom" fmla="*/ 5218920 h 521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_s1031"/>
            <p:cNvSpPr/>
            <p:nvPr/>
          </p:nvSpPr>
          <p:spPr>
            <a:xfrm>
              <a:off x="6230520" y="3017880"/>
              <a:ext cx="2094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ЛОГОПЕДЫ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2"/>
            <p:cNvSpPr/>
            <p:nvPr/>
          </p:nvSpPr>
          <p:spPr>
            <a:xfrm>
              <a:off x="3754080" y="5445360"/>
              <a:ext cx="2094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ДЕФЕКТОЛОГ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1277640" y="3017880"/>
              <a:ext cx="2094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Arial"/>
                </a:rPr>
                <a:t>ПСИХОЛОГИ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ВНУТРЕННЕЕ ВЗАИМОДЕЙСТВИЕ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ЦЕЛЬ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оррекционно-развивающих занятий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ыяснение и коррекция причин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неуспеваемости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 школе</a:t>
            </a:r>
            <a:r>
              <a:rPr b="0" i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УРОВЕНЬ ПСИХОЛОГИЧЕСКОЙ ГОТОВНОСТИ К ОБУЧЕНИЮ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олжна быть сформирована устойчивая учебная мотивац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олжна присутствовать познавательная активность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Должна быть сформирована готовность к коррекции своей деятельности, т.е. произвольная саморегуляц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38680" y="1139040"/>
            <a:ext cx="7170840" cy="518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еятельность психологической службы Центра заключается в том, чтобы помочь ребенку сформировать и развить все вышеперечисленные компоненты психологической готовности к обучению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Arial"/>
              </a:rPr>
              <a:t>Развитие позитивного самовосприятия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повышение у ребенка уверенности в себе и в своих сила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нятие тревож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сглаживание эмоционального фона, т. е. контроль над силой своих эмоций и поведен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68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768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5-01-29T09:52:4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